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507-6559-47C8-A6DE-77F7A1D2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A73-2237-410C-B702-CEF976F3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3CC-D2D9-422B-B529-5729C023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F59-E5D8-42C4-9885-BC1384DB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243-0D50-4C56-8C4A-878BC222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174-57C0-465D-AE16-4A0C57BD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0CC-AF2D-450C-A8DD-9953A2B3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509-AC58-477C-9414-A6FA58C5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CC6-08F4-4752-8326-C3A5565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982-1E60-4EE7-9AFD-80090F56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C18-2583-4DE1-B753-15AABDA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3FC9-C39F-4F99-A16F-017A6145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1547-FC2D-4061-9374-2D0B690E7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COT V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oltage Ride Throug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cy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RCOT set a standard more stringent than FERC or WECC existing stand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RCOT adopt FERC standard and wait for NERC stand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s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dison Electric Institute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(EEI)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National Electrical Manufactures Association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(NEMA)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merican National Standard Institute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(ANSI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s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ederal Energy Regulatory Commission (FER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tional Electric Reliability Council (NER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stern Electricity Coordinating Council (WEC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ectric Reliability Council Of Texas (ERCO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C Wind-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nection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ly 2005: Order 66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ly 2005: NERC Request for Rehe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cember 2005: Order 661 -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WG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rcRect l="65496" t="29820" r="3645" b="14382"/>
          <a:stretch/>
        </p:blipFill>
        <p:spPr>
          <a:xfrm>
            <a:off x="609480" y="1219320"/>
            <a:ext cx="8153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CC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4" descr=""/>
          <p:cNvPicPr/>
          <p:nvPr/>
        </p:nvPicPr>
        <p:blipFill>
          <a:blip r:embed="rId1"/>
          <a:srcRect l="23342" t="17970" r="8886" b="7034"/>
          <a:stretch/>
        </p:blipFill>
        <p:spPr>
          <a:xfrm>
            <a:off x="45720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RC Possible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1"/>
          <a:srcRect l="9028" t="7785" r="52779" b="8199"/>
          <a:stretch/>
        </p:blipFill>
        <p:spPr>
          <a:xfrm>
            <a:off x="533520" y="1447920"/>
            <a:ext cx="7467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RC Order 661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ain connected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lted three phase fault cleared in less than 9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line to ground fault with delayed clearing (zone 2) plus voltage recovery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NDFA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fac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gned IAs as of effective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within 12 months of effective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demonstrate to ERCOT that contracting, engineering, or procurement make compliance commercially infea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7:31:18Z</dcterms:created>
  <dc:creator>WJR</dc:creator>
  <dc:description/>
  <dc:language>en-US</dc:language>
  <cp:lastModifiedBy>WJR</cp:lastModifiedBy>
  <dcterms:modified xsi:type="dcterms:W3CDTF">2008-03-07T19:08:08Z</dcterms:modified>
  <cp:revision>10</cp:revision>
  <dc:subject/>
  <dc:title>Slide 1</dc:title>
</cp:coreProperties>
</file>