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EE3-CCDA-4465-9521-12E0052E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0FC-10B9-493E-9708-6727048A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57C-F62A-4002-A587-670C744C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37C-BBDF-4334-9E9A-DEF802C7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3C1-686F-486D-BCAC-A8BD302E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FC4-72AF-4CBC-A066-85E22CAE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73B-AD1F-426E-829C-5EF78408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761-7F7D-4738-B19C-722894B8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72B1-3D39-4086-A753-46F298B9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801D-0B8A-4E13-B7E7-B262D7F2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907-5B60-47C4-94DB-56DDA5BA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03D-798E-48DE-924D-758BFC52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50B3-D0BA-4E24-8E40-A516A63BC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ch 13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5880" y="152280"/>
            <a:ext cx="22100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Twelve Month rolling Average CPS1 = 125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70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2.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.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67080" y="3170160"/>
          <a:ext cx="609480" cy="51768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0" y="131760"/>
          <a:ext cx="9144000" cy="65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1760"/>
                    <a:ext cx="9144000" cy="65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356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0" y="2133720"/>
            <a:ext cx="16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 26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1880" y="23623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152280"/>
            <a:ext cx="2971800" cy="2014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uary 2008 is the first month since Jan 2004 that no single day RMS1 value was below 0.025 Hz.  There were no “quiet” frequency days in the mon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met on March 11 and 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o some high level analysis of control performance during periods with low CPS1 sc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G continues to discuss potential Nodal market control performanc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is April 8 and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Bob Green</cp:lastModifiedBy>
  <dcterms:modified xsi:type="dcterms:W3CDTF">2008-03-06T21:29:48Z</dcterms:modified>
  <cp:revision>35</cp:revision>
  <dc:subject/>
  <dc:title>RO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37111136</vt:r8>
  </property>
  <property fmtid="{D5CDD505-2E9C-101B-9397-08002B2CF9AE}" pid="3" name="_AuthorEmail">
    <vt:lpwstr>bobG@gplops.org</vt:lpwstr>
  </property>
  <property fmtid="{D5CDD505-2E9C-101B-9397-08002B2CF9AE}" pid="4" name="_AuthorEmailDisplayName">
    <vt:lpwstr>Green, Bob</vt:lpwstr>
  </property>
  <property fmtid="{D5CDD505-2E9C-101B-9397-08002B2CF9AE}" pid="5" name="_EmailSubject">
    <vt:lpwstr>PDCWG Report to ROS March 13, 2008</vt:lpwstr>
  </property>
</Properties>
</file>