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1298-203D-4A3D-AA05-3C61581AEE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2C6D-2740-46DC-88A0-7470816D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52F7-5062-4B7E-B807-148611CF7502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4"/>
          </p:nvPr>
        </p:nvSpPr>
        <p:spPr>
          <a:xfrm>
            <a:off x="685800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9F7-3A4E-4B5E-A4FB-C56520488A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ECCB-765F-4FE0-A05F-DA7BE8E4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7C63-E19C-4033-B010-A2A0CD7651BC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3CDC-D2A6-41AA-A325-0CFD7B7F9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31F1-05B9-4A3C-B9DE-09976B1507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733920"/>
            <a:ext cx="8229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Mark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March 13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9588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1536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anuary 2008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14400" y="1066680"/>
            <a:ext cx="7315200" cy="4724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83822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January 2008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ty Registration issues continue to be address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chasing-Selling Entity (PSE) registr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 entities regis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-Serving Entity (LSE) registration is to be addressed – on hold until FERC Order Directives related to LSE registration issues are fully addressed by NER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registration of some entities remains likel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440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20840" y="1066680"/>
            <a:ext cx="6502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January– 123.8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es for January indicate all 35 non-wind-only QSEs passed the PRR 525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07696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79 Total Registered Fun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5 violation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FAC-008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FAC-009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IP-001 – lack documented process (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RO-004 – lack documented process (2 GOs; 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C-005 – relay maintenance delinquent (1 TO; 2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Certif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 Statu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03680" cy="2057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Black"/>
              </a:rPr>
              <a:t>Proposed 2009 Budget Development Schedule</a:t>
            </a:r>
            <a:endParaRPr b="0" lang="en-US" sz="25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14400" y="1066680"/>
          <a:ext cx="7315200" cy="4724640"/>
        </p:xfrm>
        <a:graphic>
          <a:graphicData uri="http://schemas.openxmlformats.org/drawingml/2006/table">
            <a:tbl>
              <a:tblPr/>
              <a:tblGrid>
                <a:gridCol w="1219320"/>
                <a:gridCol w="609588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1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RE F&amp;A Committee – Discussion of preliminary draft of 2009 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RE F&amp;A Committee – Special Meeting (if necessar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 – Draft #1 of Texas RE Business Plan &amp; Budget (BP&amp;B) 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RE F&amp;A Committee / Board – Presentation of Draft #1 of Texas RE BP&amp;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1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Meeting – Presentation of proposed Texas RE BP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3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 – Draft #2 of Texas RE BP&amp;B 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17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RE Board – Final budget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9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 – Final Texas RE Board-Approved BP&amp;B 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1d36a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Janu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 confirmed – mitigation in progress; 1 confirmed – mitigation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lle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December alleged violation dis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Compliance review continues to be final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new event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meeting held on January 2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ck Keetch (Reliant Energy) and Dale Bodden (CenterPoint Energy) were elected as RSC Chair and Vice-chair respective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rm ending December 200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oard confirmed Chair and Vice-Chair selections on February 1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SC unanimously voted to accept SAR-001: 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vision to Texas RE Documents to Provide for the ERCOT ISO to Participate and have a Vote in the Proces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xt Steps……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R publicly pos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borating with ROS to seek volunteers for Drafting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ility Standards Committee</a:t>
            </a:r>
            <a:endParaRPr b="0" lang="en-US" sz="36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63914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3000" y="373356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36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:  123.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:  137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007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anuary 2008:  126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bruary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anuary 2007:  142.6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for January indicate all 35 non-wind-only QSEs passed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880" y="1079640"/>
            <a:ext cx="8305920" cy="47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Year-to-Year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7200" y="1076400"/>
            <a:ext cx="8229600" cy="479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ROS Meeting -         March 13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henry</cp:lastModifiedBy>
  <dcterms:modified xsi:type="dcterms:W3CDTF">2008-03-07T03:39:47Z</dcterms:modified>
  <cp:revision>220</cp:revision>
  <dc:subject/>
  <dc:title>Instructions</dc:title>
</cp:coreProperties>
</file>