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65320" y="6432480"/>
            <a:ext cx="78357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Meeting – 03/13/0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F0569DC-0343-4F59-AB74-77A85DC98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- TPTF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8/02/20080204-TPTF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tacy Bridges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03/13/08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March 3 – 5,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—Endorsement/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Subgroup comments to the MMS DAM and SASM Requirements (B2) v2.0 (on March 3, 2008, TPTF identified these changes as “needed for go-live” and requested that ERCOT would provide a schedule/cost impact analysis by May 15, 200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address STEC comments in NPRR097, Changes to Section 8 to Incorporate Role of Texas Regional Entity (TRE), the Independent Market Monitor (IMM), and the Concept of Market Compli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and Design Authority (IDA) White Paper: IDA003 Combined-Cycle Unit Modeling in the Nodal Design v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S White Paper: Details on the Settlement of Combined-Cycle Plants v1.3 (revisions to Section 12, Eligibility for DAM Sett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Agenda Items / March 20 – 21,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Program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Timeline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Timeline and Milestones Descri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O Readiness 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Readiness Score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ics pending activation in Apri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Project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Draft NPRR for RLC (correction to LDL eq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updates for the Outage Scheduler MP Hand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7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Agenda Items / March 20 – 21,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Project Updates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S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comments for COMS Disputes Management System CSD v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Congestion Revenue Right (CRR) Shortfall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CRR shortfall scenarios and balancing o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Draft NPRR, Removal of Partial Assignment of CRR Shortfall to 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P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comments for the EIP External Interfaces Specification v1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- Submission of Load Resources for Ancillary Service (AS) Trades and Self-Arran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Agenda Items / March 20 – 21,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group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Ahead Market (DAM) Subgroup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activities from the March 1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Sub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comments for incorporating Item 3 (changes for AS from Self-Committed Resources and max Energy Offer Curve) into the MMS DAM and SASM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Agenda I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-Cycle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revisions for clawback factors in COMS white paper Details on the Settlement of Combined-Cycle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104, Corrections and Clarifications for Real Time Settlements and Ancillary Service Net Oblig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Market comments and Discuss MP submission scenarios to 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uture TPTF Meetings / March – April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TPTF Meetings / March - April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31 – April 2, 2008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1 – 22, 2008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These TPTF meetings will be held offsite to accommodate the annual ERCOT Operations Training Sem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/ Febr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028880"/>
            <a:ext cx="836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February 2008, TPTF Conven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ebruary 4 –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1 –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/ Febr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6240" y="1076040"/>
            <a:ext cx="889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February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Day Reports (CDR)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R Conceptual System Design (CSD) v.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Integration Project (EIP)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nformation System (MIS) External Interface Specification v0.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Management Office (PMO)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al of revisions to two active Readiness 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2, Verify Disput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0, Mapping of Resources to Resource Nodes and Resources to ERCOT Polled Settlement (EPS)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/ Febr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6240" y="1076040"/>
            <a:ext cx="889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February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Delivery Systems (EDS)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3 Security Constrained Economic Dispatch (SCED) Market Participant (MP) Handbook v3.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Commercial Systems (COMS) MP Handbook v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Accelerated Issue Resolution Process v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/ Febr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6240" y="1076040"/>
            <a:ext cx="889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February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Accelerated Issue Resolution Process—Endorsemen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to Low Dispatch Limit (LDL) Equation to ensure that LDL and High Dispatch Limit (HDL) limits passed to SCED never exceed High Sustained Limit (HSL); this revision aff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 Management System (EMS) Resource Limit Calculator (RLC) Detail Design, Section 3.2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tocols, Section 6.5.7.2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to Ramp Rate calculation to remove High Emergency Limit (HEL) so that RLC only uses HSL when calculating High Ancillary Services Limit (HASL); this revision aff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Generation Subsystem Requirements, GS-FR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RLC Detail Design, GS-FR36 and Section 3.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/ Februar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5880" y="1076400"/>
            <a:ext cx="874548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February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—Endorsement/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Paper, Combined-Cycle Unit Modeling in the Nodal Design v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Settlement of Power Imported via DC Ties and Block Load Transfer Under a Declared Emergency Cond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Modify Time Requirements for Entry of Equipment in the Outage Schedu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Implementation of PUC SUBST. R. 25.505(f) Publication of Resource and Loa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Fuel-Oil Price (FOP) Cla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, Emergency Base Point Price (EBBP) R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March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 met on March 3 – 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 will meet again on March 20 –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March 3 – 5,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4 - Release 9 Day-Ahead Market (DAM)/Reliability Unit Commitment (RUC)/Supplemental Ancillary Services Market (SASM) MP Handbook v1.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S / Market Management System (MMS) Projects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-MMS Market Operations Test Environment (MOTE) Requirements (B2) v0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March 3 – 5,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S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changes to incorporate NPRR102, Implementation of PUC Subst. R. 25.505(f), Publication of Resource and Load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Overall MMS System and Other Processes Requirements (B2) v2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DAM and SASM Requirements (B2) v2.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SCED and Real-Time MMS Processes Requirements (B2) v3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—Approvals of Readiness 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to Metric CO1, Settle Market for Seven Days and Provide Appropriate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/>
  <dc:description/>
  <dc:language>en-US</dc:language>
  <cp:lastModifiedBy/>
  <dcterms:modified xsi:type="dcterms:W3CDTF">2008-03-11T17:26:24Z</dcterms:modified>
  <cp:revision>209</cp:revision>
  <dc:subject/>
  <dc:title>Texas Nodal</dc:title>
</cp:coreProperties>
</file>