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7DD5D-9171-4050-B3E2-C94C3CAE76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BF4FE-9BE2-428E-AF91-46A79E0416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3F0AB-BDCF-4718-9C7D-11EAFAD7D0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3F668-A43B-4FAC-AFD7-84D52AAF8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659D0-1CB0-40B3-AD27-1EB439CFB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6F0ED-0119-4BF3-ABC4-D5B8B2FEE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38455-E4DF-486A-9FD0-45BD2EC55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78E9E-1952-40E2-B058-D3BCCF5A1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89157-3C3B-48A5-BF1A-C5F49D010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24047-3BE1-404F-B2B8-9F71947A3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1EB90-1B73-486C-8167-038A89C21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B7F92-6D27-4B60-892D-53C51BF72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EC950-709A-4C04-B1D4-F73ECCDB8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97387-5864-4155-9260-9A7378A8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4DC12-C769-44F1-858E-C59AB03A2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4A344-E477-4CDE-8499-281C38534A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4.wmf"/><Relationship Id="rId9" Type="http://schemas.openxmlformats.org/officeDocument/2006/relationships/image" Target="../media/image5.wmf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Highlights from TAC Credit Workshop</a:t>
            </a:r>
            <a:br>
              <a:rPr sz="2400"/>
            </a:b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heryl Yager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343240" y="358092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arch 6, 2008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Oliver Wyman objectives and deliverabl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ic project objective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of credit practices in ERCOT Protocols, Creditworthiness Standards, and credit risk management practices gener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whether ERCOT’s practices are consistent with best pract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modeling capability to enable quantification of credit risks for the entire credit portfolio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imate Probabilities of Default (PDs) for each particip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imate the credit loss probability distribution using this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a capital adequacy assessment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liverable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 of creditworthiness and credit management pract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dit scoring model and docu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dit loss model with document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s distributions and capital adequacy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74560" y="0"/>
            <a:ext cx="81122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redit practice review results</a:t>
            </a:r>
            <a:br>
              <a:rPr sz="2000"/>
            </a:br>
            <a:br>
              <a:rPr sz="2000"/>
            </a:b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ERCOT’s credit worthiness monitoring &amp; reporting and workout and management practices were found to be very solid.  However, in the following areas ERCOT fell short of “best practices”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-11667960" y="198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-13066560" y="157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731880" y="1576440"/>
          <a:ext cx="8018280" cy="3929040"/>
        </p:xfrm>
        <a:graphic>
          <a:graphicData uri="http://schemas.openxmlformats.org/drawingml/2006/table">
            <a:tbl>
              <a:tblPr/>
              <a:tblGrid>
                <a:gridCol w="727200"/>
                <a:gridCol w="726840"/>
                <a:gridCol w="727200"/>
                <a:gridCol w="726840"/>
                <a:gridCol w="1501920"/>
                <a:gridCol w="1905120"/>
                <a:gridCol w="1703160"/>
              </a:tblGrid>
              <a:tr h="703080">
                <a:tc>
                  <a:txBody>
                    <a:bodyPr lIns="18360" rIns="1836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teg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iority 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v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libration relative to best practi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tus achieved at the end of the proj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itial practi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gress achieved during this proj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tential next step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9040">
                <a:tc>
                  <a:txBody>
                    <a:bodyPr lIns="18360" rIns="183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isk appeti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g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39960"/>
                          <a:tab algn="l" pos="1879560"/>
                          <a:tab algn="l" pos="2819520"/>
                          <a:tab algn="l" pos="3759120"/>
                          <a:tab algn="l" pos="4699080"/>
                          <a:tab algn="l" pos="5638680"/>
                          <a:tab algn="l" pos="6578640"/>
                          <a:tab algn="l" pos="7518240"/>
                          <a:tab algn="l" pos="8458200"/>
                          <a:tab algn="l" pos="9398160"/>
                          <a:tab algn="l" pos="10337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39960"/>
                          <a:tab algn="l" pos="1879560"/>
                          <a:tab algn="l" pos="2819520"/>
                          <a:tab algn="l" pos="3759120"/>
                          <a:tab algn="l" pos="4699080"/>
                          <a:tab algn="l" pos="5638680"/>
                          <a:tab algn="l" pos="6578640"/>
                          <a:tab algn="l" pos="7518240"/>
                          <a:tab algn="l" pos="8458200"/>
                          <a:tab algn="l" pos="9398160"/>
                          <a:tab algn="l" pos="10337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t">
                      <a:noAutofit/>
                    </a:bodyPr>
                    <a:p>
                      <a:pPr marL="165240" indent="-1652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me internal discussion in market meetin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t">
                      <a:noAutofit/>
                    </a:bodyPr>
                    <a:p>
                      <a:pPr marL="165240" indent="-1652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isk appetite definition should be explicitly defined to better guide ERCOT’s risk polic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5240" indent="-1652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timate credit risk using credit loss model (current OW effor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t">
                      <a:noAutofit/>
                    </a:bodyPr>
                    <a:p>
                      <a:pPr marL="165240" indent="-1652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sess market’s comfort level with loss estimates and ability to absorb los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5240" indent="-1652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oard should develop a formal risk appetite stat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5240" indent="-1652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sure credit policies and procedures are consistent with risk appetite and toler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4480">
                <a:tc>
                  <a:txBody>
                    <a:bodyPr lIns="18360" rIns="183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edit  Scor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di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39960"/>
                          <a:tab algn="l" pos="1879560"/>
                          <a:tab algn="l" pos="2819520"/>
                          <a:tab algn="l" pos="3759120"/>
                          <a:tab algn="l" pos="4699080"/>
                          <a:tab algn="l" pos="5638680"/>
                          <a:tab algn="l" pos="6578640"/>
                          <a:tab algn="l" pos="7518240"/>
                          <a:tab algn="l" pos="8458200"/>
                          <a:tab algn="l" pos="9398160"/>
                          <a:tab algn="l" pos="10337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39960"/>
                          <a:tab algn="l" pos="1879560"/>
                          <a:tab algn="l" pos="2819520"/>
                          <a:tab algn="l" pos="3759120"/>
                          <a:tab algn="l" pos="4699080"/>
                          <a:tab algn="l" pos="5638680"/>
                          <a:tab algn="l" pos="6578640"/>
                          <a:tab algn="l" pos="7518240"/>
                          <a:tab algn="l" pos="8458200"/>
                          <a:tab algn="l" pos="9398160"/>
                          <a:tab algn="l" pos="10337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t">
                      <a:noAutofit/>
                    </a:bodyPr>
                    <a:p>
                      <a:pPr marL="165240" indent="-1652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gency ratings used where available but primarily for limit setting purpo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5240" indent="-1652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editworthiness was assessed using risk factors common to credit scoring model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t">
                      <a:noAutofit/>
                    </a:bodyPr>
                    <a:p>
                      <a:pPr marL="165240" indent="-1652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rnal scoring model fully vetted and now available to supplement agency ratin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t">
                      <a:noAutofit/>
                    </a:bodyPr>
                    <a:p>
                      <a:pPr marL="165240" indent="-1652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fine credit scoring model as additional data becomes availa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4" name=""/>
          <p:cNvGrpSpPr/>
          <p:nvPr/>
        </p:nvGrpSpPr>
        <p:grpSpPr>
          <a:xfrm>
            <a:off x="2998800" y="2430360"/>
            <a:ext cx="365040" cy="365040"/>
            <a:chOff x="2998800" y="2430360"/>
            <a:chExt cx="365040" cy="365040"/>
          </a:xfrm>
        </p:grpSpPr>
        <p:sp>
          <p:nvSpPr>
            <p:cNvPr id="105" name="HarveyCircle"/>
            <p:cNvSpPr/>
            <p:nvPr/>
          </p:nvSpPr>
          <p:spPr>
            <a:xfrm>
              <a:off x="2998800" y="2430360"/>
              <a:ext cx="365040" cy="36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HarveyArc"/>
            <p:cNvSpPr/>
            <p:nvPr/>
          </p:nvSpPr>
          <p:spPr>
            <a:xfrm>
              <a:off x="2999160" y="2430360"/>
              <a:ext cx="364320" cy="36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2279520" y="2457360"/>
            <a:ext cx="364680" cy="364320"/>
            <a:chOff x="2279520" y="2457360"/>
            <a:chExt cx="364680" cy="364320"/>
          </a:xfrm>
        </p:grpSpPr>
        <p:grpSp>
          <p:nvGrpSpPr>
            <p:cNvPr id="108" name=""/>
            <p:cNvGrpSpPr/>
            <p:nvPr/>
          </p:nvGrpSpPr>
          <p:grpSpPr>
            <a:xfrm>
              <a:off x="2279520" y="2457360"/>
              <a:ext cx="364680" cy="364320"/>
              <a:chOff x="2279520" y="2457360"/>
              <a:chExt cx="364680" cy="364320"/>
            </a:xfrm>
          </p:grpSpPr>
          <p:sp>
            <p:nvSpPr>
              <p:cNvPr id="109" name=""/>
              <p:cNvSpPr/>
              <p:nvPr/>
            </p:nvSpPr>
            <p:spPr>
              <a:xfrm>
                <a:off x="2279520" y="2457360"/>
                <a:ext cx="364680" cy="36432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bbe0e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279520" y="2457360"/>
                <a:ext cx="364680" cy="364320"/>
              </a:xfrm>
              <a:prstGeom prst="ellipse">
                <a:avLst/>
              </a:prstGeom>
              <a:noFill/>
              <a:ln cap="rnd" w="792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2461320" y="2457360"/>
              <a:ext cx="107280" cy="181080"/>
              <a:chOff x="2461320" y="2457360"/>
              <a:chExt cx="107280" cy="181080"/>
            </a:xfrm>
          </p:grpSpPr>
          <p:sp>
            <p:nvSpPr>
              <p:cNvPr id="112" name=""/>
              <p:cNvSpPr/>
              <p:nvPr/>
            </p:nvSpPr>
            <p:spPr>
              <a:xfrm>
                <a:off x="2461320" y="2457360"/>
                <a:ext cx="107280" cy="181080"/>
              </a:xfrm>
              <a:custGeom>
                <a:avLst/>
                <a:gdLst/>
                <a:ahLst/>
                <a:rect l="l" t="t" r="r" b="b"/>
                <a:pathLst>
                  <a:path w="567" h="959">
                    <a:moveTo>
                      <a:pt x="0" y="0"/>
                    </a:moveTo>
                    <a:cubicBezTo>
                      <a:pt x="204" y="0"/>
                      <a:pt x="402" y="65"/>
                      <a:pt x="567" y="183"/>
                    </a:cubicBezTo>
                    <a:lnTo>
                      <a:pt x="0" y="95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7a6"/>
              </a:solidFill>
              <a:ln w="0">
                <a:solidFill>
                  <a:srgbClr val="bbe0e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461320" y="2457360"/>
                <a:ext cx="107280" cy="33840"/>
              </a:xfrm>
              <a:custGeom>
                <a:avLst/>
                <a:gdLst/>
                <a:ahLst/>
                <a:rect l="l" t="t" r="r" b="b"/>
                <a:pathLst>
                  <a:path w="63" h="20">
                    <a:moveTo>
                      <a:pt x="0" y="0"/>
                    </a:moveTo>
                    <a:cubicBezTo>
                      <a:pt x="23" y="0"/>
                      <a:pt x="45" y="7"/>
                      <a:pt x="63" y="20"/>
                    </a:cubicBezTo>
                  </a:path>
                </a:pathLst>
              </a:custGeom>
              <a:noFill/>
              <a:ln cap="rnd" w="7920">
                <a:solidFill>
                  <a:srgbClr val="bbe0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2279520" y="2457360"/>
              <a:ext cx="364680" cy="364320"/>
              <a:chOff x="2279520" y="2457360"/>
              <a:chExt cx="364680" cy="364320"/>
            </a:xfrm>
          </p:grpSpPr>
          <p:sp>
            <p:nvSpPr>
              <p:cNvPr id="115" name=""/>
              <p:cNvSpPr/>
              <p:nvPr/>
            </p:nvSpPr>
            <p:spPr>
              <a:xfrm>
                <a:off x="2279520" y="2457360"/>
                <a:ext cx="364680" cy="36432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bbe0e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79520" y="2457360"/>
                <a:ext cx="364680" cy="364320"/>
              </a:xfrm>
              <a:prstGeom prst="ellipse">
                <a:avLst/>
              </a:prstGeom>
              <a:noFill/>
              <a:ln cap="rnd" w="792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461320" y="2457360"/>
              <a:ext cx="107280" cy="181080"/>
              <a:chOff x="2461320" y="2457360"/>
              <a:chExt cx="107280" cy="181080"/>
            </a:xfrm>
          </p:grpSpPr>
          <p:sp>
            <p:nvSpPr>
              <p:cNvPr id="118" name=""/>
              <p:cNvSpPr/>
              <p:nvPr/>
            </p:nvSpPr>
            <p:spPr>
              <a:xfrm>
                <a:off x="2461320" y="2457360"/>
                <a:ext cx="107280" cy="181080"/>
              </a:xfrm>
              <a:custGeom>
                <a:avLst/>
                <a:gdLst/>
                <a:ahLst/>
                <a:rect l="l" t="t" r="r" b="b"/>
                <a:pathLst>
                  <a:path w="567" h="959">
                    <a:moveTo>
                      <a:pt x="0" y="0"/>
                    </a:moveTo>
                    <a:cubicBezTo>
                      <a:pt x="204" y="0"/>
                      <a:pt x="402" y="65"/>
                      <a:pt x="567" y="183"/>
                    </a:cubicBezTo>
                    <a:lnTo>
                      <a:pt x="0" y="95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7a6"/>
              </a:solidFill>
              <a:ln w="0">
                <a:solidFill>
                  <a:srgbClr val="bbe0e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461320" y="2457360"/>
                <a:ext cx="107280" cy="33840"/>
              </a:xfrm>
              <a:custGeom>
                <a:avLst/>
                <a:gdLst/>
                <a:ahLst/>
                <a:rect l="l" t="t" r="r" b="b"/>
                <a:pathLst>
                  <a:path w="63" h="20">
                    <a:moveTo>
                      <a:pt x="0" y="0"/>
                    </a:moveTo>
                    <a:cubicBezTo>
                      <a:pt x="23" y="0"/>
                      <a:pt x="45" y="7"/>
                      <a:pt x="63" y="20"/>
                    </a:cubicBezTo>
                  </a:path>
                </a:pathLst>
              </a:custGeom>
              <a:noFill/>
              <a:ln cap="rnd" w="7920">
                <a:solidFill>
                  <a:srgbClr val="bbe0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" name=""/>
          <p:cNvGrpSpPr/>
          <p:nvPr/>
        </p:nvGrpSpPr>
        <p:grpSpPr>
          <a:xfrm>
            <a:off x="2313000" y="4297320"/>
            <a:ext cx="364320" cy="364320"/>
            <a:chOff x="2313000" y="4297320"/>
            <a:chExt cx="364320" cy="364320"/>
          </a:xfrm>
        </p:grpSpPr>
        <p:grpSp>
          <p:nvGrpSpPr>
            <p:cNvPr id="121" name=""/>
            <p:cNvGrpSpPr/>
            <p:nvPr/>
          </p:nvGrpSpPr>
          <p:grpSpPr>
            <a:xfrm>
              <a:off x="2313000" y="4297320"/>
              <a:ext cx="364320" cy="364320"/>
              <a:chOff x="2313000" y="4297320"/>
              <a:chExt cx="364320" cy="364320"/>
            </a:xfrm>
          </p:grpSpPr>
          <p:sp>
            <p:nvSpPr>
              <p:cNvPr id="122" name=""/>
              <p:cNvSpPr/>
              <p:nvPr/>
            </p:nvSpPr>
            <p:spPr>
              <a:xfrm>
                <a:off x="2313000" y="4297320"/>
                <a:ext cx="364320" cy="36432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bbe0e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313000" y="4297320"/>
                <a:ext cx="364320" cy="364320"/>
              </a:xfrm>
              <a:prstGeom prst="ellipse">
                <a:avLst/>
              </a:prstGeom>
              <a:noFill/>
              <a:ln cap="rnd" w="792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2494800" y="4297320"/>
              <a:ext cx="107280" cy="181080"/>
              <a:chOff x="2494800" y="4297320"/>
              <a:chExt cx="107280" cy="181080"/>
            </a:xfrm>
          </p:grpSpPr>
          <p:sp>
            <p:nvSpPr>
              <p:cNvPr id="125" name=""/>
              <p:cNvSpPr/>
              <p:nvPr/>
            </p:nvSpPr>
            <p:spPr>
              <a:xfrm>
                <a:off x="2494800" y="4297320"/>
                <a:ext cx="107280" cy="181080"/>
              </a:xfrm>
              <a:custGeom>
                <a:avLst/>
                <a:gdLst/>
                <a:ahLst/>
                <a:rect l="l" t="t" r="r" b="b"/>
                <a:pathLst>
                  <a:path w="567" h="959">
                    <a:moveTo>
                      <a:pt x="0" y="0"/>
                    </a:moveTo>
                    <a:cubicBezTo>
                      <a:pt x="204" y="0"/>
                      <a:pt x="402" y="65"/>
                      <a:pt x="567" y="183"/>
                    </a:cubicBezTo>
                    <a:lnTo>
                      <a:pt x="0" y="95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7a6"/>
              </a:solidFill>
              <a:ln w="0">
                <a:solidFill>
                  <a:srgbClr val="bbe0e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494800" y="4297320"/>
                <a:ext cx="107280" cy="33840"/>
              </a:xfrm>
              <a:custGeom>
                <a:avLst/>
                <a:gdLst/>
                <a:ahLst/>
                <a:rect l="l" t="t" r="r" b="b"/>
                <a:pathLst>
                  <a:path w="63" h="20">
                    <a:moveTo>
                      <a:pt x="0" y="0"/>
                    </a:moveTo>
                    <a:cubicBezTo>
                      <a:pt x="23" y="0"/>
                      <a:pt x="45" y="7"/>
                      <a:pt x="63" y="20"/>
                    </a:cubicBezTo>
                  </a:path>
                </a:pathLst>
              </a:custGeom>
              <a:noFill/>
              <a:ln cap="rnd" w="7920">
                <a:solidFill>
                  <a:srgbClr val="bbe0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2313000" y="4297320"/>
              <a:ext cx="364320" cy="364320"/>
              <a:chOff x="2313000" y="4297320"/>
              <a:chExt cx="364320" cy="364320"/>
            </a:xfrm>
          </p:grpSpPr>
          <p:sp>
            <p:nvSpPr>
              <p:cNvPr id="128" name=""/>
              <p:cNvSpPr/>
              <p:nvPr/>
            </p:nvSpPr>
            <p:spPr>
              <a:xfrm>
                <a:off x="2313000" y="4297320"/>
                <a:ext cx="364320" cy="36432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bbe0e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313000" y="4297320"/>
                <a:ext cx="364320" cy="364320"/>
              </a:xfrm>
              <a:prstGeom prst="ellipse">
                <a:avLst/>
              </a:prstGeom>
              <a:noFill/>
              <a:ln cap="rnd" w="792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2494800" y="4297320"/>
              <a:ext cx="107280" cy="181080"/>
              <a:chOff x="2494800" y="4297320"/>
              <a:chExt cx="107280" cy="181080"/>
            </a:xfrm>
          </p:grpSpPr>
          <p:sp>
            <p:nvSpPr>
              <p:cNvPr id="131" name=""/>
              <p:cNvSpPr/>
              <p:nvPr/>
            </p:nvSpPr>
            <p:spPr>
              <a:xfrm>
                <a:off x="2494800" y="4297320"/>
                <a:ext cx="107280" cy="181080"/>
              </a:xfrm>
              <a:custGeom>
                <a:avLst/>
                <a:gdLst/>
                <a:ahLst/>
                <a:rect l="l" t="t" r="r" b="b"/>
                <a:pathLst>
                  <a:path w="567" h="959">
                    <a:moveTo>
                      <a:pt x="0" y="0"/>
                    </a:moveTo>
                    <a:cubicBezTo>
                      <a:pt x="204" y="0"/>
                      <a:pt x="402" y="65"/>
                      <a:pt x="567" y="183"/>
                    </a:cubicBezTo>
                    <a:lnTo>
                      <a:pt x="0" y="95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7a6"/>
              </a:solidFill>
              <a:ln w="0">
                <a:solidFill>
                  <a:srgbClr val="bbe0e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494800" y="4297320"/>
                <a:ext cx="107280" cy="33840"/>
              </a:xfrm>
              <a:custGeom>
                <a:avLst/>
                <a:gdLst/>
                <a:ahLst/>
                <a:rect l="l" t="t" r="r" b="b"/>
                <a:pathLst>
                  <a:path w="63" h="20">
                    <a:moveTo>
                      <a:pt x="0" y="0"/>
                    </a:moveTo>
                    <a:cubicBezTo>
                      <a:pt x="23" y="0"/>
                      <a:pt x="45" y="7"/>
                      <a:pt x="63" y="20"/>
                    </a:cubicBezTo>
                  </a:path>
                </a:pathLst>
              </a:custGeom>
              <a:noFill/>
              <a:ln cap="rnd" w="7920">
                <a:solidFill>
                  <a:srgbClr val="bbe0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3" name=""/>
          <p:cNvGrpSpPr/>
          <p:nvPr/>
        </p:nvGrpSpPr>
        <p:grpSpPr>
          <a:xfrm>
            <a:off x="3032280" y="4297320"/>
            <a:ext cx="365040" cy="365040"/>
            <a:chOff x="3032280" y="4297320"/>
            <a:chExt cx="365040" cy="365040"/>
          </a:xfrm>
        </p:grpSpPr>
        <p:sp>
          <p:nvSpPr>
            <p:cNvPr id="134" name="HarveyCircle"/>
            <p:cNvSpPr/>
            <p:nvPr/>
          </p:nvSpPr>
          <p:spPr>
            <a:xfrm>
              <a:off x="3032280" y="4297320"/>
              <a:ext cx="365040" cy="36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HarveyArc"/>
            <p:cNvSpPr/>
            <p:nvPr/>
          </p:nvSpPr>
          <p:spPr>
            <a:xfrm>
              <a:off x="3032280" y="4297320"/>
              <a:ext cx="364320" cy="36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362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3620000"/>
                </a:path>
              </a:pathLst>
            </a:cu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574560" y="304920"/>
            <a:ext cx="8112240" cy="6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redit practice review results </a:t>
            </a: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(continued) </a:t>
            </a:r>
            <a:br>
              <a:rPr sz="1600"/>
            </a:br>
            <a:br>
              <a:rPr sz="1600"/>
            </a:b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ERCOT’s credit worthiness monitoring &amp; reporting and workout and management practices were found to be very solid.  However, in the following areas ERCOT fell short of “best practices”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-11667960" y="198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-11667960" y="1987560"/>
            <a:ext cx="390240" cy="3906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-11667960" y="198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-11667960" y="1987560"/>
            <a:ext cx="390240" cy="390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-11667960" y="198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-11667960" y="1987560"/>
            <a:ext cx="390240" cy="3906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-11667960" y="198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-11667960" y="1987560"/>
            <a:ext cx="390240" cy="3906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-11667960" y="198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-11667960" y="1987560"/>
            <a:ext cx="390240" cy="3906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-13066560" y="157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-13066560" y="1579680"/>
            <a:ext cx="390240" cy="3902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-13066560" y="157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-13066560" y="1579680"/>
            <a:ext cx="390240" cy="3902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-13066560" y="157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8"/>
          <a:stretch/>
        </p:blipFill>
        <p:spPr>
          <a:xfrm>
            <a:off x="-13066560" y="1579680"/>
            <a:ext cx="390240" cy="3902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-13066560" y="157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9"/>
          <a:stretch/>
        </p:blipFill>
        <p:spPr>
          <a:xfrm>
            <a:off x="-13066560" y="1579680"/>
            <a:ext cx="390240" cy="3902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-13066560" y="157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0"/>
          <a:stretch/>
        </p:blipFill>
        <p:spPr>
          <a:xfrm>
            <a:off x="-13066560" y="1579680"/>
            <a:ext cx="390240" cy="390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"/>
          <p:cNvGraphicFramePr/>
          <p:nvPr/>
        </p:nvGraphicFramePr>
        <p:xfrm>
          <a:off x="677880" y="1730520"/>
          <a:ext cx="8018280" cy="4081320"/>
        </p:xfrm>
        <a:graphic>
          <a:graphicData uri="http://schemas.openxmlformats.org/drawingml/2006/table">
            <a:tbl>
              <a:tblPr/>
              <a:tblGrid>
                <a:gridCol w="727200"/>
                <a:gridCol w="726840"/>
                <a:gridCol w="727200"/>
                <a:gridCol w="727200"/>
                <a:gridCol w="1531800"/>
                <a:gridCol w="2068560"/>
                <a:gridCol w="1509480"/>
              </a:tblGrid>
              <a:tr h="703080">
                <a:tc>
                  <a:txBody>
                    <a:bodyPr lIns="18360" rIns="1836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teg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iority 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v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libration relative to best practi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tus achieved at the end of the proj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itial practi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gress achieved during this proj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tential next step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73600">
                <a:tc>
                  <a:txBody>
                    <a:bodyPr lIns="18360" rIns="183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posure measure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nt and monitor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g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39960"/>
                          <a:tab algn="l" pos="1879560"/>
                          <a:tab algn="l" pos="2819520"/>
                          <a:tab algn="l" pos="3759120"/>
                          <a:tab algn="l" pos="4699080"/>
                          <a:tab algn="l" pos="5638680"/>
                          <a:tab algn="l" pos="6578640"/>
                          <a:tab algn="l" pos="7518240"/>
                          <a:tab algn="l" pos="8458200"/>
                          <a:tab algn="l" pos="9398160"/>
                          <a:tab algn="l" pos="10337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39960"/>
                          <a:tab algn="l" pos="1879560"/>
                          <a:tab algn="l" pos="2819520"/>
                          <a:tab algn="l" pos="3759120"/>
                          <a:tab algn="l" pos="4699080"/>
                          <a:tab algn="l" pos="5638680"/>
                          <a:tab algn="l" pos="6578640"/>
                          <a:tab algn="l" pos="7518240"/>
                          <a:tab algn="l" pos="8458200"/>
                          <a:tab algn="l" pos="9398160"/>
                          <a:tab algn="l" pos="10337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t">
                      <a:noAutofit/>
                    </a:bodyPr>
                    <a:p>
                      <a:pPr marL="165240" indent="-1652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posure calculations</a:t>
                      </a:r>
                      <a:r>
                        <a:rPr b="1" lang="en-US" sz="1000" spc="-1" strike="noStrike">
                          <a:solidFill>
                            <a:srgbClr val="f2320c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ck very recent historical exposure activ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5240" indent="-1652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surement of forward exposure is based on recent hist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5240" indent="-1652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cesses are being automa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5240" indent="-1652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ponse to alerts is rapid and well-defin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t">
                      <a:noAutofit/>
                    </a:bodyPr>
                    <a:p>
                      <a:pPr marL="165240" indent="-1652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edit loss model  can simulate potential future exposure under a variety of assumptions and circumsta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t">
                      <a:noAutofit/>
                    </a:bodyPr>
                    <a:p>
                      <a:pPr marL="165240" indent="-1652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rward exposure measurement should be based on forward risk factors (e.g. forward price and volume estimat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2200">
                <a:tc>
                  <a:txBody>
                    <a:bodyPr lIns="18360" rIns="183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ss reserve and capi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g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39960"/>
                          <a:tab algn="l" pos="1879560"/>
                          <a:tab algn="l" pos="2819520"/>
                          <a:tab algn="l" pos="3759120"/>
                          <a:tab algn="l" pos="4699080"/>
                          <a:tab algn="l" pos="5638680"/>
                          <a:tab algn="l" pos="6578640"/>
                          <a:tab algn="l" pos="7518240"/>
                          <a:tab algn="l" pos="8458200"/>
                          <a:tab algn="l" pos="9398160"/>
                          <a:tab algn="l" pos="10337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39960"/>
                          <a:tab algn="l" pos="1879560"/>
                          <a:tab algn="l" pos="2819520"/>
                          <a:tab algn="l" pos="3759120"/>
                          <a:tab algn="l" pos="4699080"/>
                          <a:tab algn="l" pos="5638680"/>
                          <a:tab algn="l" pos="6578640"/>
                          <a:tab algn="l" pos="7518240"/>
                          <a:tab algn="l" pos="8458200"/>
                          <a:tab algn="l" pos="9398160"/>
                          <a:tab algn="l" pos="10337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t">
                      <a:noAutofit/>
                    </a:bodyPr>
                    <a:p>
                      <a:pPr marL="165240" indent="-1652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me single scenario estimates have been ma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5240" indent="-1652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sed on historical market circumsta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t">
                      <a:noAutofit/>
                    </a:bodyPr>
                    <a:p>
                      <a:pPr marL="165240" indent="-1652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edit loss model provide best practice capabi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5240" indent="-1652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edit loss model will estimate loss magnitu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t">
                      <a:noAutofit/>
                    </a:bodyPr>
                    <a:p>
                      <a:pPr marL="165240" indent="-1652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e economic capital results to foster discussion regarding risk appetite and a more consistent framework for considering loss reser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 marR="18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58" name=""/>
          <p:cNvGrpSpPr/>
          <p:nvPr/>
        </p:nvGrpSpPr>
        <p:grpSpPr>
          <a:xfrm>
            <a:off x="2128680" y="2602080"/>
            <a:ext cx="365040" cy="365040"/>
            <a:chOff x="2128680" y="2602080"/>
            <a:chExt cx="365040" cy="365040"/>
          </a:xfrm>
        </p:grpSpPr>
        <p:sp>
          <p:nvSpPr>
            <p:cNvPr id="159" name="HarveyCircle"/>
            <p:cNvSpPr/>
            <p:nvPr/>
          </p:nvSpPr>
          <p:spPr>
            <a:xfrm>
              <a:off x="2128680" y="2602080"/>
              <a:ext cx="365040" cy="36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HarveyArc"/>
            <p:cNvSpPr/>
            <p:nvPr/>
          </p:nvSpPr>
          <p:spPr>
            <a:xfrm>
              <a:off x="2129040" y="2602080"/>
              <a:ext cx="364320" cy="36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2921040" y="2602080"/>
            <a:ext cx="365040" cy="365040"/>
            <a:chOff x="2921040" y="2602080"/>
            <a:chExt cx="365040" cy="365040"/>
          </a:xfrm>
        </p:grpSpPr>
        <p:sp>
          <p:nvSpPr>
            <p:cNvPr id="162" name="HarveyCircle"/>
            <p:cNvSpPr/>
            <p:nvPr/>
          </p:nvSpPr>
          <p:spPr>
            <a:xfrm>
              <a:off x="2921040" y="2602080"/>
              <a:ext cx="365040" cy="36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HarveyArc"/>
            <p:cNvSpPr/>
            <p:nvPr/>
          </p:nvSpPr>
          <p:spPr>
            <a:xfrm>
              <a:off x="2921040" y="2602080"/>
              <a:ext cx="364320" cy="36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362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3620000"/>
                </a:path>
              </a:pathLst>
            </a:cu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2130480" y="4519440"/>
            <a:ext cx="365040" cy="365040"/>
            <a:chOff x="2130480" y="4519440"/>
            <a:chExt cx="365040" cy="365040"/>
          </a:xfrm>
        </p:grpSpPr>
        <p:sp>
          <p:nvSpPr>
            <p:cNvPr id="165" name="HarveyCircle"/>
            <p:cNvSpPr/>
            <p:nvPr/>
          </p:nvSpPr>
          <p:spPr>
            <a:xfrm>
              <a:off x="2130480" y="4519440"/>
              <a:ext cx="365040" cy="36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HarveyArc"/>
            <p:cNvSpPr/>
            <p:nvPr/>
          </p:nvSpPr>
          <p:spPr>
            <a:xfrm>
              <a:off x="2130840" y="4519440"/>
              <a:ext cx="364320" cy="36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2868480" y="4486320"/>
            <a:ext cx="365400" cy="365040"/>
            <a:chOff x="2868480" y="4486320"/>
            <a:chExt cx="365400" cy="365040"/>
          </a:xfrm>
        </p:grpSpPr>
        <p:sp>
          <p:nvSpPr>
            <p:cNvPr id="168" name="HarveyCircle"/>
            <p:cNvSpPr/>
            <p:nvPr/>
          </p:nvSpPr>
          <p:spPr>
            <a:xfrm>
              <a:off x="2868480" y="4486320"/>
              <a:ext cx="365400" cy="36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HarveyArc"/>
            <p:cNvSpPr/>
            <p:nvPr/>
          </p:nvSpPr>
          <p:spPr>
            <a:xfrm>
              <a:off x="2868840" y="4486320"/>
              <a:ext cx="364680" cy="36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362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3620000"/>
                </a:path>
              </a:pathLst>
            </a:cu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ext step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 practice review resul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for formal credit risk appetite stat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&amp;A asked CWG to develop a proposal for this for the F&amp;A and BOD to consid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&amp;A also asked ERCOT staff to ensure input is obtained from TAC and the PUCT for a credit risk appetite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would TAC like ERCOT staff to accomplish thi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for improved credit scoring mecha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for forward looking exposure calc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for loss reserve and capital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ated to credit risk appetite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 scoring and credit loss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intends to update with Dec 31, 2007 data when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quency of updates TBD (quarterly / annu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mmccarty</cp:lastModifiedBy>
  <dcterms:modified xsi:type="dcterms:W3CDTF">2008-03-11T19:11:51Z</dcterms:modified>
  <cp:revision>36</cp:revision>
  <dc:subject/>
  <dc:title>Instructions</dc:title>
</cp:coreProperties>
</file>