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8DD6-51E3-46B3-A77A-D8196AF1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336D-4437-4A6C-B698-2E32C308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6FD9-EED8-491C-8690-2504513C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83F3-83B8-4278-8B9B-F6DC5497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7456-391D-4331-B714-894CE29F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7A98-8E17-4755-BFC7-172FE7AE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0FC3-19E8-41BB-BE09-97C110E8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A8DE-3643-4C8F-ABCB-261D6C0A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E44F-ABAE-452A-AF6D-BF5658BF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E624-BC45-4023-B429-82F522E9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C0F8-8FD7-4848-80A0-0983266F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DE18-9220-46C7-BA90-3783AFD8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267B-D664-4EFE-8039-9406CD7FA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andards Drafting Team for SAR00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an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ter C. Bukowsk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 Ener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icip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se Dill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of Dall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-Commerc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e Gr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hen C. Knap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ellation Ener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 My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born L. Reader, J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CO Hold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-Industri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rry 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min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08-03-12T20:32:35Z</dcterms:modified>
  <cp:revision>37</cp:revision>
  <dc:subject/>
  <dc:title>Instructions</dc:title>
</cp:coreProperties>
</file>