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CF5F-658B-424B-B07E-878D2308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322D-BA84-4FE7-8786-A85DE9A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7A68-9A11-45D4-ADFF-01725BA3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9ACC-58D7-4004-9310-EED483CE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4A6A-6305-4198-8C2B-D4555BE7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3457-475C-4E6A-BE85-915DEE0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00B9-AE6D-49ED-84F7-D4A3F28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6714-AD5B-459C-9BC8-10B2760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EFCD-5176-496B-B550-A40AC8C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DE9E-2180-4AC2-9D86-030023D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31D7-779E-4018-98F9-1569F26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043C-0A72-4199-8E87-FF287C8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83A-7F51-4BB6-86E5-46CE21C5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MarkeTrak Degradation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rak users have experienced delayed system response and slow application perform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adations are tracked and described in the incident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analysis indicated database contention was the root of the problem.  After increasing system resources, the database problem was resolved but slow application response 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 additional resources to the database (3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to implement a database change (3/30) –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volume of 814_20 transactions for station ID’s is not affecting transaction processing, although it may pla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le in MarkeTrak application performance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, increased transactional volume was thought to be a factor causing slow MarkeTrak performance, but further analysis shows this is not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is reflected on the graph on the following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MarkeTrak Degradation Issue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5160" y="76212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Activity – October ’07 to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038480"/>
            <a:ext cx="175248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cent MarkeTrak Degradation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areas examined during the troubleshooting proc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utilized – no issues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ssues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is underutiliz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K/SAN is under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 sessions – MarkeTrak becomes unresponsive around 200 s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BC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d to latest version of the driver in Februar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ing ruled out other potential causes – the probable cause is the application itself – a version upgrade is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ersion upgrade was initially scheduled for the January ’08 release, the release did not pass testing due to bugs.  Rescheduled for March ’08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xt version of code also had bugs, and did not pass testing and was pulled from the March ’08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test version of code will be released into testing within the next few days, if all goes well it will be promoted to production in the May ’08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928800"/>
          <a:ext cx="82962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8800"/>
                    <a:ext cx="82962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955800"/>
          <a:ext cx="845820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55800"/>
                    <a:ext cx="84582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912960"/>
          <a:ext cx="81234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2960"/>
                    <a:ext cx="81234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3400" y="1066680"/>
          <a:ext cx="74772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66680"/>
                    <a:ext cx="7477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870120"/>
          <a:ext cx="718056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70120"/>
                    <a:ext cx="71805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3-11T23:32:55Z</dcterms:modified>
  <cp:revision>114</cp:revision>
  <dc:subject/>
  <dc:title>Instructions</dc:title>
</cp:coreProperties>
</file>