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745-ACD4-4FDD-B679-86E55CBF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30E-00F7-463C-8F2B-5E1CFC33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384-B507-400A-9E3F-F340B848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B43-0B4A-435C-86A4-9F77303D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726-EEE9-4FE9-B008-19C6FD44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2DD-EFA8-47D7-816F-BED859A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6A8-7C8C-4972-997A-1EA4C13A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ADE-08D9-4CA7-992B-79C7ABC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44B-BD37-44F2-A91A-FFEE1D47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598-0E3C-49F3-BD47-74F5CF3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462-BC7A-4AD8-AC0A-AA76BBA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BD9-0E81-4054-BE1B-F880C73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65D5-553D-44A9-834F-30F8D9440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ch 6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13E-1417-4FB7-BB73-EDC41644FD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br>
              <a:rPr sz="40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E Fee Methodology (PRR72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in detail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ERO Fee Assessment and Collection Guide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ccompany revised PRR720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y discussions regarding definition for load values being used to calculate the 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e to  questions raised on 2/12/08, will be presented at the March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P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PS discussions and consideration relate only to the TRE annual fee collection process and required changes to PRR720 in response to specific request of P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9A8-EE91-4582-8B9C-0503AC2867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br>
              <a:rPr sz="40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WG / SDA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d their first joint meeting where  discussion topics were of interest to both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ntrated on EDS4 schedule, timeline, and process expec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Nodal extract delivery dates noting very tight timeline between initial delivery and the planned 168 hour tes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ed setting timeline and delivery for data extract S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365-F347-40A5-A51E-FB31E5A39F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81240" y="990360"/>
            <a:ext cx="929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rsuing recommendation of the DGTF and working with Market Rules to effect timely implementation of a profile solution as requested by T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ing several new residential profiles for solar and wind renewable technologies (based on kW capa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ing allocation algorithms for the outflow energy (energy flowing into the distribution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ing needed PRR and LPGRR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ate less than 100 Competitive ESIIDs associated with solar and wind renewable technologies have been provided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B26-19A2-42B0-BF4E-17F66270BB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9140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RT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recommendation for an interim Demand Response Solution for Summer 2008 implementation and the Task Force’s request for Urgency Status to meet the proposed timeline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rgency Status vote failed at P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ted for discussion, comment, and review a proposed PRR and accompanying COPMGRR006 for the proposed Demand Response Interim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S following lengthy discussion approved COPMGRR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 an open meeting of the PUCT 2/20/08 the PUCT requested all efforts to implement an interim DR program this summer be stopped.  Their interest appears to be in supporting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ermanent solution onl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nd recognized that may be sometime after nex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942-AF0F-433C-A4DD-7C1A1BDAB1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PS recommends to TAC Withdrawal 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PMGRR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pporting implementation of an interim Demand Response Solu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336-8478-4EF0-ACA9-9728FBC6A4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FC8-F7DD-48D7-ACE0-E3CC18EAFC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8-02-27T16:55:00Z</dcterms:modified>
  <cp:revision>259</cp:revision>
  <dc:subject/>
  <dc:title>Point-to-Point</dc:title>
</cp:coreProperties>
</file>