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CEF5-4758-4264-BAA2-149C4B03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6E56-1106-42CE-9C1F-BC1A2E1C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3626-FAF6-4320-8E38-4B3DD1FD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A138-4006-4BCD-A349-3CBA4640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B13-F9FA-4C9B-8B3D-E5EEB057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5FE4-E2FF-4734-BFAB-F3E32AF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509F-B439-4E56-A505-509C7DD5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926B-DE0A-4291-9CAB-DE497BF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1715-F201-49A6-A232-66FF0B7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155A-DC2C-47C1-9842-937FA0F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8E7C-74A0-47DB-84C1-65103B9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E71C-BFDB-4B1A-A109-E8D76D9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4056-FDCB-4B9E-AAB4-DABA09A06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4CE9-C979-4D7F-AD42-F0CB6E7C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R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12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Funding Status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**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Unaudited– Updated 2/27/08 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458200" cy="3851280"/>
        </p:xfrm>
        <a:graphic>
          <a:graphicData uri="http://schemas.openxmlformats.org/drawingml/2006/table">
            <a:tbl>
              <a:tblPr/>
              <a:tblGrid>
                <a:gridCol w="854280"/>
                <a:gridCol w="1550880"/>
                <a:gridCol w="1552680"/>
                <a:gridCol w="1628640"/>
                <a:gridCol w="150012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ct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,88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3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33,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9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,190,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85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86,6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98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0,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9,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,898,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1,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76,0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23,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23,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55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35,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9,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91,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08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52280" y="5638680"/>
            <a:ext cx="876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cess funding transfers that were not utilized have been returned to the originating 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7B35-B267-4A16-B519-3746C57FB2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MO Update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Budget Transfers Between CA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Funding Transfers = $6.8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371600"/>
          <a:ext cx="1676160" cy="4481640"/>
        </p:xfrm>
        <a:graphic>
          <a:graphicData uri="http://schemas.openxmlformats.org/drawingml/2006/table">
            <a:tbl>
              <a:tblPr/>
              <a:tblGrid>
                <a:gridCol w="752400"/>
                <a:gridCol w="923760"/>
              </a:tblGrid>
              <a:tr h="3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9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9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6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90920" y="1371600"/>
          <a:ext cx="6392880" cy="4861080"/>
        </p:xfrm>
        <a:graphic>
          <a:graphicData uri="http://schemas.openxmlformats.org/drawingml/2006/table">
            <a:tbl>
              <a:tblPr/>
              <a:tblGrid>
                <a:gridCol w="1066680"/>
                <a:gridCol w="4343400"/>
                <a:gridCol w="98280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f8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ba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ransfer to IO, 1 deferral to 2008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erver upgrad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 SET 2.1 release of excess f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funds from various projects due to resource and AIX server upgrade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8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 project funding returned to S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of excess funds on 2 projects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 2007 and Unit Test Submittal Via Web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2 Facility Build-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9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Room Projector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e Refresh, Storage Upgrade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ccelera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7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 infrastructure items that became necessary over the course of the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.8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916C-357F-41CE-BEF2-C9712810F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7 Budget Transfer Benef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enefits derived from 2007 funding transf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C2 Buildou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ded by Texas SET 2.1 funding rel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much-needed capacity for growing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out unfinished areas of TCC2 (+130 desks, 6 off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ed cubicles (+216 se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ty areas (Market Trials room, vendor rooms, conf. ro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ed parking lot (+130 sp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X Server Consolidatio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used several RO projects to be dela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ed &gt;70 servers to 4 AIX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data center power usage to more acceptabl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oject Acceleration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ded by additional RO funding rel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 ERCOT to maintain a flat fee going in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 projector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blade refresh and storage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201-EAA6-44A6-A7C0-029DA8B348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3-05T16:44:07Z</dcterms:modified>
  <cp:revision>176</cp:revision>
  <dc:subject/>
  <dc:title>Instructions</dc:title>
</cp:coreProperties>
</file>