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24D-1C39-47CC-A752-A807C3A0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2E18-FEDA-43A0-B73D-D05B2264E1A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0B3-293B-4DD9-AB33-5004C009001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26B-E4D6-47A0-9E2B-B5C33AEEA95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53F8-3375-4F19-B63F-6C1DEF0A060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205-1BB0-4392-B220-F5E7383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F9D-4071-48C8-BCFF-53CCD11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A4F-5035-441E-BA1C-5CE17929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87A-EB70-4B1B-864D-CDFD73BF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7647-A005-4F7B-8F47-1C7A4977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1BF2-CB17-4BB1-9250-7EFCED82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0093-956F-4F07-9430-1969522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6098-F996-4E57-9DCB-D136F21C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8B5-1DDA-4814-A13D-86D17C2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926-29D1-4819-9710-5BE9707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9187-BF64-47B4-B8F5-369A992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03C-6A4E-4B31-816D-62F0842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2916-4441-4D04-AA69-CBA88F2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4C6-411E-4120-A8B9-CDADDC6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36B-EE65-44B7-AD75-B09BD8EB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46D2-CAEC-4B45-AC87-380BCE26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D4FD-DAE5-42DF-AC77-55E4F2E9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033-0710-416D-962A-D4495107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91D-2D7F-4A38-8985-C18C9BE7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77E-D001-4BD5-8958-2BF58E2B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9D0-CAD6-41EE-8B82-229151C9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281-4A6D-4431-B113-A920DC7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C28-5777-43D8-89DF-B0F0262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52B-E6FF-468F-93B9-AE1599BC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ED04-30EC-453F-99D4-F6E09483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868-E379-4B0A-BFCB-E593B28817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rch 12, 200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bruary 21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ed 2008 MarkeTrak Schedule of Activities and Meeting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ed WSDL release d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ed information on training notifica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ed deadline for getting digital certific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ed deadline for updating Bulk Insert templ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leted review of the remaining sections of the D2D and DEV sections of the User’s Guide with Market Updates and ERCOT updates to bring to current functionalit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rch 6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Reporting Functionality presentation was given by ERCOT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tion Item:  Requested Report ‘Parms’ for initial release  by next MarkeTrak mee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ted review of Conceptual Design Documen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signments were made for the User Guide updates for Phase 2 chan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rch 26th – hosted by TXUE – 6555 Sierra Drive, Irving, TX 75309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rning session - Script Sub-team will be presenting the scripts to the MarkeTrak Taskforce Te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noon session – Technical Review – please have API developers participate in ses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03-09T03:33:16Z</dcterms:modified>
  <cp:revision>52</cp:revision>
  <dc:subject/>
  <dc:title>MarkeTrak Task Force</dc:title>
</cp:coreProperties>
</file>