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E30F9-61C1-4B74-BF46-FD322FFFA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96F52-493B-42D9-88AF-213AB4F96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D70BA-9DD7-41B3-9CFD-3B4411711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3AD95-6319-4AD0-A10D-9E7D490DC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B9E93-57AE-4741-881E-5D9385F41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4BFC6-584F-40FC-B4F8-DACFEAB3A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5A87B-F1BC-42A1-BB30-3EEB651FC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688DD-0928-4CF7-9245-3CF38DACA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F2047-891D-446A-BD02-9208AF7CD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86CAC-2281-4111-82A5-F6A8D758B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50353-B483-4BFB-992F-D0083D33E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5D623-779D-4659-8CA3-6985B5589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7845F-D36D-4613-B6C5-CB6DA25719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ail Market Sub Committ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h 12,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2333520" y="5466960"/>
            <a:ext cx="2619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arch 12, 2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2333160" y="5067360"/>
            <a:ext cx="60483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tail Market Subcommittee Me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Flight Testing Updat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RMS Upda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08/09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90440" y="195120"/>
            <a:ext cx="7932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light 0208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" name=""/>
          <p:cNvSpPr/>
          <p:nvPr/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9480" y="1219320"/>
            <a:ext cx="82296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33520" y="1219320"/>
            <a:ext cx="82296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ta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3/12/08 Test Day 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isting MP needs to test bank change (4 TDS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ght 0208 scheduled to conclude on 04/01/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ngency Testing scheduled to conclude on 04/18/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MS Upda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8/09/2006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gres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nectivity Comple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 Complet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ek 1 100% Comple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ek 2 Upda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1090440" y="195120"/>
            <a:ext cx="7932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light 0208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MS Upda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8/09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light 0208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xt Flight - 0608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ght Deadline is 05/14/08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nectivity Kick-Off Conference Call:  05/20/08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ght Kick-Off Conference Call:  06/13/08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ght Begins: 06/16/08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ght scheduled to conclude:  07/29/08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MS Upda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8/09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gcervenka</cp:lastModifiedBy>
  <dcterms:modified xsi:type="dcterms:W3CDTF">2008-03-03T17:01:12Z</dcterms:modified>
  <cp:revision>92</cp:revision>
  <dc:subject/>
  <dc:title>Instructions</dc:title>
</cp:coreProperties>
</file>