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E613-3C4E-4ED5-B704-25DE5C57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6876-317E-4F69-9C08-656F5158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E31A-CAB4-4528-9559-1EE6DF64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5610-A7EA-49BB-8B14-C91EA8F1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E252-ED6B-40B2-BB9E-3AD2617C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71D3-C967-4177-8A2F-AF2C4ED2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3924-79AD-4A18-94F6-8513AB04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EC13-BCB2-4596-89A0-AD613291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43FD-18AF-4B9A-9C1A-9F39DE5F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FC3B-9BD5-45B5-8516-010C726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D98D-701D-43C9-88EF-F51334E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21EA-453F-4251-A4AF-E4906C1B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810C-DD75-452A-A5E3-2F7730477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5580-BC0B-4F8C-B9CF-2E543737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ynchronization of Zonal Protocols to Nodal Protoco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Market Ru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etail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1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s being Present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chronization of Zonal Protoco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18, Load Pro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20, Alternative Dispute Resolu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1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23, Texas Test Plan Team – Retail Market Te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24, Retail Point-to-Point Commun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tail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The Synchronizing Chang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subsection relating to Section-specific defin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 of use of defined terms within Section and with Nodal Section 2, Acronyms and Defin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 out of acronyms at first use in level-2 subse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 out of number values one-through-ten, use of numerals for 11 and abo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of sections numbering consistent with Nodal sty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for proper citation of statutory, rule, Protocol, governmental referen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internal referen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ing areas of the MIS (Public, Certified, Secure) and timing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 to TSP and/or DSP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tail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by subcommitt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– NPRR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– NPRR105 and NPRR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on March 20-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on April 18 and May 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 on Jun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pproval on June 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has asked to allow RMS and COPS to review the NPRRs prior to TPTF review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tail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43000" y="1143000"/>
          <a:ext cx="4724280" cy="4460760"/>
        </p:xfrm>
        <a:graphic>
          <a:graphicData uri="http://schemas.openxmlformats.org/drawingml/2006/table">
            <a:tbl>
              <a:tblPr/>
              <a:tblGrid>
                <a:gridCol w="2971800"/>
                <a:gridCol w="1752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MS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 State of Texas Renewable Energy Credit Trading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 Customer Reg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e (possibly M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 Texas Standard Electronic Trans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 Process for Protocol Re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 Attach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2, Definitions and Acrony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maining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867280" y="1143000"/>
          <a:ext cx="1752480" cy="44607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tail Market Sub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tail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. Boren</cp:lastModifiedBy>
  <dcterms:modified xsi:type="dcterms:W3CDTF">2008-03-10T17:52:05Z</dcterms:modified>
  <cp:revision>27</cp:revision>
  <dc:subject/>
  <dc:title>Instructions</dc:title>
</cp:coreProperties>
</file>