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B906-78E1-4F39-AF8B-0B08BFCB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24E3-678C-4582-89FA-51C0D77E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E5A2-AFCC-4858-8B4E-6E0351BE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0FB7-06F6-4B25-AC8F-F03C1A5B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BE9F-3DC2-4009-BE6B-F5564261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2F8E-B8FC-44E7-AF60-5DBE2EE8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ED18-12CD-4051-BDF1-A9FCF87D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48F2-0C81-4452-98C7-6DDD7663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B06A-2234-4BFF-BB5D-CD9B6436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45DD-8486-4107-8DE4-E5C98535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D5EF-0F27-44A9-80F0-37F95F84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CC138-3C9A-4066-8650-3AF0F26F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BEC8-8C50-401B-BFBC-6D5603926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ch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4920" y="928800"/>
          <a:ext cx="8296200" cy="48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28800"/>
                    <a:ext cx="829620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ebruary 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955800"/>
          <a:ext cx="8458200" cy="48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55800"/>
                    <a:ext cx="8458200" cy="48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912960"/>
          <a:ext cx="8123400" cy="48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2960"/>
                    <a:ext cx="812340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3400" y="1066680"/>
          <a:ext cx="74772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066680"/>
                    <a:ext cx="74772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870120"/>
          <a:ext cx="7180560" cy="49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70120"/>
                    <a:ext cx="718056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8-03-06T22:20:06Z</dcterms:modified>
  <cp:revision>106</cp:revision>
  <dc:subject/>
  <dc:title>Instructions</dc:title>
</cp:coreProperties>
</file>