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0506D1F-68E1-4770-B59B-AB31EA07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 Projects for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O Projects for 2008 Recommended by ERCO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eking approval from RMS for Rerank and Prioritization of the 2008 PPL as it appears 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O_2008 RERANK_RECOMMEDNATIONS_v3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mptions/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rojects marked “Deferred” cannot be completed in 2008 due to  either resource/environment constraints from Nodal in 2008 (see environment constraint for 2008 next slide). ERCOT projects marked “Deferred” will be placed on the 2009 P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ERCOT projects marked “Deferred” will provide  funding needed in 2008 for current projects and unplanned carryo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recasted Environment Constraints for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" name="Object 2640"/>
          <p:cNvGraphicFramePr/>
          <p:nvPr/>
        </p:nvGraphicFramePr>
        <p:xfrm>
          <a:off x="482760" y="803160"/>
          <a:ext cx="828828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26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03160"/>
                    <a:ext cx="828828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RO 08 Approved Fu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6.1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RO 08 Forecast Spend*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.1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08 Varianc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.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Forecast spend includes additional funding requests from current and unplanned carry over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monitor 2008 project health throughout  2008 for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lease of funds throughout the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to Combined 2008 PPL Funding and Budget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O 2008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 Projects for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O 2009 PPL Initiatives List - Overview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eking approval from RMS for the 2009 PPL Initiatives list as appears on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O_2009_PPL_Initiatives_v3.x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9 Project Priorit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atterfield</cp:lastModifiedBy>
  <dcterms:modified xsi:type="dcterms:W3CDTF">2008-03-09T16:22:14Z</dcterms:modified>
  <cp:revision>238</cp:revision>
  <dc:subject/>
  <dc:title>Texas Nodal Market Implementation ERCOT Board of Directors Meeting Budget Rationale October 17, 2006  Kathy Hager, Market Redesign Program Director </dc:title>
</cp:coreProperties>
</file>