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9D686-D57C-4DAE-9807-ED3A3C7A0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49B3E-44F3-4C3E-8E20-5FAF8E14D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0E21C-DDA9-4E6B-B489-75333296C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E423B-C2F5-4C7E-AE0F-33D63E8D3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2E81A-5DBC-427B-B771-A1397488D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8A717-D295-435D-A052-F9D10D461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62948-F281-4520-A0F4-54D0CC421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06706-EE19-44C7-AF4F-DCFFA0D9E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A589E-E499-467A-946B-AF2A36D84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659C5-BDF7-413A-857A-FB3BD511B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5DD9F-1F86-4181-9486-2DEDE2C0E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81713-68CB-4447-92E4-F058DDCE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DC8D3-B70C-4412-A3E7-2434A4EF22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19BF7-54AD-42DF-9E9A-6929AF95E1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00200" y="2057400"/>
            <a:ext cx="601992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CR 748 - Website Enhancements for ERCOT Outages Update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tail Market Subcommitte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arch 12, 2008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42640" y="495252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Kevin Tanner - Project manager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RCO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TDTW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03/05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(SCR 748) PR 70006_01 - Overview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3000"/>
          </a:bodyPr>
          <a:p>
            <a:pPr marL="181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Background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ope from SCR748 to provide a central location for outage information is needed and that this information should be kept on the ERCOT website.   The scope would include the enhancements below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533520" y="1930320"/>
          <a:ext cx="8001000" cy="3019680"/>
        </p:xfrm>
        <a:graphic>
          <a:graphicData uri="http://schemas.openxmlformats.org/drawingml/2006/table">
            <a:tbl>
              <a:tblPr/>
              <a:tblGrid>
                <a:gridCol w="4000320"/>
                <a:gridCol w="40006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ope Description from SCR7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al Achiev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endar of dates/times for planned outages affecting reta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 – posted manually by ERCOT thru Collage.  Automation to be delivered with Phase 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planned Outage Alert with web message capab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 - Web Alert Flag delivered with link to canned web message on ERCOT.com.  Flag and web message posted manually thru Collage.  Automation to be delivered with Phase 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Automated email generation not delivered.  Will be delivered with Phase 2.  Outage email delivered manually by ERCOT in the interim during business hour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 of outag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 – Log posted Nov. 22, 2007 forward manually by ERCOT thru Coll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"/>
          <p:cNvSpPr/>
          <p:nvPr/>
        </p:nvSpPr>
        <p:spPr>
          <a:xfrm>
            <a:off x="533520" y="4572000"/>
            <a:ext cx="800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5257800"/>
            <a:ext cx="8001000" cy="10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ticipated Market benefit from SCR748, IA and CB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active visibility for planned and unplanned outages from a centralized lo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Ps would have to have fewer resources involved in monitoring outage info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DTW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3/05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(SCR 748) PR 70006_02 - Overview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ackground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project is the phase 2 effort that will implement a solution to complete the automation for ERCOT Outage Notifications as defined in SCR748.  The scope for this project is expected to deliver the following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posting of the outage alert to ERCOT.com once SLA expir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initial email notification (limited information) of outage 24/7. (follow as needed by official notice from Client servic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alert to Remedy Incident Management System from the System Openview Monitoring.  Some validation with Commercial Operations is still expected for false positive aler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DTW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3/05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(SCR 748) PR 70006_02 Phase 2 - Overview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ystem Impact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COT.com (Collage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COT Helpdesk (Remedy) PR60055_0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 monitoring (HP Openview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nticipated ERCOT/Market Benefits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COT benefit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 the number of manual steps required to post a Outage notice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ket benefit:  Increase the accuracy and timeliness of Outage Notice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Budget Range for 2008 PP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$250k – 500K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08 Recommended Rank - 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DTW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3/05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urrent System Outage process as delivered with PR70006_01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098720" y="1077840"/>
          <a:ext cx="6945120" cy="470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8720" y="1077840"/>
                    <a:ext cx="6945120" cy="47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DTW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3/05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Proposed Future System Outage process as Delivered with PR70006_02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182600" y="1077840"/>
          <a:ext cx="6778800" cy="470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2600" y="1077840"/>
                    <a:ext cx="6778800" cy="47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DTW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3/05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hsatterfield</cp:lastModifiedBy>
  <dcterms:modified xsi:type="dcterms:W3CDTF">2008-03-12T04:15:56Z</dcterms:modified>
  <cp:revision>64</cp:revision>
  <dc:subject/>
  <dc:title>Instructions</dc:title>
</cp:coreProperties>
</file>