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48F0-71A5-409A-873E-30D1DF5D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7DDE-1AFF-4B87-9342-8C3A7D0B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9893-8D0F-4B52-A9E6-59E7318A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7916-0F09-4AD6-8F79-F8FA1225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1EAC-74A9-4660-9610-DF68D13D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E009-4D12-48C6-88E1-D97BA074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C84B-6FA6-4972-A892-03EFB021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2028-27AF-4E25-BF5A-227EF5C3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4F60-C8CF-4B56-8557-8FE5B376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BB75-68F2-4FD0-B466-76F9E4C5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97CA-810D-4108-B4BA-29EE542A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AA9C-FBFA-4249-8508-4C3A687D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A28B-E7F8-4C4B-8D70-65EEBA947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tail Market Subcommitte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rch 12, 2008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erformance Measures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4th</a:t>
            </a:r>
            <a:r>
              <a:rPr b="0" lang="en-US" sz="3600" spc="-1" strike="noStrike" baseline="30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Quarter 2007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Transaction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t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04920" y="1295280"/>
          <a:ext cx="8610120" cy="5105160"/>
        </p:xfrm>
        <a:graphic>
          <a:graphicData uri="http://schemas.openxmlformats.org/drawingml/2006/table">
            <a:tbl>
              <a:tblPr/>
              <a:tblGrid>
                <a:gridCol w="1997640"/>
                <a:gridCol w="1171080"/>
                <a:gridCol w="990360"/>
                <a:gridCol w="1171440"/>
                <a:gridCol w="990000"/>
                <a:gridCol w="1171080"/>
                <a:gridCol w="1118520"/>
              </a:tblGrid>
              <a:tr h="36468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C #24462 Performance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432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tail Market Subcommit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4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3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4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4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68,5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,3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,17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,498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210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42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6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8,97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,1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9,28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62,53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4,07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,12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9,98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9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,1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6,89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7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2,9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9,5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7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4,07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0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24,44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5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,48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6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,86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6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49,54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8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9,06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8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7,24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7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49,35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8,93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5,82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4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1,92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7,56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7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,87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28600" y="1295280"/>
          <a:ext cx="8686800" cy="5445360"/>
        </p:xfrm>
        <a:graphic>
          <a:graphicData uri="http://schemas.openxmlformats.org/drawingml/2006/table">
            <a:tbl>
              <a:tblPr/>
              <a:tblGrid>
                <a:gridCol w="1952640"/>
                <a:gridCol w="1144440"/>
                <a:gridCol w="1017720"/>
                <a:gridCol w="1143000"/>
                <a:gridCol w="990720"/>
                <a:gridCol w="1066680"/>
                <a:gridCol w="1371600"/>
              </a:tblGrid>
              <a:tr h="35748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C #24462 Performance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32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tail Market Subcommit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4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3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4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1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02,9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8,4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9,41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1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,4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8.4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,4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0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79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7.2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91,63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8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4,23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8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5,96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8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67,62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4,51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7.5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,25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*    96.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83,16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7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9,62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8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9,56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88,23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5,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,53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59,65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8.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8,85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6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6,64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48,77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5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1,06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5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2,52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5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48,26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,83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9,10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4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60,00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3,46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5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6,56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mmccarty</cp:lastModifiedBy>
  <cp:lastPrinted>2002-09-24T18:27:58Z</cp:lastPrinted>
  <dcterms:modified xsi:type="dcterms:W3CDTF">2008-02-28T17:26:04Z</dcterms:modified>
  <cp:revision>421</cp:revision>
  <dc:subject/>
  <dc:title>PowerPoint Presentation</dc:title>
</cp:coreProperties>
</file>