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9EA-4CA4-4882-8CBF-BCAFF1CF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16A-9F35-4D5E-B39A-0B65239A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CF8-129C-4C6A-82D1-386700D9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1AF-7105-476E-BFD9-345B5713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6A1FE-CE89-44B7-BECF-7AFE84DF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1479-8A74-4BEF-90B4-C206EBBB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BAC4D-3324-4E3F-8C96-56414445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8B8F-3B7C-47D5-8004-3303856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F3D7A-600C-4668-B5B3-C2844845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9BF2D-1229-4DAC-A7F5-447D4591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D7E84-0468-437F-A943-03041B9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69B-052C-4912-BBEA-190959D2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FB9B4-C149-46EE-B942-35FF575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7C192-8556-4F4F-BE2B-352D98F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1039B-097A-4677-A8E1-19D90D1E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EA92B-5120-473B-AF3F-F8116CF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EDB78-0752-4E10-8A56-5368B5D5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A78-8183-4CE2-8CA3-3127AFEF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770-0364-432A-8E5B-C89CCD3D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268-A1C4-4E7C-8C4A-2B7CCC83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9C8-3D4C-45B3-8916-9116CF27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131-BB1B-4116-BF21-DDB8B025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4F5-0A33-448B-9F79-1F341C0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DE8-4A72-4A46-94C4-3B3EDCC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DC0-BCDB-404B-B0E1-66FACC098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BBBE-7B47-44C5-888A-F39109C6F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h 9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60C07-464F-4407-A709-D3CAE2A87B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Move-outs cancelled at ERCOT due to a competing Move-in and then the Move-in goes to Permit Pending, Cancel Pending or Cance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7 instances in the first 3 weeks of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to run a daily query and open MarketTrak Issues to the CR that submitted the M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Notice went out on Feb. 1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process started on Feb. 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 you ERCOT!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301-E9FF-4FE8-AAC8-89899F8374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n’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5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A-By Pass flag is being used by CRs when they do not have a CSA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4 instances in last 3 days of January, mostly from a single CR (ERCOT to contact this 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will be reviewed again in Ma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X SET to consider proposing that ERCOT add validation to limit the CSA By-Pass to the CSA ow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-off is that MVO after DNP could re-energize a premis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8D0-A863-481D-8E39-97C0274D2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tributed Genera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Wh Gen. for Excess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 SET will be drafting a Market Guide Revision Request in support of PRR756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tributed Renewable Generation Modifi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ing the REF~JH~I for kWh Gen. on the 867_03 Monthly Usage transac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I ID must be on a DG Load Profile to benefit from any kWh G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983-E786-491A-AE9F-C6EF7C8A84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Distributed Generation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Wh Gen. for Excess Power (con’t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DG premise produces no excess power in a given month, should “0” be sent or the segment omit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Change Control to modify the REF~JH~I in the 867_03 Implementation Guide in the next TX SET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CCC-99D0-4141-AF6A-BA293438E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Work in Pro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Guide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ransaction Examples and Prepare to Pull Examples Out of I.G.s at Next Rel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/Clean-up of RMG Section 7 to ensure consistency with TX SET v3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5C6-AE1D-40BB-A91A-6CEC8907A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ture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alog the changes in queue for a future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alog any additional anticipated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e to monitor sources of potential TX SET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Metering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Regulatory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23C-075D-4DD6-8B7B-5576153BAA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pcoming Meet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h 27 – 28, ERCOT Met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3 – 24, Houston at Direct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20 – 21, Downtown Austin at 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17 – 18, Downtown Austin at Green Mountain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6FF-4567-49E1-88B7-06A720BE0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647712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963-AC88-45EB-B5C1-30353E283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bevill</cp:lastModifiedBy>
  <dcterms:modified xsi:type="dcterms:W3CDTF">2008-03-05T16:48:58Z</dcterms:modified>
  <cp:revision>10</cp:revision>
  <dc:subject/>
  <dc:title>TX SET  Update to RMS</dc:title>
</cp:coreProperties>
</file>