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466-4F1D-4BA6-B2A2-ACB5E923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212-B98A-4DB9-B67D-8F1C908B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883-352A-4529-A3A3-0829031C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CD3-D9F4-4686-8646-CDD3D85D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43D-A9EB-4101-B941-1E23B5D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D2D-773E-4662-8466-89325124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175-7285-4EE9-A62D-8CDA307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4CE-2759-43F3-A595-27EEC10C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883-83A5-463C-9E4C-B911328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9B1-FBC9-473C-B2E8-261B2F1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2F5-83EE-4447-A93B-DE7F52B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4F0-EE2D-47CA-A50C-DDBA662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33B-F3F0-4B08-B007-E565CE1C1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of PR60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47624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3440"/>
                <a:gridCol w="431640"/>
                <a:gridCol w="433440"/>
                <a:gridCol w="433440"/>
                <a:gridCol w="433440"/>
                <a:gridCol w="433080"/>
                <a:gridCol w="433440"/>
                <a:gridCol w="432000"/>
                <a:gridCol w="433440"/>
                <a:gridCol w="433080"/>
                <a:gridCol w="433440"/>
                <a:gridCol w="433440"/>
                <a:gridCol w="433440"/>
                <a:gridCol w="431640"/>
                <a:gridCol w="433440"/>
                <a:gridCol w="433440"/>
                <a:gridCol w="433440"/>
              </a:tblGrid>
              <a:tr h="5176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ed Under Performance Measures Rule 244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ed Under Performance Measures Rule 33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e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s measured under old protoc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s measured under new protoc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s measured under new protoc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Repor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23:10Z</dcterms:created>
  <dc:creator>mmccarty</dc:creator>
  <dc:description/>
  <dc:language>en-US</dc:language>
  <cp:lastModifiedBy>mmccarty</cp:lastModifiedBy>
  <dcterms:modified xsi:type="dcterms:W3CDTF">2008-03-11T16:47:56Z</dcterms:modified>
  <cp:revision>4</cp:revision>
  <dc:subject/>
  <dc:title>Slide 1</dc:title>
</cp:coreProperties>
</file>