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2156-4FA3-47E0-9C0E-07BCDB5B2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64A3-28D8-427F-8FB4-9648026ED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4435-CE27-4E66-8306-3FBB25A59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9A128-1FBC-4E43-AF0E-984E7FA00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7A720-71E2-4777-B924-7F25714C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8B453-BD8F-4C4E-BC99-EB3A8A3FF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D0D68-2515-43E6-89C9-BACEB3931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F2BF3-1589-4317-B4A8-D1544DC7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9D643-EB24-4843-8B1D-EE186D88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A2FD3-A9BA-432C-B646-FC260CBB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AEEAC-C444-4243-BACA-A2A189D5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2DCC5-0D92-4FE0-9442-46F470C0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AFD33-8FEB-4837-A02A-0EE1FF13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50A7B-663C-4D5A-B0AC-EF768DA1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5D914-3B4A-43AD-8FF2-676AD8AC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C8CF-CD11-4589-9F73-E51C7A3A0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4.wmf"/><Relationship Id="rId9" Type="http://schemas.openxmlformats.org/officeDocument/2006/relationships/image" Target="../media/image5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ighlights from TAC Credit Workshop</a:t>
            </a:r>
            <a:br>
              <a:rPr sz="2400"/>
            </a:b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heryl Yager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ch 6, 20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liver Wyman objectives and deliverabl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c project objectiv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of credit practices in ERCOT Protocols, Creditworthiness Standards, and credit risk management practices gener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whether ERCOT’s practices are consistent with best pract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modeling capability to enable quantification of credit risks for the entire credit portfolio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te Probabilities of Default (PDs) for each particip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te the credit loss probability distribution using thi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a capital adequacy assessmen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iverabl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 of creditworthiness and credit management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dit scoring model and doc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dit loss model with docu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 distributions and capital adequacy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4560" y="0"/>
            <a:ext cx="81122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redit practice review results</a:t>
            </a:r>
            <a:br>
              <a:rPr sz="2000"/>
            </a:br>
            <a:br>
              <a:rPr sz="2000"/>
            </a:b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ERCOT’s credit worthiness monitoring &amp; reporting and workout and management practices were found to be very solid.  However, in the following areas ERCOT fell short of “best practices”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11667960" y="198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13066560" y="157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31880" y="1576440"/>
          <a:ext cx="8018280" cy="3929040"/>
        </p:xfrm>
        <a:graphic>
          <a:graphicData uri="http://schemas.openxmlformats.org/drawingml/2006/table">
            <a:tbl>
              <a:tblPr/>
              <a:tblGrid>
                <a:gridCol w="727200"/>
                <a:gridCol w="726840"/>
                <a:gridCol w="727200"/>
                <a:gridCol w="726840"/>
                <a:gridCol w="1501920"/>
                <a:gridCol w="1905120"/>
                <a:gridCol w="1703160"/>
              </a:tblGrid>
              <a:tr h="703080">
                <a:tc>
                  <a:txBody>
                    <a:bodyPr lIns="18360" rIns="1836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eg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ority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libration relative to best pract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us achieved at the end of the proj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tial pract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ess achieved during this proj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tential next ste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9040">
                <a:tc>
                  <a:txBody>
                    <a:bodyPr lIns="18360" rIns="183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isk appeti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65240" indent="-1652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me internal discussion in market meetin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65240" indent="-1652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isk appetite definition should be explicitly defined to better guide ERCOT’s risk polic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indent="-1652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imate credit risk using credit loss model (current OW effor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65240" indent="-1652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ess market’s comfort level with loss estimates and ability to absorb los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indent="-1652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ard should develop a formal risk appetite stat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indent="-1652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sure credit policies and procedures are consistent with risk appetite and toler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4480">
                <a:tc>
                  <a:txBody>
                    <a:bodyPr lIns="18360" rIns="183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dit  Scor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65240" indent="-1652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ency ratings used where available but primarily for limit setting purpo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indent="-1652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ditworthiness was assessed using risk factors common to credit scoring model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65240" indent="-1652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nal scoring model fully vetted and now available to supplement agency ratin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65240" indent="-1652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fine credit scoring model as additional data becomes avail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4" name=""/>
          <p:cNvGrpSpPr/>
          <p:nvPr/>
        </p:nvGrpSpPr>
        <p:grpSpPr>
          <a:xfrm>
            <a:off x="2998800" y="2430360"/>
            <a:ext cx="365040" cy="365040"/>
            <a:chOff x="2998800" y="2430360"/>
            <a:chExt cx="365040" cy="365040"/>
          </a:xfrm>
        </p:grpSpPr>
        <p:sp>
          <p:nvSpPr>
            <p:cNvPr id="105" name="HarveyCircle"/>
            <p:cNvSpPr/>
            <p:nvPr/>
          </p:nvSpPr>
          <p:spPr>
            <a:xfrm>
              <a:off x="2998800" y="243036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arveyArc"/>
            <p:cNvSpPr/>
            <p:nvPr/>
          </p:nvSpPr>
          <p:spPr>
            <a:xfrm>
              <a:off x="2999160" y="2430360"/>
              <a:ext cx="364320" cy="36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279520" y="2457360"/>
            <a:ext cx="364680" cy="364320"/>
            <a:chOff x="2279520" y="2457360"/>
            <a:chExt cx="364680" cy="364320"/>
          </a:xfrm>
        </p:grpSpPr>
        <p:grpSp>
          <p:nvGrpSpPr>
            <p:cNvPr id="108" name=""/>
            <p:cNvGrpSpPr/>
            <p:nvPr/>
          </p:nvGrpSpPr>
          <p:grpSpPr>
            <a:xfrm>
              <a:off x="2279520" y="2457360"/>
              <a:ext cx="364680" cy="364320"/>
              <a:chOff x="2279520" y="2457360"/>
              <a:chExt cx="364680" cy="364320"/>
            </a:xfrm>
          </p:grpSpPr>
          <p:sp>
            <p:nvSpPr>
              <p:cNvPr id="109" name=""/>
              <p:cNvSpPr/>
              <p:nvPr/>
            </p:nvSpPr>
            <p:spPr>
              <a:xfrm>
                <a:off x="2279520" y="2457360"/>
                <a:ext cx="364680" cy="3643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bbe0e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279520" y="2457360"/>
                <a:ext cx="364680" cy="364320"/>
              </a:xfrm>
              <a:prstGeom prst="ellipse">
                <a:avLst/>
              </a:prstGeom>
              <a:noFill/>
              <a:ln cap="rnd" w="792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2461320" y="2457360"/>
              <a:ext cx="107280" cy="181080"/>
              <a:chOff x="2461320" y="2457360"/>
              <a:chExt cx="107280" cy="18108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1320" y="2457360"/>
                <a:ext cx="107280" cy="181080"/>
              </a:xfrm>
              <a:custGeom>
                <a:avLst/>
                <a:gdLst/>
                <a:ahLst/>
                <a:rect l="l" t="t" r="r" b="b"/>
                <a:pathLst>
                  <a:path w="567" h="959">
                    <a:moveTo>
                      <a:pt x="0" y="0"/>
                    </a:moveTo>
                    <a:cubicBezTo>
                      <a:pt x="204" y="0"/>
                      <a:pt x="402" y="65"/>
                      <a:pt x="567" y="183"/>
                    </a:cubicBezTo>
                    <a:lnTo>
                      <a:pt x="0" y="95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7a6"/>
              </a:solidFill>
              <a:ln w="0">
                <a:solidFill>
                  <a:srgbClr val="bbe0e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461320" y="2457360"/>
                <a:ext cx="107280" cy="33840"/>
              </a:xfrm>
              <a:custGeom>
                <a:avLst/>
                <a:gdLst/>
                <a:ahLst/>
                <a:rect l="l" t="t" r="r" b="b"/>
                <a:pathLst>
                  <a:path w="63" h="20">
                    <a:moveTo>
                      <a:pt x="0" y="0"/>
                    </a:moveTo>
                    <a:cubicBezTo>
                      <a:pt x="23" y="0"/>
                      <a:pt x="45" y="7"/>
                      <a:pt x="63" y="20"/>
                    </a:cubicBezTo>
                  </a:path>
                </a:pathLst>
              </a:custGeom>
              <a:noFill/>
              <a:ln cap="rnd" w="792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2279520" y="2457360"/>
              <a:ext cx="364680" cy="364320"/>
              <a:chOff x="2279520" y="2457360"/>
              <a:chExt cx="364680" cy="364320"/>
            </a:xfrm>
          </p:grpSpPr>
          <p:sp>
            <p:nvSpPr>
              <p:cNvPr id="115" name=""/>
              <p:cNvSpPr/>
              <p:nvPr/>
            </p:nvSpPr>
            <p:spPr>
              <a:xfrm>
                <a:off x="2279520" y="2457360"/>
                <a:ext cx="364680" cy="3643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bbe0e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79520" y="2457360"/>
                <a:ext cx="364680" cy="364320"/>
              </a:xfrm>
              <a:prstGeom prst="ellipse">
                <a:avLst/>
              </a:prstGeom>
              <a:noFill/>
              <a:ln cap="rnd" w="792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461320" y="2457360"/>
              <a:ext cx="107280" cy="181080"/>
              <a:chOff x="2461320" y="2457360"/>
              <a:chExt cx="107280" cy="181080"/>
            </a:xfrm>
          </p:grpSpPr>
          <p:sp>
            <p:nvSpPr>
              <p:cNvPr id="118" name=""/>
              <p:cNvSpPr/>
              <p:nvPr/>
            </p:nvSpPr>
            <p:spPr>
              <a:xfrm>
                <a:off x="2461320" y="2457360"/>
                <a:ext cx="107280" cy="181080"/>
              </a:xfrm>
              <a:custGeom>
                <a:avLst/>
                <a:gdLst/>
                <a:ahLst/>
                <a:rect l="l" t="t" r="r" b="b"/>
                <a:pathLst>
                  <a:path w="567" h="959">
                    <a:moveTo>
                      <a:pt x="0" y="0"/>
                    </a:moveTo>
                    <a:cubicBezTo>
                      <a:pt x="204" y="0"/>
                      <a:pt x="402" y="65"/>
                      <a:pt x="567" y="183"/>
                    </a:cubicBezTo>
                    <a:lnTo>
                      <a:pt x="0" y="95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7a6"/>
              </a:solidFill>
              <a:ln w="0">
                <a:solidFill>
                  <a:srgbClr val="bbe0e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461320" y="2457360"/>
                <a:ext cx="107280" cy="33840"/>
              </a:xfrm>
              <a:custGeom>
                <a:avLst/>
                <a:gdLst/>
                <a:ahLst/>
                <a:rect l="l" t="t" r="r" b="b"/>
                <a:pathLst>
                  <a:path w="63" h="20">
                    <a:moveTo>
                      <a:pt x="0" y="0"/>
                    </a:moveTo>
                    <a:cubicBezTo>
                      <a:pt x="23" y="0"/>
                      <a:pt x="45" y="7"/>
                      <a:pt x="63" y="20"/>
                    </a:cubicBezTo>
                  </a:path>
                </a:pathLst>
              </a:custGeom>
              <a:noFill/>
              <a:ln cap="rnd" w="792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2313000" y="4297320"/>
            <a:ext cx="364320" cy="364320"/>
            <a:chOff x="2313000" y="4297320"/>
            <a:chExt cx="364320" cy="364320"/>
          </a:xfrm>
        </p:grpSpPr>
        <p:grpSp>
          <p:nvGrpSpPr>
            <p:cNvPr id="121" name=""/>
            <p:cNvGrpSpPr/>
            <p:nvPr/>
          </p:nvGrpSpPr>
          <p:grpSpPr>
            <a:xfrm>
              <a:off x="2313000" y="4297320"/>
              <a:ext cx="364320" cy="364320"/>
              <a:chOff x="2313000" y="4297320"/>
              <a:chExt cx="364320" cy="364320"/>
            </a:xfrm>
          </p:grpSpPr>
          <p:sp>
            <p:nvSpPr>
              <p:cNvPr id="122" name=""/>
              <p:cNvSpPr/>
              <p:nvPr/>
            </p:nvSpPr>
            <p:spPr>
              <a:xfrm>
                <a:off x="2313000" y="4297320"/>
                <a:ext cx="364320" cy="3643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bbe0e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313000" y="4297320"/>
                <a:ext cx="364320" cy="364320"/>
              </a:xfrm>
              <a:prstGeom prst="ellipse">
                <a:avLst/>
              </a:prstGeom>
              <a:noFill/>
              <a:ln cap="rnd" w="792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2494800" y="4297320"/>
              <a:ext cx="107280" cy="181080"/>
              <a:chOff x="2494800" y="4297320"/>
              <a:chExt cx="107280" cy="181080"/>
            </a:xfrm>
          </p:grpSpPr>
          <p:sp>
            <p:nvSpPr>
              <p:cNvPr id="125" name=""/>
              <p:cNvSpPr/>
              <p:nvPr/>
            </p:nvSpPr>
            <p:spPr>
              <a:xfrm>
                <a:off x="2494800" y="4297320"/>
                <a:ext cx="107280" cy="181080"/>
              </a:xfrm>
              <a:custGeom>
                <a:avLst/>
                <a:gdLst/>
                <a:ahLst/>
                <a:rect l="l" t="t" r="r" b="b"/>
                <a:pathLst>
                  <a:path w="567" h="959">
                    <a:moveTo>
                      <a:pt x="0" y="0"/>
                    </a:moveTo>
                    <a:cubicBezTo>
                      <a:pt x="204" y="0"/>
                      <a:pt x="402" y="65"/>
                      <a:pt x="567" y="183"/>
                    </a:cubicBezTo>
                    <a:lnTo>
                      <a:pt x="0" y="95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7a6"/>
              </a:solidFill>
              <a:ln w="0">
                <a:solidFill>
                  <a:srgbClr val="bbe0e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494800" y="4297320"/>
                <a:ext cx="107280" cy="33840"/>
              </a:xfrm>
              <a:custGeom>
                <a:avLst/>
                <a:gdLst/>
                <a:ahLst/>
                <a:rect l="l" t="t" r="r" b="b"/>
                <a:pathLst>
                  <a:path w="63" h="20">
                    <a:moveTo>
                      <a:pt x="0" y="0"/>
                    </a:moveTo>
                    <a:cubicBezTo>
                      <a:pt x="23" y="0"/>
                      <a:pt x="45" y="7"/>
                      <a:pt x="63" y="20"/>
                    </a:cubicBezTo>
                  </a:path>
                </a:pathLst>
              </a:custGeom>
              <a:noFill/>
              <a:ln cap="rnd" w="792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2313000" y="4297320"/>
              <a:ext cx="364320" cy="364320"/>
              <a:chOff x="2313000" y="4297320"/>
              <a:chExt cx="364320" cy="364320"/>
            </a:xfrm>
          </p:grpSpPr>
          <p:sp>
            <p:nvSpPr>
              <p:cNvPr id="128" name=""/>
              <p:cNvSpPr/>
              <p:nvPr/>
            </p:nvSpPr>
            <p:spPr>
              <a:xfrm>
                <a:off x="2313000" y="4297320"/>
                <a:ext cx="364320" cy="3643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bbe0e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313000" y="4297320"/>
                <a:ext cx="364320" cy="364320"/>
              </a:xfrm>
              <a:prstGeom prst="ellipse">
                <a:avLst/>
              </a:prstGeom>
              <a:noFill/>
              <a:ln cap="rnd" w="792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2494800" y="4297320"/>
              <a:ext cx="107280" cy="181080"/>
              <a:chOff x="2494800" y="4297320"/>
              <a:chExt cx="107280" cy="181080"/>
            </a:xfrm>
          </p:grpSpPr>
          <p:sp>
            <p:nvSpPr>
              <p:cNvPr id="131" name=""/>
              <p:cNvSpPr/>
              <p:nvPr/>
            </p:nvSpPr>
            <p:spPr>
              <a:xfrm>
                <a:off x="2494800" y="4297320"/>
                <a:ext cx="107280" cy="181080"/>
              </a:xfrm>
              <a:custGeom>
                <a:avLst/>
                <a:gdLst/>
                <a:ahLst/>
                <a:rect l="l" t="t" r="r" b="b"/>
                <a:pathLst>
                  <a:path w="567" h="959">
                    <a:moveTo>
                      <a:pt x="0" y="0"/>
                    </a:moveTo>
                    <a:cubicBezTo>
                      <a:pt x="204" y="0"/>
                      <a:pt x="402" y="65"/>
                      <a:pt x="567" y="183"/>
                    </a:cubicBezTo>
                    <a:lnTo>
                      <a:pt x="0" y="95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7a6"/>
              </a:solidFill>
              <a:ln w="0">
                <a:solidFill>
                  <a:srgbClr val="bbe0e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494800" y="4297320"/>
                <a:ext cx="107280" cy="33840"/>
              </a:xfrm>
              <a:custGeom>
                <a:avLst/>
                <a:gdLst/>
                <a:ahLst/>
                <a:rect l="l" t="t" r="r" b="b"/>
                <a:pathLst>
                  <a:path w="63" h="20">
                    <a:moveTo>
                      <a:pt x="0" y="0"/>
                    </a:moveTo>
                    <a:cubicBezTo>
                      <a:pt x="23" y="0"/>
                      <a:pt x="45" y="7"/>
                      <a:pt x="63" y="20"/>
                    </a:cubicBezTo>
                  </a:path>
                </a:pathLst>
              </a:custGeom>
              <a:noFill/>
              <a:ln cap="rnd" w="792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" name=""/>
          <p:cNvGrpSpPr/>
          <p:nvPr/>
        </p:nvGrpSpPr>
        <p:grpSpPr>
          <a:xfrm>
            <a:off x="3032280" y="4297320"/>
            <a:ext cx="365040" cy="365040"/>
            <a:chOff x="3032280" y="4297320"/>
            <a:chExt cx="365040" cy="365040"/>
          </a:xfrm>
        </p:grpSpPr>
        <p:sp>
          <p:nvSpPr>
            <p:cNvPr id="134" name="HarveyCircle"/>
            <p:cNvSpPr/>
            <p:nvPr/>
          </p:nvSpPr>
          <p:spPr>
            <a:xfrm>
              <a:off x="3032280" y="429732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HarveyArc"/>
            <p:cNvSpPr/>
            <p:nvPr/>
          </p:nvSpPr>
          <p:spPr>
            <a:xfrm>
              <a:off x="3032280" y="4297320"/>
              <a:ext cx="364320" cy="36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362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3620000"/>
                </a:path>
              </a:pathLst>
            </a:cu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74560" y="304920"/>
            <a:ext cx="811224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redit practice review results 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(continued) </a:t>
            </a:r>
            <a:br>
              <a:rPr sz="1600"/>
            </a:br>
            <a:br>
              <a:rPr sz="1600"/>
            </a:b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ERCOT’s credit worthiness monitoring &amp; reporting and workout and management practices were found to be very solid.  However, in the following areas ERCOT fell short of “best practices”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-11667960" y="198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-11667960" y="1987560"/>
            <a:ext cx="390240" cy="3906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-11667960" y="198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11667960" y="1987560"/>
            <a:ext cx="390240" cy="390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-11667960" y="198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-11667960" y="1987560"/>
            <a:ext cx="390240" cy="3906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-11667960" y="198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-11667960" y="1987560"/>
            <a:ext cx="390240" cy="390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-11667960" y="198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-11667960" y="1987560"/>
            <a:ext cx="390240" cy="390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-13066560" y="157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-13066560" y="1579680"/>
            <a:ext cx="390240" cy="390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-13066560" y="157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-13066560" y="1579680"/>
            <a:ext cx="390240" cy="3902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-13066560" y="157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8"/>
          <a:stretch/>
        </p:blipFill>
        <p:spPr>
          <a:xfrm>
            <a:off x="-13066560" y="1579680"/>
            <a:ext cx="390240" cy="390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-13066560" y="157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9"/>
          <a:stretch/>
        </p:blipFill>
        <p:spPr>
          <a:xfrm>
            <a:off x="-13066560" y="1579680"/>
            <a:ext cx="390240" cy="3902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-13066560" y="157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0"/>
          <a:stretch/>
        </p:blipFill>
        <p:spPr>
          <a:xfrm>
            <a:off x="-13066560" y="1579680"/>
            <a:ext cx="390240" cy="39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677880" y="1730520"/>
          <a:ext cx="8018280" cy="4081320"/>
        </p:xfrm>
        <a:graphic>
          <a:graphicData uri="http://schemas.openxmlformats.org/drawingml/2006/table">
            <a:tbl>
              <a:tblPr/>
              <a:tblGrid>
                <a:gridCol w="727200"/>
                <a:gridCol w="726840"/>
                <a:gridCol w="727200"/>
                <a:gridCol w="727200"/>
                <a:gridCol w="1531800"/>
                <a:gridCol w="2068560"/>
                <a:gridCol w="1509480"/>
              </a:tblGrid>
              <a:tr h="703080">
                <a:tc>
                  <a:txBody>
                    <a:bodyPr lIns="18360" rIns="1836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eg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ority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libration relative to best pract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us achieved at the end of the proj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tial pract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ess achieved during this proj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tential next ste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3600">
                <a:tc>
                  <a:txBody>
                    <a:bodyPr lIns="18360" rIns="183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osure measure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nt and monitor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65240" indent="-1652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osure calculations</a:t>
                      </a:r>
                      <a:r>
                        <a:rPr b="1" lang="en-US" sz="1000" spc="-1" strike="noStrike">
                          <a:solidFill>
                            <a:srgbClr val="f2320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ck very recent historical exposure activ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indent="-1652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surement of forward exposure is based on recent his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indent="-1652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sses are being automa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indent="-1652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onse to alerts is rapid and well-defi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65240" indent="-1652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dit loss model  can simulate potential future exposure under a variety of assumptions and circumsta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65240" indent="-1652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ward exposure measurement should be based on forward risk factors (e.g. forward price and volume estimat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200">
                <a:tc>
                  <a:txBody>
                    <a:bodyPr lIns="18360" rIns="183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ss reserve and capi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65240" indent="-1652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me single scenario estimates have been ma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indent="-1652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sed on historical market circumsta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65240" indent="-1652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dit loss model provide best practice cap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indent="-1652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dit loss model will estimate loss magnitu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65240" indent="-1652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e economic capital results to foster discussion regarding risk appetite and a more consistent framework for considering loss reser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8" name=""/>
          <p:cNvGrpSpPr/>
          <p:nvPr/>
        </p:nvGrpSpPr>
        <p:grpSpPr>
          <a:xfrm>
            <a:off x="2128680" y="2602080"/>
            <a:ext cx="365040" cy="365040"/>
            <a:chOff x="2128680" y="2602080"/>
            <a:chExt cx="365040" cy="365040"/>
          </a:xfrm>
        </p:grpSpPr>
        <p:sp>
          <p:nvSpPr>
            <p:cNvPr id="159" name="HarveyCircle"/>
            <p:cNvSpPr/>
            <p:nvPr/>
          </p:nvSpPr>
          <p:spPr>
            <a:xfrm>
              <a:off x="2128680" y="260208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HarveyArc"/>
            <p:cNvSpPr/>
            <p:nvPr/>
          </p:nvSpPr>
          <p:spPr>
            <a:xfrm>
              <a:off x="2129040" y="2602080"/>
              <a:ext cx="364320" cy="36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921040" y="2602080"/>
            <a:ext cx="365040" cy="365040"/>
            <a:chOff x="2921040" y="2602080"/>
            <a:chExt cx="365040" cy="365040"/>
          </a:xfrm>
        </p:grpSpPr>
        <p:sp>
          <p:nvSpPr>
            <p:cNvPr id="162" name="HarveyCircle"/>
            <p:cNvSpPr/>
            <p:nvPr/>
          </p:nvSpPr>
          <p:spPr>
            <a:xfrm>
              <a:off x="2921040" y="260208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HarveyArc"/>
            <p:cNvSpPr/>
            <p:nvPr/>
          </p:nvSpPr>
          <p:spPr>
            <a:xfrm>
              <a:off x="2921040" y="2602080"/>
              <a:ext cx="364320" cy="36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362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3620000"/>
                </a:path>
              </a:pathLst>
            </a:cu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130480" y="4519440"/>
            <a:ext cx="365040" cy="365040"/>
            <a:chOff x="2130480" y="4519440"/>
            <a:chExt cx="365040" cy="365040"/>
          </a:xfrm>
        </p:grpSpPr>
        <p:sp>
          <p:nvSpPr>
            <p:cNvPr id="165" name="HarveyCircle"/>
            <p:cNvSpPr/>
            <p:nvPr/>
          </p:nvSpPr>
          <p:spPr>
            <a:xfrm>
              <a:off x="2130480" y="451944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HarveyArc"/>
            <p:cNvSpPr/>
            <p:nvPr/>
          </p:nvSpPr>
          <p:spPr>
            <a:xfrm>
              <a:off x="2130840" y="4519440"/>
              <a:ext cx="364320" cy="36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868480" y="4486320"/>
            <a:ext cx="365400" cy="365040"/>
            <a:chOff x="2868480" y="4486320"/>
            <a:chExt cx="365400" cy="365040"/>
          </a:xfrm>
        </p:grpSpPr>
        <p:sp>
          <p:nvSpPr>
            <p:cNvPr id="168" name="HarveyCircle"/>
            <p:cNvSpPr/>
            <p:nvPr/>
          </p:nvSpPr>
          <p:spPr>
            <a:xfrm>
              <a:off x="2868480" y="4486320"/>
              <a:ext cx="36540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HarveyArc"/>
            <p:cNvSpPr/>
            <p:nvPr/>
          </p:nvSpPr>
          <p:spPr>
            <a:xfrm>
              <a:off x="2868840" y="4486320"/>
              <a:ext cx="364680" cy="36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362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3620000"/>
                </a:path>
              </a:pathLst>
            </a:cu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ext step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 practice review resul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for formal credit risk appetite stat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&amp;A asked CWG to develop a proposal for this for the F&amp;A and BOD to consid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&amp;A also asked ERCOT staff to ensure input is obtained from TAC and the PUCT for a credit risk appetite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would TAC like ERCOT staff to accomplish thi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for improved credit scoring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for forward looking exposure calc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for loss reserve and capit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ed to credit risk appetite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 scoring and credit loss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intends to update with Dec 31, 2007 data when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of updates TBD (quarterly / annu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mmccarty</cp:lastModifiedBy>
  <dcterms:modified xsi:type="dcterms:W3CDTF">2008-03-11T19:11:51Z</dcterms:modified>
  <cp:revision>36</cp:revision>
  <dc:subject/>
  <dc:title>Instructions</dc:title>
</cp:coreProperties>
</file>