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4298A92-2F04-4668-AC11-AA7FD062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eking approval from COPS and RMS for one of the following options for 2008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 Consolidate the MORO 2008 PPL with the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RO_08RERANK_RECOMMENDATIONS_V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:  COPS approval of MO 2008 PPL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_ONLY_08RERANK_RECOMMENDATIONS.x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MS approval of RO 2008 PPL w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O_ONLY_08RERANK_RECOMMEDNATION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Preferred) Consolidate the MORO 2008 PPL with the rerank/prioritization as appears on MORO_08RERANK_RECOMMENDATIONS_V2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ct few items from MO area that will require rerank of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ERCOT resources for business, development, and support on projects on MO and RO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ance managed at combined MORO CART level for funding, schedules, and resource approv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visibility to Subcommittees of projects that expand MO and RO areas for contending resources, systems, and enviro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will be placed on the 2009 Initiatives list due to either resource/environment constraints from Nodal in 2008 (see environment constraint for 2008 next slide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provide additional funding needed in 2008 for current projects and unplanned carryov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4.7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Forecast for $61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Forecast for $4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.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and RMS for the 2009 PPL Initiatives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22T05:07:27Z</dcterms:modified>
  <cp:revision>235</cp:revision>
  <dc:subject/>
  <dc:title>Texas Nodal Market Implementation ERCOT Board of Directors Meeting Budget Rationale October 17, 2006  Kathy Hager, Market Redesign Program Director </dc:title>
</cp:coreProperties>
</file>