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A800-41B2-45CB-BB7C-56503BFCA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ADD0-E6D3-414F-980C-E20B42D8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95FD-5ECC-4522-97D4-5042BA893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927C-D63B-4614-8FB1-C26D8FC76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F9C4-0A44-4AE6-A490-071F497A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2209-F5FA-44F0-B0C4-29D7A86D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ADEF-F22A-472D-BADC-53E4BD32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2FE0-C623-44F8-83D0-E553CFE7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29BA-C597-464A-A1B1-6E411B9C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8C4E-CDD9-4DDF-B5E2-DA8DA813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70CE-C5F6-4594-B30E-7E638F58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CAA8-8433-46D1-995A-23FF6613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5E73-0235-471D-A57D-3215BE603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295280"/>
            <a:ext cx="7848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rting materials for RMS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vided b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ail Customer Choice (RCC)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2495-68FE-4C60-B15D-ADD473E2AFF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y To Day Issues: Subtype Descri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-1143000" y="229716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80880" y="1676520"/>
          <a:ext cx="8229600" cy="4573440"/>
        </p:xfrm>
        <a:graphic>
          <a:graphicData uri="http://schemas.openxmlformats.org/drawingml/2006/table">
            <a:tbl>
              <a:tblPr/>
              <a:tblGrid>
                <a:gridCol w="2178000"/>
                <a:gridCol w="60516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advertent Swi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 has inadvertently gained or lost (or is pending the gain/loss) an LSE Relationship to another CR in erro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cel w/Appro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requesting cancellation of an initiating transaction in instances submitting an 814_08 would result in a rejec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cel w/o Appro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DSP requesting cancellation of an initiating transaction for market defined reasons that do not require approval from the C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sing Transa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is missing any expected 814, 867_04 or 867_03 Fina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ge/Billing 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questions pertaining to point-to-point transactions excluding the 867 Contingency Pla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ject Transa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questions pertaining to rejected transactions or reject reas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 of 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questions pertaining to ERCOT LSE or TDSP LSE relationship histor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issues pertaining to internal/market projects, system trouble, or related problems as defined by the submitt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ebel/Chg Inf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questioning a discrepancy pertaining to Siebel service order status changes and Start/Stop time issues when transactions are present in ERCOT system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7 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verification of a 997 sent/receiv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Day to Day issues that do not fit one of the Sub Types indicated above such as: Siebel/997 reports, CSA’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456120" y="1371600"/>
            <a:ext cx="141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sue Sub-Typ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65800" y="13716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bmitted when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FDBD-DB71-4C71-A694-F937444F52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advertent Gains - Detail by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5112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01120" cy="29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4D3A-573A-4CE4-88E2-B62672C4B9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advertent Gain: State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5112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80880" y="1523880"/>
          <a:ext cx="8305920" cy="4738680"/>
        </p:xfrm>
        <a:graphic>
          <a:graphicData uri="http://schemas.openxmlformats.org/drawingml/2006/table">
            <a:tbl>
              <a:tblPr/>
              <a:tblGrid>
                <a:gridCol w="2176560"/>
                <a:gridCol w="6129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Iss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sue has not yet been submitted for consideration by the initiating part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either initial acknowledgement by an individual at ERCOT or returned to ERCOT for additional consider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draw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ting MP has the option to remove the issue from consideration prior to acknowledgement by another M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rogress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COT to provide necessary information to move the issue towards resolution including IAS data and assistance with market guidelin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acknowledgement by CR2 – the non submitting CR involved in the issues resolu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mitting CR, CR2, and TDSP have simultaneous access to view, comment and ultimately vote on the resolution to the iss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reement Reached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 parties have indicated the issue has or will be resolved per the information agreed upon in the Vote state. 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Agreement Reached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 party has indicated the issue is not a valid IAS or cannot be resolved as submitted per market guidelines.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Issue resolution Accepted by submitting party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 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No updates to issue for 2 weeks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by ERC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ERCOT Intervention required to remove visibility due primarily to proprietary information updated to iss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457200" y="12193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41760" y="121932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 Details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E064-888D-40A7-B17A-B51369A7BB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cel With Approval - Detail by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1143000" y="179244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8875800" cy="246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A6DF-6BAF-4B0B-9427-93D4BE5C6B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cel with Approval: State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2193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65440" y="121932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 Details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80880" y="1523880"/>
          <a:ext cx="8077320" cy="4711680"/>
        </p:xfrm>
        <a:graphic>
          <a:graphicData uri="http://schemas.openxmlformats.org/drawingml/2006/table">
            <a:tbl>
              <a:tblPr/>
              <a:tblGrid>
                <a:gridCol w="2117880"/>
                <a:gridCol w="5959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Iss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sue has not yet been submitted for consideration by the initiating part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either initial acknowledgement by an individual at the TDSP or returned to TDSP for additional consider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draw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ting MP has the option to remove the issue from consideration prior to acknowledgement by another M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DSP to provide ERCOT with agreement with cancel request or CR indication that request is already complete / unable to be complet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acknowledgement by ERC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rogress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COT to perform agreed upon cancels in the Registration System, request additional information or indicate that cancel cannot be performed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celled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 parties have indicated the requested service order has or will be cancelled. 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able to Cancel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 party has indicated the issue is not a valid Cancel w Approval issue or cannot be cancelled.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Issue resolution Accepted by submitting party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 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No updates to issue for 2 weeks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by ERC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ERCOT Intervention required to remove visibility due primarily to proprietary information updated to iss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5C51-185A-4A7F-8A95-A7F453EDA0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 LSE Issues -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1143000" y="179244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8693280" cy="30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F88A-0A71-49E0-BB49-661F0F33CD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 LSE Issues: Subtype Descri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80880" y="2133720"/>
          <a:ext cx="8305920" cy="3543120"/>
        </p:xfrm>
        <a:graphic>
          <a:graphicData uri="http://schemas.openxmlformats.org/drawingml/2006/table">
            <a:tbl>
              <a:tblPr/>
              <a:tblGrid>
                <a:gridCol w="3000600"/>
                <a:gridCol w="530532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in MP System not ERCOT: 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Active LSE relationship not present in ERCOT’s Registration System (Siebel) as indicated by MP SCR727 Extrac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in MP System not ERCOT: In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Inactive LSE relationship not present in ERCOT’s Registration System (Siebel) as indicated by MP SCR727 Extrac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in ERCOT System not 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do not show an LSE relationship which is present in ERCOT’s Registration System (Siebel) as indicated by MP SCR727 Extrac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date change: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LSE relationship present in ERCOT’s Registration System (Siebel) as indicated by MP SCR727 Extracts with a different initiation/enrollment da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date change: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p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LSE relationship present in ERCOT’s Registration System (Siebel) as indicated by MP SCR727 Extracts with a different end da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date change: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 and Stop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LSE relationship present in ERCOT’s Registration System (Siebel) as indicated by MP SCR727 Extracts with a initiation/enrollment and end da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379800" y="1752480"/>
            <a:ext cx="141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sue Sub-Typ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04240" y="175248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bmitted when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1BCB-4437-4A19-9337-AC985DCBF3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verage Days to Cl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143000" y="179244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4898880" cy="3017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114800" y="2057400"/>
            <a:ext cx="6645240" cy="283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1D8F-E288-49E3-BE43-5C038AC2C6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295280"/>
            <a:ext cx="9144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Meas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962520"/>
            <a:ext cx="80773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5725-02A7-412D-B6DE-15B997E7ED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143000"/>
            <a:ext cx="8763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periodically receives 867_03 Finals and 867_04s for service orders that are Cancelled in ERCOT systems.  The Service Order Sub-Statuses that are considered Cancelled are:  CR Requested, Customer Objection, ERCOT Operating Rule, Manual, Permit Not Received, with Exception, Unexecutable and Rejected by TDSP.   This can indicate an out-of-sync condition between the TDSP and ERC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Mechanism for Handling 867 RCSO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RCOT produces 867RCSO data each Friday and submits a report file to each TDSP via the ERCOT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TDSPs review the report line items and take one of the following a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ancell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o further action is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omplet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hey will initiate a day-to-day MarkeTrak issue and work with ERCOT to get ERCOT systems changed to complete.  Completion of cancelled service orders will require the approval of the CR initiating the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te: For Cancel by Customer Objection, the TDSP will honor the cancel in their syste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0D15-77FA-4052-9D9C-42EC6EE208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67s received on Cancelled Service Orders -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43200" y="1828800"/>
            <a:ext cx="3376440" cy="318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DE8E-E6EA-42A4-8D6A-2A8C0C1D15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lution Measure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867 Report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0E97-EF0B-4F48-A2D4-EAA9376B74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219320"/>
            <a:ext cx="8610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867 Re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867 Report will provide TDSPs information about Service Orders in a scheduled state for which ERCOT has not received an 867 completing transaction at least seven days after the scheduled meter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ekly report provided to the TDSP via the ERCOT Por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ats Summar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3581280"/>
            <a:ext cx="8029800" cy="227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07B2-A636-455A-91A5-E183753296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97040" y="-1501920"/>
          <a:ext cx="600120" cy="395280"/>
        </p:xfrm>
        <a:graphic>
          <a:graphicData uri="http://schemas.openxmlformats.org/drawingml/2006/table">
            <a:tbl>
              <a:tblPr/>
              <a:tblGrid>
                <a:gridCol w="600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797040" y="-1305000"/>
          <a:ext cx="600120" cy="395280"/>
        </p:xfrm>
        <a:graphic>
          <a:graphicData uri="http://schemas.openxmlformats.org/drawingml/2006/table">
            <a:tbl>
              <a:tblPr/>
              <a:tblGrid>
                <a:gridCol w="600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8097840" cy="393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6BF7-DF63-4774-9D21-58B86FF6B1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rkeTrak Issue Statis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35812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948B-2613-439A-A1D3-92C855320C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y to Day Issues - Summ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4158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3716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8666280" cy="322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ADD4-00BF-4232-B1ED-110184F833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mhost</cp:lastModifiedBy>
  <cp:lastPrinted>2002-09-24T18:27:58Z</cp:lastPrinted>
  <dcterms:modified xsi:type="dcterms:W3CDTF">2008-03-05T22:36:57Z</dcterms:modified>
  <cp:revision>735</cp:revision>
  <dc:subject/>
  <dc:title>PowerPoint Presentation</dc:title>
</cp:coreProperties>
</file>