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5E00-1F5A-4C4C-8D73-CA458473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496C-D5AD-4FAB-9230-93592CFC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92D1-FD32-472E-8716-84DC203EA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26F8-B4D5-4330-A0F9-4A6D9961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76F0-3E42-4B7E-A483-69C997589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0E75-5BF3-48BC-B256-70714A5F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2450-552C-4F7A-BFB8-00DCA295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AC50-2BDD-4F9F-B089-94427664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1F47-DCB0-4FAE-B168-27B24E87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D516-7849-4F35-90B0-E804A55C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5F45-050D-45E0-9072-624DB2A9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4CF7-B7A0-4802-9041-30A56AE5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891D-2EDF-44C3-909A-8DF492E5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26A0-E74B-4A67-A114-769BFB0B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E255-D562-4027-8DC2-38EC082F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272A-3FCE-4C49-B396-30B8CCAF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604A-852D-43F7-A71E-661F0FE0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F453-B54A-4FA8-ADE8-D5D37760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5ABF-87E0-41AA-9086-0D66C4CF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16F3-A22A-4B95-B9F8-C13AF580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1ACB-1AE1-4ABA-8901-24A91F3B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87A3-4126-478C-8490-0CE1BE51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8D7C-DE6E-490E-9DE4-C66BFE35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ECA9-FEC0-4F23-935F-21FF16CE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5294-3083-4217-B31F-0C8D12D81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8E19-6968-4B80-AFA5-6825FEE37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Demand Response Task Force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March Updat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Update from Open Meeting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t the February 22 Open Meeting, the PUCT Commissioners expressed their gratitude for all the hard work of the task for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structed not to move forward with manual solu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anted a long term, infrastructure-based solution using AM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Revised Scop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Demand Response Task Force (DRTF) will build a short term solution that allows for the limited deployment of retail Demand Response programs and their settlement by the summer of 2008.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short term solution should inform the development of a long term solution for offering Demand Response programs to the market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Goal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liver requirements for “Bridge Solution” by Feb 2008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vide recommendations for long term solu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Next Step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RTF believes it has completed its current scop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eking a recommendation to sunse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6:05:10Z</dcterms:created>
  <dc:creator>DRTF</dc:creator>
  <dc:description/>
  <dc:language>en-US</dc:language>
  <cp:lastModifiedBy>jgarcia</cp:lastModifiedBy>
  <dcterms:modified xsi:type="dcterms:W3CDTF">2008-03-03T16:17:51Z</dcterms:modified>
  <cp:revision>11</cp:revision>
  <dc:subject/>
  <dc:title>Demand Response Task Force</dc:title>
</cp:coreProperties>
</file>