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DED1-E432-43E7-833B-8736A86F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97B0-9EAF-4BC5-846C-237F0567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36ED-F38E-4713-A469-C8A5CABE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C526-CEFE-4BF1-B2A8-8BFE73F1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BF92-5C0B-48D0-8BDB-D8005B4B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D577C-5ADA-4F15-9A44-62739127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7070F-D85D-49F6-AB92-DC57935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B38C7-7595-4580-BED9-E084548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69E25-DC81-4271-94C4-EF8264D9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A187B-13DA-4D9A-AD09-3552C781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1F60-106A-4180-B6FD-30FDD07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87071-8792-45B3-9858-EC5B21CD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63F89-2BF9-4CDA-BCED-3D67BC88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20118-F3CD-4737-972F-474DF24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A74BD-4264-4031-84FD-CA1E152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AA2CC-DBBE-4E4E-AECD-4EA08D41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E94BF-0DBA-4B2A-A548-8E6E8E46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1F8A5-8D10-4210-A876-1760BA5F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85AB-84AA-4E15-9269-314838C0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A8E7-67B1-4CCE-AACC-4B7E0BE8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9559-518C-48F7-99D2-C9CA6350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0678-BADD-46C0-8CF4-227356C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6232-1249-467E-A2E6-070FADCB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26C0-9E2B-40F4-9BB1-2ADBFA2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5A35-9A39-46A5-82BC-AF7E24306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57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7D9E-6BF9-44CF-A2B4-6941B87C8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4BD-8347-4DEF-A544-1E8F2C54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49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4960" y="5466960"/>
            <a:ext cx="62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8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FD01-1A09-4DA1-9691-58F5640933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93A-616C-481F-B031-48DF0C5E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eds3/documents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eds3/documents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crrinfo@erco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eds3/documents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1920" y="1905120"/>
            <a:ext cx="69152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7.3: Mock Monthly Allocation/Au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Un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ructured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tructions &amp; Test Scrip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3790800"/>
            <a:ext cx="634356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S 3 Release 7 (CRR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018579-44CA-47EF-93B7-451AC629B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. Download PCRR allocation results </a:t>
            </a: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(eligible NOIEs onl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799920"/>
            <a:ext cx="886788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**Run this test script on 3/14/08 earlie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Download Reports” lin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Downloads” t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“Market Results” fil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either csv or xml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-&gt; Marke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ype -&gt; Alloc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erm -&gt; 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-&gt; EDS 7.3 Al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“Market Result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d – do NOT send this information to ERCO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2181240"/>
            <a:ext cx="5114880" cy="1751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how to navigate within this page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6: Downloads Manager (Page 37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Download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838320" y="1809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8020-32DB-4464-977F-508E53711C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7C199E-930B-4A81-8B9D-0D318B683B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. Download MCFRI nomination results </a:t>
            </a: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(McCamey WGRs only)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799920"/>
            <a:ext cx="886788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 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**Run this test script starting 3/14/08 earlie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Download Reports” lin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Downloads” t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“Market Results” fil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either csv or xm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-&gt; Marke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ype -&gt; Alloc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Term -&gt; 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-&gt; EDS 7.3 MCFRI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wnload “Market Result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view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d – do NOT send this information to ERCO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2181240"/>
            <a:ext cx="5114880" cy="1751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how to navigate within this page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6: Downloads Manager (Page 37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Download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3838320" y="1809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A4BE-B67D-41AC-96DC-81B542E426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12F4F7-C9E2-4F57-9C0A-CF05424F23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uidelines on creating PCRR nomina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3800" y="838080"/>
            <a:ext cx="8584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ly, eligible NOI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bmit PCRR nominations annual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ring the first 6 month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Nodal market, eligible NOIEs submit PCRR nomin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h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RR nominations cannot exceed the NOIE’s “eligible MW”. Eligible MW is the amount specified (and agreed by ERCOT) in the Allocation Eligibility For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gestion on how to create PCRR nominations fi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e to nominations screen: either Baseload or Cap/Refund (depending on relevant PCR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download: this will download the eligible PCRRs, and save file lo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“Nominated MW” column from “0” to desired MW (equal or less than “eligible MW” colum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 edited PCRR nomin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f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ype PCRRs, can only nominat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eligible MW-hrs for the allocation period (in this case, May 2008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for non-baseload PCRRs, NOIE must cho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pacit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fund type, per PCRR.    (Not allowed to break up eligible MW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8D52-22E1-4E65-918B-2A8C409846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7787CF-D425-4FEB-AD3A-CE31689B41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veats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MIS portal, the “Assign ACL to Market” link and certain CRR network model information links are not live for R7.3 (clicking on them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will lead to an error pa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15CE-02CB-4B47-9004-58CFE50F95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625563-2787-4E66-8DA7-8A689B685A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ssue submission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any issues arise during R7, please send email to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rinfo@ercot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info bel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nt DUNS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used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eenshot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issue occurred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s to reproduce (if relev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Matter Expert (SME) support will be available during workshop days (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business hou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that internal testing will occur in parallel with R7 testing activities. ERCOT will communicate known defects whenever possible, and log any previously unknown defects reported by participant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94F5-91FB-4443-8DA2-AA4855E864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BD3CE7-AA41-4762-9A91-82F368C314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ing up - R7.4: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 Black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ructured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 Black"/>
              </a:rPr>
              <a:t>annual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allocation/auc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81040" y="787320"/>
            <a:ext cx="5676480" cy="3412800"/>
            <a:chOff x="581040" y="787320"/>
            <a:chExt cx="5676480" cy="34128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581040" y="888840"/>
              <a:ext cx="5676480" cy="33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rcRect l="0" t="0" r="0" b="94319"/>
            <a:stretch/>
          </p:blipFill>
          <p:spPr>
            <a:xfrm>
              <a:off x="581040" y="787320"/>
              <a:ext cx="5676480" cy="11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8572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Objectiv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COT conducts mock 24-month allocation (NOIEs submit self-created nominations)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COT conducts mock 24-month auction (CRR AHs submit self-created bids; NOIE offers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 assign credit limit to CRR market; CRR AH submits self-imposed credit lim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R AHs bilaterally trade CR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Exit Criteri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ub-release is complete when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e allocation successfully optimizes all submitted nominations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ction successfully optimizes all submitted bids/offers within required time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ction results are successfully downloaded by CRR AHs who wish to view the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*Completion of this sub-release will meet </a:t>
            </a:r>
            <a:r>
              <a:rPr b="1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Market Readiness Criteria CRR3</a:t>
            </a: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– Operation of Monthly CRR Auction and Allocation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91040" y="4919760"/>
            <a:ext cx="313884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Completion of this sub-release will mee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rket Readiness Criteria CRR5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– Operation of Annual CRR Auction and Al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ED92-BE79-4DD9-B12A-C9CE00992C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8948CE-92EF-4360-B308-8A3DA0ABD2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gestion Revenue Righ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S 3 R7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rly Delivery System 3, Release 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7.1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 7, Sub-release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CR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-assigned Congestion Revenue Righ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FR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cCamey Area Flowgate Righ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ket Participa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R A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gestion Revenue Rights Account Hold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nter Par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PT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ition Plan Task For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U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Universal Numbering Syst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A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er System Administ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xas Market Lin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7799-AB17-4F75-AFB9-F1C8F22F4F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A27413-B944-46C3-B922-CDEFB29E46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ble of cont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on status of R7.2 auction 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7.3 objectives and exit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7.3 schedule &amp; test 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ek 1 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uidelines on creating PCRR nomin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 submi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ing up - R7.4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7F41-DD99-4017-9183-60FD2388BC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409F8C-2D19-4F31-B4F4-2A3BA7CF26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on status of R7.2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l not able to run the R7.2 CRR auction; hence yet to exit R7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has been working with vendor to identify and solve the iss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w version to fix the problems uncovered by EDS 7.2 has been installed and data is being load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 to be able to share results Fri (Mar 1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– dial into Friday’s market call to find o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CF22-9660-47A6-9845-5401D56EC5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1D3A24-BC6D-401A-8DCF-02F75E693C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036800"/>
            <a:ext cx="8229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Objecti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conducts mock monthly allocation (NOIEs submit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elf-cre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minations)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conducts mock monthly auction (CRR AHs submit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self-crea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ids;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NOIE off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assign credit limit to CRR market; CRR AH submits self-imposed credit lim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R AHs bilaterally trade CR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xit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ub-release is complete when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llocation successfully optimizes all submitted nomination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ction successfully optimizes all submitted bids/offers within required ti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ction results are successfully downloaded by CRR AHs who wish to view th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*Completion of this sub-release will mee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Market Readiness Criteria CRR3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– Operation of Monthly CRR Auction and Alloc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7.3: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 Black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ructured monthly allocation/auction – objectives &amp; exit criteri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70EE-6DA9-4B7F-B527-D15CD41002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32AC15-FEA9-49A5-8B19-A2AB473990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5696" r="0" b="0"/>
          <a:stretch/>
        </p:blipFill>
        <p:spPr>
          <a:xfrm>
            <a:off x="152280" y="776160"/>
            <a:ext cx="8591760" cy="3767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7.3 Schedule and test scrip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206280" y="1133640"/>
            <a:ext cx="13464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7.2 overview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974880"/>
            <a:ext cx="2762280" cy="69192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NOIEs: Submit nomin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**submission window en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Mar 13th 11:59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6920" y="2386080"/>
            <a:ext cx="1346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verview of wee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ctivities 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6920" y="3683160"/>
            <a:ext cx="1346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verview of wee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ctivities 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1000" y="2233440"/>
            <a:ext cx="2752920" cy="68112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Submit bids (&amp; SIC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Arial"/>
              </a:rPr>
              <a:t>**submission window en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Arial"/>
              </a:rPr>
              <a:t>Mar 20</a:t>
            </a:r>
            <a:r>
              <a:rPr b="1" i="1" lang="en-US" sz="11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1100" spc="-1" strike="noStrike">
                <a:solidFill>
                  <a:srgbClr val="ff0000"/>
                </a:solidFill>
                <a:latin typeface="Arial"/>
              </a:rPr>
              <a:t> 11:59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89600" y="1004760"/>
            <a:ext cx="1346400" cy="8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Discuss PCRR &amp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MCFRI alloca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results; review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99"/>
                </a:solidFill>
                <a:latin typeface="Arial"/>
              </a:rPr>
              <a:t>activities/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25760" y="2233440"/>
            <a:ext cx="1352520" cy="709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Downlo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pre-auction inf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(OPTIONAL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80240" y="2395440"/>
            <a:ext cx="1346040" cy="6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eview activit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nd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35120" y="3529080"/>
            <a:ext cx="1343160" cy="94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Downlo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uction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amp; invoice (?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3519360"/>
            <a:ext cx="2752560" cy="95724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Initiate and acce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bilateral tra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70520" y="3654360"/>
            <a:ext cx="1346400" cy="69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7.3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34040" y="4659480"/>
            <a:ext cx="45720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est scripts for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R7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Download pre-auc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Submit bid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72f"/>
                </a:solidFill>
                <a:latin typeface="Arial"/>
                <a:ea typeface="Arial"/>
              </a:rPr>
              <a:t>3. Submit Self-Imposed Credit Limit (SI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Download auction market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. Create a sell/buy bilateral trade po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. Accept a sell/buy bilateral trade po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7000" y="4573440"/>
            <a:ext cx="4572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Arial"/>
              </a:rPr>
              <a:t>Test scripts for 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eligible NOIEs only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. Submit PCRR nom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. Download PCRR alloca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Arial"/>
              </a:rPr>
              <a:t>Test script for 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McCamey WGRs only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. Download MCFRI alloca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Test script for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Counter Parties (CP)* only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. Submit CRR Market Credit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25760" y="2955960"/>
            <a:ext cx="2635200" cy="2840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cc99"/>
                </a:solidFill>
                <a:latin typeface="Arial"/>
              </a:rPr>
              <a:t>CP: submit credit lim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1600" y="1735200"/>
            <a:ext cx="4041720" cy="27936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ff57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572f"/>
                </a:solidFill>
                <a:latin typeface="Arial"/>
              </a:rPr>
              <a:t>(Latecomers only) R7.1 catch-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273720"/>
            <a:ext cx="2681280" cy="4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*ERCOT will email CP digital certificates to MP USA by 3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978280" y="6011640"/>
            <a:ext cx="0" cy="23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26C5-CA07-49D2-91AB-0025A8C0CC8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497EF-E20F-4BC9-B3AA-B383B68CCF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. Submit PCRR nominations </a:t>
            </a:r>
            <a:r>
              <a:rPr b="0" i="1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(eligible NOIEs only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799920"/>
            <a:ext cx="779148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  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**Run this test script between</a:t>
            </a:r>
            <a:r>
              <a:rPr b="1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00:01AM 3/12/08 – 11:59PM 3/13/08 onl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unch CRR application – go to “View PCRR Nominations” lin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If within application already, go to “Nomination” ta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e later slide on guidelines to create PCRR nominatio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Nomination -&gt; EDS 7.3 Allocation*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lendar Period -&gt; JU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either “Cap &amp; Refund” or “Baseloads” t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av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By clicking on little icon on the bottom left corner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33720" y="2505240"/>
            <a:ext cx="5162760" cy="1717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Guidance material on how to navigate within this page (either one below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ser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nodal.ercot.com/readiness/eds3/document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Release 7 – CRR: click on “crr_market_user_interface_user_manual_v1_0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4: Nominations Manager (Page 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R UI Training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</a:rPr>
              <a:t>https://www.ercottraining.com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ign in (or register if not already) and go to “CRR User Interface Train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iew demo on “Nomination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781080" y="215244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1CF6-A89F-4B0B-8782-285FDC83ED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6BAE65-B568-48A1-8441-D45B03085A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ime of Use data summary for May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WD = 336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akWE = 160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-peak = 248 h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B6AA-3B0D-4369-9FCC-218FDAB428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A37A4-9C53-4BE7-BA74-3BD01E94E3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04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. Creating Nominat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/Upload method (Option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nomination page for desired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and save to computer the nomination .c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“Nomination”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c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on CR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 method (Option 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 to nomination page for desired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cap/refund nominations on screen and 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baseload nominations on screen and s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6A27-2906-4C4E-A1B8-2B4D27CA0F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E50A9D-FAF0-478D-90DF-EB2B8F85FD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reedy</cp:lastModifiedBy>
  <dcterms:modified xsi:type="dcterms:W3CDTF">2008-03-10T16:32:07Z</dcterms:modified>
  <cp:revision>697</cp:revision>
  <dc:subject/>
  <dc:title>Texas Nodal Market Implementation ERCOT Board of Directors Meeting Budget Rationale October 17, 2006  Kathy Hager, Market Redesign Program Director </dc:title>
</cp:coreProperties>
</file>