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1EA-3F72-4903-BFED-A87F7350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56F-A236-4FF3-92A2-9FD34B4B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DDF-1868-43A2-9685-A94F9B66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47A-1E4B-46C6-A112-A0D892EC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FDE-7E43-4991-9309-CC8BC1A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F3D-073C-4AEA-B479-DB6C8E8A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04D-4A57-4951-BAA1-AB34196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F47-BA1D-449D-B744-8EE4886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D74-93E3-42F3-AF9E-E01B733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46B-309E-44EB-AC1E-C6BE188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54B-FB67-48F9-B228-CF54BDC5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D3D-DE0F-4FA0-AC08-6A3C27D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1ED-EBFD-4CC6-AAF2-3A6C4E536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rch 6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916-B04C-4C2C-898D-739E0D12D0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E Fee Methodology (PRR72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in detail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ERO Fee Assessment and Collection Guide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ccompany revised PRR720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y discussions regarding definition for load values being used to calculate the 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e to  questions raised on 2/12/08, will be presented at the March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P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PS discussions and consideration relate only to the TRE annual fee collection process and required changes to PRR720 in response to specific request of P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EA4-7636-4673-9953-557934647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br>
              <a:rPr sz="40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d their first joint meeting where  discussion topics were of interest to both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ed on EDS4 schedule, timeline, and process expec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Nodal extract delivery dates noting very tight timeline between initial delivery and the planned 168 hour tes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ed setting timeline and delivery for data extract S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006-9B27-4D7F-96ED-83135B48E7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81240" y="990360"/>
            <a:ext cx="9296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suing recommendation of the DGTF and working with Market Rules to effect timely implementation of a profile solution as requested by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ing several new residential profiles for solar and wind renewable technologies (based on kW capa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ing allocation algorithms for the outflow energy (energy flowing into the distribution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ing needed PRR and LPGRR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ate less than 100 Competitive ESIIDs associated with solar and wind renewable technologies have been provided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626-269C-4CF7-A941-289CB22B6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lights of the COPS 2/12/08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9140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RT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recommendation for an interim Demand Response Solution for Summer 2008 implementation and the Task Force’s request for Urgency Status to meet the proposed timeline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rgency Status vote failed at P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ted for discussion, comment, and review a proposed PRR and accompanying COPMGRR006 for the proposed Demand Response Interim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S following lengthy discussion approved COPMGRR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an open meeting of the PUCT 2/20/08 the PUCT requested all efforts to implement an interim DR program this summer be stopped.  Their interest appears to be in supporting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ermanent solution onl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recognized that may be sometime after nex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9FC-1950-4F65-AA8D-4B4A8880B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PS recommends to TAC Withdrawal 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PMGRR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pporting implementation of an interim Demand Response Solu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B91-C129-4E87-9919-9E10B60C4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2BA-D388-4353-B6CF-1F824042F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8-02-27T16:55:00Z</dcterms:modified>
  <cp:revision>259</cp:revision>
  <dc:subject/>
  <dc:title>Point-to-Point</dc:title>
</cp:coreProperties>
</file>