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CF3-8F82-4D7C-A21E-32772859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304-2795-40CD-A56C-4DB6DBD1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EC1-F374-45B0-8D56-9D70C233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DB9-78B6-48CD-ACEF-69DC3842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A40C-3D26-4BEF-854A-54528C9D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52FB-3260-4E22-86A9-2FDCE73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5837-DEE4-44F0-B124-55ABADA0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250C-4573-44B9-BD75-CD8E2ED6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042E-9FE8-41DC-A5E6-C85C6DF0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EEEA-51A5-4785-AD75-F1D11F0C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CADB-6364-48A1-9FA1-568D61A2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C37-15C6-4919-9A42-19BFC2B0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3C65-7DB8-4FD8-B9C4-8CCC98D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9EA7-5237-450F-9C7A-155968B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99C0-6965-4F40-86D0-636D34A8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19CC-7C4B-4E21-A485-E3DDBF1D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0B83-0B76-4FF8-A9A4-9788CF1C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DC6-7D5B-497B-BD13-59C3CA0F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8F8-0EEF-47EB-AF90-46B094F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8F2-527D-4979-A6E0-CEDA84BA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CEC-F744-4157-AFEB-2C36DC85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26C-4BBE-4D15-9914-A9BDB420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1ED-9EDC-4C18-B0DC-831AE7B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A88-7D6D-4046-9CB5-E1EC1FB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7F10-E943-446C-BDAC-ED33E4527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4A05-D35A-4F3A-9B97-249B84E383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February 22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o work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ection – Organizati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odal Sections and Sub-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5 – Commercial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8 -  Settlement Statement and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0 – CR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006 withdrawn, no CCWG comments submit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8, 2008 at ERC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1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8-03-03T20:32:38Z</dcterms:modified>
  <cp:revision>46</cp:revision>
  <dc:subject/>
  <dc:title>CCWG 2006 Accomplishments</dc:title>
</cp:coreProperties>
</file>