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E3652-CAAB-446E-B7AF-4F5CA890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BAF7-F035-401A-979D-71D4A683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79F16-EE99-4609-BD91-1F082DA7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28234-3A65-4F26-AA13-C1423076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745C-CDD9-465A-8225-3D483596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DED52-BD47-4C81-B0F2-41107504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1FCA-A642-4BA2-84CF-D155F078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ABBC0-D534-4494-8FB0-A4C41FAF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8CF39-5864-4ECA-854D-1A75612A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D8E96-137F-45E2-A1CC-C7B096EE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DF1C-A06F-4C74-80B1-20170249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F2A5-FFE1-4351-847A-3B34EB60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E54A-AE02-4CD1-86B8-5DB0FF78B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138F-C7B4-4F2E-8185-F07272B648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__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F2A8-352C-47E8-B7F9-F9C9556AA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0EF2-8E27-4469-B091-1FAA404C85AF}" type="datetime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2266920"/>
            <a:ext cx="698184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alculation of Net Energy for Load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P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et Energy for Loa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L calculation for ERCOT is performed b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ing all AML data cuts with the exception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L data cuts that are created as a result of DC Tie Exports or Block Load Transfer Ex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0716-9E18-4AE5-A8C5-E30D53AF80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et Energy for Loa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L calculation for ERCOT is performed b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1905120"/>
            <a:ext cx="4495680" cy="2590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2743200"/>
            <a:ext cx="228600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t Gen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import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3016080"/>
            <a:ext cx="1447920" cy="304920"/>
          </a:xfrm>
          <a:prstGeom prst="rightArrow">
            <a:avLst>
              <a:gd name="adj1" fmla="val 50000"/>
              <a:gd name="adj2" fmla="val 1187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05720" y="3048120"/>
            <a:ext cx="1447560" cy="304560"/>
          </a:xfrm>
          <a:prstGeom prst="rightArrow">
            <a:avLst>
              <a:gd name="adj1" fmla="val 50000"/>
              <a:gd name="adj2" fmla="val 1188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505320"/>
            <a:ext cx="1295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 Tie, Block Load Transfer Im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0" y="3532320"/>
            <a:ext cx="1295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 Tie, Block Load Transfer Ex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21337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08335-4DD0-494D-B8B8-5A5BB98843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oad Ratio Shar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 Ratio Shares are calculated b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∑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REPUFE_&lt;REP&gt;_&lt;QSE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∑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TOTERCOT_4C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 = 15-minute settlement interval for the previous calendar year (most recent settlement run for each Operating 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can be performed for REPs and Q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603C-F598-4CC3-922A-7BA32A0803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505320" y="2286000"/>
            <a:ext cx="1484280" cy="2514600"/>
            <a:chOff x="3505320" y="2286000"/>
            <a:chExt cx="1484280" cy="25146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3505320" y="2286000"/>
              <a:ext cx="14842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059720" y="2638080"/>
              <a:ext cx="602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itannic Bold"/>
                </a:rPr>
                <a:t>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59720" y="4046040"/>
              <a:ext cx="602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itannic Bold"/>
                </a:rPr>
                <a:t>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E246-6273-4283-BB35-C623623056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ut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 of Net Energy for Lo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Net Energy for Load is calculated in ERCO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5CDBC-3C94-4F30-AD89-F5BCB37EF7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057400" y="3352680"/>
            <a:ext cx="449568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et Energy for Load - Defini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 Energy for Load (NE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generation of an electric system plus energy received from other balancing authority areas less energy delivered to other balancing authority areas through an inter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4191120"/>
            <a:ext cx="228600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464000"/>
            <a:ext cx="1447920" cy="304920"/>
          </a:xfrm>
          <a:prstGeom prst="rightArrow">
            <a:avLst>
              <a:gd name="adj1" fmla="val 50000"/>
              <a:gd name="adj2" fmla="val 1187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4495680"/>
            <a:ext cx="1447560" cy="304920"/>
          </a:xfrm>
          <a:prstGeom prst="rightArrow">
            <a:avLst>
              <a:gd name="adj1" fmla="val 50000"/>
              <a:gd name="adj2" fmla="val 1186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9212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Energy Rece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49975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Energy Deli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351936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B8AB-41C2-488E-8DF4-F8F601687E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Energy Receive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orts into 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s to ERCOT are via DC Tie Imports and Block Load Transfer Impor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3352680"/>
            <a:ext cx="449568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4464000"/>
            <a:ext cx="1447920" cy="304920"/>
          </a:xfrm>
          <a:prstGeom prst="rightArrow">
            <a:avLst>
              <a:gd name="adj1" fmla="val 50000"/>
              <a:gd name="adj2" fmla="val 1187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921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Im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351936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08B49-C450-411F-AFD8-1761F990AC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et Gener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 Gen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m of all ERCOT internal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3352680"/>
            <a:ext cx="449568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4191120"/>
            <a:ext cx="228600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351936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7F6BB-82C5-4C5B-999E-0F188020E3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djusted Metered Load (AML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justed Metered Load (AM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RCOT, the net generation value plus imports is the same as the ERCOT total load value since load is required to match generation for each settlement inter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L is load that has been adjusted for distribution losses, transmission losses and UFE.  Summing all AML values for a given time period represents the total ERCOT load (also represents the total ERCOT net generation plus impor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AML values to represent ERCOT’s net generation plus im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BE06D-6322-40A6-947A-1E39CCBF9D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djusted Metered Load (AML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justed Metered Load (AML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valent to Net Generation plus imports into 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3352680"/>
            <a:ext cx="449568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4191120"/>
            <a:ext cx="228600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Generation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s = A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351936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29A35-FD86-4949-870B-4731412FF5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Energy Delivere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rts from 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s from ERCOT are via DC Tie Exports and Block Load Transfer Exports.  These exports are treated as lo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s from ERCOT (energy delivered to other balancing areas through an interchange) result in the creation of AML bill determinants/data cu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E478C-9365-4E74-9C14-03B3BC06BA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Energy Delivere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rts from 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ML bill determinants for DC Tie export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re 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ssociated to LSE’s but are directly associated to QSE’s.  These AML bill determinants/data cuts are excluded from the calcu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ML bill determinants for BLT export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ssociated to LSE’s but these determinants/data cuts are excluded from the calcu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3352680"/>
            <a:ext cx="449568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4191120"/>
            <a:ext cx="228600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351936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4495680"/>
            <a:ext cx="1447560" cy="304920"/>
          </a:xfrm>
          <a:prstGeom prst="rightArrow">
            <a:avLst>
              <a:gd name="adj1" fmla="val 50000"/>
              <a:gd name="adj2" fmla="val 1186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4997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Ex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1A07-7D8D-4B96-AA5E-77CB8C48B4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copheim</cp:lastModifiedBy>
  <dcterms:modified xsi:type="dcterms:W3CDTF">2008-02-26T15:36:22Z</dcterms:modified>
  <cp:revision>239</cp:revision>
  <dc:subject/>
  <dc:title>Instructions</dc:title>
</cp:coreProperties>
</file>