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8100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63AF14EA-40B4-4F87-B2DB-63B444C61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7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1819440"/>
            <a:ext cx="854712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 Projects for 2008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commendations by ERCO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2009 PPL Rerank/Prioritize Question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Projects for 2008 Recommended by ERCOT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seeking approval from COPS the Reranking of the 2008 PPL as it appears on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MO_2008_RERANK_RECOMMENDATIONS_v3.x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sumptions/Jus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e to focus on Nodal and Distribute Generation (on RO PPL) expect few items from MO area that will require rerank of 2008 PP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s marked “Deferred” cannot be completed in 2008 due to  either resource/environment constraints from Nodal in 2008 (see environment constraint for 2008 next slide). Projects marked “Deferred” will be placed on the 2009 PP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ly, the projects marked “Deferred” will provide funding needed in 2008 for current projects and unplanned carryo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orecasted Environment Constraints for 2008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9" name="Object 2640"/>
          <p:cNvGraphicFramePr/>
          <p:nvPr/>
        </p:nvGraphicFramePr>
        <p:xfrm>
          <a:off x="482760" y="803160"/>
          <a:ext cx="8288280" cy="513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Object 26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803160"/>
                    <a:ext cx="8288280" cy="51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MO 08 Approved Funding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.2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MO 08 Forecast Spend*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   876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Combined 08 Variance**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  324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Forecast spend includes additional funding requests from current and unplanned carry over pro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*Variance provides funds that may be required for efforts that will arise during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monitor 2008 project health throughout  2008 for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conserv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lease of funds throughout the yea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2008 PPL Recommendations-ERCOT – Cont’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Update to Combined 2008 PPL Funding and Budget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2008 PPL Rerank/Prioritize Question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228600" y="1819440"/>
            <a:ext cx="854712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RO Projects for 200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commendations by ERC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2009 PPL Initiatives List - Overview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seeking approval from COPS for the 2009 PPL Initiatives list as appears on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MO_2009_PPL_Initiatives_v3.x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009 Project Priorit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 –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list of high level initiatives by CART with budget range est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2008 – 1</a:t>
            </a:r>
            <a:r>
              <a:rPr b="0" lang="en-US" sz="1800" spc="-1" strike="noStrike" baseline="30000">
                <a:solidFill>
                  <a:srgbClr val="0000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quar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ERCOT approval of initiatives list &amp; budget (SRT, 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participant approval of initiatives list &amp; budget (subcommittees, T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&amp;A and Board of Directors approval of initiatives list &amp;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 –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2009 Divisional PPLs according to current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ion of funds to CARTs for Previously Approved and known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MO Update  -  2009 Project Prioritizati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 –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list of high level initiatives by CART with budget range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2008 – 1</a:t>
            </a:r>
            <a:r>
              <a:rPr b="0" lang="en-US" sz="2400" spc="-1" strike="noStrike" baseline="30000">
                <a:solidFill>
                  <a:srgbClr val="0000cc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ERCOT approval of initiatives list &amp; budget (SRT, 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articipant approval of initiatives list &amp; budget (subcommittees, T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&amp;A and Board of Directors approval of initiatives list &amp;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–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2009 Divisional PPLs according to current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ion of funds to CARTs for Previously Approved and known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MO Update -  2009 Project Prioritizati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Project Prioritization Schedule - 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Ts revise 2009 Initiative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ebruary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ebruary 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ebruary 14 / February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al by market subcommitt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13 / March 1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, IO, MO, RO, SO – P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al by T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pril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pril 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satterfield</cp:lastModifiedBy>
  <dcterms:modified xsi:type="dcterms:W3CDTF">2008-03-09T18:45:23Z</dcterms:modified>
  <cp:revision>237</cp:revision>
  <dc:subject/>
  <dc:title>Texas Nodal Market Implementation ERCOT Board of Directors Meeting Budget Rationale October 17, 2006  Kathy Hager, Market Redesign Program Director </dc:title>
</cp:coreProperties>
</file>