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C5B1E5-B433-4E93-89B0-107CEDF0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eeking approval from COPS and RMS for one of the following options for 2008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1:  Consolidate the MORO 2008 PPL with the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RO_08RERANK_RECOMMENDATIONS_V2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2:  COPS approval of MO 2008 PPL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O_ONLY_08RERANK_RECOMMENDATIONS.x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MS approval of RO 2008 PPL w rerank/prioritization as appears on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O_ONLY_08RERANK_RECOMMEDNATION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 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(Preferred) Consolidate the MORO 2008 PPL with the rerank/prioritization as appears on MORO_08RERANK_RECOMMENDATIONS_V2.x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/Just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ct few items from MO area that will require rerank of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d ERCOT resources for business, development, and support on projects on MO and RO 2008 P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ance managed at combined MORO CART level for funding, schedules, and resource approv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visibility to Subcommittees of projects that expand MO and RO areas for contending resources, systems, and enviro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will be placed on the 2009 Initiatives list due to either resource/environment constraints from Nodal in 2008 (see environment constraint for 2008 next slide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s marked “Deferred” provide additional funding needed in 2008 for current projects and unplanned carryov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4.7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Forecast for $61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 Forecast for $4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.6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orecast spend includes additional funding requests from current and unplanned carry over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monitor 2008 project health throughout  2008 for 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conserva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lease of funds throughout the ye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rank/Prioritize Ques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9 PPL Initiatives List - Overview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eking approval from COPS and RMS for the 2009 PPL Initiatives l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9 Project Priorit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22T05:07:27Z</dcterms:modified>
  <cp:revision>235</cp:revision>
  <dc:subject/>
  <dc:title>Texas Nodal Market Implementation ERCOT Board of Directors Meeting Budget Rationale October 17, 2006  Kathy Hager, Market Redesign Program Director </dc:title>
</cp:coreProperties>
</file>