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F554-CF57-4158-8AA9-58EDF1DA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BE66-8F32-4130-AF2F-18DA19C4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FDAF-900B-483E-897E-F36C8A24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AFEB-B826-4F3A-84B6-629A4063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0D3E-93CB-4349-86FB-EB1E2F0E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E5A5-5DCF-4DA7-A0BC-8E92E03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88AB-9FDF-4D9F-A6A6-D52F8BE8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08C7-A5D7-42E4-8794-19A5418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2C85-2C73-4DC2-B4B4-4FA99CE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40A1-B2A8-4832-9E62-DA6A759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CA9C-230B-474E-874F-FF25DBB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AE1F-AA5D-4E31-939C-DB0A40D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C05D-D950-435C-BC2A-9124A26E2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0DEA-6D8B-4A20-A8A5-70B442F3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ynchronization of Zonal Protocols to Nodal Protoco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Market Ru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mercial Operations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PRRs being Present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chronization of Zonal Protoco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8, Load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20, Alternative Dispute Resolu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23, Texas Test Plan Team – Retail Market T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R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24, Retail Point-to-Point Commun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ial Operations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he Synchronizing Chang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subsection relating to Section-specific defin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of use of defined terms within Section and with Nodal Section 2, Acronyms and Defin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out of acronyms at first use in level-2 subse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out of number values one-through-ten, use of numerals for 11 and abo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of sections numbering consistent with Nodal sty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or proper citation of statutory, rule, Protocol, governmental refere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internal refere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ing areas of the MIS (Public, Certified, Secure) and timing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to TSP and/or DSP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ial Operations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by subcommitt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– NPRR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– NPRR105 and NPRR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on Apri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on April 18 and May 2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on Jun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pproval on June 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TF has asked to allow RMS and COPS to review the NPRRs prior to TPTF review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ial Operations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143000"/>
          <a:ext cx="6172200" cy="4460760"/>
        </p:xfrm>
        <a:graphic>
          <a:graphicData uri="http://schemas.openxmlformats.org/drawingml/2006/table">
            <a:tbl>
              <a:tblPr/>
              <a:tblGrid>
                <a:gridCol w="3657600"/>
                <a:gridCol w="25146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 State of Texas Renewable Energy Credit Trading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 Customer Reg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 Texas Standard Electronic Trans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 Process for Protocol Re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 Attach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2, Definitions and Acrony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aining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ial Operations Subcommitte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mercial Operations Subcommitte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. Boren</cp:lastModifiedBy>
  <dcterms:modified xsi:type="dcterms:W3CDTF">2008-03-10T17:48:40Z</dcterms:modified>
  <cp:revision>29</cp:revision>
  <dc:subject/>
  <dc:title>Instructions</dc:title>
</cp:coreProperties>
</file>