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81A074-0B02-4DD7-AD1A-DF9AA11E470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8A47821-F75D-4C9C-9463-D2A756B93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12643D2-17E2-4F9D-983A-F9DDB14C6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4B21845-1836-4C0A-B427-9A7B6033E94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E5B6BD6-2F25-4769-A588-4E4C755786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24559DB-826E-497C-B70F-8BFBFB21E4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6E866D2-9371-45B3-905A-B2A32B8E8B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A4FA840-1353-4A7E-903C-C8F3050EE3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7FA94D9-C1A8-43BA-BBD9-4A07B563EF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CD23549-73AE-4D25-816A-BA3BC0A28C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67438A7-34FC-464E-BA96-92B9359536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3EAAE5-083B-43C6-9706-1A06FB700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225EE09-053F-4357-AF92-C515239D25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3BB8D0F-8942-4364-9DEA-2A9BEB055B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9E834BC-5EC7-4822-92A3-FBAD222E4D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7C686715-BC7F-4579-B4C8-44AA1E3393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F97A19E-E632-4233-829E-24EBBCB7324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CF82BAB-3BBC-43B6-BAF1-AD578D726AA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2E7309F7-232C-4104-B898-A3147C50A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B5EAD6D1-2B56-4629-A9B5-CB0E92B34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05061703-A579-44AD-958F-8E1A6D8B6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C61D2EC4-31D3-4CAA-AC94-D2FBCEAD9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4B4D57-261A-4B30-AE8F-D2ADE6851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D8446958-6EAD-4C8C-A473-12C97ED089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4CC34A14-DEA7-42C2-986A-5FBCD7245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EE0B2228-FE05-47B3-BEE8-A4CD97566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158D84FA-A87A-4396-A0DD-A7503EB6F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FFA1A8FA-5269-4D81-9916-EE7FA4AAE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AB4926FB-32B7-4723-8A99-4FB2F4AD1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73AAC8EE-840B-4E42-9E77-860CF2999AA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EAE9320-0277-4678-ABE0-E56C05CDD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7094F69-226D-4264-9E44-EB619296E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5213504-720E-4DA5-9F50-07B18890C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206EEB3-3735-4935-9180-64E7D8C13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CA2908F-61C4-4F08-8FDF-2F76BC2CE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9F3D9F2-416E-412C-84E8-6B14825FCD1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91F9-1302-4EC9-A680-55B83E09B1D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Times New Roman"/>
            </a:endParaRPr>
          </a:p>
        </p:txBody>
      </p:sp>
      <p:sp>
        <p:nvSpPr>
          <p:cNvPr id="5" name=""/>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3238560" y="0"/>
            <a:ext cx="11925360" cy="3809880"/>
            <a:chOff x="-3238560" y="0"/>
            <a:chExt cx="11925360" cy="3809880"/>
          </a:xfrm>
        </p:grpSpPr>
        <p:sp>
          <p:nvSpPr>
            <p:cNvPr id="44"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49" name="" descr=""/>
          <p:cNvPicPr/>
          <p:nvPr/>
        </p:nvPicPr>
        <p:blipFill>
          <a:blip r:embed="rId2"/>
          <a:stretch/>
        </p:blipFill>
        <p:spPr>
          <a:xfrm>
            <a:off x="7620120" y="228600"/>
            <a:ext cx="1295280" cy="696960"/>
          </a:xfrm>
          <a:prstGeom prst="rect">
            <a:avLst/>
          </a:prstGeom>
          <a:ln w="0">
            <a:noFill/>
          </a:ln>
        </p:spPr>
      </p:pic>
      <p:sp>
        <p:nvSpPr>
          <p:cNvPr id="50" name="PlaceHolder 3"/>
          <p:cNvSpPr>
            <a:spLocks noGrp="1"/>
          </p:cNvSpPr>
          <p:nvPr>
            <p:ph type="sldNum" idx="3"/>
          </p:nvPr>
        </p:nvSpPr>
        <p:spPr>
          <a:xfrm>
            <a:off x="6915240" y="61941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37FB9-B2F3-48EE-8565-D546A97797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3222720" y="304920"/>
            <a:ext cx="11909520" cy="4724280"/>
            <a:chOff x="-3222720" y="304920"/>
            <a:chExt cx="11909520" cy="4724280"/>
          </a:xfrm>
        </p:grpSpPr>
        <p:sp>
          <p:nvSpPr>
            <p:cNvPr id="8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9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9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E9DD-2A98-4293-8FCB-45D6F5FD31F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94" name="" descr=""/>
          <p:cNvPicPr/>
          <p:nvPr/>
        </p:nvPicPr>
        <p:blipFill>
          <a:blip r:embed="rId2"/>
          <a:stretch/>
        </p:blipFill>
        <p:spPr>
          <a:xfrm>
            <a:off x="7620120" y="228600"/>
            <a:ext cx="1295280" cy="69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761760" y="1676520"/>
            <a:ext cx="75438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WG Update Repor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d Boles</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Cirro Energ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WG Vice-Chair</a:t>
            </a:r>
            <a:endParaRPr b="0" lang="en-US" sz="2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PS Mee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rch 11, 2008</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8A38802-8273-42B4-9792-69E217B9CE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28600" y="1393920"/>
            <a:ext cx="8610480" cy="2361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Solar Profile Update – cont.</a:t>
            </a:r>
            <a:endParaRPr b="0" lang="en-US" sz="2800" spc="-1" strike="noStrike">
              <a:solidFill>
                <a:srgbClr val="000000"/>
              </a:solidFill>
              <a:latin typeface="Times New Roman"/>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PWG meeting March 4</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GRR third draft was re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Tree latest draft re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Spreadsheets being develop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eta test of MetrixND project file has been developed</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E855A1CD-4835-434B-8CEE-9839ECDBE0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8600" y="1393920"/>
            <a:ext cx="8610480" cy="4571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Solar Profile Update – cont.</a:t>
            </a:r>
            <a:endParaRPr b="0" lang="en-US" sz="2800" spc="-1" strike="noStrike">
              <a:solidFill>
                <a:srgbClr val="000000"/>
              </a:solidFill>
              <a:latin typeface="Times New Roman"/>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imeline PRR756</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gent resolution filed 2/28/2008</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ch 3 market notice to PRS initiating urgent vote</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ch 5 PRS request to grant Urgent status fail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ch 11 the COPS vote on recommendation </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18 at the PRS</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22 at PRS for Impact Analysis</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5 at the TAC </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 14 at the Board</a:t>
            </a:r>
            <a:endParaRPr b="0" lang="en-US" sz="2000" spc="-1" strike="noStrike">
              <a:solidFill>
                <a:srgbClr val="000000"/>
              </a:solidFill>
              <a:latin typeface="Times New Roman"/>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impact analysis is anticipated to be within $500,000 budget</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4633F4C7-E776-47C9-AB18-E89CE7492C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28600" y="1393920"/>
            <a:ext cx="8610480" cy="4939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Solar Profile Update – cont.</a:t>
            </a:r>
            <a:endParaRPr b="0" lang="en-US" sz="2800" spc="-1" strike="noStrike">
              <a:solidFill>
                <a:srgbClr val="000000"/>
              </a:solidFill>
              <a:latin typeface="Times New Roman"/>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imeline LPGRR</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gent resolution targeted to be filed 3/26/2008</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urgent approved;</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8 at the COPS</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8 at the TAC</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20 at the Board</a:t>
            </a:r>
            <a:endParaRPr b="0" lang="en-US" sz="2000" spc="-1" strike="noStrike">
              <a:solidFill>
                <a:srgbClr val="000000"/>
              </a:solidFill>
              <a:latin typeface="Times New Roman"/>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impact analysis is anticipated to be within $500,000 budget</a:t>
            </a:r>
            <a:endParaRPr b="0" lang="en-US" sz="2000" spc="-1" strike="noStrike">
              <a:solidFill>
                <a:srgbClr val="000000"/>
              </a:solidFill>
              <a:latin typeface="Times New Roman"/>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ERCOT Board </a:t>
            </a:r>
            <a:endParaRPr b="0" lang="en-US" sz="2000" spc="-1" strike="noStrike">
              <a:solidFill>
                <a:srgbClr val="000000"/>
              </a:solidFill>
              <a:latin typeface="Times New Roman"/>
            </a:endParaRPr>
          </a:p>
          <a:p>
            <a:pPr lvl="1" marL="914400" indent="-45720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ust approve no later than BOD meeting July 14 </a:t>
            </a:r>
            <a:endParaRPr b="0" lang="en-US" sz="2000" spc="-1" strike="noStrike">
              <a:solidFill>
                <a:srgbClr val="000000"/>
              </a:solidFill>
              <a:latin typeface="Times New Roman"/>
            </a:endParaRPr>
          </a:p>
          <a:p>
            <a:pPr lvl="1" marL="914400" indent="-45720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or the 150 day notice to allow for 1/1/2009 implementation</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65039CC8-C6D3-4799-9819-34B5F83C77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28600" y="1393920"/>
            <a:ext cx="8610480" cy="1257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FE Report</a:t>
            </a:r>
            <a:endParaRPr b="0" lang="en-US" sz="28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argeted for April 2007 PWG Meeting</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F1DA585C-4C24-4928-B779-65D11F2DCB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380880" y="137160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0" lang="en-US" sz="2400" spc="-1" strike="noStrike">
              <a:solidFill>
                <a:srgbClr val="000000"/>
              </a:solidFill>
              <a:latin typeface="Times New Roman"/>
            </a:endParaRPr>
          </a:p>
        </p:txBody>
      </p:sp>
      <p:pic>
        <p:nvPicPr>
          <p:cNvPr id="149" name="" descr=""/>
          <p:cNvPicPr/>
          <p:nvPr/>
        </p:nvPicPr>
        <p:blipFill>
          <a:blip r:embed="rId1"/>
          <a:stretch/>
        </p:blipFill>
        <p:spPr>
          <a:xfrm>
            <a:off x="1981080" y="1828800"/>
            <a:ext cx="4876920" cy="2590920"/>
          </a:xfrm>
          <a:prstGeom prst="rect">
            <a:avLst/>
          </a:prstGeom>
          <a:ln w="0">
            <a:noFill/>
          </a:ln>
        </p:spPr>
      </p:pic>
      <p:sp>
        <p:nvSpPr>
          <p:cNvPr id="150" name=""/>
          <p:cNvSpPr/>
          <p:nvPr/>
        </p:nvSpPr>
        <p:spPr>
          <a:xfrm>
            <a:off x="609480" y="4495680"/>
            <a:ext cx="8001000" cy="157212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G 2008 meeting dat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26</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 4</a:t>
            </a:r>
            <a:r>
              <a:rPr b="0" lang="en-US" sz="2400" spc="-1" strike="noStrike" baseline="30000">
                <a:solidFill>
                  <a:srgbClr val="000000"/>
                </a:solidFill>
                <a:latin typeface="Arial"/>
              </a:rPr>
              <a:t>th</a:t>
            </a:r>
            <a:r>
              <a:rPr b="0" lang="en-US" sz="2400" spc="-1" strike="noStrike">
                <a:solidFill>
                  <a:srgbClr val="000000"/>
                </a:solidFill>
                <a:latin typeface="Arial"/>
              </a:rPr>
              <a:t> Wednesday of the month for Mar. – Oct.</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2ADC024-0D99-4A77-9523-4B5FDEA49A4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80880" y="1371600"/>
            <a:ext cx="8458200" cy="737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Updated PWG 2008 Goals </a:t>
            </a:r>
            <a:endParaRPr b="0" lang="en-US" sz="2400" spc="-1" strike="noStrike">
              <a:solidFill>
                <a:srgbClr val="000000"/>
              </a:solidFill>
              <a:latin typeface="Times New Roman"/>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ranked by Target Date)</a:t>
            </a:r>
            <a:endParaRPr b="0" lang="en-US" sz="1200" spc="-1" strike="noStrike">
              <a:solidFill>
                <a:srgbClr val="000000"/>
              </a:solidFill>
              <a:latin typeface="Times New Roman"/>
            </a:endParaRPr>
          </a:p>
        </p:txBody>
      </p:sp>
      <p:pic>
        <p:nvPicPr>
          <p:cNvPr id="133" name="" descr=""/>
          <p:cNvPicPr/>
          <p:nvPr/>
        </p:nvPicPr>
        <p:blipFill>
          <a:blip r:embed="rId1"/>
          <a:stretch/>
        </p:blipFill>
        <p:spPr>
          <a:xfrm>
            <a:off x="457200" y="2257560"/>
            <a:ext cx="8153280" cy="3990960"/>
          </a:xfrm>
          <a:prstGeom prst="rect">
            <a:avLst/>
          </a:prstGeom>
          <a:ln w="0">
            <a:noFill/>
          </a:ln>
        </p:spPr>
      </p:pic>
      <p:sp>
        <p:nvSpPr>
          <p:cNvPr id="2" name="PlaceHolder 1"/>
          <p:cNvSpPr>
            <a:spLocks noGrp="1"/>
          </p:cNvSpPr>
          <p:nvPr>
            <p:ph type="sldNum" idx="2"/>
          </p:nvPr>
        </p:nvSpPr>
        <p:spPr/>
        <p:txBody>
          <a:bodyPr/>
          <a:p>
            <a:fld id="{25A37B0E-6753-4219-AEC1-9991F004B9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9920" y="1590840"/>
            <a:ext cx="6972480" cy="73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2 Sample Point Installation Tracking </a:t>
            </a:r>
            <a:br>
              <a:rPr sz="1800"/>
            </a:br>
            <a:r>
              <a:rPr b="1" lang="en-US" sz="1800" spc="-1" strike="noStrike">
                <a:solidFill>
                  <a:srgbClr val="000000"/>
                </a:solidFill>
                <a:latin typeface="Arial"/>
              </a:rPr>
              <a:t>Percent New Installations as of Feb. 28, 2008</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35" name="" descr=""/>
          <p:cNvPicPr/>
          <p:nvPr/>
        </p:nvPicPr>
        <p:blipFill>
          <a:blip r:embed="rId1"/>
          <a:stretch/>
        </p:blipFill>
        <p:spPr>
          <a:xfrm>
            <a:off x="838080" y="2343240"/>
            <a:ext cx="7367760" cy="4086000"/>
          </a:xfrm>
          <a:prstGeom prst="rect">
            <a:avLst/>
          </a:prstGeom>
          <a:ln w="0">
            <a:noFill/>
          </a:ln>
        </p:spPr>
      </p:pic>
      <p:sp>
        <p:nvSpPr>
          <p:cNvPr id="3" name="PlaceHolder 2"/>
          <p:cNvSpPr>
            <a:spLocks noGrp="1"/>
          </p:cNvSpPr>
          <p:nvPr>
            <p:ph type="sldNum" idx="2"/>
          </p:nvPr>
        </p:nvSpPr>
        <p:spPr/>
        <p:txBody>
          <a:bodyPr/>
          <a:p>
            <a:fld id="{C1D630A9-3438-4D49-BD15-09101FDF9A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9560" y="1423800"/>
            <a:ext cx="6945480" cy="772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2 Sample Point Installation Tracking </a:t>
            </a:r>
            <a:br>
              <a:rPr sz="1800"/>
            </a:br>
            <a:r>
              <a:rPr b="1" lang="en-US" sz="1800" spc="-1" strike="noStrike">
                <a:solidFill>
                  <a:srgbClr val="000000"/>
                </a:solidFill>
                <a:latin typeface="Arial"/>
              </a:rPr>
              <a:t>Percent New Installations Plus Retained Sample Pts</a:t>
            </a:r>
            <a:endParaRPr b="0" lang="en-US" sz="1800" spc="-1" strike="noStrike">
              <a:solidFill>
                <a:srgbClr val="000000"/>
              </a:solidFill>
              <a:latin typeface="Arial"/>
            </a:endParaRPr>
          </a:p>
        </p:txBody>
      </p:sp>
      <p:pic>
        <p:nvPicPr>
          <p:cNvPr id="137" name="" descr=""/>
          <p:cNvPicPr/>
          <p:nvPr/>
        </p:nvPicPr>
        <p:blipFill>
          <a:blip r:embed="rId1"/>
          <a:stretch/>
        </p:blipFill>
        <p:spPr>
          <a:xfrm>
            <a:off x="1066680" y="2247840"/>
            <a:ext cx="7220160" cy="4118040"/>
          </a:xfrm>
          <a:prstGeom prst="rect">
            <a:avLst/>
          </a:prstGeom>
          <a:ln w="0">
            <a:noFill/>
          </a:ln>
        </p:spPr>
      </p:pic>
      <p:sp>
        <p:nvSpPr>
          <p:cNvPr id="3" name="PlaceHolder 2"/>
          <p:cNvSpPr>
            <a:spLocks noGrp="1"/>
          </p:cNvSpPr>
          <p:nvPr>
            <p:ph type="sldNum" idx="2"/>
          </p:nvPr>
        </p:nvSpPr>
        <p:spPr/>
        <p:txBody>
          <a:bodyPr/>
          <a:p>
            <a:fld id="{BA4986C7-39A9-4419-8D12-7690D256C4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28600" y="1393920"/>
            <a:ext cx="8610480" cy="3812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and Response Update</a:t>
            </a:r>
            <a:endParaRPr b="0" lang="en-US" sz="2800" spc="-1" strike="noStrike">
              <a:solidFill>
                <a:srgbClr val="000000"/>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 Response Task Force (DRTF) Bridge (short) Solution of summer of 2008 implementation has been withdrawn per the request of the PUCT.</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736, PRR755 and LPGRR027 have been withdrawn.</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PWG requests guidance from the COPS as to timeline to continue to develop a long term DR solution per the request of the PUCT at the Open Meeting of Feb. 22, 2008.</a:t>
            </a:r>
            <a:endParaRPr b="0" lang="en-US" sz="2000" spc="-1" strike="noStrike">
              <a:solidFill>
                <a:srgbClr val="000000"/>
              </a:solidFill>
              <a:latin typeface="Times New Roman"/>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te the non-consensus impasse on how to implement new profiles id assignments still exists with no simple or inexpensive solution.</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DD3D2585-5BD9-426C-BB8A-8287825CD3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28600" y="1393920"/>
            <a:ext cx="8610480" cy="5486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Solar Profile Update</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tatus after the PWG meeting Jan. 23</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WG reviewed the DGTF recommendation 3</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channel capable meters (inflow and outflow readings) assum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867 “information only” field shall be used for the outflow energy</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ossible short term solutions pending ERCOT final review</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possible PWG suggestion which ERCOT is investigating </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ing several new residential profiles based on the size of the installed solar panel</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ing a separate solar profile for the outflow energy</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ng needed PRR and LPGRR language</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SP shall submit to ERCOT the Interconnect Agreement to be used for ESIID identification, verification, and solar panel kW</a:t>
            </a:r>
            <a:endParaRPr b="0" lang="en-US" sz="2000" spc="-1" strike="noStrike">
              <a:solidFill>
                <a:srgbClr val="000000"/>
              </a:solidFill>
              <a:latin typeface="Times New Roman"/>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lide previously presented at the COPS February meeting.</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96DE176B-3517-4D04-910C-17F24D10F2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28600" y="1393920"/>
            <a:ext cx="8610480" cy="5181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Solar Profile Update – cont.</a:t>
            </a:r>
            <a:endParaRPr b="0" lang="en-US" sz="2800" spc="-1" strike="noStrike">
              <a:solidFill>
                <a:srgbClr val="000000"/>
              </a:solidFill>
              <a:latin typeface="Times New Roman"/>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tatus after the PWG conference call Feb. 4</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proposal not viable by 1/1/2009</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possible PWG suggestion which ERCOT is investigating </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ing several new residential profiles based on the size of the installed solar panel</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ar outflow energy would be a negative load deduction</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ng needed PRR and LPGRR language</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SP shall submit to ERCOT the ESIID identification, Distributive Generation (DG) Type and kW capacity</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lement solution to include solar, wind or other DG options</a:t>
            </a:r>
            <a:endParaRPr b="0" lang="en-US" sz="2000" spc="-1" strike="noStrike">
              <a:solidFill>
                <a:srgbClr val="000000"/>
              </a:solidFill>
              <a:latin typeface="Times New Roman"/>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lide previously presented at the COPS February meeting.</a:t>
            </a:r>
            <a:endParaRPr b="0" lang="en-US" sz="2000" spc="-1" strike="noStrike">
              <a:solidFill>
                <a:srgbClr val="000000"/>
              </a:solidFill>
              <a:latin typeface="Times New Roman"/>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AE6AE5D2-E4E7-4C66-92BF-84ED901BE7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228600" y="1393920"/>
            <a:ext cx="8610480" cy="2666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Solar Profile Update – cont.</a:t>
            </a:r>
            <a:endParaRPr b="0" lang="en-US" sz="2800" spc="-1" strike="noStrike">
              <a:solidFill>
                <a:srgbClr val="000000"/>
              </a:solidFill>
              <a:latin typeface="Times New Roman"/>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PWG conference call Feb. 18</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ed the fifth option proposed on Feb. 4</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yle Miller Chairs a sub-team to keep TEX Set 867 language in sync with the PWG actions</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 first Draft was re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GRR first draft was reviewed</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66BCDCDB-52CE-4612-A193-ED0C29660B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28600" y="1393920"/>
            <a:ext cx="8610480" cy="4813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Solar Profile Update – cont.</a:t>
            </a:r>
            <a:endParaRPr b="0" lang="en-US" sz="2800" spc="-1" strike="noStrike">
              <a:solidFill>
                <a:srgbClr val="000000"/>
              </a:solidFill>
              <a:latin typeface="Times New Roman"/>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PWG conference call Feb. 28</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ential Profile design discuss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Profiles to be developed PRR second Draft was re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756 Distributed Renewable Generation Modifications filed </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GRR second draft was re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Tree and Model Spreadsheets being develop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KWH_Gen and KWH_Loa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DWG need to determine COPMGRR language for determinants</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 Set 867 language ‘ignore loop’ discuss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PWG would like to know if there is any concern from PUCT Staff or other Market Participants for the current design so these concerns can be met now without delay in the timeline?</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8EF0BFDC-6306-445F-8533-2142C0339B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epodraza</cp:lastModifiedBy>
  <dcterms:modified xsi:type="dcterms:W3CDTF">2008-03-05T16:59:08Z</dcterms:modified>
  <cp:revision>299</cp:revision>
  <dc:subject/>
  <dc:title>PowerPoint Presentation</dc:title>
</cp:coreProperties>
</file>