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455-134C-41B2-B2D3-F6C304E0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887-DA9B-41A1-97BC-DF4F9789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35F-9DD1-4366-BBD8-D0C1555C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623-0952-4938-AC55-952C40C0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0FF6-94D2-4D6D-BD35-73B2599E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D0DD-4DD3-4A59-98FC-9BE7522D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808-481D-4D42-97BA-A3390D2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00F-D160-42FE-917B-8A38FB7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CFE0-C320-4E42-829B-B997D7F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E76-4D10-4D56-89D4-F6841292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5D6C-B8D3-470A-90BD-12763A6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D9D-9368-40B6-BC6F-9F755E4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5EE6-9496-4672-8133-5A4E56E2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E6E1-D77C-4B5C-B98D-500DDE8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E92B-D645-454C-A494-8950249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CAA-7126-449A-880E-A10CF73F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EBA-0770-4A91-BC8A-3E780C5F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BCF-42DA-459A-8CCC-2D5B1E7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417-FEAF-4718-85C6-B792ABB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429-CA9E-432B-9BAD-A51D835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4A6-C55D-4E41-B0AA-EC57E341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577-8DFD-404C-A7AE-554A035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D86-CDC6-4E46-BE69-26ABCDA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A73-6392-45F4-AC9C-470D0D3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AA5-8696-4730-98A8-DDA345B2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B31A-C557-4562-9BD0-9D0B0EA8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rch Upd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pdate from Open Meet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 the February 22 Open Meeting, the PUCT Commissioners expressed their gratitude for all the hard work of the task for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ructed not to move forward with manual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nted a long term, infrastructure-based solution using AM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vised Scop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emand Response Task Force (DRTF) will build a short term solution that allows for the limited deployment of retail Demand Response programs and their settlement by the summer of 2008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hort term solution should inform the development of a long term solution for offering Demand Response programs to the mark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o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iver requirements for “Bridge Solution” by Feb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recommendations for long ter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xt Ste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TF believes it has completed its current scop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eking a recommendation to suns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jgarcia</cp:lastModifiedBy>
  <dcterms:modified xsi:type="dcterms:W3CDTF">2008-03-03T16:17:51Z</dcterms:modified>
  <cp:revision>11</cp:revision>
  <dc:subject/>
  <dc:title>Demand Response Task Force</dc:title>
</cp:coreProperties>
</file>