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8EBD-0359-4950-A4FC-79CB3653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D3A5-A50C-4778-A27F-A0ACD67A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40EC-367C-4837-9360-AFBEFA8E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3167-5961-4DF0-B284-5BB9E680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51B7-5596-4D02-B420-1544DA95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1A96-2F89-4733-A25D-4052993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B95C-84DA-4D55-8DD3-DEFD9678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C120-D5B1-4426-820E-63CE99A1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684E-B163-40D1-89EA-5A6F2C09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0C13-D7AA-41AF-B3C2-8B1CB724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D5AA-622A-41C2-9936-A4D81AF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0BB0-E726-4CAD-9537-264AA96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A32-A424-468B-8334-4B23E77F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867280" y="6458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C52-8F8F-43E9-98D3-AC2EA659A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__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6DF-1A81-43EB-A26D-2780E52F6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E852-7D79-4E79-95EB-0465FB472DB0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mktinfo/data_agg/2006/UFEAnalysis2006%20Final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2266920"/>
            <a:ext cx="60199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P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6 UFE Review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h 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FE 2006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can be found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mktinfo/data_agg/2006/UFEAnalysis2006%20Final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gs to consi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FE Duration Curve for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dec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EDB8-FC44-4197-B9D5-0DF316242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FE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082520"/>
            <a:ext cx="678168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7556-2B38-4680-88CF-C5FAB96B2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bsolute Value of UFE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48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44DA-FE81-4C9A-8820-66C87283B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ngs to consider…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very common for UFE to be greater in the winter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e to the variability in weather from one day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it is common to refer to UFE in actual terms, this can give the impression that UFE is smaller than it actually may 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he average UFE for 2006 True-up settlements is 0.8% from slid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the absolute value of UFE may give a better indication of the true effect of U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he average absolute value UFE for 2006 True-up settlements is 1.7% from sli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5765-3910-4742-B6A3-C762F38589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FE Duration Curve fo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762120"/>
          <a:ext cx="87631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763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AE4F-27BA-4CAA-A4C0-3FC8E3991F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05320" y="2286000"/>
            <a:ext cx="1484280" cy="2514600"/>
            <a:chOff x="3505320" y="2286000"/>
            <a:chExt cx="1484280" cy="25146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3505320" y="2286000"/>
              <a:ext cx="14842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059720" y="263808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59720" y="4046040"/>
              <a:ext cx="602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D2AB-16DF-421F-AECD-5B7C0CD813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opheim</cp:lastModifiedBy>
  <dcterms:modified xsi:type="dcterms:W3CDTF">2008-03-06T16:41:37Z</dcterms:modified>
  <cp:revision>255</cp:revision>
  <dc:subject/>
  <dc:title>Instructions</dc:title>
</cp:coreProperties>
</file>