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8100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6EFDC0B-93D4-4225-8D0B-C41FDF60E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819440"/>
            <a:ext cx="854712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O Projects for 200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commendations by ERCO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MO Update -  2009 Project Prioritiz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Ts revise 2009 Initiative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4 / Februar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3 / March 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9 PPL Rerank/Prioritize Quest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Projects for 2008 Recommended by ERCOT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eeking approval from COPS and RMS for one of the following options for 2008 PP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1:  Consolidate the MORO 2008 PPL with the rerank/prioritization as appears on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MORO_08RERANK_RECOMMENDATIONS_V2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2:  COPS approval of MO 2008 PPL rerank/prioritization as appears on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MO_ONLY_08RERANK_RECOMMENDATIONS.x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RMS approval of RO 2008 PPL w rerank/prioritization as appears on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RO_ONLY_08RERANK_RECOMMEDNATIONS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ption 1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(Preferred) Consolidate the MORO 2008 PPL with the rerank/prioritization as appears on MORO_08RERANK_RECOMMENDATIONS_V2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ssumptions/Justific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ect few items from MO area that will require rerank of 2008 P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red ERCOT resources for business, development, and support on projects on MO and RO 2008 P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vernance managed at combined MORO CART level for funding, schedules, and resource approv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 visibility to Subcommittees of projects that expand MO and RO areas for contending resources, systems, and environ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s marked “Deferred” will be placed on the 2009 Initiatives list due to either resource/environment constraints from Nodal in 2008 (see environment constraint for 2008 next slide)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s marked “Deferred” provide additional funding needed in 2008 for current projects and unplanned carryov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52280" y="8100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Projects for 2008 Recommended by ERC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orecasted Environment Constraints for 20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1" name="Object 2640"/>
          <p:cNvGraphicFramePr/>
          <p:nvPr/>
        </p:nvGraphicFramePr>
        <p:xfrm>
          <a:off x="482760" y="803160"/>
          <a:ext cx="8288280" cy="513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26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803160"/>
                    <a:ext cx="8288280" cy="51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08 Combined Fun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.3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Approved for $1.2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 Approved for $6.1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Combined 08 Forecast Spend*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$4.7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Forecast for $613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 Forecast for $4.1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8 Combined 08 Variance**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.6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Forecast spend includes additional funding requests from current and unplanned carry over proje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Variance provides funds that may be required for efforts that will arise during 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monitor 2008 project health throughout  2008 for 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conservativ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elease of funds throughout the ye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commendations-ERCOT – Cont’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Update to Combined 2008 PPL Funding and Budget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rank/Prioritize Quest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28600" y="1819440"/>
            <a:ext cx="854712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O Projects for 200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commendations by ERC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9 PPL Initiatives List - Overview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eeking approval from COPS and RMS for the 2009 PPL Initiatives li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009 Project Priorit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–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list of high level initiatives by CART with budget range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008 – 1</a:t>
            </a:r>
            <a:r>
              <a:rPr b="0" lang="en-US" sz="1800" spc="-1" strike="noStrike" baseline="30000">
                <a:solidFill>
                  <a:srgbClr val="0000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quar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ERCOT approval of initiatives list &amp; budget (SRT, 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participant approval of initiatives list &amp; budget (subcommittees, T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&amp;A and Board of Directors approval of initiatives list &amp;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–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2009 Divisional PPLs according to current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of funds to CARTs for Previously Approved and known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list of high level initiatives by CART with budget range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008 – 1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ERCOT approval of initiatives list &amp; budget (SRT, 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approval of initiatives list &amp; budget (subcommittees, T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&amp;A and Board of Directors approval of initiatives list &amp;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2009 Divisional PPLs according to current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of funds to CARTs for Previously Approved and know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satterfield</cp:lastModifiedBy>
  <dcterms:modified xsi:type="dcterms:W3CDTF">2008-02-22T05:07:27Z</dcterms:modified>
  <cp:revision>235</cp:revision>
  <dc:subject/>
  <dc:title>Texas Nodal Market Implementation ERCOT Board of Directors Meeting Budget Rationale October 17, 2006  Kathy Hager, Market Redesign Program Director </dc:title>
</cp:coreProperties>
</file>