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9825961-124A-49EE-9509-43D5EA7B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eeking approval from COPS and RMS for one of the following options for 2008 PP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1:  Consolidate the MORO 2008 PPL with the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ORO_08RERANK_RECOMMENDATIONS_V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2:  COPS approval of MO 2008 PPL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O_ONLY_08RERANK_RECOMMENDATIONS.x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MS approval of RO 2008 PPL w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O_ONLY_08RERANK_RECOMMEDNATION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 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(Preferred) Consolidate the MORO 2008 PPL with the rerank/prioritization as appears on MORO_08RERANK_RECOMMENDATIONS_V2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ptions/Justific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ct few items from MO area that will require rerank of 2008 P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d ERCOT resources for business, development, and support on projects on MO and RO 2008 P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ance managed at combined MORO CART level for funding, schedules, and resource approv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 visibility to Subcommittees of projects that expand MO and RO areas for contending resources, systems, and enviro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s marked “Deferred” will be placed on the 2009 Initiatives list due to either resource/environment constraints from Nodal in 2008 (see environment constraint for 2008 next slide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s marked “Deferred” provide additional funding needed in 2008 for current projects and unplanned carryov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52280" y="8100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recasted Environment Constraints for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1" name="Object 2640"/>
          <p:cNvGraphicFramePr/>
          <p:nvPr/>
        </p:nvGraphicFramePr>
        <p:xfrm>
          <a:off x="482760" y="803160"/>
          <a:ext cx="8288280" cy="513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26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03160"/>
                    <a:ext cx="828828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08 Combined Fun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.3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Approved for $1.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Approved for $6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Combined 08 Forecast Spend*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4.7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Forecast for $613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Forecast for $4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 Combined 08 Variance**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.6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Forecast spend includes additional funding requests from current and unplanned carry over proje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Variance provides funds that may be required for efforts that will arise during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monitor 2008 project health throughout  2008 for 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conserva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lease of funds throughout the ye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to Combined 2008 PPL Funding and Budget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Initiatives List - Overview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eeking approval from COPS and RMS for the 2009 PPL Initiatives l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9 Project Priorit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atterfield</cp:lastModifiedBy>
  <dcterms:modified xsi:type="dcterms:W3CDTF">2008-02-22T05:07:27Z</dcterms:modified>
  <cp:revision>235</cp:revision>
  <dc:subject/>
  <dc:title>Texas Nodal Market Implementation ERCOT Board of Directors Meeting Budget Rationale October 17, 2006  Kathy Hager, Market Redesign Program Director </dc:title>
</cp:coreProperties>
</file>