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3290-336C-4A8F-9A1C-1FB9D5D2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EBCC-7678-47BB-88C8-A56B0897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5479-76EC-432C-AE68-8F0E2685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7250-ED29-4EFE-893C-DA5845ED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284B-D7CB-4BED-A98F-0F75DFF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DB52-558D-4721-9A9C-291D2E39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22A9-1962-40B7-B9BF-A2242259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DB03-DD9C-4AB4-8C14-B745A7C5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1F00-A98E-4C02-BD39-0B059776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681B-1179-494A-98D4-D7EAF166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EA8B-BF6C-4E06-9F92-129DC415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205C-F96E-46D2-89BF-0A6BAA1F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079E-6ECD-4AFE-AB12-73C4607D3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21CC-21AB-46BF-B358-015677E7C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WMS Working Group Leadershi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stion Management Working Group (CMWG):           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Marguerite Wagner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  Jerry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 Managers Working Group (QMWG):           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David Detelich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  Brandon Whi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ring Working Group (MWG):              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: Dotty Disanto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Chair:  Mark Roll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2008 Demand Side Working Group (DSWG) Leadership was endorsed at January 16, 2008 WMS:   Chair, Mary Anne Brelinsky and Co-Vice Chairs, Timothy Carter and Nelson N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224E-9906-42A7-9EB2-498F5575D0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8-02-19T20:25:49Z</dcterms:modified>
  <cp:revision>189</cp:revision>
  <dc:subject/>
  <dc:title>Instructions</dc:title>
</cp:coreProperties>
</file>