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887-7830-49A7-8956-B27E99E6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C08-21E6-4A9B-98D2-31104B66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629-3438-4591-85E8-4DD5A9A6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E50-8B7D-4CC3-8858-CAB70E9E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8C392-1241-4A04-B6B0-43EC5B9F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47EF-D616-4351-8455-5AC68832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DC32A-8D42-4C86-BD86-E1F6CD56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2E5AC-A30B-46EC-9AF1-0F9E4609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EC7D6-7D98-49D4-9ECB-F3D5541D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63816-1A14-4FA4-9D04-665E4BCC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6F083-5987-4255-9F51-01F34861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B29-E718-459C-957C-99772DD6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43273-46E9-4CD2-8D18-A69D03EB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CB069-D411-4780-88B4-0BC8843E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67B4C-AE3F-4F40-A273-EF1522D7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76E2F-4C7B-42AB-BCC5-66B3E926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4E9A2-41D8-4E00-81A7-2F7D4124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CE3-31E7-4A32-A9BC-C67CEAD3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0BA-4201-4E93-AEB7-7562C57C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FD8-2617-46D5-B813-522610D7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B34-3ADD-4833-9F99-1E93A1CA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D4F-B6ED-4EB7-871A-F26FB2A0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D6A-B1FA-47C2-AD2F-609D8569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6D7-5DA4-4B9F-926B-5EE1093E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320" y="6400440"/>
            <a:ext cx="266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943240" y="6400800"/>
            <a:ext cx="3048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809880" y="6400800"/>
            <a:ext cx="13716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0D6F-6C4D-4449-9654-157DC3901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6680" y="6324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13D7-F34F-4D56-9250-032D60B56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CP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dt" idx="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9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09B5-BC53-4228-8B70-41D390E7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1600200"/>
            <a:ext cx="658188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R Naming Conven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09200" y="3323880"/>
            <a:ext cx="65725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M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ebruary 20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th Garz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rotocols require a CRR naming Conven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evious action, WMS has requested that ERCOT staff develop a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ve vs.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2.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R Naming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TAC subcommittee shall establish a task force that is open to Market Participants, comprised of technical experts, to develop a naming convention for CRRs consistent with the requirements of the Protocols.  The naming convention must be approved by TAC before implemen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C4E-07A8-4B9F-8F13-BA2535ED1D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, 2008 / W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Rs have multiple attribu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838080"/>
          <a:ext cx="8140680" cy="30481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762120"/>
                <a:gridCol w="533160"/>
                <a:gridCol w="685800"/>
                <a:gridCol w="978120"/>
                <a:gridCol w="685800"/>
                <a:gridCol w="533160"/>
                <a:gridCol w="838440"/>
                <a:gridCol w="533160"/>
                <a:gridCol w="508320"/>
                <a:gridCol w="547560"/>
                <a:gridCol w="468360"/>
              </a:tblGrid>
              <a:tr h="78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R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ment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R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w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 Holder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_SOU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Z_NOR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k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 Holder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K_GT1__8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Z_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k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 Holder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G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LK4A _ L_NORTM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1/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k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0" y="439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038480"/>
            <a:ext cx="8076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ingle attribute can guarantee uniqu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R system initially assigns a unique identifier (CRR_ID) to each CR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gmentID may be assigned when a portion of a CRR (capacity or time period) is sold either in a subsequent auction or via bilateral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E73-C7F0-4C34-9C21-C75D3306B3A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, 2008 / W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urther Explanation of Attribu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R ID: unique identifier for each awarded/allocated CRR per mar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gment ID: differentiates CRRs that are broken out after auction (during trades, et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Holder : name as registe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egory: PTP (Point to Point) or FGR (Flowgate Righ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dge Type: Obligation or 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R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LOAD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R Types, prior to payment, after payment switch to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R Types, prior to payment, after payment switch to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U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R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AWAR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s that have not yet been paid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s that have been paid f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source name (settlement poi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k: sink name (settlement poi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gate: flowgate name, if applic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 Date: mm/dd/yyy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Date: mm/dd/yyy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of Use: PeakWD (Peak Weekday), PeakWE (Peak Weekend) or Off-peak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W: MW amount, per ho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97E-010A-48A3-98A9-93DC4DF50C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, 2008 / W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rtunately the CRR system handles i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R system users are not required to keep track of unique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ystem presents each user with all of their CR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action that a user takes with an existing CRR is handled via dragging and dropping from their CRR inventory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21F-BBEC-4456-A700-F843CEA3A3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, 2008 / W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posed WMS a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unique CRR_ID and SegmentID combination, coupled with various descriptive CRR attributes meets the Nodal Protocol requirement for a CRR naming conven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possible CRR na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P-OBL-From-HB_SOUTH-To-LZ_NORTH-362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P-OPT-From-AK_GT1__8040-To-LZ_WEST-363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7D2-976B-4B19-8A45-0629BC7D5E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, 2008 / W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5:39:53Z</dcterms:created>
  <dc:creator/>
  <dc:description/>
  <dc:language>en-US</dc:language>
  <cp:lastModifiedBy/>
  <dcterms:modified xsi:type="dcterms:W3CDTF">2008-02-19T21:14:54Z</dcterms:modified>
  <cp:revision>8</cp:revision>
  <dc:subject/>
  <dc:title>CRR Naming Convention</dc:title>
</cp:coreProperties>
</file>