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129F-A8DE-497E-9E84-7CADF8E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F3BF-488B-45FC-99EB-418E5D23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2D17-8C2D-4F77-8327-2017F15B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2BF0-BD62-4507-A660-222A742C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167D-0825-4CC9-BE62-1ECD839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BAE21-D252-4702-981F-4B1A6822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A4767-724B-4EB9-90D3-7B59582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86A8A-04CC-4C6B-A1C5-7E5FDA4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40CC6-E937-4631-894A-16E6152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052C8-AD8A-49B1-B47D-38634925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6899-1A44-46C9-B869-CAA5282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32B18-FCE9-4B26-BF52-5ACA115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4E3CA-6197-4B3A-8F5B-65867E6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8365E-23AF-49C6-A1FA-17434C18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D3614-3909-4CBD-A113-9C4AAD5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F778C-1195-4EE7-83E8-1AF872C0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38A9F-BE68-4688-A306-CCA058EB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50C04-90D1-401B-B12B-B750EB9F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A35C-CB53-40FB-BF11-27F0CA6D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A5F2-D5DA-4238-B78E-BC8A7B5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885F-3C8D-4651-9547-B463BCA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FE01-CD51-47F8-A76D-C9FD0AB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C8F4-DA51-45BD-B106-B7651FE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D960-C914-44C6-9DC3-ED87630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652-96BF-4D45-B730-9FD06F2B2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0D6F-47CC-4681-874B-F458409339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89BB-758F-4A79-A021-C0800F63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799-9DEA-48F1-8EBE-1C4B9B5884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259-CBCF-47C1-8859-C1966C6E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2600" y="1066680"/>
          <a:ext cx="7886520" cy="456084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Market reports / Content, Structure, re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ing convention for CR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 issues associated with negative LaaR b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Verifiable Cost Method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whether a limit on the number of CRR auction bids should be implem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rmine CSCs for 2009?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CCT for Nodal (use CSCs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policy and draft PRR for setting maximum Shadow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062B-5E12-491C-B58C-C190DAA9BC1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3377D-C0E7-4EBC-B048-3AC960DF770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roposed WMS activiti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2600" y="1066680"/>
          <a:ext cx="7886520" cy="3194280"/>
        </p:xfrm>
        <a:graphic>
          <a:graphicData uri="http://schemas.openxmlformats.org/drawingml/2006/table">
            <a:tbl>
              <a:tblPr/>
              <a:tblGrid>
                <a:gridCol w="5962680"/>
                <a:gridCol w="1923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CR Auctions for December 2008 &amp; beyond if we go live post-Dec 2008 (contingency pl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 plans if integrated NMMS not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dynamic rating input assumptions for CRR Network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/1/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ility of long-term PTP Obligations (beyond one month ahe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FA53-FE0D-473D-9837-0CF7A888F2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3C482-C573-4524-ADCA-870725C7FFA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S021208</cp:lastModifiedBy>
  <dcterms:modified xsi:type="dcterms:W3CDTF">2008-02-20T14:58:36Z</dcterms:modified>
  <cp:revision>328</cp:revision>
  <dc:subject/>
  <dc:title>Texas Nodal Market Implementation ERCOT Board of Directors Meeting Budget Rationale October 17, 2006  Kathy Hager, Market Redesign Program Director </dc:title>
</cp:coreProperties>
</file>