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005638" cy="92487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5600" cy="924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360"/>
            <a:ext cx="303516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966840" y="-360"/>
            <a:ext cx="303516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90160" y="693360"/>
            <a:ext cx="4622760" cy="34671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700200" y="4392720"/>
            <a:ext cx="5603760" cy="4160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783280"/>
            <a:ext cx="3035160" cy="4618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966840" y="8783280"/>
            <a:ext cx="3035160" cy="46188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2551C90-D5A7-408C-B0B6-CFCF7B2B63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967200" y="878364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D85678-269D-4D10-80C6-9D1CD9C957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8" name="PlaceHolder 1"/>
          <p:cNvSpPr>
            <a:spLocks noGrp="1"/>
          </p:cNvSpPr>
          <p:nvPr>
            <p:ph type="sldImg"/>
          </p:nvPr>
        </p:nvSpPr>
        <p:spPr>
          <a:xfrm>
            <a:off x="1190520" y="693720"/>
            <a:ext cx="4622760" cy="3467160"/>
          </a:xfrm>
          <a:prstGeom prst="rect">
            <a:avLst/>
          </a:prstGeom>
          <a:ln w="0">
            <a:noFill/>
          </a:ln>
        </p:spPr>
      </p:sp>
      <p:sp>
        <p:nvSpPr>
          <p:cNvPr id="129" name="PlaceHolder 2"/>
          <p:cNvSpPr>
            <a:spLocks noGrp="1"/>
          </p:cNvSpPr>
          <p:nvPr>
            <p:ph type="body"/>
          </p:nvPr>
        </p:nvSpPr>
        <p:spPr>
          <a:xfrm>
            <a:off x="700200" y="4392720"/>
            <a:ext cx="560376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967200" y="878364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7276A5A-F4E1-4431-8798-1878D2635C4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1" name="PlaceHolder 1"/>
          <p:cNvSpPr>
            <a:spLocks noGrp="1"/>
          </p:cNvSpPr>
          <p:nvPr>
            <p:ph type="sldImg"/>
          </p:nvPr>
        </p:nvSpPr>
        <p:spPr>
          <a:xfrm>
            <a:off x="1190520" y="693720"/>
            <a:ext cx="4622760" cy="3467160"/>
          </a:xfrm>
          <a:prstGeom prst="rect">
            <a:avLst/>
          </a:prstGeom>
          <a:ln w="0">
            <a:noFill/>
          </a:ln>
        </p:spPr>
      </p:sp>
      <p:sp>
        <p:nvSpPr>
          <p:cNvPr id="132" name="PlaceHolder 2"/>
          <p:cNvSpPr>
            <a:spLocks noGrp="1"/>
          </p:cNvSpPr>
          <p:nvPr>
            <p:ph type="body"/>
          </p:nvPr>
        </p:nvSpPr>
        <p:spPr>
          <a:xfrm>
            <a:off x="700200" y="4392720"/>
            <a:ext cx="560376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967200" y="878364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15572D5-5664-466B-8E6A-62D8D1380DF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4" name="PlaceHolder 1"/>
          <p:cNvSpPr>
            <a:spLocks noGrp="1"/>
          </p:cNvSpPr>
          <p:nvPr>
            <p:ph type="sldImg"/>
          </p:nvPr>
        </p:nvSpPr>
        <p:spPr>
          <a:xfrm>
            <a:off x="1190520" y="693720"/>
            <a:ext cx="4622760" cy="3467160"/>
          </a:xfrm>
          <a:prstGeom prst="rect">
            <a:avLst/>
          </a:prstGeom>
          <a:ln w="0">
            <a:noFill/>
          </a:ln>
        </p:spPr>
      </p:sp>
      <p:sp>
        <p:nvSpPr>
          <p:cNvPr id="135" name="PlaceHolder 2"/>
          <p:cNvSpPr>
            <a:spLocks noGrp="1"/>
          </p:cNvSpPr>
          <p:nvPr>
            <p:ph type="body"/>
          </p:nvPr>
        </p:nvSpPr>
        <p:spPr>
          <a:xfrm>
            <a:off x="700200" y="4392720"/>
            <a:ext cx="560376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967200" y="878364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DEFC27D-54E9-4978-B0F5-9B0270DCD9A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7" name="PlaceHolder 1"/>
          <p:cNvSpPr>
            <a:spLocks noGrp="1"/>
          </p:cNvSpPr>
          <p:nvPr>
            <p:ph type="sldImg"/>
          </p:nvPr>
        </p:nvSpPr>
        <p:spPr>
          <a:xfrm>
            <a:off x="1190520" y="693720"/>
            <a:ext cx="4622760" cy="3467160"/>
          </a:xfrm>
          <a:prstGeom prst="rect">
            <a:avLst/>
          </a:prstGeom>
          <a:ln w="0">
            <a:noFill/>
          </a:ln>
        </p:spPr>
      </p:sp>
      <p:sp>
        <p:nvSpPr>
          <p:cNvPr id="138" name="PlaceHolder 2"/>
          <p:cNvSpPr>
            <a:spLocks noGrp="1"/>
          </p:cNvSpPr>
          <p:nvPr>
            <p:ph type="body"/>
          </p:nvPr>
        </p:nvSpPr>
        <p:spPr>
          <a:xfrm>
            <a:off x="700200" y="4392720"/>
            <a:ext cx="560376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967200" y="878364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6060924-B564-4472-95BC-BC84C5BE897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0" name="PlaceHolder 1"/>
          <p:cNvSpPr>
            <a:spLocks noGrp="1"/>
          </p:cNvSpPr>
          <p:nvPr>
            <p:ph type="sldImg"/>
          </p:nvPr>
        </p:nvSpPr>
        <p:spPr>
          <a:xfrm>
            <a:off x="1190520" y="693720"/>
            <a:ext cx="4622760" cy="3467160"/>
          </a:xfrm>
          <a:prstGeom prst="rect">
            <a:avLst/>
          </a:prstGeom>
          <a:ln w="0">
            <a:noFill/>
          </a:ln>
        </p:spPr>
      </p:sp>
      <p:sp>
        <p:nvSpPr>
          <p:cNvPr id="141" name="PlaceHolder 2"/>
          <p:cNvSpPr>
            <a:spLocks noGrp="1"/>
          </p:cNvSpPr>
          <p:nvPr>
            <p:ph type="body"/>
          </p:nvPr>
        </p:nvSpPr>
        <p:spPr>
          <a:xfrm>
            <a:off x="700200" y="4392720"/>
            <a:ext cx="560376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93C07-6EF4-4A1E-AB10-865103312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35178-F07C-4AEC-80F1-074E6A0A4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F18EF-7650-400C-9927-7516FDD79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7D336-3F36-4DC6-8A1A-D92621453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FDEBF-F6D4-48CB-8398-A4E6A7360C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EDE9B-1108-425D-A8CC-E1CBA8327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43BBA-E44A-4A47-B075-89CF89BF8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68FEB-F09C-4941-9FB7-FFC3C6361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5E101-4328-4D0F-8D7A-ECCFA83C2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ED88B-E851-4C0A-998D-4DAC072A5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7D68A-DDD9-4D35-A601-1428DBA08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587E7-B50F-489C-9B11-AE87E9003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EC74B-1E6B-4594-BFD7-2AF85E5CF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CFDE2-AFE1-4ACB-AB06-14D597F3B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6C7AE-B2D5-4193-959C-92032DCC7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D90ED8-FC19-4BF6-9DC4-C59020D1A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39B9AA-BF5A-4E7C-9E55-501F0B704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CAE11-93F2-4DB6-BAC5-4B94A1679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6F16E-9FF7-443A-8EBF-C990F6FC4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30B4D-C3A8-44F8-A7E1-41CC8AD88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9610F-EB8E-4DDB-A139-A59196ECF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795EF-D8EF-4FB6-82B0-FCE123A60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0098A-9BF7-4DF5-B9B4-908EB42F4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2F693-A459-4134-A94A-2384CD894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bruary 20, 2008</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rescent Power, Inc., 2006</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A052-9337-481C-B7C7-B6FCE09A6A5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bruary 20, 2008</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rescent Power, Inc., 2006</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5B8C-DC9C-479E-916E-0416C879D68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999900"/>
                </a:solidFill>
                <a:latin typeface="Garamond"/>
              </a:rPr>
              <a:t>DAM Self-Commitment Issues &amp; Solutions</a:t>
            </a:r>
            <a:endParaRPr b="0" lang="en-US" sz="59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ams Siddiqi, Ph.D.</a:t>
            </a:r>
            <a:endParaRPr b="0" lang="en-US" sz="3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ams@crescentpower.net</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12) 263-0653</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bruary 20, 2008</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Background</a:t>
            </a:r>
            <a:endParaRPr b="0" lang="en-US" sz="4400" spc="-1" strike="noStrike">
              <a:solidFill>
                <a:srgbClr val="999900"/>
              </a:solidFill>
              <a:latin typeface="Garamond"/>
            </a:endParaRPr>
          </a:p>
        </p:txBody>
      </p:sp>
      <p:sp>
        <p:nvSpPr>
          <p:cNvPr id="100"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urrent implementation does not allow Self-Committed Resources (SCRs) to offer Ancillary Services and co-optimize energy and AS offers from available capacity thus violating Protocols 4.4.7.2.1:</a:t>
            </a:r>
            <a:endParaRPr b="0" lang="en-US" sz="22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 An Ancillary Service Offer linked to a Three-Part Supply Offer from a Resource designated to be Off-Line for the offer period in its COP may only be struck if the Three-Part Supply Offer is struck. The total capacity struck must be within limits as defined in item (4)(c)(iii) of Section 4.5.1, DAM Clearing Process.</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 An Ancillary Service Offer linked to other Ancillary Service offers or an Energy Offer Curve from a Resource designated to be On-Line for the offer period in its COP may only be struck if the total capacity struck is within limits as defined in item (4)(c)(iii) of Section 4.5.1.</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ebruary 20, 2008</a:t>
            </a:r>
            <a:endParaRPr b="0" lang="en-US" sz="1000" spc="-1" strike="noStrike">
              <a:solidFill>
                <a:srgbClr val="000000"/>
              </a:solidFill>
              <a:latin typeface="Verdana"/>
            </a:endParaRPr>
          </a:p>
        </p:txBody>
      </p:sp>
      <p:sp>
        <p:nvSpPr>
          <p:cNvPr id="10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2049-F2DE-4931-860D-EDC9675A574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Background</a:t>
            </a:r>
            <a:endParaRPr b="0" lang="en-US" sz="4400" spc="-1" strike="noStrike">
              <a:solidFill>
                <a:srgbClr val="999900"/>
              </a:solidFill>
              <a:latin typeface="Garamond"/>
            </a:endParaRPr>
          </a:p>
        </p:txBody>
      </p:sp>
      <p:sp>
        <p:nvSpPr>
          <p:cNvPr id="104" name=""/>
          <p:cNvSpPr txBox="1"/>
          <p:nvPr/>
        </p:nvSpPr>
        <p:spPr>
          <a:xfrm>
            <a:off x="456840" y="1599840"/>
            <a:ext cx="8381880" cy="4530600"/>
          </a:xfrm>
          <a:prstGeom prst="rect">
            <a:avLst/>
          </a:prstGeom>
          <a:noFill/>
          <a:ln w="0">
            <a:noFill/>
          </a:ln>
        </p:spPr>
        <p:txBody>
          <a:bodyPr anchor="t">
            <a:normAutofit/>
          </a:bodyPr>
          <a:p>
            <a:pPr marL="343080" indent="-343080">
              <a:spcBef>
                <a:spcPts val="55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PTF guidance on payment of startup cost when a Three-Part Offer (TPO) is awarded in DAM was to pay the resource its startup cost regardless of what it has in its COP (i.e. ignore the COP for startup payment).</a:t>
            </a:r>
            <a:endParaRPr b="0" lang="en-US" sz="22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at discussion probably led to the following statement in the Req. doc:“The DAM shall not assume any self-commitment due to COP”</a:t>
            </a:r>
            <a:endParaRPr b="0" lang="en-US" sz="1800" spc="-1" strike="noStrike">
              <a:solidFill>
                <a:srgbClr val="000000"/>
              </a:solidFill>
              <a:latin typeface="Verdana"/>
            </a:endParaRPr>
          </a:p>
          <a:p>
            <a:pPr marL="343080" indent="-343080">
              <a:spcBef>
                <a:spcPts val="55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endor extrapolation and assumptions (many of which are not documented in the Req. doc) from this statement created the problem – e.g.:</a:t>
            </a:r>
            <a:endParaRPr b="0" lang="en-US" sz="22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ing 0 startup and min-energy offers for EOC-only offers</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fining “DAM Commitment” as any award in DAM such that if AS-only offer is awarded, no EOC can be submitted</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nforcing temporal constraints on AS-only and EOC-only offers</a:t>
            </a:r>
            <a:endParaRPr b="0" lang="en-US" sz="1800" spc="-1" strike="noStrike">
              <a:solidFill>
                <a:srgbClr val="000000"/>
              </a:solidFill>
              <a:latin typeface="Verdana"/>
            </a:endParaRPr>
          </a:p>
        </p:txBody>
      </p:sp>
      <p:sp>
        <p:nvSpPr>
          <p:cNvPr id="105"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ebruary 20, 2008</a:t>
            </a:r>
            <a:endParaRPr b="0" lang="en-US" sz="1000" spc="-1" strike="noStrike">
              <a:solidFill>
                <a:srgbClr val="000000"/>
              </a:solidFill>
              <a:latin typeface="Verdana"/>
            </a:endParaRPr>
          </a:p>
        </p:txBody>
      </p:sp>
      <p:sp>
        <p:nvSpPr>
          <p:cNvPr id="10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FB426-FA0C-422C-ACA9-07A12AEB573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Background</a:t>
            </a:r>
            <a:endParaRPr b="0" lang="en-US" sz="4400" spc="-1" strike="noStrike">
              <a:solidFill>
                <a:srgbClr val="999900"/>
              </a:solidFill>
              <a:latin typeface="Garamond"/>
            </a:endParaRPr>
          </a:p>
        </p:txBody>
      </p:sp>
      <p:sp>
        <p:nvSpPr>
          <p:cNvPr id="108"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other problem is not a SCR issue, but rather corrects co-optimization for all Resource offers – </a:t>
            </a:r>
            <a:endParaRPr b="0" lang="en-US" sz="2200" spc="-1" strike="noStrike">
              <a:solidFill>
                <a:srgbClr val="000000"/>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linked (or “Inclusive”) AS and Energy offers may be struck in a way that does not account for the opportunity cost</a:t>
            </a:r>
            <a:endParaRPr b="0" lang="en-US" sz="2200" spc="-1" strike="noStrike">
              <a:solidFill>
                <a:srgbClr val="000000"/>
              </a:solidFill>
              <a:latin typeface="Verdana"/>
            </a:endParaRPr>
          </a:p>
        </p:txBody>
      </p:sp>
      <p:sp>
        <p:nvSpPr>
          <p:cNvPr id="10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ebruary 20, 2008</a:t>
            </a:r>
            <a:endParaRPr b="0" lang="en-US" sz="1000" spc="-1" strike="noStrike">
              <a:solidFill>
                <a:srgbClr val="000000"/>
              </a:solidFill>
              <a:latin typeface="Verdana"/>
            </a:endParaRPr>
          </a:p>
        </p:txBody>
      </p:sp>
      <p:sp>
        <p:nvSpPr>
          <p:cNvPr id="11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CDA31-40C6-4744-BD6A-D678C7B254C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ebruary 20, 2008</a:t>
            </a:r>
            <a:endParaRPr b="0" lang="en-US" sz="1000" spc="-1" strike="noStrike">
              <a:solidFill>
                <a:srgbClr val="000000"/>
              </a:solidFill>
              <a:latin typeface="Verdana"/>
            </a:endParaRPr>
          </a:p>
        </p:txBody>
      </p:sp>
      <p:sp>
        <p:nvSpPr>
          <p:cNvPr id="1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2D41-C9B7-43CD-B6FE-23F124BBBF0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Principles</a:t>
            </a:r>
            <a:endParaRPr b="0" lang="en-US" sz="4400" spc="-1" strike="noStrike">
              <a:solidFill>
                <a:srgbClr val="999900"/>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55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lementation must comply with Protocols so that:</a:t>
            </a:r>
            <a:endParaRPr b="0" lang="en-US" sz="2200" spc="-1" strike="noStrike">
              <a:solidFill>
                <a:srgbClr val="000000"/>
              </a:solidFill>
              <a:latin typeface="Verdan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80000"/>
              </a:lnSpc>
              <a:spcBef>
                <a:spcPts val="55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lf-Committed Resources have the same flexibility as today to offer and be awarded AS for any hour of its choosing.</a:t>
            </a:r>
            <a:endParaRPr b="0" lang="en-US" sz="22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80000"/>
              </a:lnSpc>
              <a:spcBef>
                <a:spcPts val="55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lf-Committed Resources are able to take advantage of DAM co-optimization of their AS offers and Energy offers from capacity beyond that required to meet own obligations.</a:t>
            </a:r>
            <a:endParaRPr b="0" lang="en-US" sz="22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80000"/>
              </a:lnSpc>
              <a:spcBef>
                <a:spcPts val="55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 Resources have certainty that their linked (or “Inclusive”) AS and Energy offers are struck in a way that maximizes their revenues (i.e. opportunity cost is considered whenever DAM awards AS and/or Energy).</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ebruary 20, 2008</a:t>
            </a:r>
            <a:endParaRPr b="0" lang="en-US" sz="1000" spc="-1" strike="noStrike">
              <a:solidFill>
                <a:srgbClr val="000000"/>
              </a:solidFill>
              <a:latin typeface="Verdana"/>
            </a:endParaRPr>
          </a:p>
        </p:txBody>
      </p:sp>
      <p:sp>
        <p:nvSpPr>
          <p:cNvPr id="11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97994-6551-4FE0-8694-EEBFDBAA199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olution Pieces to Correct Mistake</a:t>
            </a:r>
            <a:endParaRPr b="0" lang="en-US" sz="4400" spc="-1" strike="noStrike">
              <a:solidFill>
                <a:srgbClr val="999900"/>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a:t>
            </a:r>
            <a:r>
              <a:rPr b="0" lang="en-US" sz="2200" spc="-1" strike="noStrike">
                <a:solidFill>
                  <a:srgbClr val="000000"/>
                </a:solidFill>
                <a:latin typeface="Verdana"/>
              </a:rPr>
              <a:t>	</a:t>
            </a:r>
            <a:r>
              <a:rPr b="0" lang="en-US" sz="2200" spc="-1" strike="noStrike">
                <a:solidFill>
                  <a:srgbClr val="000000"/>
                </a:solidFill>
                <a:latin typeface="Verdana"/>
              </a:rPr>
              <a:t>Ignore temporal constraints for Generation Resources with Online AS offers only for some or all hours of the DAM (i.e. no Three-Part Offer or Offline AS is submitted for the day).  Such Resources will be allowed to enter an EOC in the adjustment period (no EOC was submitted in the DAM anyway) with a new reason code “DAM Self-Committed”.  </a:t>
            </a:r>
            <a:endParaRPr b="0" lang="en-US" sz="22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allows SCRs to offer AS in DAM</a:t>
            </a:r>
            <a:endParaRPr b="0" lang="en-US" sz="18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a:t>
            </a:r>
            <a:r>
              <a:rPr b="0" lang="en-US" sz="2200" spc="-1" strike="noStrike">
                <a:solidFill>
                  <a:srgbClr val="000000"/>
                </a:solidFill>
                <a:latin typeface="Verdana"/>
              </a:rPr>
              <a:t>	</a:t>
            </a:r>
            <a:r>
              <a:rPr b="0" lang="en-US" sz="2200" spc="-1" strike="noStrike">
                <a:solidFill>
                  <a:srgbClr val="000000"/>
                </a:solidFill>
                <a:latin typeface="Verdana"/>
              </a:rPr>
              <a:t>Correct the co-optimization of “Inclusive” AS and Three-Part Offer to limit AS and/or energy award to the maximum quantity of the Energy Offer Curve. </a:t>
            </a:r>
            <a:endParaRPr b="0" lang="en-US" sz="22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is not an SCR issue but rather corrects co-optimization for all Resource offer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ebruary 20, 2008</a:t>
            </a:r>
            <a:endParaRPr b="0" lang="en-US" sz="1000" spc="-1" strike="noStrike">
              <a:solidFill>
                <a:srgbClr val="000000"/>
              </a:solidFill>
              <a:latin typeface="Verdana"/>
            </a:endParaRPr>
          </a:p>
        </p:txBody>
      </p:sp>
      <p:sp>
        <p:nvSpPr>
          <p:cNvPr id="1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056B2-139A-439E-B33E-EDA6EF4C86B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olution Pieces to Correct Mistake</a:t>
            </a:r>
            <a:endParaRPr b="0" lang="en-US" sz="4400" spc="-1" strike="noStrike">
              <a:solidFill>
                <a:srgbClr val="999900"/>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a:t>
            </a:r>
            <a:r>
              <a:rPr b="0" lang="en-US" sz="2200" spc="-1" strike="noStrike">
                <a:solidFill>
                  <a:srgbClr val="000000"/>
                </a:solidFill>
                <a:latin typeface="Verdana"/>
              </a:rPr>
              <a:t>	</a:t>
            </a:r>
            <a:r>
              <a:rPr b="0" lang="en-US" sz="2200" spc="-1" strike="noStrike">
                <a:solidFill>
                  <a:srgbClr val="000000"/>
                </a:solidFill>
                <a:latin typeface="Verdana"/>
              </a:rPr>
              <a:t>Ignore temporal constraints for Generation Resources with EOC-only and/or Online AS offers only for some or all hours of the DAM (i.e. no Three-Part Offer or Offline AS is submitted for the day).  Such Resources will be allowed to enter an EOC in the adjustment period with the reason code “DAM Self-Committed”.  </a:t>
            </a:r>
            <a:endParaRPr b="0" lang="en-US" sz="22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allows SCRs to take advantage of co-optimization in DAM as long as they are self-committed for the entire day.</a:t>
            </a:r>
            <a:endParaRPr b="0" lang="en-US" sz="18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Full implementation of co-optimization for all Resources including those that may be self-committed for only part of the day.</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ebruary 20, 2008</a:t>
            </a:r>
            <a:endParaRPr b="0" lang="en-US" sz="1000" spc="-1" strike="noStrike">
              <a:solidFill>
                <a:srgbClr val="000000"/>
              </a:solidFill>
              <a:latin typeface="Verdana"/>
            </a:endParaRPr>
          </a:p>
        </p:txBody>
      </p:sp>
      <p:sp>
        <p:nvSpPr>
          <p:cNvPr id="1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35B8-1FC0-4F27-954E-CDD4F8196B6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ction Needed for Solution</a:t>
            </a:r>
            <a:endParaRPr b="0" lang="en-US" sz="4400" spc="-1" strike="noStrike">
              <a:solidFill>
                <a:srgbClr val="999900"/>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possible to implement the relatively minor changes in items 1 and 2 (and possibly 3 – the group didn’t have enough time to redline the Req. doc for 3) prior to the 168-hour test. </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tached redline DAM Requirements document implements items 1 (highlighted) and 2.  </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ems 1, 2 and 3 likely impact only the DAM engine and have no impact on other systems (e.g. Settlements).</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r urgent action: </a:t>
            </a:r>
            <a:r>
              <a:rPr b="0" lang="en-US" sz="2000" spc="-1" strike="noStrike" u="sng">
                <a:solidFill>
                  <a:srgbClr val="000000"/>
                </a:solidFill>
                <a:uFillTx/>
                <a:latin typeface="Verdana"/>
              </a:rPr>
              <a:t>instruct ERCOT to immediately start working on the issue (i.e. move it up on the priority list) so that these features are available preferably at market open so that implementation is in compliance with the Protocol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3T21:38:03Z</dcterms:created>
  <dc:creator>ssiddiqi</dc:creator>
  <dc:description/>
  <dc:language>en-US</dc:language>
  <cp:lastModifiedBy>Shams Siddiqi</cp:lastModifiedBy>
  <dcterms:modified xsi:type="dcterms:W3CDTF">2008-02-20T19:02:28Z</dcterms:modified>
  <cp:revision>31</cp:revision>
  <dc:subject/>
  <dc:title>Locational Marginal Pricing: The Texas Nodal Market</dc:title>
</cp:coreProperties>
</file>