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FA2-74AC-48EA-8889-8D496C3E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E86-72CD-459F-8B39-23C65B4B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229-2855-4D26-BCBC-9889F1D9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7C0-3A8E-4A29-BCF5-AB0C3688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424C-2FA7-4A9E-815B-F8A9F0EE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5630-48A6-474C-8761-0F51292A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04D3-E1CE-4A32-82AE-93ACD6B5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72A4-C7E5-4860-965B-9A4DDF84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F5C3-A38E-47A3-AAD9-A754DDDC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514D-AFA8-4F5D-A54B-99D8BC22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D9A5-D0CC-4293-B4A4-564D60C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6D1-6048-44B1-A730-38030FA0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3FF1-46BC-4663-AED2-E4F19137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9C28-4E1F-4088-B12C-0E8C6B45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3A67-C2C9-41C7-AB1A-9A9CA1D3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CFD1-D0F7-4F01-BA81-23F26BE8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7C7C-63CA-4473-B21A-0AAAE46C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17F-2B46-4B3D-BEAF-E8E4B6DC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99D-C035-425B-8979-00645DD4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2F8-1866-4845-81BA-953726CE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379-230F-4DCF-AC0F-CDA423F8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DC3-74E6-49B5-8FBC-8FAC4372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9D2-DBA3-4877-9262-97DEC467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5F4-6861-4D51-BA8C-CCC9AB31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BCC5-30F7-4B31-9E61-D7527BFE4C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83D2-D6ED-4873-B7CE-2C2348AF3D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PTF Verifiable Cost Sub-group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 to W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/20/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im Galvin- TPTF VC Sub-group 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29718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eting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 Sub-group has met twice since the last update to W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b-group will meet one additional time (TBD) and finalize the follow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k resolution to outstanding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draft NPRR language where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ate detailed report back to TPTF and to March W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and recommend additional discussion points and seek direction from TPTF and WMS for additional follow-up wor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ummary of Resolved Ite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C Sub-group has consensus on the following i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ing Start-up Costs from Breaker Close to LSL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verifiable Shut-down Costs as a component of Start-up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of Costs when RUC is cancelled (by ERCOT) and Cost recovery during S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verifiable Auxiliary Equipment required for Start-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s Costs for Start-up and Minimum Energy will be included in VC process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ummary of Resolved Ite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827000"/>
            <a:ext cx="8001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Incremental Heat Rate monotonically non-decreasing* based on historical or test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costs to be settled at Fuel Ind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For extra-ordinary costs related to swing, imbalance fees, increased transportation costs or curtailments see Extra-ordinary Event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ation of Handy-Whitman Index as an appropriate escalation factor for historical cos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threshold for making Verifiable Costs mand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roup recommends 5 RUC events over a rolling 12-month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bined Cycle Plan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P may submit Verifiable Costs by registered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P must submit Verifiable Costs for any configuration that meets the Verifiable Cost thresh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s not meeting the threshold are not required to submit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C Group agrees that components of the Combined Cycle whitepaper and VC Process must be synchroniz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plit Generation Resources (SGR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R’s may submit Verifiable Costs individually or through a Management QSE (Master QS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&amp;M and fuel costs may be split by percentages as submitted by individual owners rather than solely based on percentage of own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has the discretion to approve individually submitted cost elements for SGR’s.  ERCOT may require that all owners submit costs so all cost elements are allocated correc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sterisk 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80010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Costs- Group will re-visit the concept of including ALL fuel from Start to LS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uel is compensated when unit reaches breaker close, may be double counting some incremental fu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ssions costs- Settlement must be priced at either Index or verified historical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 Heat Rate Curve- follow-up discussion on how to correct decreasing portions of the cur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n-consensus Ite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772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Purchase Agre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s both for and against including Power Purchase Agreement costs in the VC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s voiced in favor indicate that there are costs in current agreements that may not be recoverable in the Verifiable Cost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s of those opposed indicate that costs in PPA’s may not reflect actual cost to ope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that those wanting to pursue PPA’s as a form of verifiable costs to bring the subject to W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resolved 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8270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O&amp;M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from Sub-group members and TPTF members will be requested on current appendix information in the VC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discussion point for next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al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off type costs due to exceptional events that are significant and not recoverable in VC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define Exceptional parameters and a subsequent cost recovery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Plan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to review current VC Manual language for additional details or clar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08-02-19T19:58:39Z</dcterms:modified>
  <cp:revision>18</cp:revision>
  <dc:subject/>
  <dc:title>DEWG Meeting Summary</dc:title>
</cp:coreProperties>
</file>