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6824-13BA-4D97-87B3-62643B40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885A-2EA5-4EFC-BAB3-5DBB4CF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9128-59B4-4BE5-BD4E-B7D411AC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A7BB-602F-4CF2-871C-EEF72203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1AAB-F2AB-478F-9ED7-538EF20B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B69C-3A67-4789-BF11-BBEE298D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5BC5-77A4-4DD1-BD61-96E49D73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C51E-6213-4010-9B26-CF999DE4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A255-69B0-4F40-8725-4D29B9C1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F05F-0D82-4CFD-8CC5-D78DE7FB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B676-B33D-4290-A635-115F6B54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1F7E-932C-4448-A6D0-2FFE6D9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BE8-F729-4FDE-9656-48B18D69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5972-221F-417A-B392-888B4296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904760"/>
            <a:ext cx="62197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R Settlement and DA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6343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ar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/20/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and DA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 Invoice Short Pay – No Upl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AHs hedge payments will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BL convert to RTOBL will not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, AS, and DAM MW payments will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Account not representative of actual dollars col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 is volunta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of DAM &amp; RT depends on MP behavior and participation in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Load Forecast and DAM &amp; RT network model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DAM activity will effect DAS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PPs vary widely from RTSP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han RTOBL, all CRR products are used to hedge congestion based on DAM prices (except for NO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 DAOPT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l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charges by sett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R credits come week later to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credits in DAM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charges come in DAM settlement or RT settlement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ill Barnes</cp:lastModifiedBy>
  <dcterms:modified xsi:type="dcterms:W3CDTF">2008-02-20T17:19:39Z</dcterms:modified>
  <cp:revision>98</cp:revision>
  <dc:subject/>
  <dc:title>Instructions</dc:title>
</cp:coreProperties>
</file>