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AB4E-301F-4D95-A778-2F76A7345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EB34-30D6-4D27-AA51-5B64580E8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2E80-2B0A-4399-AA21-FA4E8DA2C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208F-5F84-4090-A3B3-6E0A79FC4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E4C2C-C726-4A2E-8765-9710EAF1C5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EFC9F-943D-4DB6-BDFB-71F4F9F63D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C7F36-507A-41DF-87EB-2BDC4AB011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9BFFF-761F-40AA-839A-12E90E4BB9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0F7BB-F72B-470A-9027-81932563F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A00AE-509D-44A3-8CDA-01A0C04E24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0E9E7-E5F0-4036-8147-23C964405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B31F-6761-488C-95C6-AC77B2B35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46F14-1959-4112-80B0-15547056E1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10BCF-6330-4134-8F40-6CB38F8111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06792-65C3-4206-BB54-D7D79A45CA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B328D-5771-465E-9031-B629060015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8BF61-A807-4228-8B8F-DA2642633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CBD3-59EC-4F59-9F44-ACC7D0366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70B4-DC81-46BF-A28F-2A37FEA09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0DC2-13E1-4D31-9FD6-961A0B3B8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1B7B-F3D2-4AA0-A752-A3B75539F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8619-E3FF-426B-A921-776F439FC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7EF6-BA2A-4B94-8F7D-415281DA0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E0E6-6FBB-470E-8895-0859C9468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B5D3-7EBD-4176-A3DC-C4902B8A5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2C04-BF0A-4D6D-B21E-18CEF71731C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5000"/>
            </a:b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2007 January - December</a:t>
            </a:r>
            <a:endParaRPr b="1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403812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February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B2A9-7F01-459E-9C8F-AE269C010B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W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4E07-CE82-45EB-9938-B4B833EF6E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N_H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4864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57150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286000" y="3809880"/>
            <a:ext cx="4267080" cy="25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7EAD-1771-4DCE-BD9E-F3D3A99A0F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S_N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457200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9D1D-5153-4732-AA9D-1CD69C6BE8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S_H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4233960" cy="274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438280" y="380988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1EA3-93BE-44C9-B4AF-15E31E86D9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N_W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34340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457200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A789-B946-4440-AE08-7A12C496FB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W_N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419720" cy="2514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24280" y="10666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743200" y="3733920"/>
            <a:ext cx="403848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E126-D84D-4307-8663-8D81711EFD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Shadow Prices for Unused CSC capacity: </a:t>
            </a:r>
            <a:br>
              <a:rPr sz="2800"/>
            </a:b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an – Dec 2007</a:t>
            </a:r>
            <a:endParaRPr b="1" lang="en-US" sz="17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7339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 x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361944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 x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943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 x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666880" y="3657600"/>
            <a:ext cx="4343400" cy="26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961D-05EA-46C5-A7BF-C6394474B2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Shadow Prices for Unused CSC capacity: </a:t>
            </a:r>
            <a:br>
              <a:rPr sz="2800"/>
            </a:b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an – Dec 2007</a:t>
            </a:r>
            <a:endParaRPr b="1" lang="en-US" sz="17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5715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 x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791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 x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43400" cy="4190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F734-4ED2-4D5C-B1B4-695E29A217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background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slides have additional detai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E71F-9FFE-4479-B0E6-9D1C7664B3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D099-44AC-4BD3-A97E-3706B9DDB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SC Costs by Month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1066680"/>
          <a:ext cx="8763120" cy="4525920"/>
        </p:xfrm>
        <a:graphic>
          <a:graphicData uri="http://schemas.openxmlformats.org/drawingml/2006/table">
            <a:tbl>
              <a:tblPr/>
              <a:tblGrid>
                <a:gridCol w="852480"/>
                <a:gridCol w="1319400"/>
                <a:gridCol w="1395360"/>
                <a:gridCol w="1241280"/>
                <a:gridCol w="1239840"/>
                <a:gridCol w="1163520"/>
                <a:gridCol w="155124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North_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outh_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outh_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North_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West_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ub-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7,74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797,740.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,586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,686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1,963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1,298,976.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,97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983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89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1,952,854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57,326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,12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1,425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9,279,882.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19,544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51,07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1,343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,571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,789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,326,515.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53,103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30,04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5,401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6,155,069.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6,091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7,086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20,74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,826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7,008,332.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05,533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77,729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28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9,482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1,257,747.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6,242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,507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,90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2,317,396.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54,567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63,409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62,92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41,414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,639,712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28,438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171,045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5,156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02,735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9,204,684.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00,421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24,484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,180,621.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800,848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56,30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518,157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77,219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64,41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7E67-76D4-451B-8F6E-BC080A8313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5181480"/>
          <a:ext cx="8001000" cy="1212840"/>
        </p:xfrm>
        <a:graphic>
          <a:graphicData uri="http://schemas.openxmlformats.org/drawingml/2006/table">
            <a:tbl>
              <a:tblPr/>
              <a:tblGrid>
                <a:gridCol w="1162080"/>
                <a:gridCol w="743040"/>
                <a:gridCol w="762120"/>
                <a:gridCol w="838080"/>
                <a:gridCol w="685800"/>
                <a:gridCol w="762120"/>
                <a:gridCol w="685800"/>
                <a:gridCol w="990360"/>
                <a:gridCol w="1371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04920" y="4876920"/>
            <a:ext cx="3504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quality data available through November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2075-7903-46A0-B591-D77B2A8CC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5105520"/>
          <a:ext cx="5823000" cy="1212840"/>
        </p:xfrm>
        <a:graphic>
          <a:graphicData uri="http://schemas.openxmlformats.org/drawingml/2006/table">
            <a:tbl>
              <a:tblPr/>
              <a:tblGrid>
                <a:gridCol w="1044360"/>
                <a:gridCol w="781200"/>
                <a:gridCol w="780840"/>
                <a:gridCol w="825480"/>
                <a:gridCol w="989280"/>
                <a:gridCol w="742680"/>
                <a:gridCol w="659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991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D43C-A06D-4F72-8CC7-C7B5BA605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Interval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143000"/>
          <a:ext cx="7543800" cy="5076720"/>
        </p:xfrm>
        <a:graphic>
          <a:graphicData uri="http://schemas.openxmlformats.org/drawingml/2006/table">
            <a:tbl>
              <a:tblPr/>
              <a:tblGrid>
                <a:gridCol w="1066680"/>
                <a:gridCol w="609840"/>
                <a:gridCol w="685800"/>
                <a:gridCol w="609480"/>
                <a:gridCol w="685800"/>
                <a:gridCol w="581040"/>
                <a:gridCol w="714240"/>
                <a:gridCol w="581040"/>
                <a:gridCol w="7146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8160-15C3-4435-8430-639DF7F394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Day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990720"/>
          <a:ext cx="7543800" cy="4952880"/>
        </p:xfrm>
        <a:graphic>
          <a:graphicData uri="http://schemas.openxmlformats.org/drawingml/2006/table">
            <a:tbl>
              <a:tblPr/>
              <a:tblGrid>
                <a:gridCol w="1066680"/>
                <a:gridCol w="609840"/>
                <a:gridCol w="685800"/>
                <a:gridCol w="609480"/>
                <a:gridCol w="685800"/>
                <a:gridCol w="609480"/>
                <a:gridCol w="685800"/>
                <a:gridCol w="609840"/>
                <a:gridCol w="6858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8F27-7777-408C-848B-9646504D3E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7DEE-8A0E-439A-A10B-F3E73DE667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25C5-4753-4E0C-A060-6D2F15906B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Dec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bruary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134F-12F1-4147-86A6-F281102D6A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ercot/if</cp:lastModifiedBy>
  <dcterms:modified xsi:type="dcterms:W3CDTF">2008-02-20T11:39:38Z</dcterms:modified>
  <cp:revision>14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