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278-39D4-4A6C-BF3A-E925A568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CA8-E216-47BE-B344-C52110BD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9EB-1CD9-4ABF-B5EC-2B2C3ED9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FFC-CD8A-411D-AC18-13C9A22C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79C7-F4D6-4D79-AB50-4988C1B4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F38-6B89-4CC0-A41C-05243DF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561-5FC5-43D7-8C3F-DF84209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FEA-CFB0-499F-B6D8-DCA4490B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C45-47FA-49AD-A0AB-248F0EC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D51F-7CE3-45EE-91FC-591219D2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E4E1-F882-4C8E-B256-ADA83F9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0A9-EE43-4B3B-B9C6-7A2C9240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049-ECDE-48DB-BDE0-A3E0F32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5C0D-6E48-4128-8E9E-3F40202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A67F-61F2-4EA8-A8DA-D93B45DF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F33-BDD6-4B98-987B-5370F1C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64C-58C8-445D-9D11-B2AA1F97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794-4023-4771-B43F-5F500DB3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533-39F4-49C6-93B0-5C27A57B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8AA-4E78-4FF5-9982-2B68770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1EE-3846-41D6-BC5E-EB810FE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74A-F19C-45C5-8336-FA8911D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163-A508-4642-ADD9-8A094BA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655-FD7E-45C1-99E5-455918D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074-F3A0-4E72-99EE-D575F959A5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4DB-6F59-4449-AECF-8F6257F1A6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RR Default and the Nodal Marke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sale Market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estion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JM Defau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JM has recognized defaults of FTR holders leaving the market carrying approximately $80M in default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TR holders were undercollateralized and their counter-flow FTR Obligation position was significantly impacted by a planned transmission outage in New J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voiced Power Edge defaulted on the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that means for ERCO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JM is grappling with the difficult task of allocating this default to the remaining solvent market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RCOT, defaults of this type will stay in the Day Ahead Market per current Nodal Protoco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any market participant owed money would be paid a fraction of what is owed or nothing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lic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owed money in the DAM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R hold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ers of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ers of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ers of ancillary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R se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o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 is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n’t take long for the volunteer pool to dry up, i.e. no day ahea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ential Solu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:  “It is not a good idea to punish good behav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leave things as-is (and pray it doesn’t h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cline to sell CRR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allocate defaults of this type in some other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work on our credit poli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-is” Consid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schedules will not be impacted: market forced into for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/S mkt clearing so no A/S DAM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forced to call supplemental A/S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ure how CRRs and market clears without offer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 Obligations” Consid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only CRR Options essentially eliminates credi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essentially eliminates the CR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 Time, actual flows include actual counter-flow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RR auction no such flows are considered in order to ensure revenue adequacy of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aths that become “fully loaded” in the model eliminate any other CRRs that use that path in their make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ternative Allocation” Considera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should be known and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risk models and appropriate ad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penalize good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redit Policy” Consid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fense is a good defen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require sufficient collateral to mitigate or eliminate impact to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potential value rever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ause some positively valued CRRs to still require marg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lead to “CRRs for the rich and famo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(should) be done in combination with any othe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0:04:55Z</dcterms:created>
  <dc:creator>Tonya Greer</dc:creator>
  <dc:description/>
  <dc:language>en-US</dc:language>
  <cp:lastModifiedBy>Tonya Greer</cp:lastModifiedBy>
  <dcterms:modified xsi:type="dcterms:W3CDTF">2008-02-20T16:42:42Z</dcterms:modified>
  <cp:revision>3</cp:revision>
  <dc:subject/>
  <dc:title>CRR Default and the Nodal Market</dc:title>
</cp:coreProperties>
</file>