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02/14/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58D6620-5CCE-40A7-93B5-F7EC07F2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2/14/08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4 – 6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aper, Combined-Cycle Unit Modeling in the Nodal Design v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Settlement of Power Imported via DC Ties and Block Load Transfer Under a Declared Emergency Cond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Modify Time Requirements for Entry of Equipment in the Outage Schedu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Implementation of PUC SUBST. R. 25.505(f) Publication of Resource and Load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21 – 22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gram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status of State Estim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status of February 2008 Common Information Model (CIM) for EDS “go/no-g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imelin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O Readiness 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Approach v1.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Outage Scheduler Handbook R9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Commercial Systems (COMS) Market Participant Handbook v.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4 Release 9.3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D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21 – 22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 language for Fuel-Oil 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 language for Emergency Base Point Pr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R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CDR Extract and Reports Spec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of Market Submiss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21 – 22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group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Cost Subgroup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recent activities for the Verifiable Cost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 language for Verifiable Cost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Subgrou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 (DAM) Subgrou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recent activities for the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hich elements of the co-optimization can be incorporated currently and which ones cannot; identify any known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 language and redlines for Requirements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21 – 22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- Step-Up Transformer Reporting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rom the review ending Feb.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8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Section 8 Reports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PCRR and McCamey Flowgate Right (MCFRI) allocation elig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02888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January 2008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7 –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1 –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- CRR Testing Market Participant Handbook v1.0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Conceptual System Design (CSD) v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P External Interfaces Specification v1.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 (INF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 Market Participant Identity Management Requirements v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 Market Participant Identity Management CSD v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—Approvals of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, Contingency Plan Procedures for Weekly, Daily, and Hourly RUC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, Contingency Plan Procedures for DAM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, Contingency Plan Procedures for ICCP Data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, Contingency Plan Procedures for SCED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5, Contingency Plan Procedures for Key Settlement and Financial Transfer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, Develop Plan for State Estimator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7, Contingency Plan Procedures for a Backup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8, Contingency Plan Procedures for Portal/API Fail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9, Contingency Plan Procedures for Site Unavai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0, Verify Single Point of Failure Recovery EMS/MMS/NMMS/CRR/C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—Approvals of Readiness Metric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, Verify ERCOT Performance Monitoring Tes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4, Transition Pricing Mechani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7, Validate EDW Access and Accuracy of Postings Required by the IMM and PUCT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0, Validate EDW Commercial Systems Access 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1, Validate EDW Compliance Data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4, Verify QSE Performance Monitoring Tes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5, Verify TSP Performance Monitoring Tes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3, Verify Outage Evaluation System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8, Conduct EECP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1, Market Monitor System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3, Verify S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—Approvals of Readiness Metric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4, MP EDS 2 Trials Participation (revise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, Network Modeling Singl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0, Market Participants Operations Read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, Nodal Readiness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, Develop Texas Nodal Market Launc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, 168-Hour System Stability Test and Trial Real Time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– Jan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5880" y="1076400"/>
            <a:ext cx="87454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revision for the EMS White Paper- High Dispatch Limit (HDL) And Low Dispatch Limit (LDL) During Startup and Ancillary Service (AS)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(SLA) for Nodal EDS Environment v3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Pre-Assigned Congestion Revenue Right (PCRR) Release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Protocols 4 and 6 Formula Clarifications and Related Rev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92, Remove Voltage Schedules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February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met on February 4 – 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will meet again on February 21 –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February 4 – 6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SCED Market Participant Handbook v3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Accelerated Issue Resolution Process v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Day Reports (CDR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R CSD v.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P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 System (MIS) External Interface Specification v0.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/>
  <dc:description/>
  <dc:language>en-US</dc:language>
  <cp:lastModifiedBy/>
  <dcterms:modified xsi:type="dcterms:W3CDTF">2008-02-12T18:47:01Z</dcterms:modified>
  <cp:revision>194</cp:revision>
  <dc:subject/>
  <dc:title>Texas Nodal</dc:title>
</cp:coreProperties>
</file>