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B380-B581-4644-9257-579D9C8E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TRE_Compliance_Enforcement_Program_Implementation_Plan_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0480" y="1904760"/>
            <a:ext cx="63910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20840" y="358092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Larry Grimm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February 7, 2008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February 7,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911160"/>
            <a:ext cx="7848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cember 2007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4582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December 2007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ty Registration issues continue to be addr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ing-Selling Entity (PSE) regist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ntity registration notices were sent to 33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criteria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y operates as a Qualified Scheduling Entity (QSE) in the ERCOT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Functional Model for PSE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le to schedule transactions over the DC 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ISO PSE registration has been remo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-Serving Entity (LSE) registration is to be addressed – On hold until December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RC Order Directives related to LSE registration issues are addr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int Registration Organization (JRO) of some entities is lik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20840" y="1066680"/>
            <a:ext cx="6502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December – 120.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cores for December indicates 33 non-wind-only QSEs passed and 1 non-wind-only QSE failed the PRR 525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1181160"/>
            <a:ext cx="8382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5 Total Registered 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4% overall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standing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NERC escalation process to obtain an acceptable response from th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ate, 25 alleged violations have been identified through December 200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FAC-008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AC-009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CIP-001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IRO-004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Os; 1 G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PRC-005 – relay maintenance delinqu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; 2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036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4343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December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new al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lleged – all resulting from Registered Entity spot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ompliance Review in final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new event reported – Compliance Review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approved th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RE 2008 Compliance Enforcement Program Implementation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478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gional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12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:  120.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:  129.4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007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cember 2007:  127.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cember 2006:  142.0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for December indicate 33 non-wind-only QSEs passed and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001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Year-to-Year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076400"/>
            <a:ext cx="83059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LGrimm</cp:lastModifiedBy>
  <dcterms:modified xsi:type="dcterms:W3CDTF">2008-01-28T17:46:44Z</dcterms:modified>
  <cp:revision>115</cp:revision>
  <dc:subject/>
  <dc:title>Instructions</dc:title>
</cp:coreProperties>
</file>