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A037-8B3B-40B4-A08A-79F878654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70A0-4119-4206-8306-07E8B30B2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BF3F-5764-4159-8ED6-712997213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F5AEBF3D-E6B0-4DE9-87C6-BF9F862E1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010280" y="6305400"/>
            <a:ext cx="21337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2000"/>
            </a:b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Observability Status</a:t>
            </a:r>
            <a:br>
              <a:rPr sz="3200"/>
            </a:b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ROS Feedback</a:t>
            </a:r>
            <a:br>
              <a:rPr sz="2000"/>
            </a:b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Thursday, February 14, 2008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DS 2 – Early Delivery System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Unobservable Loads Monthly Upd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S 2 presented the following 3 options at the 11/08 ROS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SPs provide Tele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TSPs provide Calculated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SPs combine unobservable loads into a single load and prov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and TSPs agreed to Option 2 as the default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will work with TSPs if they cannot comply with Op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bservability Statu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observable bus list issued to TSPs on November 1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 TSPs out of 16 had unobservable busses with an action i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1 busses in to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pass review uncovered model data issues with TSPs feedback and the list was reduced to 324 bu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pass review uncovered model data issues with TSPs feedback and the list was reduced to 245 bu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observable bus list now down to 96 waiting on 3 TS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is waiting for three TSPs to provide data so the model mapping issues can be compl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ly two TSPs have approximately 11 unobservable buses’ left between them that reside behind a third TSP’s network and can not complete their unobservable buses’ at this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6386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Observations: link issues, polarity issues, ICCP data availability issues all affect the observability l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66240"/>
            <a:ext cx="86011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bservability Status-to-Da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5715000"/>
          <a:ext cx="7848360" cy="4572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Target date of February 14</a:t>
                      </a:r>
                      <a:r>
                        <a:rPr b="1" lang="en-US" sz="2400" spc="-1" strike="noStrike" baseline="30000">
                          <a:solidFill>
                            <a:srgbClr val="333399"/>
                          </a:solidFill>
                          <a:latin typeface="Times New Roman"/>
                        </a:rPr>
                        <a:t>th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2008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9250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tatus-to-Date of QSE Points - Quality NOT Verifie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0244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46120" y="838080"/>
            <a:ext cx="8153280" cy="525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81000"/>
            <a:ext cx="79250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DS 2 SE Improvemen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25000"/>
            <a:ext cx="7772400" cy="51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DS Environment has gained a small measure of stability with the new hard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Fewer outages caused by software iss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Patch Releases in January 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d Zonal to Nodal database load compat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a limitations still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CCP / SCADA Cleanup having a positive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eneration approximately 98% i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a Quality – Suspect but improving with ERCOT and MP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fort to find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has designated a number of resources specifically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lection, clean up and correction of missing, useles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orrect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mber participation and proactive attitude is greatly appre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is endea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DS 2 SE Improvement II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January 25th the MW/Mvar Mismatch was set to 30 for Converg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ing to provide a more accurate view of the production environ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convergence between Jan 15th and Feb 11th is 79.5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olerance settings are bumped in the off-hours (night and weekend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hours Tolerance is set at the follo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MW / 75 MV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time Tolerance is set at the follo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MW / 30 MV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tate Estimator Convergence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5167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29600" y="2666880"/>
            <a:ext cx="4495680" cy="1828800"/>
          </a:xfrm>
          <a:prstGeom prst="wedgeRectCallout">
            <a:avLst>
              <a:gd name="adj1" fmla="val -70305"/>
              <a:gd name="adj2" fmla="val 2092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lerance settings are bumped in the off-hours (night and weekend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-hours Tolerance is set at the follo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 MW / 75 MV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time Tolerance is set at the follo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 MW / 30 MV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5345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DS 2 – Next Step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777600"/>
            <a:ext cx="827568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Next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P’s provide data to ERC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metered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d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ed Loads (Model Loa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ontinuously runs observability report and provides feedback to TS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Request target of 2/14/2008 for Obervability if possi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Request target of 2/21/2008 for Tap Estimation if possi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94360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Observations: link issues, polarity issues, ICCP data availability issues all affect the observability l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21:38:43Z</dcterms:created>
  <dc:creator>jhall</dc:creator>
  <dc:description/>
  <dc:language>en-US</dc:language>
  <cp:lastModifiedBy>bchilders</cp:lastModifiedBy>
  <dcterms:modified xsi:type="dcterms:W3CDTF">2008-02-13T16:10:26Z</dcterms:modified>
  <cp:revision>42</cp:revision>
  <dc:subject/>
  <dc:title>Texas Nodal Observability Status ROS Feedback Thursday, December 06, 2007</dc:title>
</cp:coreProperties>
</file>