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67BA-FB58-461D-9779-250546DB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123A-2530-4533-80C7-1FB640A8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D24F-6468-4485-ABDB-67B4CD0F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6AD2-EA90-4BF1-97DD-4AB9B27D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C542-6A92-4185-B1E8-3194B51D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CCB4-74A4-465B-80EB-74C3A3BA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63E5-1AB2-41A3-9FA0-18DDE2F6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EB4F-041B-4AE7-876B-40C87FF1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530E-7ED7-4E7C-9651-C53465F6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5863-F939-4256-8120-3D782F7E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8937-E510-4C1C-AD33-E89BAF4C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175B-7D9B-4F2C-A2F8-75F32738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35D7-B774-4B9E-BB8B-C090548F5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2C3B-578E-4EA9-ADE6-8050BEDEB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9 Project Prioritiz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ebruary 14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Program Area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EC38-1CA7-41ED-A413-7ED869DCDB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– 2008 Fund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CART Fun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447920"/>
          <a:ext cx="3276720" cy="3809880"/>
        </p:xfrm>
        <a:graphic>
          <a:graphicData uri="http://schemas.openxmlformats.org/drawingml/2006/table">
            <a:tbl>
              <a:tblPr/>
              <a:tblGrid>
                <a:gridCol w="1163520"/>
                <a:gridCol w="211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8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268C-B713-4AED-BCB8-108A7A8848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009 will be a unique year for project planning due to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and type of SO/MO projects in 2009 is not yet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expects to file a fee case in early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early budget cycle will be earlier than the typical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se factors limit our ability to produce the typical level of detail for project prioritizatio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Project Requests, CBAs, Time &amp; Cost Estimat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has proposed a two phase approach to 2009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Develop high level initiatives list in ear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Complete required documents in late 2008 for allocation of 2009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mportant 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 project will be allowed to proceed without all requir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th phases will be completed with market subcommittee 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9E60-4E6D-4199-BFCD-DD795C6094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initiatives to include all efforts expected in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ART provides as much information as it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s by proje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budget request determined by summing initiatives list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 must stay within a range of effort that they think they can deliver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 Funding Al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 per CART determined in lat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“Previously Approved” projects initiated 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projects that have been defined (all docu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for efforts not yet defined to be held by 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ding will be allocated as projects become ready to init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schedule of activities on the final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28D4-43FC-4A6D-9EAC-D0FB7CE58E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first draft of high level initiatives by CART with budget range estimates (ERC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e with the funding approach outlined on sli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C9DC-BBF0-4D2E-A99F-F15D58A988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8532-3DA3-4FB1-B134-6E07E7D6C0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O Update -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1066680"/>
          <a:ext cx="86868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66C3-8E51-44FD-87D8-2356DE3C96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485E-3AC1-4259-9267-FD5F903DBA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wlowe</cp:lastModifiedBy>
  <dcterms:modified xsi:type="dcterms:W3CDTF">2008-02-08T00:25:23Z</dcterms:modified>
  <cp:revision>185</cp:revision>
  <dc:subject/>
  <dc:title>Instructions</dc:title>
</cp:coreProperties>
</file>