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5BF9-11AF-4223-B259-D9AC4EAB1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0480" y="1904760"/>
            <a:ext cx="639108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Black"/>
              </a:rPr>
              <a:t>Texas RE Standards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 Black"/>
              </a:rPr>
              <a:t>Action Report to ROS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 Black"/>
              </a:rPr>
              <a:t>February 2008</a:t>
            </a:r>
            <a:endParaRPr b="0" lang="en-US" sz="28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429000"/>
            <a:ext cx="650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Farzaneh Tafre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Manager, Reliabi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Texas Regional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Farzaneh.Tafreshi@texasr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RE Std report to R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.14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ole of ROS in the Regional Standards Development Process   cont.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S will either accept the recommendations of the RSM or modify the SDT slate, as it deems appropria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in 60 days of accepting a SAR for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oints the interim chair (should not be a staff person) of the SDT. The SDT will elect the permanent Chair and Vice-Chair at its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Standard Drafting Team (SDT)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am of technical experts, assigned by ROS, responsible for developing a proposed standard based upon an approved S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DT will consist of a group of people who collectively have the necessary technical expertise and work process skills pertaining to the particular SAR su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T typically includes a member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xas RE sta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igin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ddition to the field Subject Matter Expert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ssigned by 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ques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y with the criteria stated on Step 2 of  the FERC approv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as RE Standards Development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SC is requesting ROS to take the following actions prior to RSC meeting on March 25, 2008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mit a list of SDT for SAR-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oint the interim chair for the SD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857680" cy="2886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62320" y="4343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Farzaneh Tafre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Texas Regional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Farzaneh.Tafreshi@texasr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RSC meeting was held on January 29,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k Keetch (Reliant Energy) and Dale Bodden (CenterPoint Energy) were unanimously elected as the Chair and Vice-Chair respectively for the term ending in December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C unanimously voted to accept SAR-001: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ision to Texas RE Documents to Provide for the ERCOT ISO to Participate and have a Vote in the 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liability Standards Committee </a:t>
            </a:r>
            <a:br>
              <a:rPr sz="2400"/>
            </a:b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Summary Repor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liability Standards Committee (RSC)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C is a committee of Texas Regional Entity (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lanced committee comprised of the seven (7) ERCOT Market Participant (MP)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C will review the Standards Authorization Requests (SAR) and will consider which SAR shall be assigned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 the development of SARs a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ROS to assemble a qualified balanced slate for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Drafting T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approval of SDT by ROS, RSC will declare a preliminary date on which the SDT is expected to have ready a completed draft Standard and associated supporting documentation available for consideration by the ERCOT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all the work completed by the S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liability Standards Committee (RSC) cont.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commend whether proposed new or revised standards should be presented for a vote to all ERCOT 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the MPs vote, RSC forwards the final standards package to the ERCOT Board of Directors (BOD) 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liability Standards Committee (RSC) cont.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SAR-001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-001 was submitted by ERCOT I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1: 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ision to Texas RE Documents to Provide for the ERCOT ISO to Participate and have a Vote in the 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ction will revi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as Regional Entity Standards Development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clude the ERCOT ISO as a voting member of the Reliability Standards Committee in addition to the other established market segment member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Where to go to Submit a SAR?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21667" t="21558" r="23334" b="27777"/>
          <a:stretch/>
        </p:blipFill>
        <p:spPr>
          <a:xfrm>
            <a:off x="685800" y="1143000"/>
            <a:ext cx="784872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705720" y="2209680"/>
            <a:ext cx="198108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SAR Web-Section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21667" t="30447" r="23334" b="16221"/>
          <a:stretch/>
        </p:blipFill>
        <p:spPr>
          <a:xfrm>
            <a:off x="685800" y="1143000"/>
            <a:ext cx="75438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ole of ROS in the Regional Standards Development Process</a:t>
            </a: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acceptance of a SAR, the RSC shall direct the Reliability and Operations Subcommittee (RO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ssemble a qualified balanced slate for the SD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iability Standards Manager (RSM) will recommend a slate of ad-hoc individuals or a pre-existing task force, work group, or similar for the SDT based upon the ROS’ desired team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E Std report to RO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F. Tafreshi</dc:creator>
  <dc:description/>
  <cp:keywords>RSC Standards Activity report SAR 001 ISO SAR</cp:keywords>
  <dc:language>en-US</dc:language>
  <cp:lastModifiedBy>ftafreshi</cp:lastModifiedBy>
  <dcterms:modified xsi:type="dcterms:W3CDTF">2008-02-07T19:11:09Z</dcterms:modified>
  <cp:revision>72</cp:revision>
  <dc:subject>TRE Stnd Report to ROS Feb 2008</dc:subject>
  <dc:title>TRE Stnd Report to ROS Feb 2008</dc:title>
</cp:coreProperties>
</file>