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002-9B8E-457C-85EE-C56ED4A1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9BC-D6C9-458A-988B-C7DD734F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F33-53D8-442E-8837-53CFD36C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F3F-CB64-4E5A-BE27-727EFBE7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259-AC41-4091-BA6C-0C80FFC8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FEE-6250-4471-A5A9-B2DDD98C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690-B52C-45F8-932F-5240FAC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8A6-A21A-455A-9EFE-0FAFAD0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414-6071-4528-8685-1A8E4A5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C8C-43D6-4758-A5EF-F89E932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893-736B-4A4A-8656-A5378BDC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85D-28DD-47DC-B17D-E2E65FB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32480"/>
            <a:ext cx="2895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"/>
          <p:cNvSpPr/>
          <p:nvPr/>
        </p:nvSpPr>
        <p:spPr>
          <a:xfrm>
            <a:off x="5791320" y="64450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2006 Accomplishments &amp; 2007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733920" y="64098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91DA-0F70-436A-98C0-64F5CEEB5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2007 Go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cost-effective strategies to minimize involuntary loss of load probability (EILS and successor issu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communications to TAC on reliability issues and/or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the Texas Reliability Entity’s (TRE) standards drafting process (as outlined in the Texas RE Delegation Agree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&amp; analyze ERCOT System Operations, Emergency Electric Curtailment Plan (EECP) events &amp; significant out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changes to ERCOT Operating Guides, Protocols and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MS Conversion:  support the conversion of the ERCOT network model for use in the nodal mar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compliance obligations for meeting NERC Standards and tasks delegated by ERCOT to entities via the ERCOT Protoc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8AE-49DA-41FE-B249-514FDA23CF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 2007 Goals (con’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Schedule Control Error (SCE) scores and related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with WMS on Generation Adequacy Task Force (GATF) reserve margin cri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existing ERCOT Operating Guides to conform to the new nodal mar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D0E-3F64-4F25-9AD6-25E39DCB49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balbracht</cp:lastModifiedBy>
  <dcterms:modified xsi:type="dcterms:W3CDTF">2008-02-09T00:24:21Z</dcterms:modified>
  <cp:revision>103</cp:revision>
  <dc:subject/>
  <dc:title>Role of Account Management at ERCOT</dc:title>
</cp:coreProperties>
</file>