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6DC-B36C-4BF2-9FE6-D0BD9F56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AFE-54D8-4CDB-B4C4-D7601BF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904-6CED-42A5-9E07-11E186C1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73D-80DA-417F-86AF-0E50A547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583-1184-44D9-9AD7-5993457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520-D622-4FFF-B4BF-399176CA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ED9-4837-40A1-883D-39C3AC0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44B-114F-4AB6-903A-2B3C87B1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577-AC1E-4284-8B34-4A0931F5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B62-1AC5-4B5F-A60E-371B7EB2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B3F-A26E-466D-898D-5A592DA0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31B-3AFF-495B-95C2-0A7435AF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9D72-B16B-4756-8165-C10E0235D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bruary 14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09648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0120" y="380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267080" y="3170160"/>
          <a:ext cx="609480" cy="517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0" y="131760"/>
          <a:ext cx="9144000" cy="65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"/>
                    <a:ext cx="9144000" cy="65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412920"/>
            <a:ext cx="8686800" cy="603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48720" y="17524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February 12 and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discuss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March 11 and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8-02-07T21:49:18Z</dcterms:modified>
  <cp:revision>31</cp:revision>
  <dc:subject/>
  <dc:title>RO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8222690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to ROS February 14, 2008</vt:lpwstr>
  </property>
</Properties>
</file>