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9775-9FBE-4C3F-9394-AD81D128F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AC69-F51C-4C28-8657-AB4609B5D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8DB8-EBA3-405D-B181-456E4A587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483A-EA34-45F5-9453-FAE25F139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DB21-7E86-4B82-9568-B73EFF971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2432-DC82-40E5-A4CC-2A05A8C7D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A433-9570-473B-8C07-CC0BCCDDF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C1B3-88F3-43EA-9F16-9300CA2FE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815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12E9-1C27-48BA-B2FE-BDD8AB35D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4AB5-AE9E-4AF4-AD74-CFB43C055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A7B7-2D16-41DE-8B28-7F3CFB9ED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EA56-2F13-4C18-8433-1CA36F1B7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Click to edit the title text format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e7d1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cb2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e7d1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c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4592-F6E0-4024-BC92-EF67992B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14479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295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cb2"/>
                </a:solidFill>
                <a:latin typeface="Book Antiqua"/>
              </a:rPr>
              <a:t>Quantifying Demand Reduction for Load Control Measures</a:t>
            </a:r>
            <a:endParaRPr b="0" i="1" lang="en-US" sz="32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771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yle He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ntier Associates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02A6-A1E4-4694-A549-08E72F1274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Summary of Deemed Savings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981080"/>
          <a:ext cx="7315200" cy="3352680"/>
        </p:xfrm>
        <a:graphic>
          <a:graphicData uri="http://schemas.openxmlformats.org/drawingml/2006/table">
            <a:tbl>
              <a:tblPr/>
              <a:tblGrid>
                <a:gridCol w="4343400"/>
                <a:gridCol w="2971800"/>
              </a:tblGrid>
              <a:tr h="70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emed Sav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1: Res, Single Family, AC, 33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2: Res, Multifamily, AC, 33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3:  Res, Single Family, Pool Pump, 100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4:  Res, Single Family, Electric Water Heater, 100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FBEC-FEDF-472C-AFBF-6D455F7DE9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Proposed Bridge Solution Programs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 Res, Single 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:  Res, Multi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:  Res, Single Family, Pool Pump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4:  Res, Single Family, Electric Water Heater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5: Commercial,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e7d1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299-B955-44E7-B916-3AE6A9FAA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1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5238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 Res, Single 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2057400"/>
          <a:ext cx="7315200" cy="2438280"/>
        </p:xfrm>
        <a:graphic>
          <a:graphicData uri="http://schemas.openxmlformats.org/drawingml/2006/table">
            <a:tbl>
              <a:tblPr/>
              <a:tblGrid>
                <a:gridCol w="5105160"/>
                <a:gridCol w="22100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in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&amp;P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Simulation PSCO (Xcel Colorado)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Load Control Simulation, Texa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85800" y="457200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kW savings numbers presented for proposed programs account for diversity and assume control during summer system peak periods (Avg. of Hours ending 16 through 19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/- 0.14 kW; Based upon 50% cycl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RI Simplified Energy Analysis for Residential Buildings (ESPRE) modeling calibrated to PSCO Metering data and Building Characterist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brated to Texas Metering data and Building Character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B0DA-AD6E-4AAF-87A7-363BAD735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3911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cb2"/>
                </a:solidFill>
                <a:latin typeface="Book Antiqua"/>
              </a:rPr>
              <a:t>AC Load Curve: Peak Day PSCO (Xcel Energy) </a:t>
            </a:r>
            <a:endParaRPr b="0" i="1" lang="en-US" sz="28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9" name=""/>
          <p:cNvSpPr/>
          <p:nvPr/>
        </p:nvSpPr>
        <p:spPr>
          <a:xfrm>
            <a:off x="406404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8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60D0-99B5-4B16-A620-48BD1F407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2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696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:  Res, Multi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2286000"/>
          <a:ext cx="7315200" cy="1523880"/>
        </p:xfrm>
        <a:graphic>
          <a:graphicData uri="http://schemas.openxmlformats.org/drawingml/2006/table">
            <a:tbl>
              <a:tblPr/>
              <a:tblGrid>
                <a:gridCol w="5105160"/>
                <a:gridCol w="22100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Load Control Simulation, Texa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51240" y="388620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alibrated to Texas Metering data and Build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718A-7A0D-4352-BBA8-44AB1BB65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3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523880"/>
            <a:ext cx="7696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:  Res, Single Family, Pool Pump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2590920"/>
          <a:ext cx="7315200" cy="1523880"/>
        </p:xfrm>
        <a:graphic>
          <a:graphicData uri="http://schemas.openxmlformats.org/drawingml/2006/table">
            <a:tbl>
              <a:tblPr/>
              <a:tblGrid>
                <a:gridCol w="5486400"/>
                <a:gridCol w="182880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 PG&amp;E Pool Pump Program Evaluation by A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652A-ED9C-4F75-853F-11C68A96D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3911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cb2"/>
                </a:solidFill>
                <a:latin typeface="Book Antiqua"/>
              </a:rPr>
              <a:t>Pool Pump Load Curve: 2001 PG&amp;E Study </a:t>
            </a:r>
            <a:endParaRPr b="0" i="1" lang="en-US" sz="28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406404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738440"/>
            <a:ext cx="7696080" cy="390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18 is the average kW of pool pumps in PG&amp;E service territory: Adjusted for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662A-D278-4FFC-8A15-AC8DE0C28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4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4:  Res, Single Family, Electric Water Heater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590920"/>
          <a:ext cx="7315200" cy="1523880"/>
        </p:xfrm>
        <a:graphic>
          <a:graphicData uri="http://schemas.openxmlformats.org/drawingml/2006/table">
            <a:tbl>
              <a:tblPr/>
              <a:tblGrid>
                <a:gridCol w="5105160"/>
                <a:gridCol w="22100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Load Control Simulation, Texa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05240" y="419112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alibrated to Texas Metering data and Build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881C-A0D4-40F2-81A6-A160802A8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Water Heater Curves by Month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406404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1314360"/>
            <a:ext cx="6219720" cy="508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86400" y="3733920"/>
            <a:ext cx="838080" cy="76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B1B9-7FD5-488E-991D-143023FAB8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1T17:53:00Z</dcterms:created>
  <dc:creator>gaye rusenas</dc:creator>
  <dc:description/>
  <dc:language>en-US</dc:language>
  <cp:lastModifiedBy>Kyle Hemmi</cp:lastModifiedBy>
  <cp:lastPrinted>1999-06-10T21:04:43Z</cp:lastPrinted>
  <dcterms:modified xsi:type="dcterms:W3CDTF">2008-02-08T16:27:37Z</dcterms:modified>
  <cp:revision>222</cp:revision>
  <dc:subject/>
  <dc:title>Planergy Pro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Inetpub\wwwroot\pucdev\electric\projects\22241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405298140</vt:r8>
  </property>
  <property fmtid="{D5CDD505-2E9C-101B-9397-08002B2CF9AE}" pid="23" name="_AuthorEmail">
    <vt:lpwstr>khemmi@frontierassoc.com</vt:lpwstr>
  </property>
  <property fmtid="{D5CDD505-2E9C-101B-9397-08002B2CF9AE}" pid="24" name="_AuthorEmailDisplayName">
    <vt:lpwstr>Kyle Hemmi - Office</vt:lpwstr>
  </property>
  <property fmtid="{D5CDD505-2E9C-101B-9397-08002B2CF9AE}" pid="25" name="_EmailSubject">
    <vt:lpwstr>DRTF Presentation</vt:lpwstr>
  </property>
</Properties>
</file>