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0DB-6DC4-4B13-A380-E2C4C3D5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FF7-D3C5-4406-BCDD-92C2424F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042-B8F3-4D06-B494-A915FD3F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B02-11C4-4DAD-872B-A92D4428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070-DD9A-4CBD-A563-9F51E447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456-764D-46F9-8109-97B0B8F1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65C-3645-41B4-AFCB-129233FF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930-4FFB-4BC6-B233-76F74380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6CC-24F5-4CDE-9608-E7F95269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126-D3A9-4F4C-A2CB-C13DD58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13C-5D3A-469B-A757-4D7262AF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B28-7634-4A8D-BC6C-B0D87667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A1F3-E253-4794-9C3A-F9CE11F3F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ebruary 7,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376-842D-4BF7-9ABE-8F154889A4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Leadership 2008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P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Lee Starr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ry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Chuck Moore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rect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Ernie Podraza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rect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Brad Boles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irro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C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Michelle Trenary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aska Power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Jennifer Frederick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rect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C58-5F77-468A-ABA2-8EC3533AC4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3920" y="-5608440"/>
            <a:ext cx="228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DA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Eric Goff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stellation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Heather Boisseau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James Galvin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Heddie Lookadoo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RG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985-2675-4D47-BECA-3A456DC572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5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/07/08 TAC Update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W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WG is seeking additional clarification and understanding related to recent extract del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WG members are working to complete the extract and data S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DA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ing COMS nodal extract delivery and schedul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ntrating on EDS 4 testing - settlements and data delivery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632-3135-4296-9D4A-E905E17E15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/07/08 TAC Updat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with DRTF to support the implementation of a demand respons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itting to COPS at the February 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eting their recommendations in response to TAC’s Request for a profile solution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as per the DGTF recommendation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RT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 Response Task Force has discussed a proposed interim solution and is drafting a PRR for COPS to review and provide input at the  February 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2FB-D480-43F9-98E3-B8BBCBAE5B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S – 2008 Go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P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ived goals from each “Working Grou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S anticipates adopting goals at the February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eting that sup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l  Working Group Goal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put from TAC at the February 8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retreat; a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ovide support required to implement the new Nodal Market and Distributed Generation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CFB-7B40-4575-A708-68C1A336D6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PS -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Working Group Goal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C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 COPMG and incorporate Nodal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DA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information and data structures for successful  Testing of Nodal Financial Settlement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input and recommendations regarding Nodal Financial Settlement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various Nodal NPRR’s for their impact upon the Settlement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 and review extract and data delivery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 the Service Level Agreement (SLA) for extract and data delivery expec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09840" y="31082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A9D-40FE-463F-9EE5-5D3889E521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PS -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Working Group Goal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63120" cy="51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308-4356-4D6B-9A2E-C32403B616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021-65AC-4D3A-A7F7-F339AD57BF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balbracht</cp:lastModifiedBy>
  <dcterms:modified xsi:type="dcterms:W3CDTF">2008-02-05T16:32:46Z</dcterms:modified>
  <cp:revision>255</cp:revision>
  <dc:subject/>
  <dc:title>Point-to-Point</dc:title>
</cp:coreProperties>
</file>