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BE86-4F31-4DAA-BCC5-4F4BE835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3D85-14DB-4540-87C9-E66EBCA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31F2-F8ED-411F-BB39-1A0C837F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5B07-9A56-4B81-9CB2-0E8EE83D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8425-C712-4A21-8F05-DA358B4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3294-94A9-4131-A817-E7428BD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7944-E8AD-428D-92D1-BE80AF9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00D7-AC1E-4F8E-8831-65F1A99C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395C-1078-45C0-91A7-F2B8C131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1FFF-47F3-4037-BA53-787C2CD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C67E-0E62-4677-9364-CC65E53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4781-54F2-4E93-8984-4BF3BE2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FC63-99AA-472F-BA6D-DA410DFD5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9C62-444A-4279-BFF8-DED1AA19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R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13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98BE-0FCD-49DC-AF28-540B163FB8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B3E3-129F-496E-8494-130155CACB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rogram Area Financials - 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Program Area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C122-9791-4F10-8B73-2BD1C7E7C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Results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***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Preliminary – Updated 2/11/08 *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371600"/>
          <a:ext cx="8458200" cy="3733920"/>
        </p:xfrm>
        <a:graphic>
          <a:graphicData uri="http://schemas.openxmlformats.org/drawingml/2006/table">
            <a:tbl>
              <a:tblPr/>
              <a:tblGrid>
                <a:gridCol w="854280"/>
                <a:gridCol w="1550880"/>
                <a:gridCol w="1552680"/>
                <a:gridCol w="1628640"/>
                <a:gridCol w="150012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ct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96,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71,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9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,6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3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96,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338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8,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1,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2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8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21,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0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20,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5,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45,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89,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68,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31,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52280" y="5486400"/>
            <a:ext cx="8763120" cy="6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tabLst>
                <a:tab algn="l" pos="0"/>
                <a:tab algn="l" pos="744480"/>
                <a:tab algn="l" pos="914400"/>
                <a:tab algn="l" pos="1600200"/>
                <a:tab algn="l" pos="331956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= Corporate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 = Market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= Syste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tabLst>
                <a:tab algn="l" pos="0"/>
                <a:tab algn="l" pos="744480"/>
                <a:tab algn="l" pos="914400"/>
                <a:tab algn="l" pos="1600200"/>
                <a:tab algn="l" pos="331956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 = IT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 = Retail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al = Zonal/Nodal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852D-4210-4C79-A2B1-959EC673C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MO Update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Budget Transfers Between CA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Funding Transfers = $7.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371600"/>
          <a:ext cx="1676160" cy="4481640"/>
        </p:xfrm>
        <a:graphic>
          <a:graphicData uri="http://schemas.openxmlformats.org/drawingml/2006/table">
            <a:tbl>
              <a:tblPr/>
              <a:tblGrid>
                <a:gridCol w="752400"/>
                <a:gridCol w="923760"/>
              </a:tblGrid>
              <a:tr h="3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9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90920" y="1371600"/>
          <a:ext cx="6392880" cy="4861080"/>
        </p:xfrm>
        <a:graphic>
          <a:graphicData uri="http://schemas.openxmlformats.org/drawingml/2006/table">
            <a:tbl>
              <a:tblPr/>
              <a:tblGrid>
                <a:gridCol w="1066680"/>
                <a:gridCol w="4343400"/>
                <a:gridCol w="98280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ransfer to IO, 1 deferral to 2008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erver upgrad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 SET 2.1 release of excess f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 project funding returned to S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of excess funds on 2 projects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 2007 and Unit Test Submittal Via Web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2 Facility Build-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Room Projector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e Refresh, Storage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infrastructure items that became necessary over the course of the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5F72-625B-444D-9CEE-71B9687F08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7 Budget Transfer Benef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veral benefits were derived from the funding transfers in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C2 Buil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much-needed capacity for growing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out unfinished areas of TCC2 (+130 desks, 6 off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ed cubicles (+216 se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ty areas (Market Trials room, vendor rooms, conf. ro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ed parking lot (+130 sp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X Server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delivered over the course of 2007 that addressed limited data center power and cool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oject Accelerations t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 ERCOT to maintain a flat fee going in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 projector upgrade replaced prior generation equipment used by System Operations – replacement bulbs were exceedingly expensive and there was only one manufacturer who produc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blade refresh and storage upgrade were IT infrastructure purchases planned for 2008 that could be made i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67E0-0D8F-4EC3-9F3F-9509A236E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8 Fu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28800" y="1447920"/>
          <a:ext cx="3276720" cy="3809880"/>
        </p:xfrm>
        <a:graphic>
          <a:graphicData uri="http://schemas.openxmlformats.org/drawingml/2006/table">
            <a:tbl>
              <a:tblPr/>
              <a:tblGrid>
                <a:gridCol w="116352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8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7C84-E14F-46B8-9FAB-BC30761BD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budget cycle will be earlier than the typic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se factors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has proposed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A28B-A851-4363-BCBB-E98298454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to include all effort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ust stay within a range of effort that they think they can deliver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chedule of activities on the final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3C61-E90A-4E51-9F41-A938637A90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initial list of high level initiatives by CART with budget range estimates (done by ERC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8CC4-3B6E-46BE-B2F3-42EED98057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2-11T15:56:10Z</dcterms:modified>
  <cp:revision>185</cp:revision>
  <dc:subject/>
  <dc:title>Instructions</dc:title>
</cp:coreProperties>
</file>