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0DB-4F8B-4DDA-B575-153492E5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2D-6A0E-4A72-8C0A-697136A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6E3-8EA0-4C74-BE05-CC1CE6B1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306-4BAF-4889-88B3-F55D3869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E03-20C4-4477-8E44-E8BB6599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F3B1-3EB1-4553-A4EF-5AD3B15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133-C914-4BE3-951D-08F449D4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0AB0-515D-459F-A0E4-EC43E670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2334-AB0F-4A6C-A9D0-2247D4D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C4C-B33A-43C7-BD60-A5380802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1EF4-57B1-403A-A113-3B0A136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4DD-529B-44DE-A001-AE0E122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848C-A863-465C-9845-9F19A93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2407-0233-46CC-AC6B-F6EC9D83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168F-1252-4279-AECD-92EE03F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7EEA-A3A1-4BC7-BB4E-DDA4E97E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FA2A-9E42-4006-80B3-76EAFCA6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8E7-8B9B-408F-A4AB-B9E979C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14E-0FDC-4E17-A03D-C0A5A86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546-EC23-4854-AF21-7311E9B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E39-5220-4194-B679-439BF58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AC9-A279-4DF3-B4E9-C65D2B8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F0E-EA1F-448D-AFD6-71732A9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DF5-0956-404A-809C-437FBB0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3016-86FA-4704-A42F-E9444772C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DDC-D0C0-4A82-8518-6181C41A6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emand Response Task Forc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ebruary 2008 Upd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Term Only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“bridge” to long term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ize Energy Impac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e “deemed” impac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ize Paymen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CRs get a credit for that day based on “deemed”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 (cont.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Program Particip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0 ESIIDs per participating 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Market Load limit of 100 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Number of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s limited to calling 1 DR Day per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1 DR Day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ation &amp; Ver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CRs file attestations with ERC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grams &amp; Deemed Impac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708660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gram #Program DescriptionDeemed Load Reduc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Residential, Single Family, AC, 33% Cycling*1.0 kW2Residential, Single Family, Pool Pump, 100% Cycling0.33 kW3Residential, Multifamily, AC, 33% Cycling0.65 kW4Residential, Single Family, Electric Water Heater, 100% Cycling0.35 k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905120"/>
          <a:ext cx="7696080" cy="4039920"/>
        </p:xfrm>
        <a:graphic>
          <a:graphicData uri="http://schemas.openxmlformats.org/drawingml/2006/table">
            <a:tbl>
              <a:tblPr/>
              <a:tblGrid>
                <a:gridCol w="1098360"/>
                <a:gridCol w="5208480"/>
                <a:gridCol w="1389240"/>
              </a:tblGrid>
              <a:tr h="105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emed Load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Single Family, AC, 33% Cycling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Single Family, Pool Pump, 100% Cyc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Multifamily, AC, 33% Cyc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5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Single Family, Electric Water Heater, 100% Cyc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1:  CR calls ERCOT Client Relations to initiate DR D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call by 4:00 PM the day bef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2:  ERCOT notices the market via ERCOT. com and ema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ew distribution list will be cre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3:  CRs conduct DR events on DR d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4: CRs provide ERCOT with lists of participating ESI IDS via MarkeTra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 DUNS, ESI IDs, Program ID and Intervals load was curt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5:  ERCOT validates list of ESI IDs to verify Rep of Reco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s discrepancies via MarkeTr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6:  ERCOT calculates preliminary Deem Load Re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spreadsheets to participating C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7: ERCOT performs calculations during Final settlements proc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657600"/>
            <a:ext cx="76320" cy="763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xt Steps for Demand Respons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Ter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GMRR filed as urgent and up for vote this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will be filed as urgent after COPS and RMS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i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CT Staff has asked that the Advanced Metering Implementation Team be allowed to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05:10Z</dcterms:created>
  <dc:creator>DRTF</dc:creator>
  <dc:description/>
  <dc:language>en-US</dc:language>
  <cp:lastModifiedBy>DRTF013008</cp:lastModifiedBy>
  <dcterms:modified xsi:type="dcterms:W3CDTF">2008-02-04T21:20:26Z</dcterms:modified>
  <cp:revision>24</cp:revision>
  <dc:subject/>
  <dc:title>Demand Response Task Force</dc:title>
</cp:coreProperties>
</file>