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EBE-C78B-4B88-AACE-464EF768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09F-E9A1-49F0-8916-77FD3084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20B-7FC1-4693-9ECB-CEEBAD14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339-B097-48D4-BF3D-2B6A7A17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8A095-8787-4905-A331-ACCFEE7B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A2738-C74B-4B6D-9350-E60EAFF9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417DC-FC04-4F29-9F06-0FDDCFB7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22973-C3B6-49AB-9504-8AC5C24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F77D1-B1B3-45EA-A88C-CDC7B011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998A0-7256-4316-9C4D-004660B0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47F54-3AA4-40A1-AB17-AE134253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040-F51C-4732-887B-14A63D97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1C75B-9F8D-4928-A6EC-2236C63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D2480-02D9-411A-B272-19F46922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41256-4C93-4EAA-A579-4CDBB755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BEC7F-BFDB-4572-B3FD-89D76400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E0E88-A210-4C18-AE19-71AC6092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46A-DC8E-4CDC-9A89-6FDF8A72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702-CEDC-4F1C-BD45-B4B0E699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2A1-E29E-4047-91ED-64598F7F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742-3F01-4E0E-861B-851BC6CC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C6D-2714-46AB-9BE3-0D953A5C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BFC-3812-4594-A113-051AB445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322-14F4-42AA-A402-4267CA90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4D02-9B60-462B-A375-811FD52AD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C603-59FE-4A86-900E-FE220CB56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bruary 13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978B3-77F5-4537-A26F-DF8E210D0FC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X SET Conference Call on Advanced Metering D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response to questions raised at the Advanced Metering Implementation Team meeting on Feb.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&amp;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X SET held a conference call on Feb.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urrent transactions support interval data from advanced meters for residential services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liminary consensus is “yes”, a TX SET change woul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 requir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3A8-EF2B-4756-9EA2-99A838519E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07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’s are receiving Replacement invoices without ever having received the Original invoice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X SET to discuss limiting the Replacement Code to the Original 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07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Move-outs cancelled at ERCOT due to a competing Move-in and then the Move-in goes to Permit Pending and/or is cancell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cenario occurred 77 times in the first 3 weeks of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COT to begin checking for these daily and opening MarketTrak Issues to the CR that submitted the Move-out.  Watch for a Market Noti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 Control to be created for long-term solu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074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A-By Pass flag is being used by CRs when they do not have a current CSA establish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review by ERCOT shows higher than expected frequency.  Deeper review planned for February.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BA3-8726-494B-9FBE-4F0182DB78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 Work in Progr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R to POLR Automation – RMGRR06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ting item for February 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Guide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Transaction Examples and Prepare to Pull Examples Out of I.G.s at Next Rel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/Clean-up of RMG Section 7 to ensure consistency with TX SET v3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A9F-3C13-482E-8E63-DDBE01DE1D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ture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alog the changes in queue for a future rel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alog any additional anticipated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ue to monitor sources of potential TX SET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Met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Gen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 Response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Regulatory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D2F-9AEE-4FAB-9DB1-AAF3EE2C0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me to TX SET in Febru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It will be sweet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248520"/>
            <a:ext cx="304920" cy="380880"/>
          </a:xfrm>
          <a:custGeom>
            <a:avLst/>
            <a:gdLst>
              <a:gd name="textAreaLeft" fmla="*/ 71640 w 304920"/>
              <a:gd name="textAreaRight" fmla="*/ 233280 w 304920"/>
              <a:gd name="textAreaTop" fmla="*/ 44640 h 380880"/>
              <a:gd name="textAreaBottom" fmla="*/ 239040 h 380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534520" y="6248520"/>
            <a:ext cx="304560" cy="380880"/>
          </a:xfrm>
          <a:custGeom>
            <a:avLst/>
            <a:gdLst>
              <a:gd name="textAreaLeft" fmla="*/ 71640 w 304560"/>
              <a:gd name="textAreaRight" fmla="*/ 232920 w 304560"/>
              <a:gd name="textAreaTop" fmla="*/ 44640 h 380880"/>
              <a:gd name="textAreaBottom" fmla="*/ 239040 h 380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647712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235-2624-463F-BDDE-9B3CE02242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rbevill</cp:lastModifiedBy>
  <dcterms:modified xsi:type="dcterms:W3CDTF">2008-02-06T21:46:52Z</dcterms:modified>
  <cp:revision>5</cp:revision>
  <dc:subject/>
  <dc:title>TX SET  Update to RMS</dc:title>
</cp:coreProperties>
</file>