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D16B-7A56-4DCD-BAFB-509D92CC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DB62-20F9-4B8B-B1C6-E71EB852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FFEE-48AB-4078-97AF-687FBACB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0002-6D88-451D-9613-F9889B9B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DC9E-D8DC-4452-A84D-E514E76A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3216-ABD8-4613-92DC-4C3E91EF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C54B-555C-4777-9556-84CB912A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A1E1-271E-4459-870D-4ADA3E40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A363-FCC1-40B3-B6E2-D06E2E17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109B-0885-4A22-8ED3-AEA2BF27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3900-D20A-414F-B18D-A893A4CC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1C26-E14F-48FE-883F-4CCFD60D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588E-1B79-4A2A-8EBF-AA106F8D1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FFF8-FA08-40FC-816E-A8408C490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2209680"/>
            <a:ext cx="60195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dalizing” Remain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onal Protocol Sec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634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Market Rules &amp; Stakeholder Suppor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02/13/08 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maining Sections to Addr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838080"/>
          <a:ext cx="8229600" cy="441972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Rs Impacting 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 Data Acquisition and Aggre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Renewable Distributed Generation PR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 State of Texas Renewable Energy Credit Trading Progra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R749 (tentative effective 3/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 Customer Registr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 Load Profil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R747 (tentative effective 5/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Renewable Distributed Generation PR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Future Demand Response PR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 Texas Standard Electronic Transa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 SET PRR (filing so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 Alternative Dispute Resolution Proced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 Process for Protocol Revis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als Process PRR (tentative 6/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 Texas Test Plan Team – Retail Market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 Retail Point to Point Commun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57200" y="57913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5486400"/>
            <a:ext cx="784836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 Section 2, Definitions and Acronyms, will also need to be updated for defined terms included in above Sections, but not in Nodal Section 2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2/13/08 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D9EE-1D4F-40C4-84C6-D1BE8F2617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proa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Market Rules Staff to take the lead on preparing the NPR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k remaining Sections into groups to submit through stakeholder process (based on PRRs in process and degree of work to confor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with appropriate stakeholder groups where necess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TPTF review prior to PRS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review with other subcommittees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7913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2/13/08 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38EF-3784-4F15-9D50-35916667E0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maining Sections to Addr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871560"/>
          <a:ext cx="8229600" cy="5072040"/>
        </p:xfrm>
        <a:graphic>
          <a:graphicData uri="http://schemas.openxmlformats.org/drawingml/2006/table">
            <a:tbl>
              <a:tblPr/>
              <a:tblGrid>
                <a:gridCol w="4800600"/>
                <a:gridCol w="3429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PRS Initial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 Data Acquisition and Aggreg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 State of Texas Renewable Energy Credit Trading Progr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 Customer Regist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 Load Profil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 Texas Standard Electronic Transac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 Alternative Dispute Resolution Proced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 Process for Protocol Revis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 Texas Test Plan Team – Retail Market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 Retail Point to Point Commun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Definitions and Acrony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2/13/08 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9B8F-85A9-452A-A19E-1782F2A818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ntative Dat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7913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762120"/>
          <a:ext cx="8229600" cy="5451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 20, 23 &amp;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&amp;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 15, 21 &amp;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P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 2/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 3/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 4/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TF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– 3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0 – 3/21 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1 – 4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 – 5/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Committee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Impact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2/13/08 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A730-2CA6-47BE-927A-B00E134890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s learned from previous Sec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sugg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7913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2/13/08 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BB69-DBD6-4AE2-9E3C-309A9E83D7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24160" y="2247840"/>
            <a:ext cx="5791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2/13/08 R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5FDB-DCFE-4070-89D3-B523628402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8-02-11T17:33:23Z</dcterms:modified>
  <cp:revision>37</cp:revision>
  <dc:subject/>
  <dc:title>Instructions</dc:title>
</cp:coreProperties>
</file>