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E30C5-CAE6-482E-80FC-9C1BF5B6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112A-F941-4065-87C9-29D74CF5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B9411-509C-40A3-A980-1A2ECD9F0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66D14-DC51-4078-8B74-78DA80945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2F2E9-4C7E-421D-A2B2-AA26D3D79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85A83-66EB-4BF0-9673-EEECE8943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05BEA-9DF9-4D60-BB79-1AF75132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EEAA5-DB5D-4A95-BEAD-37C066E5D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67027-374E-467B-8EA4-5984DF1A4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8FC4D-5D59-4F35-BE17-E1CAD0AE9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782FB-6B7F-4B13-8ACF-65F0FFB39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4101-00FF-45BF-AEA1-2BBD0BA2A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2F2D-A453-40C2-AE40-0C256EBE7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75AC8-FAA3-47BF-9C74-EC5BF51E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A8AB6-1CAA-4A61-91D7-D53352DB2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53922-263C-4847-B0CF-62693703D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C3DA0-1D22-4CB4-8A05-432EE3311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4BDD0-74F3-4A9E-9C42-0224F04ED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1BC8-D797-4EE0-B952-4893EE4E0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C30C0-E1D3-4BDF-9D63-229BFB3F9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E85E-A7FB-4135-9C50-B517194B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8597-5D39-43CC-88F1-CA1141A5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6327-B431-40B5-83F3-DCBC0C20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D72C-1FF3-4D5D-A56F-407B5137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9DE8-9E35-4A20-866A-C507C2AE32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171B-35E6-412A-8959-D3F2AD5FAF7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7,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ea typeface="Lucida Sans Unicode"/>
              </a:rPr>
              <a:t>RMS Task Force Activity for 2008:</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rak Ph 2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 by 11/08</a:t>
            </a:r>
            <a:endParaRPr b="0" lang="en-US" sz="28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Inadvertent Gain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7"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fontScale="97000"/>
          </a:bodyPr>
          <a:p>
            <a:pPr marL="591120" indent="-59112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bjectives and Result</a:t>
            </a:r>
            <a:r>
              <a:rPr b="0" lang="en-US" sz="2000" spc="-1" strike="noStrike">
                <a:solidFill>
                  <a:srgbClr val="ffffff"/>
                </a:solidFill>
                <a:latin typeface="Tahoma"/>
              </a:rPr>
              <a:t>:</a:t>
            </a:r>
            <a:endParaRPr b="0" lang="en-US" sz="20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Revise sections of the RMG to clarify timelines and responsibilities for all parti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Inadvertent Gain Task Force Revision was approved by RMS in December and will be implemented in March 2008</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Create consistent processes among Market Participant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sions made by RMGRR059 will provide more clarity on the IAG process used by CRs and consolidated approach by TDSP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Provide recommendations for monthly report to RMS that would monitor IAG MarkeTrak issues open more than 20 business day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reporting is now included as part of RMS background material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Develop better escalation path for unresolved IAG MarkeTrak issu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documented escalation process and will add two new escalation points with the implementation MarkeTrak Enhancements project</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9"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fontScale="86000"/>
          </a:bodyPr>
          <a:p>
            <a:pPr marL="523800" indent="-52380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commend and help develop IAG Training for all Market Participants.</a:t>
            </a:r>
            <a:endParaRPr b="0" lang="en-US" sz="20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velopment of training is currently underway and will be first presented in February 2008</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ning will also be posted on ERCOT website and included as part of ERCOT 101 going forward</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training will be provided as part of MarkeTrak Enhancements project</a:t>
            </a:r>
            <a:endParaRPr b="0" lang="en-US" sz="1800" spc="-1" strike="noStrike">
              <a:solidFill>
                <a:srgbClr val="ffffff"/>
              </a:solidFill>
              <a:latin typeface="Tahoma"/>
            </a:endParaRPr>
          </a:p>
          <a:p>
            <a:pPr marL="523800" indent="-523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Provide requirements for the MarkeTrak 2 Enhancements projects to help better manage the IAG workflow.</a:t>
            </a:r>
            <a:r>
              <a:rPr b="1" lang="en-US" sz="3200" spc="-1" strike="noStrike">
                <a:solidFill>
                  <a:srgbClr val="a3c145"/>
                </a:solidFill>
                <a:latin typeface="Tahoma"/>
              </a:rPr>
              <a:t> </a:t>
            </a:r>
            <a:endParaRPr b="0" lang="en-US" sz="32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GTF worked closely with the MarkeTrak Task Force to develop new work flows for the Inadvertent Gain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amlines the overall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 additional touch points for TDSP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s the number of escalations point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 auto-close feature for issues open and untouched for 45 days</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vision Description:</a:t>
            </a:r>
            <a:r>
              <a:rPr b="1" lang="en-US" sz="2000" spc="-1" strike="noStrike">
                <a:solidFill>
                  <a:srgbClr val="ffffff"/>
                </a:solidFill>
                <a:latin typeface="Tahoma"/>
              </a:rPr>
              <a:t> </a:t>
            </a:r>
            <a:r>
              <a:rPr b="0" lang="en-US" sz="2000" spc="-1" strike="noStrike">
                <a:solidFill>
                  <a:srgbClr val="ffffff"/>
                </a:solidFill>
                <a:latin typeface="Tahoma"/>
              </a:rPr>
              <a:t>This Retail Market Guide Revision Request (RMGRR) updates Section 7.2, Inadvertent Gain Process to reflect changes made by the Inadvertent Gain Task Force (IGTF).</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ason for Revision:</a:t>
            </a:r>
            <a:r>
              <a:rPr b="1" lang="en-US" sz="2000" spc="-1" strike="noStrike">
                <a:solidFill>
                  <a:srgbClr val="ffffff"/>
                </a:solidFill>
                <a:latin typeface="Tahoma"/>
              </a:rPr>
              <a:t> </a:t>
            </a:r>
            <a:r>
              <a:rPr b="0" lang="en-US" sz="2000" spc="-1" strike="noStrike">
                <a:solidFill>
                  <a:srgbClr val="ffffff"/>
                </a:solidFill>
                <a:latin typeface="Tahoma"/>
              </a:rPr>
              <a:t>The IGTF has been working for several months to review and improve the inadvertent gain process used by the market.  The changes included herein are reflective of the findings and recommendations of the task forc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Benefit:</a:t>
            </a:r>
            <a:r>
              <a:rPr b="1" lang="en-US" sz="2000" spc="-1" strike="noStrike">
                <a:solidFill>
                  <a:srgbClr val="ffffff"/>
                </a:solidFill>
                <a:latin typeface="Tahoma"/>
              </a:rPr>
              <a:t> </a:t>
            </a:r>
            <a:r>
              <a:rPr b="0" lang="en-US" sz="2000" spc="-1" strike="noStrike">
                <a:solidFill>
                  <a:srgbClr val="ffffff"/>
                </a:solidFill>
                <a:latin typeface="Tahoma"/>
              </a:rPr>
              <a:t>Improve the process for handling inadvertently gained Electric Service Identifier (ESI) IDs and provide for better compliance with Customer Protection Rul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Impact:</a:t>
            </a:r>
            <a:r>
              <a:rPr b="1" lang="en-US" sz="2000" spc="-1" strike="noStrike">
                <a:solidFill>
                  <a:srgbClr val="ffffff"/>
                </a:solidFill>
                <a:latin typeface="Tahoma"/>
              </a:rPr>
              <a:t> </a:t>
            </a:r>
            <a:r>
              <a:rPr b="0" lang="en-US" sz="2000" spc="-1" strike="noStrike">
                <a:solidFill>
                  <a:srgbClr val="ffffff"/>
                </a:solidFill>
                <a:latin typeface="Tahoma"/>
              </a:rPr>
              <a:t>Both Competitive Retailers (CRs) and Transmission and Distribution Service Providers (TDSPs) will need to make minor system and process chang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Consumer Impact:</a:t>
            </a:r>
            <a:r>
              <a:rPr b="1" lang="en-US" sz="2000" spc="-1" strike="noStrike">
                <a:solidFill>
                  <a:srgbClr val="ffffff"/>
                </a:solidFill>
                <a:latin typeface="Tahoma"/>
              </a:rPr>
              <a:t> </a:t>
            </a:r>
            <a:r>
              <a:rPr b="0" lang="en-US" sz="2000" spc="-1" strike="noStrike">
                <a:solidFill>
                  <a:srgbClr val="ffffff"/>
                </a:solidFill>
                <a:latin typeface="Tahoma"/>
              </a:rPr>
              <a:t>Simplified process will shorten the time for getting Customers back to their Retail Electric Provider (REP) of choi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Summary of RMS Discussion:</a:t>
            </a:r>
            <a:r>
              <a:rPr b="1" lang="en-US" sz="2400" spc="-1" strike="noStrike">
                <a:solidFill>
                  <a:srgbClr val="ffffff"/>
                </a:solidFill>
                <a:latin typeface="Tahoma"/>
              </a:rPr>
              <a:t> </a:t>
            </a:r>
            <a:r>
              <a:rPr b="0" lang="en-US" sz="2400" spc="-1" strike="noStrike">
                <a:solidFill>
                  <a:srgbClr val="ffffff"/>
                </a:solidFill>
                <a:latin typeface="Tahoma"/>
              </a:rPr>
              <a:t>On 12/05/07, RMS reviewed AEP and ERCOT comments.   There was discussion regarding the removal of “ERCOT” in Section 7.2.3.  ERCOT stated that it was not involved in billing charges and should not be listed as a responsible party.  On 1/9/08, RMS made minor revisions to Sections 7.2.1 and 7.2.2.3.1.  ERCOT Staff stated that these revisions do not affect the I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PRS Decision:</a:t>
            </a:r>
            <a:r>
              <a:rPr b="1" lang="en-US" sz="2400" spc="-1" strike="noStrike">
                <a:solidFill>
                  <a:srgbClr val="ffffff"/>
                </a:solidFill>
                <a:latin typeface="Tahoma"/>
              </a:rPr>
              <a:t> </a:t>
            </a:r>
            <a:r>
              <a:rPr b="0" lang="en-US" sz="2400" spc="-1" strike="noStrike">
                <a:solidFill>
                  <a:srgbClr val="ffffff"/>
                </a:solidFill>
                <a:latin typeface="Tahoma"/>
              </a:rPr>
              <a:t>On 1/17/08, PRS unanimously voted to recommend a Priority of 0 and a Rank of 0.6 as recommended by RMS.</a:t>
            </a:r>
            <a:endParaRPr b="0" lang="en-US" sz="24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ERCOT Impact Analysis:</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394" name=""/>
          <p:cNvGraphicFramePr/>
          <p:nvPr/>
        </p:nvGraphicFramePr>
        <p:xfrm>
          <a:off x="4952880" y="5257800"/>
          <a:ext cx="914400" cy="838080"/>
        </p:xfrm>
        <a:graphic>
          <a:graphicData uri="http://schemas.openxmlformats.org/presentationml/2006/ole">
            <p:oleObj progId="Word.Document.12" r:id="rId1" spid="">
              <p:embed/>
              <p:pic>
                <p:nvPicPr>
                  <p:cNvPr id="395" name="" descr=""/>
                  <p:cNvPicPr/>
                  <p:nvPr/>
                </p:nvPicPr>
                <p:blipFill>
                  <a:blip r:embed="rId2"/>
                  <a:stretch/>
                </p:blipFill>
                <p:spPr>
                  <a:xfrm>
                    <a:off x="4952880" y="5257800"/>
                    <a:ext cx="914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ea typeface="Lucida Sans Unicode"/>
              </a:rPr>
              <a:t>Texas SET Working Group</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onitor PUCT activities for market change requirement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upport requirements definition to support Demand Response and Distributed Genera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 Metrics Working Group</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Design Performance Measures reporting template to support Project 33049</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Monitor Performance Statistics </a:t>
            </a:r>
            <a:endParaRPr b="0" lang="en-US" sz="32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Project 33049, Performance Measures Rulemaking</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arkeTrak</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nadvertent G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Tahoma"/>
                <a:ea typeface="Lucida Sans Unicode"/>
              </a:rPr>
              <a:t>TX Data Transport Working Group</a:t>
            </a:r>
            <a:endParaRPr b="0" lang="en-US" sz="32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epresent TX Deregulated market to NAESB</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Agency FB"/>
              </a:rPr>
              <a:t>Texas Test Plan Team</a:t>
            </a:r>
            <a:endParaRPr b="0" lang="en-US" sz="32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sign Flight Plan for 2009</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and modify scripts for the approved Flights as required</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testing scripts and testing procedures for MarkeTrak Phase II</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Continue to enhance Retail Testing Website to support market testing</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Maintain content within TMTP, TTPT Procedures and Protocol updates</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1-30T19:40:29Z</dcterms:modified>
  <cp:revision>27</cp:revision>
  <dc:subject/>
  <dc:title>RMS Update to TAC</dc:title>
</cp:coreProperties>
</file>