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CF6-08E3-4D26-BA67-3D355705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191-5D49-4195-8FA0-CB7E5D99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24A-917E-4FB8-9F28-D178651E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4114-F0FF-4112-BB2C-BE1753AD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A1A-163C-4A04-BD8B-A7F3C4A6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12C-1BB0-43A2-B217-6F846B55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34E-C879-4E8F-B8B6-BD11EBDE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47B-90B2-460A-AD81-E4404410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9CA8-6D5C-43DD-BD18-ACA7EFFC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C77-3090-4171-ABAA-EB1CEDFD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403-25ED-415A-9CDC-7F211725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C2F9-385F-402B-AD57-74C6650B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3A66-AE01-42C5-AC10-61FA30ADC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5BB-F3F8-4AF1-93D6-F8F03227C0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1143000" y="229716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676520"/>
          <a:ext cx="8229600" cy="4573440"/>
        </p:xfrm>
        <a:graphic>
          <a:graphicData uri="http://schemas.openxmlformats.org/drawingml/2006/table">
            <a:tbl>
              <a:tblPr/>
              <a:tblGrid>
                <a:gridCol w="2178000"/>
                <a:gridCol w="6051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dvertent 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 has inadvertently gained or lost (or is pending the gain/loss) an LSE Relationship to another CR in err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requesting cancellation of an initiating transaction in instances submitting an 814_08 would result in a rej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o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requesting cancellation of an initiating transaction for market defined reasons that do not require approval from the C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ing Trans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is missing any expected 814, 867_04 or 867_03 Fi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ge/Billing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point-to-point transactions excluding the 867 Contingency Pla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ject Trans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rejected transactions or reject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 of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ERCOT LSE or TDSP LSE relationship histor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issues pertaining to internal/market projects, system trouble, or related problems as defined by the submit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ebel/Chg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questioning a discrepancy pertaining to Siebel service order status changes and Start/Stop time issues when transactions are present in ERCOT syste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7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verification of a 997 sent/receiv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Day to Day issues that do not fit one of the Sub Types indicated above such as: Siebel/997 reports, CSA’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456120" y="13716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5800" y="13716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283-01FE-495B-B546-C558715CCC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s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4880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D296-A8D6-477E-AEB2-3E77C590E1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80880" y="1523880"/>
          <a:ext cx="8305920" cy="4738680"/>
        </p:xfrm>
        <a:graphic>
          <a:graphicData uri="http://schemas.openxmlformats.org/drawingml/2006/table">
            <a:tbl>
              <a:tblPr/>
              <a:tblGrid>
                <a:gridCol w="2176560"/>
                <a:gridCol w="6129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ERCOT or returned to ERCOT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rovide necessary information to move the issue towards resolution including IAS data and assistance with market guidelin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CR2 – the non submitting CR involved in the issues resolu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ting CR, CR2, and TDSP have simultaneous access to view, comment and ultimately vote on the resolution to the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issue has or will be resolved per the information agreed upon in the Vote state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IAS or cannot be resolved as submitted per market guidelines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176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9C1-5FEA-42D0-8988-5948F57AAB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8902800" cy="24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318-6C00-4543-8EF4-918D5BC385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544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1523880"/>
          <a:ext cx="8077320" cy="4711680"/>
        </p:xfrm>
        <a:graphic>
          <a:graphicData uri="http://schemas.openxmlformats.org/drawingml/2006/table">
            <a:tbl>
              <a:tblPr/>
              <a:tblGrid>
                <a:gridCol w="2117880"/>
                <a:gridCol w="595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the TDSP or returned to TDSP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to provide ERCOT with agreement with cancel request or CR indication that request is already complete / unable to be comple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erform agreed upon cancels in the Registration System, request additional information or indicate that cancel cannot be performed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l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requested service order has or will be cancelled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ble to Cancel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Cancel w Approval issue or cannot be cancelled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7B2-DE39-4135-A853-1D317DC256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 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29640" cy="319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8FF-2C1A-4B90-BB35-17DC170B16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2133720"/>
          <a:ext cx="8305920" cy="3543120"/>
        </p:xfrm>
        <a:graphic>
          <a:graphicData uri="http://schemas.openxmlformats.org/drawingml/2006/table">
            <a:tbl>
              <a:tblPr/>
              <a:tblGrid>
                <a:gridCol w="3000600"/>
                <a:gridCol w="53053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In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In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ERCOT System not 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do not show an LSE relationship which is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initiation/enrollment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and 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initiation/enrollment and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79800" y="1752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4240" y="175248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227-4DE3-4E46-83B6-3B3C8C7158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702-539A-4024-97B4-1CA3632A58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Marke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96A-8105-43F9-AAAB-CFDA3782C0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67s received on Cancelled Service Orders -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2925720" cy="35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A35-4A84-4DD1-84B8-DDD88548A4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A85-83E6-4F6D-83D9-6E6EA88B44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8439120" cy="22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ACC-181F-4381-A805-65C4A7AF90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97040" y="-150192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97040" y="-130500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97840" cy="393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AE1-3F8D-4B36-8225-1C0F4DC682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892-065B-45AD-8837-09745EA7F3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 - 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29720" cy="328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7660-E9C2-46F5-ABB1-CBEDB20834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host</cp:lastModifiedBy>
  <cp:lastPrinted>2002-09-24T18:27:58Z</cp:lastPrinted>
  <dcterms:modified xsi:type="dcterms:W3CDTF">2008-02-06T19:58:06Z</dcterms:modified>
  <cp:revision>729</cp:revision>
  <dc:subject/>
  <dc:title>PowerPoint Presentation</dc:title>
</cp:coreProperties>
</file>