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55600" y="6445080"/>
            <a:ext cx="494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bruary 13, 2008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2120"/>
            <a:ext cx="914400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453360"/>
            <a:ext cx="327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37440" y="636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295280" y="64008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799400" y="6477120"/>
            <a:ext cx="13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266C4A-15CB-4412-9C7D-91908A75971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dtaylor@ercot.com" TargetMode="External"/><Relationship Id="rId2" Type="http://schemas.openxmlformats.org/officeDocument/2006/relationships/hyperlink" Target="mailto:dgoodman@ercot.com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2286000" cy="917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294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286000"/>
            <a:ext cx="822960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8 ERCOT Market Participant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bruary 13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3200"/>
            <a:ext cx="87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914400"/>
            <a:ext cx="883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 Dynamics was contracted to conduct a prim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effort to measure Market Particip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s of ERCOT’s performance with respec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its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urvey of 2004 was used to establish a bas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 survey was used to track against this baseline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pecific functions and issues of particular interes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management and Market Particip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2008 survey will allow for continued trac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st the baseline established through the 20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3200"/>
            <a:ext cx="87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Scope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70820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ope of work for the 2008 ERCOT market participant survey effort will provide a quantitative assessment of customer perceptions of ERCOT’s performance relative to meeting customer needs, delivering market services, and providing core ISO services and compare these results to the established performance baselin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0" y="2394000"/>
            <a:ext cx="45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240" y="123840"/>
            <a:ext cx="779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Survey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865600"/>
            <a:ext cx="861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1055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0666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7720" y="3291840"/>
            <a:ext cx="548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ask 1:  Convene a project kickoff meeting with key ERCOT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762120"/>
            <a:ext cx="8991720" cy="51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1:  Convene a project kickoff meeting with key ERCOT stakeholders (held January 22,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nfirm the mutual understanding of the specific research objectives of the 2008 market participant survey, discuss deliverables and confirm the proposed project 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2:  In-depth interviews with key ERCOT stakeholders and department heads (in prog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view relevant sections of the survey instrument and identify revisions necessary based on specific issues or changes to systems or interactions with the market identified by the department h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3:  Update the existing survey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ork with ERCOT staff to update and expand the sample of market participants that was developed and used in the 2006 survey eff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4:  Revise the existing modular Internet survey instrument and field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 the necessary revisions to the existing modular survey instrument developed for the 2006 year-end survey eff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5:  Analyze data and develop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nalyze all quantitative data obtained and provide a final report with key findings and trend analysis to identify and explain any statistically valid differences in the quantitative results when compared to the 2004 and 2006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6:  Presentation of final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3200"/>
            <a:ext cx="87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Proposed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136520"/>
            <a:ext cx="83818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ckoff Me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2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Depth interviews with ERCOT Stakehol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 sample &amp; quantitative survey instru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– 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rvey via Inter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–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nalysis and reporting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–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Report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3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1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3200"/>
            <a:ext cx="87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For More Information,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70820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ise E. Taylor, Sr. Business Project Analyst, Market Operations Divisional Project Organization (512) 248-3932 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taylor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e Goodman, Director, Marke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12) 248-3966 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goodman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04920" y="228600"/>
            <a:ext cx="3538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098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balbracht</cp:lastModifiedBy>
  <dcterms:modified xsi:type="dcterms:W3CDTF">2008-02-06T18:17:54Z</dcterms:modified>
  <cp:revision>782</cp:revision>
  <dc:subject/>
  <dc:title>Role of Account Management at ERCOT</dc:title>
</cp:coreProperties>
</file>