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A6303-9F15-4D9C-869A-14D433FE6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F6736-717F-427A-B181-2070599AA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CF07B-1283-42B1-B077-4F2C0BD2A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AB21A-3E60-4F37-B90A-8673AB966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4DCEA-C6B5-44A3-81B6-0EC9CE868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B7582-724F-4C8A-AB78-548A2B7DE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81A36-BE3A-453C-94A8-A27EDCD6A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4CAEF-1274-46CE-B13D-0653D393C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06EE5-31A2-4813-9AF9-D9085C4ED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66E4D-61E5-4C11-800F-D1456D516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0A539-B397-47A1-92E7-7DFF63FD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6645C-4988-4EDD-B165-D7B0323AD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CC5D6-6A21-4601-93C5-2C27C323D1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5867280" y="6458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formation Technolog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ervice Availability Metric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343240" y="358092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ebruary 2008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erformance Metrics -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ent performance issu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lesale Batch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lesale batch performance improved to 100% in January due successful infrastructure changes to the system made on January 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at reduced the amount of time required to complete batch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29600" y="64008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8 Net Service Availabilit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8600" y="1098720"/>
          <a:ext cx="8448840" cy="495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98720"/>
                    <a:ext cx="8448840" cy="49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8229600" y="64008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January 2008 Net Service Availabilit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28600" y="1219320"/>
          <a:ext cx="8458200" cy="481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19320"/>
                    <a:ext cx="8458200" cy="481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8229600" y="64008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tail Transaction Processing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38280" y="1066680"/>
          <a:ext cx="786600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8280" y="1066680"/>
                    <a:ext cx="786600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8229600" y="64008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ML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"/>
          <p:cNvSpPr/>
          <p:nvPr/>
        </p:nvSpPr>
        <p:spPr>
          <a:xfrm>
            <a:off x="8229600" y="64008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735120" y="1066680"/>
          <a:ext cx="767232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5120" y="1066680"/>
                    <a:ext cx="767232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arkeTrak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125360" y="1066680"/>
          <a:ext cx="689328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5360" y="1066680"/>
                    <a:ext cx="689328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8229600" y="64008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asmallwood</cp:lastModifiedBy>
  <dcterms:modified xsi:type="dcterms:W3CDTF">2008-02-07T18:52:22Z</dcterms:modified>
  <cp:revision>95</cp:revision>
  <dc:subject/>
  <dc:title>Instructions</dc:title>
</cp:coreProperties>
</file>