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541-95A9-436D-9C84-C8E4A823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9352-00AF-4EB8-9D80-4C90735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09BB-AD5F-4F26-A3F0-3788BA88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E6C3-EC3B-491F-981E-D6D5DD8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F0A2-2C0D-4454-AA60-11B68B3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F48A-10A5-421B-8DD2-C0C4AFB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6797-39AB-4658-A16A-98B182A6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58F6-FFEC-4D6B-8788-494C91A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9C8-AFD5-4D6B-8952-0744DC2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AD3F-CCCE-4090-AB5D-D41DD0A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87B0-732D-4152-885B-52E9F52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18B0-B8D7-43DE-848C-944FDC6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08F-CA06-42F9-A9E9-74546826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 will be 02/15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02/18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208 scheduled to conclude on 04/0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4/18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New REPs – 26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in a new territory – 5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isting REPs testing Change of Service Provider (2 to Established, 1 to Non-Establ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62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2-01T14:41:34Z</dcterms:modified>
  <cp:revision>86</cp:revision>
  <dc:subject/>
  <dc:title>Instructions</dc:title>
</cp:coreProperties>
</file>