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8DBF-51C8-4CA0-B4ED-98F4288B86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E770-22F6-41E4-ACD7-44963413F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will continue to evaluate the projects under the line to determine if we can move anything up.  Currently the items just below the line are funded with the 2008 P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870E-7007-4D5B-9A0F-0699EF7DF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F524C6-9CA9-4AA9-80EC-E0B20C6BF6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A3C36D4F-6550-4DB8-8CF9-C1B9199A69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7FA4749D-9821-4471-B39A-FBD49345F8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114BAA41-0759-4C9A-A346-EE3B1CDC8A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91B0D5B-7FE8-4D0F-8E63-D19E5DA0B4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6AACB4E-D193-4981-8C9D-A05071972F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DCB6B5B6-0053-4AEF-820A-75D74187B1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FF906B36-45A0-4921-B016-3218580C65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4897D3DA-43EC-4E48-B790-AFDDA40A02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9AC037D-488E-44D9-9D0A-A0416B9D10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880F3D5F-9097-40FD-B18C-82B9C5867C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B4E58380-FAE7-480F-B748-5945B63085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BD9F-3230-4468-870A-56E46E1BEA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4"/>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pic>
        <p:nvPicPr>
          <p:cNvPr id="3" name="Picture 5" descr="logo_C"/>
          <p:cNvPicPr/>
          <p:nvPr/>
        </p:nvPicPr>
        <p:blipFill>
          <a:blip r:embed="rId2"/>
          <a:stretch/>
        </p:blipFill>
        <p:spPr>
          <a:xfrm>
            <a:off x="63360" y="6289560"/>
            <a:ext cx="854280" cy="479520"/>
          </a:xfrm>
          <a:prstGeom prst="rect">
            <a:avLst/>
          </a:prstGeom>
          <a:ln w="0">
            <a:noFill/>
          </a:ln>
        </p:spPr>
      </p:pic>
      <p:sp>
        <p:nvSpPr>
          <p:cNvPr id="4" name="Rectangle 6"/>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8"/>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 name="Line 9"/>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8" name="Rectangle 10"/>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uary 9, 2008</a:t>
            </a:r>
            <a:endParaRPr b="0" lang="en-US" sz="1400" spc="-1" strike="noStrike">
              <a:solidFill>
                <a:srgbClr val="000000"/>
              </a:solidFill>
              <a:latin typeface="Arial"/>
            </a:endParaRPr>
          </a:p>
        </p:txBody>
      </p:sp>
      <p:sp>
        <p:nvSpPr>
          <p:cNvPr id="9" name="Rectangle 11"/>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DE2102AE-E68D-4D5C-8E46-B3A207BCA8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logo"/>
          <p:cNvPicPr/>
          <p:nvPr/>
        </p:nvPicPr>
        <p:blipFill>
          <a:blip r:embed="rId2"/>
          <a:stretch/>
        </p:blipFill>
        <p:spPr>
          <a:xfrm>
            <a:off x="228600" y="304920"/>
            <a:ext cx="1295280" cy="519120"/>
          </a:xfrm>
          <a:prstGeom prst="rect">
            <a:avLst/>
          </a:prstGeom>
          <a:ln w="0">
            <a:noFill/>
          </a:ln>
        </p:spPr>
      </p:pic>
      <p:sp>
        <p:nvSpPr>
          <p:cNvPr id="47" name="Rectangle 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8" name="Line 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80720"/>
            <a:ext cx="716292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2007 MO Projects Financial Overview</a:t>
            </a:r>
            <a:br>
              <a:rPr sz="2400"/>
            </a:br>
            <a:br>
              <a:rPr sz="2400"/>
            </a:br>
            <a:r>
              <a:rPr b="1" lang="en-US" sz="2400" spc="-1" strike="noStrike">
                <a:solidFill>
                  <a:srgbClr val="ffffff"/>
                </a:solidFill>
                <a:latin typeface="Lucida Bright"/>
              </a:rPr>
              <a:t>Commercial Operations Subcommittee</a:t>
            </a:r>
            <a:br>
              <a:rPr sz="2400"/>
            </a:br>
            <a:r>
              <a:rPr b="1" lang="en-US" sz="2400" spc="-1" strike="noStrike">
                <a:solidFill>
                  <a:srgbClr val="ffffff"/>
                </a:solidFill>
                <a:latin typeface="Lucida Bright"/>
              </a:rPr>
              <a:t>February 11, 2008</a:t>
            </a:r>
            <a:br>
              <a:rPr sz="2400"/>
            </a:br>
            <a:br>
              <a:rPr sz="2400"/>
            </a:br>
            <a:r>
              <a:rPr b="1" lang="en-US" sz="2400" spc="-1" strike="noStrike">
                <a:solidFill>
                  <a:srgbClr val="ffffff"/>
                </a:solidFill>
                <a:latin typeface="Lucida Bright"/>
              </a:rPr>
              <a:t>Hope Parrish</a:t>
            </a:r>
            <a:br>
              <a:rPr sz="24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95" name="Line 3"/>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86868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7 Projects Overview </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305920" cy="4724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Overview</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7 Summary and Succes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7 Financials Summary</a:t>
            </a:r>
            <a:endParaRPr b="1" lang="en-US" sz="2000" spc="-1" strike="noStrike">
              <a:solidFill>
                <a:srgbClr val="000000"/>
              </a:solidFill>
              <a:latin typeface="Arial"/>
            </a:endParaRPr>
          </a:p>
        </p:txBody>
      </p:sp>
      <p:sp>
        <p:nvSpPr>
          <p:cNvPr id="9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FCD6-4A6B-4F9E-AAFE-5227DECC8F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1FEE-E350-4610-B486-8B656C39F6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151920" y="-360"/>
            <a:ext cx="899172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Accomplishments for 2007</a:t>
            </a:r>
            <a:endParaRPr b="0" lang="en-US" sz="2400" spc="-1" strike="noStrike">
              <a:solidFill>
                <a:srgbClr val="ffffff"/>
              </a:solidFill>
              <a:latin typeface="Arial Black"/>
            </a:endParaRPr>
          </a:p>
        </p:txBody>
      </p:sp>
      <p:sp>
        <p:nvSpPr>
          <p:cNvPr id="101" name="TextBox 5"/>
          <p:cNvSpPr/>
          <p:nvPr/>
        </p:nvSpPr>
        <p:spPr>
          <a:xfrm>
            <a:off x="762120" y="1371600"/>
            <a:ext cx="8076960" cy="414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2007 Project Complete Highlights</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50030_01:  Transition of Lodestar data and creation of data marts into the Operational Data Sto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50024_01:  Delivery of SCR740 for enhanced supply / reporting capability of ESIID-level data to market participa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60090_01:  Upgrade of Load Profiling Software (point upgrad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60068_01:  Delivery of Modifications to Distribution Loss Calculation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70057_01:  Initiated early IDR System Throughput project in 2007</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50137_02:  Maestro Replacement Phase II for successful integration with Open View monitor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aphicFrame>
        <p:nvGraphicFramePr>
          <p:cNvPr id="103" name=""/>
          <p:cNvGraphicFramePr/>
          <p:nvPr/>
        </p:nvGraphicFramePr>
        <p:xfrm>
          <a:off x="457200" y="762120"/>
          <a:ext cx="8229600" cy="5502240"/>
        </p:xfrm>
        <a:graphic>
          <a:graphicData uri="http://schemas.openxmlformats.org/drawingml/2006/table">
            <a:tbl>
              <a:tblPr/>
              <a:tblGrid>
                <a:gridCol w="2468520"/>
                <a:gridCol w="973080"/>
                <a:gridCol w="4788000"/>
              </a:tblGrid>
              <a:tr h="47304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MO Capability Line Budget Funding for 2007</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pproved M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1.33M to $1.5M to reflect project fun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 Fund Releas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ase of funds due to current projected underspend</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Soft Close” for spend in 2007</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lose pending adjustments from Accruals and transfers to other proje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3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is difference between </a:t>
                      </a:r>
                      <a:r>
                        <a:rPr b="0" i="1" lang="en-US" sz="1400" spc="-1" strike="noStrike">
                          <a:solidFill>
                            <a:srgbClr val="000000"/>
                          </a:solidFill>
                          <a:latin typeface="Arial"/>
                        </a:rPr>
                        <a:t>MO Capability Funding</a:t>
                      </a:r>
                      <a:r>
                        <a:rPr b="0" lang="en-US" sz="1400" spc="-1" strike="noStrike">
                          <a:solidFill>
                            <a:srgbClr val="000000"/>
                          </a:solidFill>
                          <a:latin typeface="Arial"/>
                        </a:rPr>
                        <a:t> and </a:t>
                      </a:r>
                      <a:r>
                        <a:rPr b="0" i="1" lang="en-US" sz="1400" spc="-1" strike="noStrike">
                          <a:solidFill>
                            <a:srgbClr val="000000"/>
                          </a:solidFill>
                          <a:latin typeface="Arial"/>
                        </a:rPr>
                        <a:t>Curren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pend due to completing tasks with less effort and unplanned carry over to 20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FD8A-4AEE-4ED9-B260-2026684264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151920" y="-360"/>
            <a:ext cx="899172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06" name="Rectangle 3"/>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pe Parris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652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parrish@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hsatterfield</cp:lastModifiedBy>
  <dcterms:modified xsi:type="dcterms:W3CDTF">2008-02-11T21:25:54Z</dcterms:modified>
  <cp:revision>412</cp:revision>
  <dc:subject/>
  <dc:title>Role of Account Management at ERCOT</dc:title>
</cp:coreProperties>
</file>