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0880" y="35737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604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1516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944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8088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1516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944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604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1699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55600" y="6445080"/>
            <a:ext cx="4940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ebruary 12, 2008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762120"/>
            <a:ext cx="9144000" cy="55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"/>
          <p:cNvSpPr/>
          <p:nvPr/>
        </p:nvSpPr>
        <p:spPr>
          <a:xfrm>
            <a:off x="3352680" y="6453360"/>
            <a:ext cx="32767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P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137440" y="6361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1295280" y="6400800"/>
            <a:ext cx="0" cy="380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7799400" y="6477120"/>
            <a:ext cx="132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0364650-3F0B-4525-81EA-7D11063E602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dtaylor@ercot.com" TargetMode="External"/><Relationship Id="rId2" Type="http://schemas.openxmlformats.org/officeDocument/2006/relationships/hyperlink" Target="mailto:dgoodman@ercot.com" TargetMode="External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ole of Account Management at ERCO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320" y="76320"/>
            <a:ext cx="2286000" cy="917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294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2286000"/>
            <a:ext cx="822960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008 ERCOT Market Participant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bruary 12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19051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33200"/>
            <a:ext cx="875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1066680"/>
            <a:ext cx="670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2895480"/>
            <a:ext cx="8762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914400"/>
            <a:ext cx="8839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inion Dynamics was contracted to conduct a primar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effort to measure Market Participa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ptions of ERCOT’s performance with respect 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ing its responsib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survey of 2004 was used to establish a baseli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6 survey was used to track against this baseline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pecific functions and issues of particular interest 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management and Market Particip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of 2008 survey will allow for continued track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ainst the baseline established through the 200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v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19051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33200"/>
            <a:ext cx="875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Scope of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1066680"/>
            <a:ext cx="670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2895480"/>
            <a:ext cx="8762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1708200"/>
            <a:ext cx="7238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cope of work for the 2008 ERCOT market participant survey effort will provide a quantitative assessment of customer perceptions of ERCOT’s performance relative to meeting customer needs, delivering market services, and providing core ISO services and compare these results to the established performance baselin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8600" algn="ctr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86000" y="2394000"/>
            <a:ext cx="4572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7240" y="123840"/>
            <a:ext cx="779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Survey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2865600"/>
            <a:ext cx="8610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51055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1066680"/>
            <a:ext cx="62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8600" algn="ctr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27720" y="3291840"/>
            <a:ext cx="548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ask 1:  Convene a project kickoff meeting with key ERCOT stak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762120"/>
            <a:ext cx="8991720" cy="51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ask 1:  Convene a project kickoff meeting with key ERCOT stakeholders (held January 22, 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onfirm the mutual understanding of the specific research objectives of the 2008 market participant survey, discuss deliverables and confirm the proposed project schedu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ask 2:  In-depth interviews with key ERCOT stakeholders and department heads (in progr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eview relevant sections of the survey instrument and identify revisions necessary based on specific issues or changes to systems or interactions with the market identified by the department hea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ask 3:  Update the existing survey s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Work with ERCOT staff to update and expand the sample of market participants that was developed and used in the 2006 survey effor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ask 4:  Revise the existing modular Internet survey instrument and field surv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ake the necessary revisions to the existing modular survey instrument developed for the 2006 year-end survey effor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ask 5:  Analyze data and develop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nalyze all quantitative data obtained and provide a final report with key findings and trend analysis to identify and explain any statistically valid differences in the quantitative results when compared to the 2004 and 2006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ask 6:  Presentation of final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19051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33200"/>
            <a:ext cx="875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Proposed Tim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066680"/>
            <a:ext cx="670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2895480"/>
            <a:ext cx="8762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1136520"/>
            <a:ext cx="838188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ckoff Mee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nuary 22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-Depth interviews with ERCOT Stakehold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bru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se sample &amp; quantitative survey instru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ch – Apr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 survey via Intern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ril – M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analysis and reporting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e –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 Report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e 13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 Repo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ly 11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algn="ctr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19051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33200"/>
            <a:ext cx="875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For More Information, Cont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1066680"/>
            <a:ext cx="670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2895480"/>
            <a:ext cx="8762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1708200"/>
            <a:ext cx="7238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ise E. Taylor, Sr. Business Project Analyst, Market Operations Divisional Project Organization (512) 248-3932 or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taylor@erc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le Goodman, Director, Market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512) 248-3966 or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dgoodman@erc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8600" algn="ctr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304920" y="228600"/>
            <a:ext cx="35384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Ques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14600" y="1828800"/>
            <a:ext cx="38098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Kate Horne</dc:creator>
  <dc:description/>
  <dc:language>en-US</dc:language>
  <cp:lastModifiedBy>DTaylor</cp:lastModifiedBy>
  <dcterms:modified xsi:type="dcterms:W3CDTF">2008-01-30T19:31:41Z</dcterms:modified>
  <cp:revision>780</cp:revision>
  <dc:subject/>
  <dc:title>Role of Account Management at ERCOT</dc:title>
</cp:coreProperties>
</file>