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3D65BE7-FCE5-4FD9-AF88-F78C74922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819440"/>
            <a:ext cx="85471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ORO Projects for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commendations by ERCO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Projects for 2008 Recommended by ERCOT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the following information is to provide a recommendation to COPS and RMS for changes to rank, priority and consolidation of the MO and RO PPL for 2008.  Market/PUCT projects ranked with highest prior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iver for these changes is a result of the unique resource and environment constraints that are present in 2008 with Nodal or other Zonal project dependen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ion of the MO and RO PPL in 2008 will assist in the management from a Market Operations Portfolio level of resources, schedules, and fun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recasted Environment Constraints for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" name="Object 2640"/>
          <p:cNvGraphicFramePr/>
          <p:nvPr/>
        </p:nvGraphicFramePr>
        <p:xfrm>
          <a:off x="482760" y="803160"/>
          <a:ext cx="8288280" cy="513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Object 26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803160"/>
                    <a:ext cx="828828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1D60155-61D6-4E6F-B9AC-175E9702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7 Carry Over – Cont’d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755640"/>
          <a:ext cx="8839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55640"/>
                    <a:ext cx="8839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152280" y="8100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7 Carry Over - Cont’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0040" y="1022400"/>
          <a:ext cx="8615520" cy="38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022400"/>
                    <a:ext cx="8615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30040" y="1398600"/>
          <a:ext cx="8615520" cy="3235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040" y="1398600"/>
                    <a:ext cx="861552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280" y="8100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2008 PPL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1109520"/>
          <a:ext cx="8813880" cy="21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09520"/>
                    <a:ext cx="88138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74840" y="3597120"/>
            <a:ext cx="84913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estions for COPS/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MS) PR80027_01 – Is this still valid as placeholder for any TX SET Changes in 2008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PS) PR40056_01 – Is this still a valid project or should this be cancelled?  If valid, doe we expect this to be started in 2008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tems Deferred to 2009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280" y="830160"/>
          <a:ext cx="8821800" cy="47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0160"/>
                    <a:ext cx="882180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tems Previously Below Line for 2008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280" y="1050840"/>
          <a:ext cx="8821800" cy="22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50840"/>
                    <a:ext cx="88218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63600" y="3606840"/>
            <a:ext cx="8610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estions/Confirmation from COPS/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60006_02 ERCOT Outage Evaluation and Resolution (TDTWG)—Phase III:  Recommend to leave as placeholder pending the results of PR60006_01 and AIX Stabiliz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60065_01 Create Retail XML Standard:  Pending Cancellation through PMO Governance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NAESB Failover – TDTWG:  Pending Cancellation through PMO Governance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08 Combined Fun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7.3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Combined 08 Forecast Spend*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4.5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 Approved for $1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Approved for $6.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Combined 08 Variance**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.8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Forecast spend includes additional budget requests from current and unplanned carry over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Variance provides funds that may be required for efforts that will arise during 2008 (Change Controls, Distribute Generation, etc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monitor 2008 project health throughout  2008 for conservative release of funds throughout the ye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RO 2008 PPL Recommendations-ERCOT – Cont’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pdate to Combined 2008 PPL Funding and Budget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atterfield</cp:lastModifiedBy>
  <dcterms:modified xsi:type="dcterms:W3CDTF">2008-02-11T20:45:57Z</dcterms:modified>
  <cp:revision>230</cp:revision>
  <dc:subject/>
  <dc:title>Texas Nodal Market Implementation ERCOT Board of Directors Meeting Budget Rationale October 17, 2006  Kathy Hager, Market Redesign Program Director </dc:title>
</cp:coreProperties>
</file>