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4BBE-1410-49AA-9E26-4173D780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02F0-EBA3-4ED3-AA06-BE35753F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1AA4-F21C-4BD0-9E7C-C532EBA6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B227-6BE8-4D6B-8762-445D192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5288-92DC-40F3-94B6-58720F9F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A7D1-FDBD-47C2-9AB0-8FE07F8D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D8A3-2D3D-4D31-B76D-FDF3DC2F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5C03-EF16-4C72-8986-0FE0721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9794-8791-4CAD-B715-4BD44635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905C-6835-48F9-9500-818E025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C444-A827-4F9F-9279-62F392EF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BC65-0D59-4A1A-9C0B-397DAD5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9809-3C39-453E-AA99-844EE87E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3AE0-1FAF-4AC6-85BE-04D43A1CF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9 Project Priorit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ebruary 12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Program Area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43C3-7D1E-4BEC-BD36-3B762C203C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– 2008 Fund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CART Fu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447920"/>
          <a:ext cx="3276720" cy="3809880"/>
        </p:xfrm>
        <a:graphic>
          <a:graphicData uri="http://schemas.openxmlformats.org/drawingml/2006/table">
            <a:tbl>
              <a:tblPr/>
              <a:tblGrid>
                <a:gridCol w="1163520"/>
                <a:gridCol w="211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8 Fu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5FCA-0709-412C-9951-3A2683CC0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9 will be a unique year for project planning due to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and type of SO/MO projects in 2009 is not ye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expects to file a fee case in ear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early budget cycle will be earlier than the typic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se factors limit our ability to produce the typical level of detail for project prioritizatio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Project Requests, CBAs, Time &amp; Cost Estima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RCOT has proposed a two phase approach to 2009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Develop high level initiatives list in ear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– Complete required documents in late 2008 for allocation of 2009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mportant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project will be allowed to proceed without all requir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th phases will be completed with market subcommittee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76BF-401A-498A-8582-F3EACF893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initiatives to include all efforts expected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RT provides as much information as it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s by pro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budget request determined by summing initiatives lis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T must stay within a range of effort that they think they can deliver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 Funding Al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 per CART determined in lat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“Previously Approved” projects initiated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provided for projects that have been defined (all docu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efforts not yet defined to be held by S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ding will be allocated as projects become ready to init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mple of Initiatives List on the next two sl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sed schedule of activities on the final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7FD1-267B-4586-B521-902582C2C0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list of high level initiatives by CART with budget rang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RCOT approval of initiatives list &amp; budget (SRT, 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approval of initiatives list &amp; budget (subcommittees, T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&amp;A and Board of Directors approval of initiatives list &amp;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2009 Divisional PPLs according to curren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of funds to CARTs for Previously Approved and know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with the funding approach outlined on sli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6051-59AE-4C0C-B33B-BD1EFBE077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250B-FC65-4BE3-95D3-15AD8B495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CB9F-ECC8-453C-9D44-3DBCDDC819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2-06T14:22:46Z</dcterms:modified>
  <cp:revision>181</cp:revision>
  <dc:subject/>
  <dc:title>Instructions</dc:title>
</cp:coreProperties>
</file>