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6BCA-AD29-4E07-9600-0FBC6823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597A-CC94-4090-B009-6120111B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0A8D-6775-4FCB-800A-0E5AA301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583-3412-42DA-9FB7-371FBC8F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4F7B-E7C5-40DB-AF79-0DE60B52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0435-F3BE-4C29-A09E-1E8C1FBD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19DC-F166-4EE5-A1AE-F1829AE4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5E3C-541E-4AE3-A982-50902185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72EC-7407-4B77-B9AB-4EB98760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753D-314D-4D32-8F2F-37DA6CDA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8FC5-BF69-4762-A4AD-CE92061F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AD0-3E87-437D-B087-0F614544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7FD8-19EC-4359-9C8D-656F1494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5623-4144-4636-B7B4-3399D06F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9122-BBB2-4BF3-ADE7-B3E4956B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C0FE-9C55-45E1-952B-B73768FF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E3E7-0054-4DE3-9CDD-6148E7CC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8AE8-8055-432B-9094-9F1F18B3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135-259B-40C2-8D62-D52BFFDA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E1B7-3C68-4F9C-B78D-920392DC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84D-255E-4AC8-AF43-CDBAFFAA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360-7978-4998-B9B3-8A046DCD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080-49FE-4309-B170-647FB69D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70B-B707-49ED-8709-9526B613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ABF0-5C13-49E4-B35E-A8C58CE09A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68EA-3003-4B58-AAF7-93BC388E82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January 25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WG 2008 Leadership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 – Michelle Tr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ce-Chair – Jennifer Freder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January 25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to work on COPMG outline and Nodal Section and Sub-section con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a Section with a description of the COPS and COPS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MGRR – This revision request renames Section 4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rket No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mun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ection 4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rk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dds Sub-Section 4.2, Demand Respons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January 25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25th at ERCO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:30am – 12:3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tion of COPMG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Michelle Trenary</cp:lastModifiedBy>
  <dcterms:modified xsi:type="dcterms:W3CDTF">2008-02-01T21:04:19Z</dcterms:modified>
  <cp:revision>43</cp:revision>
  <dc:subject/>
  <dc:title>CCWG 2006 Accomplish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