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D3EB-9C74-400D-A259-52638C6DB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27CF-87BA-4690-AE1F-DA2407385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40DC-8E53-414C-8833-FA5227118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98072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4110480"/>
            <a:ext cx="24778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1D21-DC17-42E5-AE52-890A30C9E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46D4-E425-4B42-84B4-9F8326139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132E-6F5E-4CC5-B7E1-D94B0B5D1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18B3-48BB-4878-BE09-44C1D300B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7761-4623-4502-AFAF-AEDF36CC5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380880"/>
            <a:ext cx="7081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7F3E-C20A-494D-B16C-6576947B1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E706-1D3A-494D-BD1D-8FAD9A937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411048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0FEB-88A4-4D6B-A114-8DE140750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980720"/>
            <a:ext cx="375552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1048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733D-3362-41CB-99E9-EE494F45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Click to edit the title text format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69608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e7d1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cb2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e7d1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c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AEE3-761A-4596-B1A6-A9CA4F7B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4479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295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cb2"/>
                </a:solidFill>
                <a:latin typeface="Book Antiqua"/>
              </a:rPr>
              <a:t>Quantifying Demand Reduction for Load Control Measures</a:t>
            </a:r>
            <a:endParaRPr b="0" i="1" lang="en-US" sz="32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yle He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ontier Associates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721B-BD56-476D-B1E1-61B91A19C5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Summary of Deemed Savings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981080"/>
          <a:ext cx="7315200" cy="3352680"/>
        </p:xfrm>
        <a:graphic>
          <a:graphicData uri="http://schemas.openxmlformats.org/drawingml/2006/table">
            <a:tbl>
              <a:tblPr/>
              <a:tblGrid>
                <a:gridCol w="4343400"/>
                <a:gridCol w="2971800"/>
              </a:tblGrid>
              <a:tr h="70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emed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1: Res, Single Family, AC, 33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2: Res, Multifamily, AC, 33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3:  Res, Single Family, Pool Pump, 100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4:  Res, Single Family, Electric Water Heater, 100% cyc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E134-C0E7-42FD-9199-33A84C42BA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Proposed Bridge Solution Programs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 Res, Single 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:  Res, Multi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:  Res, Single Family, Pool Pump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4:  Res, Single Family, Electric Water Heater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cb2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5: Commercial,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e7d1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207C-D4A5-48AA-B981-36357AAE4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1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5238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 Res, Single 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62120" y="2057400"/>
          <a:ext cx="7315200" cy="24382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in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&amp;P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Simulation PSCO (Xcel Colorado)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85800" y="457200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kW savings numbers presented for proposed programs account for diversity and assume control during summer system peak periods (Avg. of Hours ending 16 through 19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/- 0.14 kW; Based upon 50% cycling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RI Simplified Energy Analysis for Residential Buildings (ESPRE) modeling calibrated to PSCO Metering data and Building Characterist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brated to Texas Metering data and Building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DF11-8739-4D73-A09E-A9AC154372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3911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cb2"/>
                </a:solidFill>
                <a:latin typeface="Book Antiqua"/>
              </a:rPr>
              <a:t>AC Load Curve: Peak Day PSCO (Xcel Energy) </a:t>
            </a:r>
            <a:endParaRPr b="0" i="1" lang="en-US" sz="28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8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14DC-A7A4-4E08-98CC-3D8EE1C05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2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96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:  Res, Multifamily, AC, 33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2286000"/>
          <a:ext cx="7315200" cy="15238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51240" y="388620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alibrated to Texas Metering data and Build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F256-8AE3-4409-86F6-65F02BD416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3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523880"/>
            <a:ext cx="7696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:  Res, Single Family, Pool Pump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2590920"/>
          <a:ext cx="7315200" cy="1523880"/>
        </p:xfrm>
        <a:graphic>
          <a:graphicData uri="http://schemas.openxmlformats.org/drawingml/2006/table">
            <a:tbl>
              <a:tblPr/>
              <a:tblGrid>
                <a:gridCol w="5486400"/>
                <a:gridCol w="182880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 PG&amp;E Pool Pump Program Evaluation by A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A0B6-0551-4300-A746-DA4C2D086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3911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cb2"/>
                </a:solidFill>
                <a:latin typeface="Book Antiqua"/>
              </a:rPr>
              <a:t>Pool Pump Load Curve: 2001 PG&amp;E Study </a:t>
            </a:r>
            <a:endParaRPr b="0" i="1" lang="en-US" sz="28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738440"/>
            <a:ext cx="7696080" cy="390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18 is the average kW of pool pumps in PG&amp;E service territory: Adjusted for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5A96-5196-40E1-880D-47E3E94931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Demand Reduction: Program 4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4:  Res, Single Family, Electric Water Heater, 100%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590920"/>
          <a:ext cx="7315200" cy="1523880"/>
        </p:xfrm>
        <a:graphic>
          <a:graphicData uri="http://schemas.openxmlformats.org/drawingml/2006/table">
            <a:tbl>
              <a:tblPr/>
              <a:tblGrid>
                <a:gridCol w="5105160"/>
                <a:gridCol w="2210040"/>
              </a:tblGrid>
              <a:tr h="91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 Saving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RE Load Control Simulation, Texa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05240" y="4191120"/>
            <a:ext cx="599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alibrated to Texas Metering data and Building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F2C6-BF6F-41D3-92CB-0FB6E643F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156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cb2"/>
                </a:solidFill>
                <a:latin typeface="Book Antiqua"/>
              </a:rPr>
              <a:t>Water Heater Curves by Month</a:t>
            </a:r>
            <a:endParaRPr b="0" i="1" lang="en-US" sz="3600" spc="-1" strike="noStrike">
              <a:solidFill>
                <a:srgbClr val="002cb2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406404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1314360"/>
            <a:ext cx="6219720" cy="508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3733920"/>
            <a:ext cx="838080" cy="76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32BA-7BFA-4675-95EC-F26B520A32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1T17:53:00Z</dcterms:created>
  <dc:creator>gaye rusenas</dc:creator>
  <dc:description/>
  <dc:language>en-US</dc:language>
  <cp:lastModifiedBy>Kyle Hemmi</cp:lastModifiedBy>
  <cp:lastPrinted>1999-06-10T21:04:43Z</cp:lastPrinted>
  <dcterms:modified xsi:type="dcterms:W3CDTF">2008-02-08T16:27:37Z</dcterms:modified>
  <cp:revision>222</cp:revision>
  <dc:subject/>
  <dc:title>Planergy Pro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Inetpub\wwwroot\pucdev\electric\projects\22241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405298140</vt:r8>
  </property>
  <property fmtid="{D5CDD505-2E9C-101B-9397-08002B2CF9AE}" pid="23" name="_AuthorEmail">
    <vt:lpwstr>khemmi@frontierassoc.com</vt:lpwstr>
  </property>
  <property fmtid="{D5CDD505-2E9C-101B-9397-08002B2CF9AE}" pid="24" name="_AuthorEmailDisplayName">
    <vt:lpwstr>Kyle Hemmi - Office</vt:lpwstr>
  </property>
  <property fmtid="{D5CDD505-2E9C-101B-9397-08002B2CF9AE}" pid="25" name="_EmailSubject">
    <vt:lpwstr>DRTF Presentation</vt:lpwstr>
  </property>
</Properties>
</file>