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6DA-2C2D-4942-BD44-9F87175B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FDE8-C57E-4B61-A286-1E03DDCA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13A3-917D-4FCD-989C-0EE7D9DD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A3F-99EA-4D73-96E4-D709E736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84D7-3468-44CD-A9D7-0B1E08E3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9A4-3011-4224-A6BC-FFF4EB85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54FD-70D3-4463-8F89-1D810012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674-8797-446A-89B5-2047EFD5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D00E-F320-4856-8709-66B48316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1E10-B0A2-41EC-B4A6-4678B5CB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33A5-B88A-47BB-950B-E78B61EC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305A-AA2F-49FF-B174-8133384A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B5D6-A7BC-44FD-8266-FB5FE6259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ebruary 7, 20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471B-6F44-4C5B-B6B3-4534591341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Leadership 2008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P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ir – Lee Starr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ry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ce Chair – Chuck Moore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rect Ener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ir – Ernie Podraza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rect Ener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ce Chair – Brad Boles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irro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C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ir – Michelle Trenary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naska Power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ce Chair – Jennifer Frederick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rect Ener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AF71-76EE-45C1-8982-DF3F111225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3920" y="-5608440"/>
            <a:ext cx="2286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DA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ir – Eric Goff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nstellation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ce Chair – Heather Boisseau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C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ir – James Galvin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umin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ce Chair – Heddie Lookadoo,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RG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B9B-2E4C-4B32-ADA6-55B11A300D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5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/07/08 TAC Update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W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WG is seeking additional clarification and understanding related to recent extract del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WG members are working to complete the extract and data S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DA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ing COMS nodal extract delivery and schedul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entrating on EDS 4 testing - settlements and data delivery requir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AEC-CCD7-4A3F-A5FB-9901D8C268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/07/08 TAC Updat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ing with DRTF to support the implementation of a demand respons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mitting to COPS at the February 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eting their recommendations in response to TAC’s Request for a profile solution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as per the DGTF recommendation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RT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mand Response Task Force has discussed a proposed interim solution and is drafting a PRR for COPS to review and provide input at the  February 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e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37B4-E2CE-41B5-A223-CC10D8FFB3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PS – 2008 Goal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P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ived goals from each “Working Group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S anticipates adopting goals at the February 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eeting that supp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l  Working Group Goal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put from TAC at the February 8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retreat; an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rovide support required to implement the new Nodal Market and Distributed Generation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DFF3-CDE2-408F-8B78-6D4DA138FC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PS -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Working Group Goal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C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 COPMG and incorporate Nodal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DA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information and data structures for successful  Testing of Nodal Financial Settlement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 input and recommendations regarding Nodal Financial Settlement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various Nodal NPRR’s for their impact upon the Settlement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itor and review extract and data delivery iss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te the Service Level Agreement (SLA) for extract and data delivery expec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09840" y="31082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011-344E-4959-B751-4186BF2463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4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PS -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Working Group Goal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763120" cy="510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23B8-C359-4170-9B4A-F5B864D701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116-E392-4202-A6B1-F5E3DACA48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balbracht</cp:lastModifiedBy>
  <dcterms:modified xsi:type="dcterms:W3CDTF">2008-02-05T16:32:46Z</dcterms:modified>
  <cp:revision>255</cp:revision>
  <dc:subject/>
  <dc:title>Point-to-Point</dc:title>
</cp:coreProperties>
</file>