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8BD-A827-4D3A-84AB-0632DD81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C34-3FF9-45AF-BFAA-D500BF0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25F-8E2D-4972-9ACE-C817DCFA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1E6-8F86-4AA4-B3A8-B0A15E6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998A-5BD1-4C59-8338-5AC9CF35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021F-535F-43C6-9CFF-27CD2F9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B382-A195-4859-9BB4-8667CEA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A87B-DFBF-46B9-BAD5-5A4C881E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51D-0640-4DA5-87FE-1B434E5F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B9F-0A4D-42A7-AD8B-1759BAB4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050D-5234-4527-B4DC-2E90F50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364-61B0-45AC-8209-9D9AE63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452E-C55C-4BD0-845A-EBE4E80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FF13-7051-4FD2-B70F-EA4ADF6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CF88-B205-4522-9DCC-DEFE0C9E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FB3-6FEB-437B-83C7-F33909B0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5090-02B9-420B-83DE-8205F5CC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052-ACC5-434B-9992-3DC72418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4A9-7CD7-43FC-824C-8A1FFC99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DAC-6F06-4053-8EA7-BBEA9EF0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809-06EF-4F1E-8A5B-067D4E87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C4B-27AF-4A47-9946-3D379BF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DAA-0A0E-4AE9-8CC4-3164473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90B-0108-4C7A-8083-B4129CE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325C-C020-49F3-81B0-0A082004F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85F6-8D17-4098-B71A-36DD075B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emand Response Task Forc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ebruary 2008 Upd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Term Only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“bridge” to long term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ize Energy Impac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e “deemed” impac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ize Paymen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CRs get a credit for that day based on “deemed”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 (cont.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Program Particip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0 ESIIDs per participating 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Market Load limit of 100 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Number of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s limited to calling 1 DR Day per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1 DR Day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ation &amp; Ver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CRs file attestations with ERC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grams &amp; Deemed Impac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708660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gram #Program DescriptionDeemed Load Reduc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Residential, Single Family, AC, 33% Cycling*1.0 kW2Residential, Single Family, Pool Pump, 100% Cycling0.33 kW3Residential, Multifamily, AC, 33% Cycling0.65 kW4Residential, Single Family, Electric Water Heater, 100% Cycling0.35 k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905120"/>
          <a:ext cx="7696080" cy="4039920"/>
        </p:xfrm>
        <a:graphic>
          <a:graphicData uri="http://schemas.openxmlformats.org/drawingml/2006/table">
            <a:tbl>
              <a:tblPr/>
              <a:tblGrid>
                <a:gridCol w="1098360"/>
                <a:gridCol w="5208480"/>
                <a:gridCol w="1389240"/>
              </a:tblGrid>
              <a:tr h="105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emed Load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Single Family, AC, 33% Cycling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Single Family, Pool Pump, 100% Cyc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Multifamily, AC, 33% Cyc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5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, Single Family, Electric Water Heater, 100% Cyc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1:  CR calls ERCOT Client Relations to initiate DR D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call by 4:00 PM the day bef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2:  ERCOT notices the market via ERCOT. com and ema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ew distribution list will be cre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3:  CRs conduct DR events on DR d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4: CRs provide ERCOT with lists of participating ESI IDS via MarkeTra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 DUNS, ESI IDs, Program ID and Intervals load was curt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5:  ERCOT validates list of ESI IDs to verify Rep of Reco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s discrepancies via MarkeTr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cess 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6:  ERCOT calculates preliminary Deem Load Red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spreadsheets to participating C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ep 7: ERCOT performs calculations during Final settlements proc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657600"/>
            <a:ext cx="76320" cy="763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xt Steps for Demand Respons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Ter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GMRR filed as urgent and up for vote this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R will be filed as urgent after COPS and RMS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i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CT Staff has asked that the Advanced Metering Implementation Team be allowed to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05:10Z</dcterms:created>
  <dc:creator>DRTF</dc:creator>
  <dc:description/>
  <dc:language>en-US</dc:language>
  <cp:lastModifiedBy>DRTF013008</cp:lastModifiedBy>
  <dcterms:modified xsi:type="dcterms:W3CDTF">2008-02-04T21:20:26Z</dcterms:modified>
  <cp:revision>24</cp:revision>
  <dc:subject/>
  <dc:title>Demand Response Task Force</dc:title>
</cp:coreProperties>
</file>