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998C-FA3F-401B-BA98-84905A0344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3D8A-3DA8-4D3A-AAFD-842F9F55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ADC3-D01C-487C-934C-8B7474CC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24D0-6B87-45B6-9A3B-9B87763498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DFD-5CCB-4601-9013-C5EF496180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3F2-3B7C-4B29-8449-6FA7A959F0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6DD-499D-4202-8585-BB1ED889D7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B32-2EB9-4951-82AC-1AF6515520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21C-0D6B-4928-AF79-5F89B2B638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D1B-BFA4-47F1-A37C-52F31FB9AF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E25-CB26-4F79-BB0C-D63D34CDCD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A625-2217-4B70-9241-CDBFB261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CEE-7C02-4958-A159-560866A39D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2B7-7BEC-4911-9489-6D617670B7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907-5227-4026-9F89-2738508359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FCD-40BC-4068-8A39-BDF41DA7DC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124-5429-4BAF-8A7E-797C049CAC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3DC93-120E-47AB-9CD4-C4FFB21B10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CD12C-1E21-41BD-81C7-0B102AF9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E9518-4270-4855-BCA4-A3EDAC34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D7154-76C9-47B6-A3C3-D0F616F4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A71C3-D173-4147-8753-5F371EAA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F050-FBF5-4979-806F-B7CEA839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7A7B1-DACD-4709-9B11-D8595630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8EDF0-7C99-4AD9-B7AB-73E3A51D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B9E34-BA7C-4B67-B5CA-AE10EAF2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FE1D8-ADCA-43C6-B4B7-4CDEC522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9A875-E43F-4035-9D85-1E52C74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1E3CB-6718-4632-9351-DA8A587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9EA2C-E1A7-4264-82D9-12EF816D62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7B65-48F4-4D14-ACC0-6A432B30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BDE1-6AFC-4F59-94B8-BFECEA56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757F-7934-45B7-84E6-02AB10B0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8256-504A-4A2D-8408-00B3D87F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91511-EA80-428A-AA1F-3E2BD1D0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915C-D292-4DBD-86D7-29CEE406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24C9-1053-4F32-AEF3-ED6D89D1D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0EB6-DDA3-410B-AA4E-723E581F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C5A6-01DB-4757-B954-CF68DB2C9F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ebruary 1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09C6-86C1-4611-BEBD-04FA9A94C7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4495680"/>
            <a:ext cx="8001000" cy="157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8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.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dnesday of the month for Mar. –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3000-AC1E-4424-8CEB-72A82AF5D4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8288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Leadership was re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nie Podraza -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d Boles –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8B82-98A1-4A11-9B7F-3000D2F7A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1371600"/>
            <a:ext cx="84582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Updated PWG 2008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(not ranked by prior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81040" y="2209680"/>
            <a:ext cx="798336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93C1-0EAA-4871-8E8E-0D553A4755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920" y="1590840"/>
            <a:ext cx="6972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Trac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 New Installations as of Jan. 23, 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09800" y="2343240"/>
            <a:ext cx="712440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9D87-0C6F-45E3-88D6-B288046816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423800"/>
            <a:ext cx="69454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2 Sample Point Installation Trac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 New Installations Plus Retained Sample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09800" y="2181240"/>
            <a:ext cx="7124400" cy="40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E4A1-D460-4384-8E40-4863376487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1393920"/>
            <a:ext cx="861048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Respons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Response Task Force (DRTF) is writing market language for the Bridge (short) Solution of summer of 2008 imple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WG recommends the COPS withdraw PRR73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WG has withdrawn LPGRR02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PWG requests guidance from the COPS as to whether and on what timeline to continue to develop a long term DR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 the non-consensus impasse on how to implement new profiles id assignments still exists with no simple or inexpensive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B657-0F2E-4AAB-8682-3362126319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393920"/>
            <a:ext cx="86104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olar Profil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tus after the PWG meeting Jan.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WG reviewed the DGTF recommendat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hannel capable meters (inflow and outflow readings)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867 “information only” field shall be used for the outf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ossible short term solutions pending ERCOT final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possible PWG suggestion which ERCOT is investig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ing several new residential profiles based on the size of the installed solar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ing a separate solar profile for the outf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ing needed PRR and LPGR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 shall submit to ERCOT the Interconnect Agreement to be used for ESIID identification, verification, and solar panel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61C0-4DAD-4038-AB14-7F2C30962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1393920"/>
            <a:ext cx="861048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olar Profile Update –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tus after the PWG conference call Feb.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proposal not viable by 1/1/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possible PWG suggestion which ERCOT is investig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ing several new residential profiles based on the size of the installed solar 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outflow energy would be a negative load d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ing needed PRR and LPGR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 shall submit to ERCOT the ESIID identification, Distributive Generation (DG) Type and kW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ement solution to include solar, wind or other DG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5171-0814-4A3D-B8C0-C9736A9EBA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393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olar Profile Update –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PWG conference call Feb.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fifth option proposed on Feb.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D84E4-957D-44E1-BE33-DFD8CF6333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8-02-06T15:05:34Z</dcterms:modified>
  <cp:revision>292</cp:revision>
  <dc:subject/>
  <dc:title>PowerPoint Presentation</dc:title>
</cp:coreProperties>
</file>