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C116-B3F4-4E37-9E64-2879C34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A90B-4AA0-4CBC-83CA-7F5C316F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C477-607E-4A84-9501-B7FD48DE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CD01-EB2D-4BAF-9014-859261DF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E3D5-D08B-4CFE-B7C9-94F397B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6D18-1F40-4421-8481-1C854C0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6EA7-C656-48B9-B9E8-4DD86E1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2ADF-3272-4E5E-80D3-D2D2972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8CE5-7826-41B1-844D-CB8267E6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FA02-5919-4EE9-905E-209C53C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6C65-00C4-4E84-A366-20E68E8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3D51-6FB2-47D7-81DC-9F65CC1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7FC-F8E0-4839-B7ED-80D22E12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946-3954-408A-942E-897B0B87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T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7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5297-EB4B-414D-9D01-BA995C84CA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rogram Area Financials - 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Program Area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FCCE-4CDA-4CA0-B913-AC42F12AB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Results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***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Preliminary  *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371600"/>
          <a:ext cx="8458200" cy="3733920"/>
        </p:xfrm>
        <a:graphic>
          <a:graphicData uri="http://schemas.openxmlformats.org/drawingml/2006/table">
            <a:tbl>
              <a:tblPr/>
              <a:tblGrid>
                <a:gridCol w="854280"/>
                <a:gridCol w="1550880"/>
                <a:gridCol w="1552680"/>
                <a:gridCol w="1628640"/>
                <a:gridCol w="150012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ct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96,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71,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9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,6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3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96,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338,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8,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1,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2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8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21,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0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50,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45,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05,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950,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57,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,842,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52280" y="5486400"/>
            <a:ext cx="8763120" cy="6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tabLst>
                <a:tab algn="l" pos="0"/>
                <a:tab algn="l" pos="744480"/>
                <a:tab algn="l" pos="914400"/>
                <a:tab algn="l" pos="1600200"/>
                <a:tab algn="l" pos="331956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= Corporate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 = Market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= Syste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tabLst>
                <a:tab algn="l" pos="0"/>
                <a:tab algn="l" pos="744480"/>
                <a:tab algn="l" pos="914400"/>
                <a:tab algn="l" pos="1600200"/>
                <a:tab algn="l" pos="331956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 = IT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 = Retail Oper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al = Zonal/Nodal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E750-583D-48D5-AA93-70C910804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MO Update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Budget Transfers Between CA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Funding Transfers = $7.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371600"/>
          <a:ext cx="1676160" cy="4481640"/>
        </p:xfrm>
        <a:graphic>
          <a:graphicData uri="http://schemas.openxmlformats.org/drawingml/2006/table">
            <a:tbl>
              <a:tblPr/>
              <a:tblGrid>
                <a:gridCol w="752400"/>
                <a:gridCol w="923760"/>
              </a:tblGrid>
              <a:tr h="3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9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90920" y="1371600"/>
          <a:ext cx="6392880" cy="4861080"/>
        </p:xfrm>
        <a:graphic>
          <a:graphicData uri="http://schemas.openxmlformats.org/drawingml/2006/table">
            <a:tbl>
              <a:tblPr/>
              <a:tblGrid>
                <a:gridCol w="1066680"/>
                <a:gridCol w="4343400"/>
                <a:gridCol w="98280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ransfer to IO, 1 deferral to 2008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erver upgrad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 SET 2.1 release of excess f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 project funding returned to S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of excess funds on 2 projects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 2007 and Unit Test Submittal Via Web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2 Facility Build-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Room Projector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e Refresh, Storage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infrastructure items that became necessary over the course of the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2D58-32F1-4385-BCA9-EAD05AAF7B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8 Fu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28800" y="1447920"/>
          <a:ext cx="3276720" cy="3809880"/>
        </p:xfrm>
        <a:graphic>
          <a:graphicData uri="http://schemas.openxmlformats.org/drawingml/2006/table">
            <a:tbl>
              <a:tblPr/>
              <a:tblGrid>
                <a:gridCol w="116352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8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B48C-67D8-423B-877F-F5834A1F9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budget cycle will be earlier than the typic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se factors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has proposed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1B6C-125F-401B-A11A-CE1B86FEF4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to include all effort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ust stay within a range of effort that they think they can deliver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mple of Initiatives List on the next two sl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schedule of activities on the final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5165-668B-4241-9B4F-B64FCE112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13F3-5541-4765-A729-F958915692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5EE9-1BC8-4AAC-B10C-7DEF5EFB2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2-07T00:17:02Z</dcterms:modified>
  <cp:revision>181</cp:revision>
  <dc:subject/>
  <dc:title>Instructions</dc:title>
</cp:coreProperties>
</file>