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3F7-47EE-4D02-A0B2-AA8854A3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ECC4-2D37-494C-ABEB-5F630A62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CAD8-CD5F-462C-97EB-9E09567D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1C9-7F44-4E3B-B64D-1D5CA5EE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F8D-37F1-4CC0-9FED-9172A3E1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036-CC3B-4AAA-B112-3D1CAF82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91D-324B-4E51-A114-BDAB3BA6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6C35-C9B8-4558-A49C-EF483AB4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2031-57B7-4416-A210-33893E8A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7FE-543E-456E-8AFA-36B45CD0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958-859E-46BC-A6E8-B1EF3AD0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9622-0EA2-4E45-A9F7-4668C876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338B-EF05-4808-A4F7-C9C834DB5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lesale Market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TAC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. 7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J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omac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-In Wholesale Price Tr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5080" y="1371600"/>
            <a:ext cx="86738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 BES Deployments vs. P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2236680"/>
            <a:ext cx="4419720" cy="302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8320" y="2236680"/>
            <a:ext cx="4419360" cy="3019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7640" y="1828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97200" y="1828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ker Net Mar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30240" y="1357200"/>
            <a:ext cx="743580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Alert Interval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 2007 – Ja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3850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pin Deployment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 2007 – Ja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486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g. ARRS and Spinning Reserve During On-Peak Hour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 2007 – Ja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05000" y="1981080"/>
            <a:ext cx="6315120" cy="4391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4343040" y="3505320"/>
            <a:ext cx="7621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343040" y="3676680"/>
            <a:ext cx="7621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83080" y="3498840"/>
            <a:ext cx="3240" cy="1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56160" y="3479760"/>
            <a:ext cx="38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19640" y="2424240"/>
            <a:ext cx="149544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329000" y="2647800"/>
            <a:ext cx="1486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68680" y="2432160"/>
            <a:ext cx="324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41760" y="2422440"/>
            <a:ext cx="38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S Implied Heat Rate and Average Daily 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6100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 and A/S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6600" y="1308240"/>
            <a:ext cx="794052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8:14:26Z</dcterms:created>
  <dc:creator>dan</dc:creator>
  <dc:description/>
  <dc:language>en-US</dc:language>
  <cp:lastModifiedBy>dan</cp:lastModifiedBy>
  <dcterms:modified xsi:type="dcterms:W3CDTF">2008-02-04T22:15:21Z</dcterms:modified>
  <cp:revision>14</cp:revision>
  <dc:subject/>
  <dc:title>Slide 1</dc:title>
</cp:coreProperties>
</file>