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7, 2008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9400" y="647712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6D35B1-8632-4DD2-9E85-5997713BBA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14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Dynamics was contracted to conduct a pri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ffort to measure Market Particip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 of ERCOT’s performance with resp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it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rvey of 2004 was used to establish a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survey was used to track against this bas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ic functions and issues of particular interes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agement and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2008 survey will allow for continued tra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the baseline established through the 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work for the 2008 ERCOT market participant survey effort will provide a quantitative assessment of customer perceptions of ERCOT’s performance relative to meeting customer needs, delivering market services, and providing core ISO services and compare these results to the established performance basel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3940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0" y="12384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urve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86560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066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7720" y="329184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762120"/>
            <a:ext cx="89917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1:  Convene a project kickoff meeting with key ERCOT stakeholders (held January 22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firm the mutual understanding of the specific research objectives of the 2008 market participant survey, discuss deliverables and confirm the proposed project 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2:  In-depth interviews with key ERCOT stakeholders and department heads 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view relevant sections of the survey instrument and identify revisions necessary based on specific issues or changes to systems or interactions with the market identified by the department h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3:  Update the existing survey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ork with ERCOT staff to update and expand the sample of market participants that was developed and used in the 2006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4:  Revise the existing modular Internet survey instrument and field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necessary revisions to the existing modular survey instrument developed for the 2006 year-end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5:  Analyze data and develop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alyze all quantitative data obtained and provide a final report with key findings and trend analysis to identify and explain any statistically valid differences in the quantitative results when compared to the 2004 and 2006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6:  Presentation of fin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roposed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36520"/>
            <a:ext cx="8381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rviews with ERCOT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sample &amp; quantitative survey instru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rvey via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and reporting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 More Information,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se E. Taylor, Sr. Business Project Analyst, Market Operations Divisional Project Organization 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2-06T18:12:25Z</dcterms:modified>
  <cp:revision>782</cp:revision>
  <dc:subject/>
  <dc:title>Role of Account Management at ERCOT</dc:title>
</cp:coreProperties>
</file>