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4C0-820D-431A-A651-D86696BB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A43-AD14-47F4-9257-B9CA82E8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C1B-8BD5-43B6-B8E6-6BDB3189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735-3303-4EBF-A687-8C75301D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3581-156D-43AC-B8D0-82B24D62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5925-B7B9-4B79-8FD2-86CFF2E4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74D7-491D-4B78-81D4-4F1EF78F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C295-45B7-4001-A485-69D240FD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57CC-8634-44D2-B752-4C4F74FC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A029-06D4-4F0D-80CE-011CA381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7CFE-DA65-4DF2-BB80-E67CF209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A83-0D3D-4806-A2EE-5DCA1F7D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FDE8-9903-47E7-9135-B3FE5F52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F652-7174-4C13-AEDF-FE850A9B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0762-8792-433A-B366-2829D6D7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3410-53BE-4F4B-AE7B-3D8763D5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AC5F-C034-47EA-9605-DCCD405E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180-3D48-4F36-BDE8-443B7E1C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CE0-C49D-4254-BFAB-45B7839A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00F-A5C8-43D7-9775-92179866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85F-F157-4BEC-B17C-12F9DC59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109-56C2-4259-970B-878982AE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4B1-95F9-4400-B5D7-E6F310FC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861-FFB1-406D-8AEA-BC9B2912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5172-F6E7-46F4-82AB-B7DE94B5D9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0F68-7911-4640-8C79-A82F2E56F78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Stakeholder Credit Working Group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2590920"/>
            <a:ext cx="754380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Lucida Sans"/>
                <a:ea typeface="Arial"/>
              </a:rPr>
              <a:t>Governance Overvie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RCOT TAC Meet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/07/08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 Jon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E14-B3FF-4DB5-BDBF-33B92F3C2E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verview of Other Markets’ CWG Reporting Structur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62120" y="1600200"/>
          <a:ext cx="7772400" cy="4800240"/>
        </p:xfrm>
        <a:graphic>
          <a:graphicData uri="http://schemas.openxmlformats.org/drawingml/2006/table">
            <a:tbl>
              <a:tblPr/>
              <a:tblGrid>
                <a:gridCol w="2103480"/>
                <a:gridCol w="1942920"/>
                <a:gridCol w="1782720"/>
                <a:gridCol w="194328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JM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SO-N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Y-IS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S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bers’ Committe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ipants’ Committe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gement Committe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isory Committe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 Implementation Committe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get &amp; Finance Subcommittee (MPs Chair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Issues Committe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 Subcommitte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Working Group (Staff Chairs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Practices Task Force (MPs Chair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Practices Working Group (MPs Chair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8A2-5B61-40F1-93BF-4EA2AE3B20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685800" y="1600200"/>
          <a:ext cx="8001000" cy="4800240"/>
        </p:xfrm>
        <a:graphic>
          <a:graphicData uri="http://schemas.openxmlformats.org/drawingml/2006/table">
            <a:tbl>
              <a:tblPr/>
              <a:tblGrid>
                <a:gridCol w="2525760"/>
                <a:gridCol w="1938240"/>
                <a:gridCol w="1711440"/>
                <a:gridCol w="182556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IS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ESO-Albert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RCO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/Members’ Committe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No Stakeholder Process for Credit Issues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e Committee (BOD &amp; Elected Member Mix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olesale Marke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es Task Forc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 F&amp;A Committe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Task Force (MPs Chair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SubGrou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Working Group (MPs Chair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335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verview of Other Markets’ CWG Reporting Structure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cont’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8CB-A52C-4530-AC64-5D5A615C4B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01:13Z</dcterms:created>
  <dc:creator>rajones</dc:creator>
  <dc:description/>
  <dc:language>en-US</dc:language>
  <cp:lastModifiedBy>Randy Jones</cp:lastModifiedBy>
  <dcterms:modified xsi:type="dcterms:W3CDTF">2008-02-07T02:16:54Z</dcterms:modified>
  <cp:revision>19</cp:revision>
  <dc:subject/>
  <dc:title>ERCOT Market Transition From Zonal to Nodal Design</dc:title>
</cp:coreProperties>
</file>