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97188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883116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0C2C-CC5C-4B00-856C-B1D079912E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AB34-3771-4916-9EC4-99297B9C1D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62D0-2251-4B93-8CF3-189D2C321A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0892-176F-428A-BFDB-B450C6E42B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13EC-E23C-4490-88CF-77B15857F2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9DBF-B4B3-478D-8564-E175641947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1610-7B9F-4112-BE44-C1DE60D467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B9CC-1C8E-4A30-9400-E604AF509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C8A7-B74E-4C03-8059-71D4B797D7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0A80-4B86-430F-A360-31A7B00A9E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3C2B-C643-4255-AE7B-BAD50B46B9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24BD-DCC5-4F3E-BC29-A3A100DA28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777C-C0D8-4820-8EA7-4779ECC40F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5734-EAD7-4224-AAD4-88BCD8694D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6531-A506-4860-9156-6BC9635375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C37B-82BA-4E59-B56B-EA5471DFA7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5999-8FB2-481D-B021-61527F9A75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92ED-678D-4119-BE54-6CC8E04036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C74E-CC86-4CDB-93BD-546E7AAC8C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2378-3C12-40A3-A32C-18117144B1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C0D0-FC38-4A2F-A7FB-0A94DBFBC2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B41F-4CF5-4280-8263-D8E579156E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319E-BBB8-41BC-8C01-7BBA9E6508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E656-E667-475B-A74F-4DA0C4CF36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9585-6B4D-4F6F-A19C-40BA260030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1AA3-2191-4C92-B0C4-D3BA4DDD2D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5428-D629-4141-B906-BCB15C9DF9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1993-8188-47CA-97CD-D6B5D6F0FD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C9902FE-77B7-4F95-A054-E24B98B5F4D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B38C359-D6AA-4FF3-A71A-E51C6A71CAD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February 7, 2008</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55" name="Picture 5" descr="logo"/>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409F788-A19E-43FF-86CD-4D5B5781EF9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 (continued)</a:t>
            </a:r>
            <a:endParaRPr b="0" lang="en-US" sz="1800" spc="-1" strike="noStrike">
              <a:solidFill>
                <a:srgbClr val="000000"/>
              </a:solidFill>
              <a:latin typeface="Arial"/>
            </a:endParaRPr>
          </a:p>
        </p:txBody>
      </p:sp>
      <p:sp>
        <p:nvSpPr>
          <p:cNvPr id="89" name="Text Box 6"/>
          <p:cNvSpPr/>
          <p:nvPr/>
        </p:nvSpPr>
        <p:spPr>
          <a:xfrm>
            <a:off x="380880" y="770040"/>
            <a:ext cx="8077320" cy="5316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anuary 8 vote continued:</a:t>
            </a:r>
            <a:endParaRPr b="0" lang="en-US" sz="1600" spc="-1" strike="noStrike">
              <a:solidFill>
                <a:srgbClr val="000000"/>
              </a:solidFill>
              <a:latin typeface="Arial"/>
            </a:endParaRPr>
          </a:p>
          <a:p>
            <a:pPr lvl="1" marL="457200">
              <a:lnSpc>
                <a:spcPct val="85000"/>
              </a:lnSpc>
              <a:spcBef>
                <a:spcPts val="56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500" spc="-1" strike="noStrike" u="sng">
                <a:solidFill>
                  <a:srgbClr val="000000"/>
                </a:solidFill>
                <a:uFillTx/>
                <a:latin typeface="Arial"/>
              </a:rPr>
              <a:t>Contingency Metrics</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7 - Contingency Plan Procedures for a Backup Facility</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8 - Contingency Plan Procedures for Portal/API Failure</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9 - Contingency Plan Procedures for Site Unavailability</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10 - Verify Single Point of Failure Recovery EMS/MMS/NMMS/CRR/COMS</a:t>
            </a:r>
            <a:endParaRPr b="0" lang="en-US" sz="1500" spc="-1" strike="noStrike">
              <a:solidFill>
                <a:srgbClr val="000000"/>
              </a:solidFill>
              <a:latin typeface="Arial"/>
            </a:endParaRPr>
          </a:p>
          <a:p>
            <a:pPr lvl="1" marL="457200">
              <a:lnSpc>
                <a:spcPct val="85000"/>
              </a:lnSpc>
              <a:spcBef>
                <a:spcPts val="56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u="sng">
                <a:solidFill>
                  <a:srgbClr val="000000"/>
                </a:solidFill>
                <a:uFillTx/>
                <a:latin typeface="Arial"/>
              </a:rPr>
              <a:t>IMM Metrics</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M1 - Market Monitor Systems Capability</a:t>
            </a:r>
            <a:endParaRPr b="0" lang="en-US" sz="1500" spc="-1" strike="noStrike">
              <a:solidFill>
                <a:srgbClr val="000000"/>
              </a:solidFill>
              <a:latin typeface="Arial"/>
            </a:endParaRPr>
          </a:p>
          <a:p>
            <a:pPr lvl="1" marL="457200">
              <a:lnSpc>
                <a:spcPct val="85000"/>
              </a:lnSpc>
              <a:spcBef>
                <a:spcPts val="56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u="sng">
                <a:solidFill>
                  <a:srgbClr val="000000"/>
                </a:solidFill>
                <a:uFillTx/>
                <a:latin typeface="Arial"/>
              </a:rPr>
              <a:t>Overall Readiness Metrics</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0 - Market Participants Operations Readiness</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1 - Nodal Readiness Declaration</a:t>
            </a:r>
            <a:endParaRPr b="0" lang="en-US" sz="1500" spc="-1" strike="noStrike">
              <a:solidFill>
                <a:srgbClr val="000000"/>
              </a:solidFill>
              <a:latin typeface="Arial"/>
            </a:endParaRPr>
          </a:p>
          <a:p>
            <a:pPr lvl="2" marL="914400">
              <a:lnSpc>
                <a:spcPct val="85000"/>
              </a:lnSpc>
              <a:spcBef>
                <a:spcPts val="56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2 - Develop Texas Nodal Market Launch Plan</a:t>
            </a:r>
            <a:endParaRPr b="0" lang="en-US" sz="15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Rules Changes to language in Draft NPRR - Protocol Sections 4 and 6 Formula Clarifications and Related Revis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endorsed forwarding to PRS the draft NPRR for Protocols Sections 4 and 6 Formula Clarifications and Related Revisions as amended at TPTF on January 8, 2008. The motion carried by roll-call vote, with 100% in favor and three abstentions (Austin Energy, CenterPoint Energy, and AEP). All Market Segments, except Independent Generator, were represented for the vote.</a:t>
            </a:r>
            <a:endParaRPr b="0" lang="en-US" sz="1600" spc="-1" strike="noStrike">
              <a:solidFill>
                <a:srgbClr val="000000"/>
              </a:solidFill>
              <a:latin typeface="Arial"/>
            </a:endParaRPr>
          </a:p>
        </p:txBody>
      </p:sp>
      <p:sp>
        <p:nvSpPr>
          <p:cNvPr id="9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9435F6D-4120-47A1-A723-0867FD22622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1</a:t>
            </a:r>
            <a:endParaRPr b="0" lang="en-US" sz="1800" spc="-1" strike="noStrike">
              <a:solidFill>
                <a:srgbClr val="000000"/>
              </a:solidFill>
              <a:latin typeface="Arial"/>
            </a:endParaRPr>
          </a:p>
        </p:txBody>
      </p:sp>
      <p:sp>
        <p:nvSpPr>
          <p:cNvPr id="93" name="Text Box 3"/>
          <p:cNvSpPr/>
          <p:nvPr/>
        </p:nvSpPr>
        <p:spPr>
          <a:xfrm>
            <a:off x="380880" y="770040"/>
            <a:ext cx="8077320" cy="4755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1,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ed for Draft NPRR for Scheduling and Operating Transmission Devices in the Nodal Environmen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sting concept for the 168-Hour Tes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activities and status for EDS test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EDS - CRR Testing Market Participant Handbook v1.05</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1, TPTF approved the EDS - CRR Testing Market Participant Handbook v1.06 as submitted.  The motion carried by roll-call vote, with 100% in favor and one abstention (Exelon).  All Market Segments, except Independent Generator,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ifiable Cost Subgroup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activities for the Verifiable Cost Subgroup</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C Tie Subgroup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activities from the Jan. 17th DC Tie Subgroup Meeting</a:t>
            </a:r>
            <a:endParaRPr b="0" lang="en-US" sz="1600" spc="-1" strike="noStrike">
              <a:solidFill>
                <a:srgbClr val="000000"/>
              </a:solidFill>
              <a:latin typeface="Arial"/>
            </a:endParaRPr>
          </a:p>
        </p:txBody>
      </p:sp>
      <p:sp>
        <p:nvSpPr>
          <p:cNvPr id="9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E6AB9B3-B95C-4291-A32F-6F09FDEE29E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a:t>
            </a:r>
            <a:endParaRPr b="0" lang="en-US" sz="1800" spc="-1" strike="noStrike">
              <a:solidFill>
                <a:srgbClr val="000000"/>
              </a:solidFill>
              <a:latin typeface="Arial"/>
            </a:endParaRPr>
          </a:p>
        </p:txBody>
      </p:sp>
      <p:sp>
        <p:nvSpPr>
          <p:cNvPr id="97" name="Text Box 3"/>
          <p:cNvSpPr/>
          <p:nvPr/>
        </p:nvSpPr>
        <p:spPr>
          <a:xfrm>
            <a:off x="380880" y="770040"/>
            <a:ext cx="8077320" cy="4548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Report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ftware Problem Report (SPR) Defect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Artifact Schedul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 R3, 168-Hour System Stability Test and Trial Real-Time Settlement Metric to incorporate the following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4 - Run 7 Day Stability Tes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1 - Operate DA Market for 7 Day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2 - Operate 7 Day market with RUC</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6 - Verify DAM Ancillary Service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iness Metric N4, Network Modeling Single-Entry</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to Metric MP14, MP EDS-2 Trials Participatio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waived notice to vote for Metric MP14, MP EDS-2 Trials Participation. The motion carried by roll-call vote, with 100% in favor and three abstentions (City of Dallas, Town of Flower Mound, and Coral Power).  All Market Segments were represented for the vote.</a:t>
            </a:r>
            <a:endParaRPr b="0" lang="en-US" sz="1600" spc="-1" strike="noStrike">
              <a:solidFill>
                <a:srgbClr val="000000"/>
              </a:solidFill>
              <a:latin typeface="Arial"/>
            </a:endParaRPr>
          </a:p>
        </p:txBody>
      </p:sp>
      <p:sp>
        <p:nvSpPr>
          <p:cNvPr id="98"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A11D8C4-3792-4722-B3EF-036D0A8E79C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continued)</a:t>
            </a:r>
            <a:endParaRPr b="0" lang="en-US" sz="1800" spc="-1" strike="noStrike">
              <a:solidFill>
                <a:srgbClr val="000000"/>
              </a:solidFill>
              <a:latin typeface="Arial"/>
            </a:endParaRPr>
          </a:p>
        </p:txBody>
      </p:sp>
      <p:sp>
        <p:nvSpPr>
          <p:cNvPr id="101" name="Text Box 3"/>
          <p:cNvSpPr/>
          <p:nvPr/>
        </p:nvSpPr>
        <p:spPr>
          <a:xfrm>
            <a:off x="380880" y="770040"/>
            <a:ext cx="8077320" cy="2491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a Motion to request TAC approval for revisions to the Readiness Metric MP14, MP EDS-2 Trials Participation, as modified by TPTF on January 22, 2008, and to endorse ERCOT moving forward with the following Readines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3, 168-Hour System Stability Test and Trial Real Time Settle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4,  Network Modeling Single Entry</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motion carried by roll-call vote, with 100% in favor and five abstentions (LCRA, City of Dallas, Town of Flower Mound, Coral Power, and Exelon).  All Market Segments were represented for the vote.</a:t>
            </a:r>
            <a:endParaRPr b="0" lang="en-US" sz="1600" spc="-1" strike="noStrike">
              <a:solidFill>
                <a:srgbClr val="000000"/>
              </a:solidFill>
              <a:latin typeface="Arial"/>
            </a:endParaRPr>
          </a:p>
        </p:txBody>
      </p:sp>
      <p:sp>
        <p:nvSpPr>
          <p:cNvPr id="102"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D14D438-E20B-406E-9FAC-386367AF7DD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continued)</a:t>
            </a:r>
            <a:endParaRPr b="0" lang="en-US" sz="1800" spc="-1" strike="noStrike">
              <a:solidFill>
                <a:srgbClr val="000000"/>
              </a:solidFill>
              <a:latin typeface="Arial"/>
            </a:endParaRPr>
          </a:p>
        </p:txBody>
      </p:sp>
      <p:sp>
        <p:nvSpPr>
          <p:cNvPr id="105" name="Text Box 3"/>
          <p:cNvSpPr/>
          <p:nvPr/>
        </p:nvSpPr>
        <p:spPr>
          <a:xfrm>
            <a:off x="380880" y="770040"/>
            <a:ext cx="8077320" cy="5375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A Punchlist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IDA Punchlis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the need for draft NPRR to address IDA Punchlist Items for MIS and EIP</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Use Networks (PUN) Subgroup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activities from the Jan. 11th PUN Subgroup Meet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92, Remove Voltage Schedules Require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a Motion to forward TPTF comments for NPRR092, Remove Voltage Schedules Requirement, to PRS for consideration. The motion carried by roll-call vote, with 100% in favor and no abstentions.  All Market Segments, except Independent Generator,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Projec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clarifications for Emergency Operations Settlement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W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EDW Conceptual System Design</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the EDW Conceptual System Design v0.95. The motion carried by roll-call vote, with 100% in favor and one abstention (Reliant).  All Market Segments were represented for the vote.</a:t>
            </a:r>
            <a:endParaRPr b="0" lang="en-US" sz="1600" spc="-1" strike="noStrike">
              <a:solidFill>
                <a:srgbClr val="000000"/>
              </a:solidFill>
              <a:latin typeface="Arial"/>
            </a:endParaRPr>
          </a:p>
        </p:txBody>
      </p:sp>
      <p:sp>
        <p:nvSpPr>
          <p:cNvPr id="106"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E8D71ED-A708-454E-80C3-6796365FFF8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continued)</a:t>
            </a:r>
            <a:endParaRPr b="0" lang="en-US" sz="1800" spc="-1" strike="noStrike">
              <a:solidFill>
                <a:srgbClr val="000000"/>
              </a:solidFill>
              <a:latin typeface="Arial"/>
            </a:endParaRPr>
          </a:p>
        </p:txBody>
      </p:sp>
      <p:sp>
        <p:nvSpPr>
          <p:cNvPr id="109" name="Text Box 3"/>
          <p:cNvSpPr/>
          <p:nvPr/>
        </p:nvSpPr>
        <p:spPr>
          <a:xfrm>
            <a:off x="380880" y="770040"/>
            <a:ext cx="8077320" cy="4472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W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tion 8 Performance Reports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Market Participant Identity Management Conceptual System Design</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the INF MPIM CSD v1.7 as submitted. The motion carried by roll-call vote, with 100% in favor and one abstention (Reliant).  All Market Segments, except the Independent Generator and Consumer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l-Time Reports (RTR) Project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view of the projec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nounce Conceptual System Design (CSD) document in review</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Participant Data Access</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 on the April 23, 2007 brochure "Understanding Market Participant Data Access“</a:t>
            </a:r>
            <a:endParaRPr b="0" lang="en-US" sz="1600" spc="-1" strike="noStrike">
              <a:solidFill>
                <a:srgbClr val="000000"/>
              </a:solidFill>
              <a:latin typeface="Arial"/>
            </a:endParaRPr>
          </a:p>
        </p:txBody>
      </p:sp>
      <p:sp>
        <p:nvSpPr>
          <p:cNvPr id="110"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DEE1F36-AB6C-4C3C-AF9A-73DFA0B52E8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2 (continued)</a:t>
            </a:r>
            <a:endParaRPr b="0" lang="en-US" sz="1800" spc="-1" strike="noStrike">
              <a:solidFill>
                <a:srgbClr val="000000"/>
              </a:solidFill>
              <a:latin typeface="Arial"/>
            </a:endParaRPr>
          </a:p>
        </p:txBody>
      </p:sp>
      <p:sp>
        <p:nvSpPr>
          <p:cNvPr id="113" name="Text Box 3"/>
          <p:cNvSpPr/>
          <p:nvPr/>
        </p:nvSpPr>
        <p:spPr>
          <a:xfrm>
            <a:off x="380880" y="770040"/>
            <a:ext cx="8077320" cy="509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2,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Update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External Interface Specification v1.07</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the EIP External Interfaces Specification v1.07 with the understanding that additional descriptions would be added to the document as discussed at TPTF on January 22, 2008 to address comments received during the document review ending January 16, 2008, including descriptions for:</a:t>
            </a:r>
            <a:endParaRPr b="0" lang="en-US" sz="1600" spc="-1" strike="noStrike">
              <a:solidFill>
                <a:srgbClr val="000000"/>
              </a:solidFill>
              <a:latin typeface="Arial"/>
            </a:endParaRPr>
          </a:p>
          <a:p>
            <a:pPr lvl="3" marL="1371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Key string composition for Outage mRIDs</a:t>
            </a:r>
            <a:endParaRPr b="0" lang="en-US" sz="1600" spc="-1" strike="noStrike">
              <a:solidFill>
                <a:srgbClr val="000000"/>
              </a:solidFill>
              <a:latin typeface="Arial"/>
            </a:endParaRPr>
          </a:p>
          <a:p>
            <a:pPr lvl="3" marL="1371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PriceCurve multi-hour block</a:t>
            </a:r>
            <a:endParaRPr b="0" lang="en-US" sz="1600" spc="-1" strike="noStrike">
              <a:solidFill>
                <a:srgbClr val="000000"/>
              </a:solidFill>
              <a:latin typeface="Arial"/>
            </a:endParaRPr>
          </a:p>
          <a:p>
            <a:pPr lvl="3" marL="1371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xplanations for OutageIdent, OutageWarning, LastModifiedby, - LastModified, versionID, groupID, OutageNotes</a:t>
            </a:r>
            <a:endParaRPr b="0" lang="en-US" sz="1600" spc="-1" strike="noStrike">
              <a:solidFill>
                <a:srgbClr val="000000"/>
              </a:solidFill>
              <a:latin typeface="Arial"/>
            </a:endParaRPr>
          </a:p>
          <a:p>
            <a:pPr lvl="3" marL="13716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ifference between newSchedule and Schedule</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motion carried by roll-call vote, with 100% in favor and two abstentions (CenterPoint and AEP).  All Market Segments, except the Independent Generator,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MIS External Interfaces Specification v0.35</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NPRR090, Corrections of FIP-FOP in Energy Offer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17, PRS voted to reject Sections 4.4.9.2.1 and 4.4.9.4.2 and to forward PRS Recommendation Report and IA to TAC</a:t>
            </a:r>
            <a:endParaRPr b="0" lang="en-US" sz="1600" spc="-1" strike="noStrike">
              <a:solidFill>
                <a:srgbClr val="000000"/>
              </a:solidFill>
              <a:latin typeface="Arial"/>
            </a:endParaRPr>
          </a:p>
        </p:txBody>
      </p:sp>
      <p:sp>
        <p:nvSpPr>
          <p:cNvPr id="114"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E5A67D1-768A-4203-96BD-F6365019BE7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3</a:t>
            </a:r>
            <a:endParaRPr b="0" lang="en-US" sz="1800" spc="-1" strike="noStrike">
              <a:solidFill>
                <a:srgbClr val="000000"/>
              </a:solidFill>
              <a:latin typeface="Arial"/>
            </a:endParaRPr>
          </a:p>
        </p:txBody>
      </p:sp>
      <p:sp>
        <p:nvSpPr>
          <p:cNvPr id="117" name="Text Box 3"/>
          <p:cNvSpPr/>
          <p:nvPr/>
        </p:nvSpPr>
        <p:spPr>
          <a:xfrm>
            <a:off x="380880" y="770040"/>
            <a:ext cx="8077320" cy="5070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3,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testing issu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will the changes that are necessary for the EDS system be authorized so that EDS testing may proceed while corresponding documentation updates proceed through the governance proces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osed Revision for EMS White Paper:</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igh Dispatch Limit (HDL) And Low Dispatch Limit (LDL) During Startup and Ancillary Service (AS) Recall</a:t>
            </a:r>
            <a:endParaRPr b="0" lang="en-US" sz="1600" spc="-1" strike="noStrike">
              <a:solidFill>
                <a:srgbClr val="000000"/>
              </a:solidFill>
              <a:latin typeface="Arial"/>
            </a:endParaRPr>
          </a:p>
          <a:p>
            <a:pPr lvl="3" marL="1371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3, TPTF approved the updates in the HDL And LDL During Start up and AS Recall white paper v1.1 as submitted. The motion carried by roll-call vote, with 100% in favor and no abstentions.  All Market Segments, except the Independent Generator,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s and new effective period for the Service Level Agreement for Nodal EDS Environment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3, TPTF approved the updated SLA for Nodal EDS Environments v3.3 as modified by TPTF on January 23, 2008. The motion carried by roll-call vote, with 100% in favor and one abstention (CPS San Antonio).  All Market Segments, except the Independent Generator,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urce Registration Update</a:t>
            </a:r>
            <a:endParaRPr b="0" lang="en-US" sz="1600" spc="-1" strike="noStrike">
              <a:solidFill>
                <a:srgbClr val="000000"/>
              </a:solidFill>
              <a:latin typeface="Arial"/>
            </a:endParaRPr>
          </a:p>
        </p:txBody>
      </p:sp>
      <p:sp>
        <p:nvSpPr>
          <p:cNvPr id="118"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FB75DA8-319D-4171-A40D-C7BFCAB5681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23 (continued)</a:t>
            </a:r>
            <a:endParaRPr b="0" lang="en-US" sz="1800" spc="-1" strike="noStrike">
              <a:solidFill>
                <a:srgbClr val="000000"/>
              </a:solidFill>
              <a:latin typeface="Arial"/>
            </a:endParaRPr>
          </a:p>
        </p:txBody>
      </p:sp>
      <p:sp>
        <p:nvSpPr>
          <p:cNvPr id="121" name="Text Box 3"/>
          <p:cNvSpPr/>
          <p:nvPr/>
        </p:nvSpPr>
        <p:spPr>
          <a:xfrm>
            <a:off x="380880" y="770040"/>
            <a:ext cx="8077320" cy="1589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23,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draft NPRR for PUCT 25.505 Publication of Resource and Load Information</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sions for configuration limitation in whitepaper IDA003, Combined-Cycle Unit Modeling in the Nodal Design</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Market Participant Satisfaction Survey Results</a:t>
            </a:r>
            <a:endParaRPr b="0" lang="en-US" sz="1600" spc="-1" strike="noStrike">
              <a:solidFill>
                <a:srgbClr val="000000"/>
              </a:solidFill>
              <a:latin typeface="Arial"/>
            </a:endParaRPr>
          </a:p>
        </p:txBody>
      </p:sp>
      <p:sp>
        <p:nvSpPr>
          <p:cNvPr id="122" name="Rectangle 4"/>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AA536DF-5A46-4D55-8F40-702AFA51317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25" name="Text Box 6"/>
          <p:cNvSpPr/>
          <p:nvPr/>
        </p:nvSpPr>
        <p:spPr>
          <a:xfrm>
            <a:off x="380880" y="792000"/>
            <a:ext cx="8610840" cy="1601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February 4 through Wednesday February 6</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February 21 and Friday February 22</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March 3 through Wednesday March 5</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March 20 and Friday March 21</a:t>
            </a:r>
            <a:endParaRPr b="0" lang="en-US" sz="1800" spc="-1" strike="noStrike">
              <a:solidFill>
                <a:srgbClr val="000000"/>
              </a:solidFill>
              <a:latin typeface="Arial"/>
            </a:endParaRPr>
          </a:p>
        </p:txBody>
      </p:sp>
      <p:sp>
        <p:nvSpPr>
          <p:cNvPr id="12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0E1AA73-9A17-40C4-BCF0-2DDB5D9F294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PlaceHolder 1"/>
          <p:cNvSpPr>
            <a:spLocks noGrp="1"/>
          </p:cNvSpPr>
          <p:nvPr>
            <p:ph type="title"/>
          </p:nvPr>
        </p:nvSpPr>
        <p:spPr>
          <a:xfrm>
            <a:off x="139320" y="81000"/>
            <a:ext cx="793764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58" name=""/>
          <p:cNvGraphicFramePr/>
          <p:nvPr/>
        </p:nvGraphicFramePr>
        <p:xfrm>
          <a:off x="228600" y="762120"/>
          <a:ext cx="8763120" cy="4205160"/>
        </p:xfrm>
        <a:graphic>
          <a:graphicData uri="http://schemas.openxmlformats.org/drawingml/2006/table">
            <a:tbl>
              <a:tblPr/>
              <a:tblGrid>
                <a:gridCol w="2133720"/>
                <a:gridCol w="5486400"/>
                <a:gridCol w="1143000"/>
              </a:tblGrid>
              <a:tr h="276480">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337320">
                <a:tc>
                  <a:txBody>
                    <a:bodyPr lIns="90000" rIns="90000" tIns="46800" bIns="46800" anchor="ctr">
                      <a:noAutofit/>
                    </a:bodyPr>
                    <a:p>
                      <a:pPr marL="117360" indent="-117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eeting Summary</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recent TPTF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37320">
                <a:tc>
                  <a:txBody>
                    <a:bodyPr lIns="90000" rIns="90000" tIns="46800" bIns="46800" anchor="ctr">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Next Meetings</a:t>
                      </a:r>
                      <a:endParaRPr b="0" lang="en-US" sz="16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coming activities</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review</a:t>
                      </a:r>
                      <a:endParaRPr b="0" lang="en-US" sz="16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1067400">
                <a:tc>
                  <a:txBody>
                    <a:bodyPr lIns="90000" rIns="90000" tIns="46800" bIns="46800" anchor="t">
                      <a:noAutofit/>
                    </a:bodyPr>
                    <a:p>
                      <a:pPr marL="168120" indent="-168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pproval of Readiness Metric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5920" indent="-11592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pproval for ERCOT to move forward with the metrics E2, E4, E7, E10, E11, E14, E15, EMO3, EMO8, MO3, C1 thru C10, IMM1, revised MP14, N4, R0, R1, R2, and R3</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193120">
                <a:tc>
                  <a:txBody>
                    <a:bodyPr lIns="90000" rIns="90000" tIns="46800" bIns="46800" anchor="t">
                      <a:noAutofit/>
                    </a:bodyPr>
                    <a:p>
                      <a:pPr marL="22536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pproval of Milestones</a:t>
                      </a:r>
                      <a:endParaRPr b="0" lang="en-US" sz="16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cknowledge TPTF completion of the following Milestones–</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Market Participant Identity Management Requirements v2.3 Requirements complete</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Data Warehouse Conceptual System Design v0.95 complete</a:t>
                      </a:r>
                      <a:endParaRPr b="0" lang="en-US" sz="1600" spc="-1" strike="noStrike">
                        <a:solidFill>
                          <a:srgbClr val="000000"/>
                        </a:solidFill>
                        <a:latin typeface="Arial"/>
                      </a:endParaRPr>
                    </a:p>
                    <a:p>
                      <a:pPr lvl="1" marL="23184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Market Participant Identity Management Conceptual System Design v1.7 complete</a:t>
                      </a:r>
                      <a:endParaRPr b="0" lang="en-US" sz="16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Vote</a:t>
                      </a:r>
                      <a:endParaRPr b="0" lang="en-US" sz="16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AFD5A5A-B596-47FF-9EB2-66D65294B4C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0" name="Text Box 6"/>
          <p:cNvSpPr/>
          <p:nvPr/>
        </p:nvSpPr>
        <p:spPr>
          <a:xfrm>
            <a:off x="380880" y="765000"/>
            <a:ext cx="8610840" cy="511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February 4 through February 6</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Nodal Program Update / Nodal Timeline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pens-down” dates for systems functionality</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sting of Severity 1 &amp; 2 defect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MM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en Severity 1 defects for NMM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Rule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n for “nodalizing” remaining protocol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updates for EDS 3 SCED Market Participant Handbook v3.01</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oach to 168-Hour Test, including settlement issue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MP reasonableness Daily report review</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 for authorizing temporary changes for EDS system while corresponding documentation proceeds through the approval proces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cumentation synchronizations related to the recent formula revision in the EMS White Paper, HDL and LDL During Startup and AS Recall</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3.10.7.5.1, Continuous Telemetry of the Status of Breakers and Switches</a:t>
            </a:r>
            <a:endParaRPr b="0" lang="en-US" sz="1600" spc="-1" strike="noStrike">
              <a:solidFill>
                <a:srgbClr val="000000"/>
              </a:solidFill>
              <a:latin typeface="Arial"/>
            </a:endParaRPr>
          </a:p>
        </p:txBody>
      </p:sp>
      <p:sp>
        <p:nvSpPr>
          <p:cNvPr id="13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380F573-3D21-45D1-9CFD-824518936CA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35" name="Text Box 6"/>
          <p:cNvSpPr/>
          <p:nvPr/>
        </p:nvSpPr>
        <p:spPr>
          <a:xfrm>
            <a:off x="380880" y="765000"/>
            <a:ext cx="8610840" cy="5267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February 4 through February 6</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R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market feedback for the Market Participant Satisfaction Survey Results and Action Pla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P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updates for the MIS External Interfaces Specificatio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Day Report (CDR) Project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position of comments for the Current Day Reports Conceptual System Design</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Hardware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us of detailed design and FAT testing</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tion 8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NPRR097, Changes to Section 8 to Incorporate Role of TRE, the IMM, and the Concept of Market Compliance, including:</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differences between NPRR097 and current Nodal Protocol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ies of the Feb. 4 Task Forc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C Tie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sons for imports of emergency power over DC Ties in 2007</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settlements of emergency power over DC Ties</a:t>
            </a:r>
            <a:endParaRPr b="0" lang="en-US" sz="1600" spc="-1" strike="noStrike">
              <a:solidFill>
                <a:srgbClr val="000000"/>
              </a:solidFill>
              <a:latin typeface="Arial"/>
            </a:endParaRPr>
          </a:p>
        </p:txBody>
      </p:sp>
      <p:sp>
        <p:nvSpPr>
          <p:cNvPr id="13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30A3A9C-FBB3-4D52-B769-53C560A6FC7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0" name="Text Box 6"/>
          <p:cNvSpPr/>
          <p:nvPr/>
        </p:nvSpPr>
        <p:spPr>
          <a:xfrm>
            <a:off x="380880" y="765000"/>
            <a:ext cx="8610840" cy="4059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On </a:t>
            </a:r>
            <a:r>
              <a:rPr b="0" lang="en-US" sz="1600" spc="-1" strike="noStrike">
                <a:solidFill>
                  <a:srgbClr val="000000"/>
                </a:solidFill>
                <a:latin typeface="Arial"/>
              </a:rPr>
              <a:t>February 4 through February 6</a:t>
            </a:r>
            <a:r>
              <a:rPr b="0" lang="en-GB" sz="1600" spc="-1" strike="noStrike">
                <a:solidFill>
                  <a:srgbClr val="000000"/>
                </a:solidFill>
                <a:latin typeface="Arial"/>
              </a:rPr>
              <a:t>, likely topics includ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W Updat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S Project</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oach and possible NPRR language to clarify Emergency Operations Settlements</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 Fuel-Oil Index Price</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for incorporating PUCT 25.505 Publication of Resource and Load Information</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revisions to the draft NPRR to reflect feedback from the market and from nodal projects</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 Subgroup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activities for the TPTF Subgroup for Self-Committed Resources in DAM</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000000"/>
                </a:solidFill>
                <a:latin typeface="Arial"/>
              </a:rPr>
              <a:t>WMS Settlement Point Subgroup Update</a:t>
            </a:r>
            <a:endParaRPr b="0" lang="en-US" sz="1600" spc="-1" strike="noStrike">
              <a:solidFill>
                <a:srgbClr val="000000"/>
              </a:solidFill>
              <a:latin typeface="Arial"/>
            </a:endParaRPr>
          </a:p>
          <a:p>
            <a:pPr lvl="2" marL="9097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Update on activities for the Jan 28th High-Low Task Force Meeting</a:t>
            </a:r>
            <a:endParaRPr b="0" lang="en-US" sz="1600" spc="-1" strike="noStrike">
              <a:solidFill>
                <a:srgbClr val="000000"/>
              </a:solidFill>
              <a:latin typeface="Arial"/>
            </a:endParaRPr>
          </a:p>
          <a:p>
            <a:pPr lvl="1" marL="460440" indent="612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000000"/>
                </a:solidFill>
                <a:latin typeface="Arial"/>
              </a:rPr>
              <a:t>Update on Combined-Cycle white paper discussion with IMM</a:t>
            </a:r>
            <a:endParaRPr b="0" lang="en-US" sz="1600" spc="-1" strike="noStrike">
              <a:solidFill>
                <a:srgbClr val="000000"/>
              </a:solidFill>
              <a:latin typeface="Arial"/>
            </a:endParaRPr>
          </a:p>
        </p:txBody>
      </p:sp>
      <p:sp>
        <p:nvSpPr>
          <p:cNvPr id="141"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C073636-AD7B-458D-B229-97A133B7388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4"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a:t>
            </a:r>
            <a:endParaRPr b="0" lang="en-US" sz="1800" spc="-1" strike="noStrike">
              <a:solidFill>
                <a:srgbClr val="000000"/>
              </a:solidFill>
              <a:latin typeface="Arial"/>
            </a:endParaRPr>
          </a:p>
        </p:txBody>
      </p:sp>
      <p:sp>
        <p:nvSpPr>
          <p:cNvPr id="145"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Text Box 8"/>
          <p:cNvSpPr/>
          <p:nvPr/>
        </p:nvSpPr>
        <p:spPr>
          <a:xfrm>
            <a:off x="380880" y="914400"/>
            <a:ext cx="8458200" cy="4334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8, TPTF voted to endorse ERCOT moving forward with the metrics E2, E4, E7, E10, E11, E14, E15, EMO3, EMO8, MO3, C1 thru C10, IMM1, R0, R1, and R2 as modified by TPTF on January 8, 2008.  The motion carried by roll-call vote, with 100% in favor and no abstentions.  All Market Segments, except the Independent Generators, were represented for the vote.</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anuary 22, TPTF approved a Motion to request TAC approval for revisions to the Readiness Metric MP14, MP EDS-2 Trials Participation, as modified by TPTF on January 22, 2008, and to endorse ERCOT moving forward with the following Readiness Metrics:</a:t>
            </a:r>
            <a:endParaRPr b="0" lang="en-US" sz="1800" spc="-1" strike="noStrike">
              <a:solidFill>
                <a:srgbClr val="000000"/>
              </a:solidFill>
              <a:latin typeface="Arial"/>
            </a:endParaRPr>
          </a:p>
          <a:p>
            <a:pPr lvl="1" marL="743040" indent="-28584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 168-Hour System Stability Test and Trial Real Time Settlement</a:t>
            </a:r>
            <a:endParaRPr b="0" lang="en-US" sz="1800" spc="-1" strike="noStrike">
              <a:solidFill>
                <a:srgbClr val="000000"/>
              </a:solidFill>
              <a:latin typeface="Arial"/>
            </a:endParaRPr>
          </a:p>
          <a:p>
            <a:pPr lvl="1" marL="743040" indent="-28584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4,  Network Modeling Single Entry</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tion carried by roll-call vote, with 100% in favor and five abstentions (LCRA, City of Dallas, Town of Flower Mound, Coral Power, and Exelon).  All Market Segments were represented for the vote.</a:t>
            </a:r>
            <a:endParaRPr b="0" lang="en-US" sz="1800" spc="-1" strike="noStrike">
              <a:solidFill>
                <a:srgbClr val="000000"/>
              </a:solidFill>
              <a:latin typeface="Arial"/>
            </a:endParaRPr>
          </a:p>
          <a:p>
            <a:pPr lvl="1" marL="743040" indent="-28584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9CEFF72-760A-4728-BA08-CE04B9EDC9D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2"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153"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Text Box 8"/>
          <p:cNvSpPr/>
          <p:nvPr/>
        </p:nvSpPr>
        <p:spPr>
          <a:xfrm>
            <a:off x="380880" y="914400"/>
            <a:ext cx="8458200" cy="525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2 - Verify ERCOT Performance Monitoring Test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4 - Transition Pricing Mechanism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7 - Validate EDW Access and Accuracy of Postings Required by the IMM and PUCT Rul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0 - Validate EDW Commercial Systems Access Accurac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1 - Validate EDW Compliance Data Acces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4 - Verify QSE Performance Monitoring Test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15 - Verify TSP Performance Monitoring Test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3 - Verify Outage Evaluation System Functiona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O8 - Conduct EECP Tes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3 - Verify Supplemental Ancillary Services Market (SASM)</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1 - Contingency Plan Procedures for Weekly, Daily and Hourly RUC Failur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2 - Contingency Plan Procedures for DAM Failur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3 - Contingency Plan Procedures for ICCP Data Failur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4 - Contingency Plan Procedures for SCED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ECB0958-D12B-4D86-8244-057C3B6DD39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0" name="Rectangle 2"/>
          <p:cNvSpPr/>
          <p:nvPr/>
        </p:nvSpPr>
        <p:spPr>
          <a:xfrm>
            <a:off x="76320" y="81000"/>
            <a:ext cx="89913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roval of Readiness Metrics (continued)</a:t>
            </a:r>
            <a:endParaRPr b="0" lang="en-US" sz="1800" spc="-1" strike="noStrike">
              <a:solidFill>
                <a:srgbClr val="000000"/>
              </a:solidFill>
              <a:latin typeface="Arial"/>
            </a:endParaRPr>
          </a:p>
        </p:txBody>
      </p:sp>
      <p:sp>
        <p:nvSpPr>
          <p:cNvPr id="161"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Rectangle 5"/>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380880" y="914400"/>
            <a:ext cx="8458200" cy="4934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for ERCOT to move forward with the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5 - Contingency Plan Procedures for Key Settlement and Financial Transfer Process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6 - Develop Plan for SE Failur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7 - Contingency Plan Procedures for a Backup Faci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8 - Contingency Plan Procedures for Portal/API Failur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9 - Contingency Plan Procedures for Site Unavailabi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10 - Verify Single Point of Failure Recovery EMS/MMS/NMMS/CRR/COM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M1 - Market Monitor Systems Capabilit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 MP14, MP EDS-2 Trials Particip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4,  Network Modeling Single Entr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0 - Market Participants Operations Readines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1 - Nodal Readiness Declar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2 - Develop Texas Nodal Market Launch Pla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3, 168-Hour System Stability Test and Trial Real Time Sett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FC4816A-EADF-495D-89F5-13815C4055D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69"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Text Box 9"/>
          <p:cNvSpPr/>
          <p:nvPr/>
        </p:nvSpPr>
        <p:spPr>
          <a:xfrm>
            <a:off x="380880" y="781200"/>
            <a:ext cx="8458200" cy="5353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n January 8, TPTF approved the INF Market Participant Identity Management Requirements v2.3 with the understanding that it will be updated to incorporate changes recommended by TPTF on January 8, 2008.  The motion carried by roll-call vote, with 100% in favor and five abstentions (First Choice Power, AEP, City of Allen, City of Eastland, and Coral Power). All Market Segments, except Cooperative, were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the EDW Conceptual System Design v0.95. The motion carried by roll-call vote, with 100% in favor and one abstention (Reliant).  All Market Segments were represented for the vote.</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22, TPTF approved the INF MPIM CSD v1.7 as submitted. The motion carried by roll-call vote, with 100% in favor and one abstention (Reliant).  All Market Segments, except the Independent Generator and Consumer segments, were represented for the vote.</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6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est TAC acknowledge TPTF completion of the following Milestones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Market Participant Identity Management Requirements v2.3 comple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Data Warehouse Conceptual System Design v0.95 comple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Market Participant Identity Management Conceptual System Design v1.7 comple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EEB3891-6FBE-4A54-9CEC-7CDE2A8ED12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78"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06070CC-94CF-4160-9537-E6EA88C483C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7</a:t>
            </a:r>
            <a:endParaRPr b="0" lang="en-US" sz="1800" spc="-1" strike="noStrike">
              <a:solidFill>
                <a:srgbClr val="000000"/>
              </a:solidFill>
              <a:latin typeface="Arial"/>
            </a:endParaRPr>
          </a:p>
        </p:txBody>
      </p:sp>
      <p:sp>
        <p:nvSpPr>
          <p:cNvPr id="61" name="Text Box 6"/>
          <p:cNvSpPr/>
          <p:nvPr/>
        </p:nvSpPr>
        <p:spPr>
          <a:xfrm>
            <a:off x="380880" y="770040"/>
            <a:ext cx="8077320" cy="4396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Meetings January 7-8 and January 21-23. </a:t>
            </a:r>
            <a:endParaRPr b="0" lang="en-US" sz="1600" spc="-1" strike="noStrike">
              <a:solidFill>
                <a:srgbClr val="000000"/>
              </a:solidFill>
              <a:latin typeface="Arial"/>
            </a:endParaRPr>
          </a:p>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Program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dal Timeline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aw in TPTF voting spreadsheet related to Consumer Segment vot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to address issue with September 28, 2006 motion affected by flaw in vote tally</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ension of the current Service Level Agreemen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7, TPTF approved an extension of the effective period of Service Level Agreement for Nodal EDS Environments v2.2 through February 1, 2008 as modified by TPTF on January 7, 2008.  The motion carried by roll-call vote, with 100% in favor and one abstention (Coral Power).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onal-to-Nodal Transition Protocol Transition Plan and possible synchronization issues with the EDS Sequence Timelin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W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W response to questions/requests raised during previous TPTF meeting</a:t>
            </a:r>
            <a:endParaRPr b="0" lang="en-US" sz="1600" spc="-1" strike="noStrike">
              <a:solidFill>
                <a:srgbClr val="000000"/>
              </a:solidFill>
              <a:latin typeface="Arial"/>
            </a:endParaRPr>
          </a:p>
        </p:txBody>
      </p:sp>
      <p:sp>
        <p:nvSpPr>
          <p:cNvPr id="6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B8D7B4F-DEF4-4F34-992E-DF8898DC72A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7 (continued)</a:t>
            </a:r>
            <a:endParaRPr b="0" lang="en-US" sz="1800" spc="-1" strike="noStrike">
              <a:solidFill>
                <a:srgbClr val="000000"/>
              </a:solidFill>
              <a:latin typeface="Arial"/>
            </a:endParaRPr>
          </a:p>
        </p:txBody>
      </p:sp>
      <p:sp>
        <p:nvSpPr>
          <p:cNvPr id="65" name="Text Box 6"/>
          <p:cNvSpPr/>
          <p:nvPr/>
        </p:nvSpPr>
        <p:spPr>
          <a:xfrm>
            <a:off x="380880" y="704880"/>
            <a:ext cx="8077320" cy="555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7,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arification Request - Nodal Protocols Section 3.2.3, System Adequacy Report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arifications to information requested by the Medium-Term System Adequacy Report and the Short-Term System Adequacy Repor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gestion Revenue Right (CRR)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S - CRR Testing Market Participant Handbook v1.05</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lanation of Market Submission/Retrieval Item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tlement issues for the Draft NPRR - PCRR Release Mechanism</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7, TPTF endorsed forwarding the draft NPRR on PCRR Release mechanism to PRS as modified by TPTF on January 7, 2008.  The motion carried by roll-call vote, with 100% in favor and ten abstentions (LCRA, CenterPoint Energy, Luminant, AEP, Calpine, Coral Power, Exelon, Reliant, BP Energy, and CitiGroup). All Market Segments were represented for the vot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proposed Market Rules changes to draft NPRR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Protocol Sections 4 and 6 Formula Clarifications and Related Revision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raft NPRR - Changes to Section 8 to Incorporate Role of TRE, the IMM, and the Concept of Market Compliance</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PRR093, Clarification to Definition of DUNS Number; Section 2, Definitions and Acronyms</a:t>
            </a:r>
            <a:endParaRPr b="0" lang="en-US" sz="1600" spc="-1" strike="noStrike">
              <a:solidFill>
                <a:srgbClr val="000000"/>
              </a:solidFill>
              <a:latin typeface="Arial"/>
            </a:endParaRPr>
          </a:p>
        </p:txBody>
      </p:sp>
      <p:sp>
        <p:nvSpPr>
          <p:cNvPr id="6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2F82BD2-9975-4874-AF38-A77F7D9B4D8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a:t>
            </a:r>
            <a:endParaRPr b="0" lang="en-US" sz="1800" spc="-1" strike="noStrike">
              <a:solidFill>
                <a:srgbClr val="000000"/>
              </a:solidFill>
              <a:latin typeface="Arial"/>
            </a:endParaRPr>
          </a:p>
        </p:txBody>
      </p:sp>
      <p:sp>
        <p:nvSpPr>
          <p:cNvPr id="69" name="Text Box 6"/>
          <p:cNvSpPr/>
          <p:nvPr/>
        </p:nvSpPr>
        <p:spPr>
          <a:xfrm>
            <a:off x="380880" y="770040"/>
            <a:ext cx="8077320" cy="5272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Upda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MS deferral item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that impact Market Participan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that impact ERCOT Operation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 for development and implementation of proposed change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of current FA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ment of draft NPRR for Disclosure of Resource Offers and Supply Curves in accordance with PUCT Rule 25.505 (f)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lpine proposal and Exelon comments regarding settlement issues associated with current limitation for combined-cycle configurations</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 Projec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disposition of comments for the Market Participant Identity Management Requirement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8, TPTF approved the INF Market Participant Identity Management Requirements v2.3 with the understanding that it will be updated to incorporate changes recommended by TPTF on January 8, 2008.  The motion carried by roll-call vote, with 100% in favor and five abstentions (First Choice Power, AEP, City of Allen, City of Eastland, and Coral Power).  All Market Segments, except Cooperative, were represented for the vote.</a:t>
            </a:r>
            <a:endParaRPr b="0" lang="en-US" sz="1600" spc="-1" strike="noStrike">
              <a:solidFill>
                <a:srgbClr val="000000"/>
              </a:solidFill>
              <a:latin typeface="Arial"/>
            </a:endParaRPr>
          </a:p>
        </p:txBody>
      </p:sp>
      <p:sp>
        <p:nvSpPr>
          <p:cNvPr id="70"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BE384AA-D9A3-4352-9824-FAEAE7C71C0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 (continued)</a:t>
            </a:r>
            <a:endParaRPr b="0" lang="en-US" sz="1800" spc="-1" strike="noStrike">
              <a:solidFill>
                <a:srgbClr val="000000"/>
              </a:solidFill>
              <a:latin typeface="Arial"/>
            </a:endParaRPr>
          </a:p>
        </p:txBody>
      </p:sp>
      <p:sp>
        <p:nvSpPr>
          <p:cNvPr id="73" name="Text Box 6"/>
          <p:cNvSpPr/>
          <p:nvPr/>
        </p:nvSpPr>
        <p:spPr>
          <a:xfrm>
            <a:off x="380880" y="770040"/>
            <a:ext cx="8077320" cy="5164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nounce January 14 Subgroup to discuss DAM Participation issues for Self-Committed Generation Resources </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remaining Readiness Metrics and market comments in the PMO Working Readiness Metric Inventory:</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RCOT Internal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2 - Verify ERCOT Performance Monitoring Test Pla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4 - Transition Pricing Mechanism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7 - Validate EDW Access and Accuracy of Postings Required by the IMM and PUCT Rules</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equired by the IMM and PUCT Rul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0 - Validate EDW Commercial Systems Access Accurac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1 - Validate EDW Compliance Data Acces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4 - Verify QSE Performance Monitoring Test Pla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5 - Verify TSP Performance Monitoring Test Plan</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nergy Management Operation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3 - Verify Outage Evaluation System Functionalit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4 - Run 7 Day Stability Test</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8 - Conduct EECP Test</a:t>
            </a:r>
            <a:endParaRPr b="0" lang="en-US" sz="1600" spc="-1" strike="noStrike">
              <a:solidFill>
                <a:srgbClr val="000000"/>
              </a:solidFill>
              <a:latin typeface="Arial"/>
            </a:endParaRPr>
          </a:p>
        </p:txBody>
      </p:sp>
      <p:sp>
        <p:nvSpPr>
          <p:cNvPr id="74"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A578760-6D99-4ED6-9BE7-2B58FC01EA1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 (continued)</a:t>
            </a:r>
            <a:endParaRPr b="0" lang="en-US" sz="1800" spc="-1" strike="noStrike">
              <a:solidFill>
                <a:srgbClr val="000000"/>
              </a:solidFill>
              <a:latin typeface="Arial"/>
            </a:endParaRPr>
          </a:p>
        </p:txBody>
      </p:sp>
      <p:sp>
        <p:nvSpPr>
          <p:cNvPr id="77" name="Text Box 6"/>
          <p:cNvSpPr/>
          <p:nvPr/>
        </p:nvSpPr>
        <p:spPr>
          <a:xfrm>
            <a:off x="380880" y="770040"/>
            <a:ext cx="8077320" cy="5447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remaining Readiness Metrics and market comments in the PMO Working Readiness Metric Inventory (continued):</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arket Operation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1 - Operate DA Market for 7 Day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2 - Operate 7 Day market with RUC</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3 - Verify Supplemental Ancillary Services Market (SASM)</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6 - Verify DAM Ancillary Services</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ntingency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1 - Contingency Plan Procedures for Weekly, Daily and Hourly RUC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2 - Contingency Plan Procedures for DAM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3 - Contingency Plan Procedures for ICCP Data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4 - Contingency Plan Procedures for SCED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5 - Contingency Plan Procedures for Key Settlement and Financial Transfer Process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6 - Develop Plan for SE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7 - Contingency Plan Procedures for a Backup Facilit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8 - Contingency Plan Procedures for Portal/API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9 - Contingency Plan Procedures for Site Unavailability</a:t>
            </a:r>
            <a:endParaRPr b="0" lang="en-US" sz="1600" spc="-1" strike="noStrike">
              <a:solidFill>
                <a:srgbClr val="000000"/>
              </a:solidFill>
              <a:latin typeface="Arial"/>
            </a:endParaRPr>
          </a:p>
        </p:txBody>
      </p:sp>
      <p:sp>
        <p:nvSpPr>
          <p:cNvPr id="7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67F7969-5D15-41E0-89E8-DDE98050E11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 (continued)</a:t>
            </a:r>
            <a:endParaRPr b="0" lang="en-US" sz="1800" spc="-1" strike="noStrike">
              <a:solidFill>
                <a:srgbClr val="000000"/>
              </a:solidFill>
              <a:latin typeface="Arial"/>
            </a:endParaRPr>
          </a:p>
        </p:txBody>
      </p:sp>
      <p:sp>
        <p:nvSpPr>
          <p:cNvPr id="81" name="Text Box 6"/>
          <p:cNvSpPr/>
          <p:nvPr/>
        </p:nvSpPr>
        <p:spPr>
          <a:xfrm>
            <a:off x="380880" y="770040"/>
            <a:ext cx="8077320" cy="5784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discussed the following:</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remaining Readiness Metrics and market comments in the PMO Working Readiness Metric Inventory (continued):</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ntingency Metrics (continued)</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10 - Verify Single Point of Failure Recovery EMS/MMS/NMMS/CRR/COMS</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MM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M1 - Market Monitor Systems Capability</a:t>
            </a:r>
            <a:endParaRPr b="0" lang="en-US" sz="1600" spc="-1" strike="noStrike">
              <a:solidFill>
                <a:srgbClr val="000000"/>
              </a:solidFill>
              <a:latin typeface="Arial"/>
            </a:endParaRPr>
          </a:p>
          <a:p>
            <a:pPr lvl="2" marL="914400">
              <a:lnSpc>
                <a:spcPct val="85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verall Readines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0 - Market Participants Operations Readines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1 - Nodal Readiness Declaratio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2 - Develop Texas Nodal Market Launch Plan</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January 8, TPTF endorsed ERCOT moving forward with the following metrics as modified by TPTF on January 8, 2008.  The motion carried by roll-call vote, with 100% in favor and no abstentions. All Market Segments, except Independent Generator, were represented for the vot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ERCOT Internal Metric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2 - Verify ERCOT Performance Monitoring Test Plan</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4 - Transition Pricing Mechanism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7 - Validate EDW Access and Accuracy of Postings Required by the IMM and PUCT Rules</a:t>
            </a:r>
            <a:endParaRPr b="0" lang="en-US" sz="1600" spc="-1" strike="noStrike">
              <a:solidFill>
                <a:srgbClr val="000000"/>
              </a:solidFill>
              <a:latin typeface="Arial"/>
            </a:endParaRPr>
          </a:p>
          <a:p>
            <a:pPr lvl="3" marL="1600200" indent="-2286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CC2959A-5F68-4B88-B7ED-E9DA2CE52A8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January 8 (continued)</a:t>
            </a:r>
            <a:endParaRPr b="0" lang="en-US" sz="1800" spc="-1" strike="noStrike">
              <a:solidFill>
                <a:srgbClr val="000000"/>
              </a:solidFill>
              <a:latin typeface="Arial"/>
            </a:endParaRPr>
          </a:p>
        </p:txBody>
      </p:sp>
      <p:sp>
        <p:nvSpPr>
          <p:cNvPr id="85" name="Text Box 6"/>
          <p:cNvSpPr/>
          <p:nvPr/>
        </p:nvSpPr>
        <p:spPr>
          <a:xfrm>
            <a:off x="380880" y="770040"/>
            <a:ext cx="8077320" cy="5524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anuary 8 vote continued:</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 </a:t>
            </a:r>
            <a:r>
              <a:rPr b="0" lang="en-US" sz="1600" spc="-1" strike="noStrike" u="sng">
                <a:solidFill>
                  <a:srgbClr val="000000"/>
                </a:solidFill>
                <a:uFillTx/>
                <a:latin typeface="Arial"/>
              </a:rPr>
              <a:t>Required by the IMM and PUCT Rul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0 - Validate EDW Commercial Systems Access Accurac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1 - Validate EDW Compliance Data Acces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4 - Verify QSE Performance Monitoring Test Plan</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15 - Verify TSP Performance Monitoring Test Plan</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Energy Management Operation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3 - Verify Outage Evaluation System Functionality</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O8 - Conduct EECP Test</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Market Operations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3 - Verify Supplemental Ancillary Services Market (SASM)</a:t>
            </a:r>
            <a:endParaRPr b="0" lang="en-US" sz="1600" spc="-1" strike="noStrike">
              <a:solidFill>
                <a:srgbClr val="000000"/>
              </a:solidFill>
              <a:latin typeface="Arial"/>
            </a:endParaRPr>
          </a:p>
          <a:p>
            <a:pPr lvl="1" marL="457200">
              <a:lnSpc>
                <a:spcPct val="85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Contingency Metric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1 - Contingency Plan Procedures for Weekly, Daily and Hourly RUC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2 - Contingency Plan Procedures for DAM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3 - Contingency Plan Procedures for ICCP Data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4 - Contingency Plan Procedures for SCED Failure</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5 - Contingency Plan Procedures for Key Settlement and Financial Transfer Processes</a:t>
            </a:r>
            <a:endParaRPr b="0" lang="en-US" sz="1600" spc="-1" strike="noStrike">
              <a:solidFill>
                <a:srgbClr val="000000"/>
              </a:solidFill>
              <a:latin typeface="Arial"/>
            </a:endParaRPr>
          </a:p>
          <a:p>
            <a:pPr lvl="2" marL="914400">
              <a:lnSpc>
                <a:spcPct val="85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6 - Develop Plan for SE Failure</a:t>
            </a:r>
            <a:endParaRPr b="0" lang="en-US" sz="1600" spc="-1" strike="noStrike">
              <a:solidFill>
                <a:srgbClr val="000000"/>
              </a:solidFill>
              <a:latin typeface="Arial"/>
            </a:endParaRPr>
          </a:p>
        </p:txBody>
      </p:sp>
      <p:sp>
        <p:nvSpPr>
          <p:cNvPr id="86"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ERCOT Staff</cp:lastModifiedBy>
  <dcterms:modified xsi:type="dcterms:W3CDTF">2008-01-31T20:48:51Z</dcterms:modified>
  <cp:revision>1014</cp:revision>
  <dc:subject/>
  <dc:title>TAC Update</dc:title>
</cp:coreProperties>
</file>