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C14D4-B9C8-42A9-B479-791C9A22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FDBD-A8ED-4842-8FB0-E22777EF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73050-7C02-40B8-A398-4267AE901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A9D74-2599-44B3-9931-E6FE379A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C8C78-8005-47A6-9064-26E87FA8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6360C-3374-45E8-9FB6-1C3B6AFC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14DB8-FF31-423F-B84C-A915AE8C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787A9-74DC-46A8-A6E4-D7907843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B48C-C10B-4401-91CE-EA435E50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073E6-935A-4586-A723-65278E9F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AEF9B-BD6B-48D4-8B02-6C9AA777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6327F-A6EB-4CB8-B79D-9ACA947C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AE64-5CC4-4BC1-8255-10706AD1A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D4E6-A32A-4ADC-A9E1-18173A67B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MO Update to TAC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February 7,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 Program Area Financi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 Program Area F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Project Priorit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9AECF-5DDE-4A08-ACA8-60A981C2ED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– 2007 Resul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7 CART Resul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nformation is still being compi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will be made available prior to the TAC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B50C2-D16F-4413-B445-3C1486CE1C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– 2008 Fund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8 CART Fund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828800" y="1447920"/>
          <a:ext cx="3276720" cy="3809880"/>
        </p:xfrm>
        <a:graphic>
          <a:graphicData uri="http://schemas.openxmlformats.org/drawingml/2006/table">
            <a:tbl>
              <a:tblPr/>
              <a:tblGrid>
                <a:gridCol w="1163520"/>
                <a:gridCol w="211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2008 Fu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03A05-4096-481C-9C29-92A0F28BEA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2009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2009 will be a unique year for project planning due to Nod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y and type of SO/MO projects in 2009 is not yet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RCOT expects to file a fee case in early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Yearly budget cycle will be earlier than the typical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hese factors limit our ability to produce the typical level of detail for project prioritization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Project Requests, CBAs, Time &amp; Cost Estimat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RCOT has proposed a two phase approach to 2009 pl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Phase 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– Develop high level initiatives list in early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Phase 2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– Complete required documents in late 2008 for allocation of 2009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Important 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 project will be allowed to proceed without all require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oth phases will be completed with market subcommittee invol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426FD-22E8-40B2-A387-1DC227D415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2009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of initiatives to include all efforts expected in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ART provides as much information as it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s by proje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budget request determined by summing initiatives list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RT must stay within a range of effort that they think they can deliver in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T Funding All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ing per CART determined in lat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ing provided for “Previously Approved” projects initiated in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ing provided for projects that have been defined (all documen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s for efforts not yet defined to be held by S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unding will be allocated as projects become ready to init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oposed schedule of activities on the final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06ED-7C8B-4FCA-B465-CC27A36FF4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2009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 –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list of high level initiatives by CART with budget range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–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ERCOT approval of initiatives list &amp; budget (SRT, 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articipant approval of initiatives list &amp; budget (subcommittees, T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&amp;A and Board of Directors approval of initiatives list &amp;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–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2009 Divisional PPLs according to current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ion of funds to CARTs for Previously Approved and known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e with the funding approach outlined on slid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5A1A5-C211-4E53-A92F-BF87E33CD6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-  2009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Project Prioritization Schedule - 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s revise 2009 Initiative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ebr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bruary 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bruary 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bruary 14 / February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market sub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13 / March 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, IO, MO, RO, SO – P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T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ril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ril 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109F-169E-4C07-8DE1-945CD134A7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94FD1-ED3F-46A4-96CB-DD437E7BA9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8-01-31T20:55:13Z</dcterms:modified>
  <cp:revision>179</cp:revision>
  <dc:subject/>
  <dc:title>Instructions</dc:title>
</cp:coreProperties>
</file>