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5F42-5834-4841-9733-A48749FB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8BEB-BB61-4680-904A-27B335C2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2183-B5C0-4624-A63B-BAF96FA0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1E8C-B1B1-483E-9B11-4D379839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7E65-19AF-43C1-9025-99A89FC1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082D-3C7E-49A8-BCE4-2E85AB7B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0122-2878-44F1-A5D7-606218A3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5A16-EB48-4E03-8E70-4B44D644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951F-9AA4-438A-9F89-9730219B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88F9-AB97-48DD-9860-2DACC303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9981-AE68-4862-8723-35EFE784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406B-5505-4B00-AD91-19C6E6A4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922D-1278-4914-8582-53282B08D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edit Work Group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7,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new CWG Chair and Vice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s from the January 3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WG meeting and Feb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&amp;A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roduce new CWG Chair and Vice Chai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ERCOT Credit WG – Chai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anda List – Strateg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ERCOT Credit WG – Vice Chai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 Coffing – Lumin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ighlights from the January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CWG meeting and Feb 6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F&amp;A meeting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WG met on January 3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review the results from the Oliver Wyman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the assumptions used in the model at a hig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the baseline results from th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ed some factors that “stress”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nance and Audit committee of the BOD met yesterday to review the OW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urpose of the stud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trying to answer the question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maximum credit loss to which the market is or can be expos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given confidenc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a specific time-fram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particular set of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re confident we want to be, the larger the maximum loss number that must be conside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termining how confident we want to be, stakeholders must consider the cost of achieving that degree of confidence and vice 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ally evaluating potential credit exposure means looking at both what i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ke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happen and what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ppen in extreme situation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eliminary resul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line results show the follow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90% of the simulations, losses were less than $8.3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of the simulations had no losses; either no defaults or defaults with adequate collat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loss was $3 million; median was $2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10% of the simulations, losses were more than $8.3 mill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imulations had substantially higher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these estimates represent reasonable estimations of potential losses, actual losses may be more or less than these, as all possible scenarios are not address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AC would like more depth on the OW project, we can  provide further updates as desired to this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W will present results to ERCOT Board of Directors on February 1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will examine any specific potential loss scenarios suggested by the Finance and Audit Committee, the Board or market grou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will continue testing the credit loss models (Zonal and Nodal) to develop a more complete understanding of the interaction of these key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will look at the ways in which it’s current credit controls could fail to provide the necessary collateral to maintain this level of credit loss 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-if” scenarios that result in greater credit lo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ed examination of the very largest loss simulations produced by th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ation of how these extreme cases might be prevented or mitig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proje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gan let you know last month about some of the projects CWG plans to address this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have been reviewing and prioritizing that list of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would like to know if TAC has other projects they would like CWG to look 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yager_VS</cp:lastModifiedBy>
  <dcterms:modified xsi:type="dcterms:W3CDTF">2008-02-06T23:46:56Z</dcterms:modified>
  <cp:revision>28</cp:revision>
  <dc:subject/>
  <dc:title>Instructions</dc:title>
</cp:coreProperties>
</file>