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BD9-0AC7-4EDE-8F05-71BB9243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C98-13F8-468D-9398-B807DD71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2557-D5B2-4A73-BC4B-D85E5331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FAE-32B0-4B45-ABBB-0835B7FF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E91-5602-477C-A13D-062E4017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BAE-9E10-4590-B2A4-9B2C5C7F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360-F844-4826-9544-284E2522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0B6-AF50-49E8-91CD-E6594DEF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71E-5E55-46D3-B9A7-9D12D28A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F12-8FD4-43EB-BE85-90530A3F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B33-DF69-4AEE-8953-7EB77529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AC7-5157-4B65-AAB8-05B3D949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2D57-4A54-41DE-9DA0-D9199A535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TAC Subcommittee Chairs &amp; Vice-Chai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04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Lee Starr, B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-Chai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ck Moore, Direc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Kevin Gresham, Reli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-Chai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 Madden, StarTex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Blake Gross, A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-Chai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nnifer Garcia, Direc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Paul Rocha, Cent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-Cha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y Jones, Cal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Brad Belk, LC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-Chai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bara Clemenhagen, Top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ERCOT</cp:lastModifiedBy>
  <dcterms:modified xsi:type="dcterms:W3CDTF">2008-01-22T21:14:20Z</dcterms:modified>
  <cp:revision>45</cp:revision>
  <dc:subject/>
  <dc:title>Role of Account Management at ERCOT</dc:title>
</cp:coreProperties>
</file>