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AFA9-909B-49F6-8735-859F3F8CB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NERC_CEP_Flowcharts.pdf" TargetMode="External"/><Relationship Id="rId3" Type="http://schemas.openxmlformats.org/officeDocument/2006/relationships/hyperlink" Target="http://www.ercot.com/mktrules/compliance/keydocs/Compliance_Processes_Flowcharts.pdf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_Audit_Schedule_TexasRE.xls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_TRE_Compliance_Enforcement_Program_Implementation_Plan_.pdf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0480" y="1904760"/>
            <a:ext cx="639108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 Report</a:t>
            </a:r>
            <a:endParaRPr b="0" lang="en-US" sz="40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20840" y="3580920"/>
            <a:ext cx="65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Larry Grimm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February 7, 2008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February 7, 200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SE PRR 525 10-Minute Interval Scoring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911160"/>
            <a:ext cx="78483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cember 2007 – SCPS2 Scor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315200" cy="472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84582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December 2007 Resource Plan Performance Metric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istration Activiti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ity Registration issues continue to be addres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chasing-Selling Entity (PSE) regist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ntity registration notices were sent to 33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criteria u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ty operates as a Qualified Scheduling Entity (QSE) in the ERCOT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Functional Model for PSE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le to schedule transactions over the DC 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ISO PSE registration has been remov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-Serving Entity (LSE) registration is to be addressed – On hold until December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RC Order Directives related to LSE registration issues are addres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int Registration Organization (JRO) of some entities is lik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Functional Entity Typ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0666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 – Distribution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– Generator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– Generator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– Transmission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 – Transmission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 – Purchasing-Selling E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0666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– Reliability Coordin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 – Balanc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– Transmission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 – Plann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 – Transmission Service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P – Resource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liance Process Flowchart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Compliance Monitoring and Enforcement Program – Reliability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 to NERC Reliability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ompliance Process – ERCOT Protocols and Operating Gu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 to Protocols &amp; Guides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s by Registered Func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45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008 Compliance Audits Scheduled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y Entity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45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 Schedul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8 Texas RE Audit Schedule is availabl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iance Reviews of Events by Month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45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Highlights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20840" y="1066680"/>
            <a:ext cx="6502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’s Control Performance Standard (NERC CPS1) score for December – 120.7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scores for December indicates 33 non-wind-only QSEs passed and 1 non-wind-only QSE failed the PRR 525 mea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olations of ERCOT Protocol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880" y="1181160"/>
            <a:ext cx="8382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olations of NERC Standards Reported by Month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45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Standards Self-Certifica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C Registered Entities NOT audited in 2007 required to self-certify to the actively monitored Reliability Standards applicable to their Registration(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5 Total Registered Func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4% overall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outstanding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the NERC escalation process to obtain an acceptable response from the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Standards Self-Certifica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ate, 25 alleged violations have been identified through December 2007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 FAC-008 – lack documente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FAC-009 – lack documente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CIP-001 – lack documente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G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IRO-004 – lack documente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GOs; 1 G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PRC-005 – relay maintenance delinqu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; 2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NERC Standards Self-Certification Violation Detail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5036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572000" y="3276720"/>
            <a:ext cx="4419720" cy="2590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52280" y="3276720"/>
            <a:ext cx="4343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RC Standards Self-Reported Violation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isk Factors for Self-Reported NERC Standards Violations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RC Standards Self-Reported Violation Categorization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xas RE Monthly Summary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December……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col &amp; Operating Guides vio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new alle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C Standards vio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lleged – all resulting from Registered Entity spot 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abl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ompliance Review in final s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new event reported – Compliance Review ini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C approved th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xas RE 2008 Compliance Enforcement Program Implementation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2478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xas Regional E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124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Report Deta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RC CPS1 Performance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’s CPS1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:  120.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:  129.4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2007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cember 2007:  127.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2006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cember 2006:  142.0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R 525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s for December indicate 33 non-wind-only QSEs passed and 1 non-wind-only QSE failed th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RCOT CPS1 Performance Comparison</a:t>
            </a:r>
            <a:endParaRPr b="0" lang="en-US" sz="3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8001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RCOT CPS1 Year-to-Year Comparison</a:t>
            </a:r>
            <a:endParaRPr b="0" lang="en-US" sz="3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381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’s CPS1 Monthly Performanc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076400"/>
            <a:ext cx="83059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 CPS1 by Interval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LGrimm</cp:lastModifiedBy>
  <dcterms:modified xsi:type="dcterms:W3CDTF">2008-01-28T17:46:44Z</dcterms:modified>
  <cp:revision>115</cp:revision>
  <dc:subject/>
  <dc:title>Instructions</dc:title>
</cp:coreProperties>
</file>