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981E663-2E57-48E6-9C57-83487E806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led by Dan Jones – WMS voted to support item 1 and was silent on item 2.  Nothing has happened yet.  ERCOT staff is considering a Market no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the CSC Shadow Price cap to $5,600/M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ap increase from $1,000 to $2,250 (2.25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ow price cap increase from $2,500 to $5,600 (~2.25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price administration to limit any negative zonal price to a minimum of ($1,000)/MW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nd </a:t>
            </a:r>
            <a:r>
              <a:rPr b="0" i="1" lang="en-US" sz="1200" spc="-1" strike="noStrike">
                <a:solidFill>
                  <a:srgbClr val="000000"/>
                </a:solidFill>
                <a:latin typeface="Arial"/>
              </a:rPr>
              <a:t>ex ante </a:t>
            </a:r>
            <a:r>
              <a:rPr b="0" lang="en-US" sz="1200" spc="-1" strike="noStrike">
                <a:solidFill>
                  <a:srgbClr val="000000"/>
                </a:solidFill>
                <a:latin typeface="Arial"/>
              </a:rPr>
              <a:t>ultimate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manual and </a:t>
            </a:r>
            <a:r>
              <a:rPr b="0" i="1" lang="en-US" sz="1200" spc="-1" strike="noStrike">
                <a:solidFill>
                  <a:srgbClr val="000000"/>
                </a:solidFill>
                <a:latin typeface="Arial"/>
              </a:rPr>
              <a:t>ex post</a:t>
            </a:r>
            <a:r>
              <a:rPr b="0" lang="en-US" sz="1200" spc="-1" strike="noStrike">
                <a:solidFill>
                  <a:srgbClr val="000000"/>
                </a:solidFill>
                <a:latin typeface="Arial"/>
              </a:rPr>
              <a:t> initia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C shadow price will also be re-determined administratively and </a:t>
            </a:r>
            <a:r>
              <a:rPr b="0" i="1" lang="en-US" sz="1200" spc="-1" strike="noStrike">
                <a:solidFill>
                  <a:srgbClr val="000000"/>
                </a:solidFill>
                <a:latin typeface="Arial"/>
              </a:rPr>
              <a:t>ex post </a:t>
            </a:r>
            <a:r>
              <a:rPr b="0" lang="en-US" sz="1200" spc="-1" strike="noStrike">
                <a:solidFill>
                  <a:srgbClr val="000000"/>
                </a:solidFill>
                <a:latin typeface="Arial"/>
              </a:rPr>
              <a:t>if this price administration occ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discussed the ongoing mission of the Congestion Management Working Group and acknowledged that their mission would be focused largely on transitions issues this year with a foot in both the zonal and nodal worlds.  After zonal, it will change and will among other things include review of competitive constrain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S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ifiable C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ction is required from TAC</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pdate – no action – met 5 times – next meeting in Feb – final report for vote at the March W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ublished on low side – staff reported that High Side would be ok – Staff reported back to low side – an e-mail exchange broke out and staff addressed the issue at WMS.  After a brief (by WMS standards) discussion The High Low Task Force (HLTF) was created to determine the advantages and disadvantages of placing the Resource Node on either side of the Generation Step Up Transfor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Nodes mark the location where prices are created and transactions such as bidding and scheduling will take place near Generators.  The HLTF reached consensus early on that Resource Nodes will be located on the High Voltage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did considerable work before the TF met and had largely resolved the issue for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TF will meet again on Feb 15, 2008 to discuss remaining question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transactions at an electrically disconnected Resource Node be handled; e.g. Day Ahead energy only offers and b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there rules which ERCOT should use in determining exact Resource Node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PTF sub group on Private Use Networks will carry on with discussions concerning Resource Node locations in P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en Fros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ties in service by end of march, Eagle Pass remains for emergency only.  Commercial use does not reduce the value during emergencies.  Market notice will help clarify how to use it.  Colleen also addressed the amount of spinning reserve procured in November and sent a follow up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bel reported on congestion costs.  Most notably a $6.4 million in uplifted cost associated with the W-N CSC on Jan 1 though 14 and of which $5.3 million happened on the 3</a:t>
            </a:r>
            <a:r>
              <a:rPr b="0" lang="en-US" sz="1200" spc="-1" strike="noStrike" baseline="30000">
                <a:solidFill>
                  <a:srgbClr val="000000"/>
                </a:solidFill>
                <a:latin typeface="Arial"/>
              </a:rPr>
              <a:t>rd</a:t>
            </a:r>
            <a:r>
              <a:rPr b="0" lang="en-US" sz="1200" spc="-1" strike="noStrike">
                <a:solidFill>
                  <a:srgbClr val="000000"/>
                </a:solidFill>
                <a:latin typeface="Arial"/>
              </a:rPr>
              <a:t> and 4</a:t>
            </a:r>
            <a:r>
              <a:rPr b="0" lang="en-US" sz="1200" spc="-1" strike="noStrike" baseline="30000">
                <a:solidFill>
                  <a:srgbClr val="000000"/>
                </a:solidFill>
                <a:latin typeface="Arial"/>
              </a:rPr>
              <a:t>t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utages [specifically, Abilene and Parker-Willow Creek] led to lower thermal and stability limits compiled by high winds that yielded about 3,000MWs of wind power, and the submission of inaccurate Resource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scussion on EILS process and the challenges of how to write up ERCOT’s procedur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veloped 3 recommendations, discussed in detail and t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 polls to see if consensus of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ok all options to Saathoff for review; he selected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committee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aathoff briefed Exec Comm (ERCOT officers); EC didn't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with it, though did not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7640F-5BD1-46EC-9483-65812FC77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EFCD9-B425-46B7-A6C7-9ED6084C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449B0-7A80-4F92-83CF-56BDA94D2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00B93-0833-4E38-9128-3130C0649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83A46-A302-474D-A6D9-363414E1F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BDC8C-E381-4C37-B65C-7B6F1DCEF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CBA46-F176-4632-82B7-F88672BA5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54928-DE86-4F27-90E1-818F17797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87C03-2F0B-410F-B324-A5C385C5D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F19B2-BF37-4BCD-A0C8-D658569F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6F648-1EE0-49FE-B887-9E4D7F6C9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A27E1-4BF6-4B69-9367-ECB87AF3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27F55-5C21-422F-8191-EEAB1ACC0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36F81-066F-4ED1-99A0-BDD434B20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5D422-1612-4677-A8DE-9BBCD7492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CCF5F-6E6A-4D6D-88C8-824F76F41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C557F-9860-4FA6-9E67-118992200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91F3-F1CE-402C-B566-2774191F2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0A5E1-3A72-438B-85B2-D323E67D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6B554-3F99-4CB3-A860-BF781DF3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E7272-B561-4AB5-970B-040FBB226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4979-FAFC-4B81-8943-65B543405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F1E5-1114-4AEC-B4CA-8C1EB0B75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EEE0-16A8-463E-9C7A-402FF8D3C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B045-B7FD-438E-816F-491E6446DF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64C9-AD5F-491E-A652-F5DEB9D1BD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ebruary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41F93E8-36FD-494A-8527-38FAA6A85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crease the CSC Shadow Price cap to $5,600/MW</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pply price administration to limit any negative zonal price to a minimum of ($1,000)/MW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EE9B4A0-48C9-45D2-A00B-CFEE6BA1A4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0E0061C8-BB48-430A-B4FF-FE0332762E6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Working Group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ve Staff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WM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080A1AB-2035-49BD-87C9-F328B00E1E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firm Mary Anne Brelinsky as Chairman</a:t>
            </a:r>
            <a:endParaRPr b="0" lang="en-US" sz="2800" spc="-1" strike="noStrike">
              <a:solidFill>
                <a:srgbClr val="ffffff"/>
              </a:solidFill>
              <a:latin typeface="Tahoma"/>
            </a:endParaRPr>
          </a:p>
          <a:p>
            <a:pPr lvl="2" marL="1143000" indent="-228600">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ehman Brothers (REP/QSE)</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firm Nelson Nease as Co-Vice Chair </a:t>
            </a:r>
            <a:endParaRPr b="0" lang="en-US" sz="2800" spc="-1" strike="noStrike">
              <a:solidFill>
                <a:srgbClr val="ffffff"/>
              </a:solidFill>
              <a:latin typeface="Tahoma"/>
            </a:endParaRPr>
          </a:p>
          <a:p>
            <a:pPr lvl="2" marL="1143000" indent="-228600">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cor Steel (Industrial User)</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firm Timothy Carter as Co-Vice Chair</a:t>
            </a:r>
            <a:endParaRPr b="0" lang="en-US" sz="2800" spc="-1" strike="noStrike">
              <a:solidFill>
                <a:srgbClr val="ffffff"/>
              </a:solidFill>
              <a:latin typeface="Tahoma"/>
            </a:endParaRPr>
          </a:p>
          <a:p>
            <a:pPr lvl="2" marL="1143000" indent="-228600">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Constellation New Energy (REP/QS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DEBD333-FD84-42C5-9EE0-E87B9DAD2A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stablished goals for the year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mand Response Task Force updat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gative LaaR bids in Nod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ed LaaR ev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FC8453B-DF1F-44A7-84C6-20D2D6DF6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VCTF</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t five tim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dentified Goals and Deliverabl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list of “Principl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dentified  Issues under each VC Principle</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gregated voting and consensus issu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 report for WMS vote in March</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97D8659-F333-486E-B81E-33275C3F35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source Node loc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pdate on DC tie ope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port on System Conges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ucture of Nodal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ILS resul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3FF2DF1-3A04-4D65-B44A-83364B9A0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02"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l RFPs/bids back on Jan. 8</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MW bids than previous RFPs</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lection committee of</a:t>
            </a:r>
            <a:endParaRPr b="0" lang="en-US" sz="3200" spc="-1" strike="noStrike">
              <a:solidFill>
                <a:srgbClr val="ffffff"/>
              </a:solidFill>
              <a:latin typeface="Tahoma"/>
            </a:endParaRPr>
          </a:p>
          <a:p>
            <a:pPr lvl="1" marL="690840" indent="-265680">
              <a:lnSpc>
                <a:spcPct val="8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Es</a:t>
            </a:r>
            <a:endParaRPr b="0" lang="en-US" sz="3200" spc="-1" strike="noStrike">
              <a:solidFill>
                <a:srgbClr val="ffffff"/>
              </a:solidFill>
              <a:latin typeface="Tahoma"/>
            </a:endParaRPr>
          </a:p>
          <a:p>
            <a:pPr lvl="1" marL="690840" indent="-265680">
              <a:lnSpc>
                <a:spcPct val="8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ltiple departments management</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rted by Business Hours/Non-Business Hours</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rted by price</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 history of past performance</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idered $50M cost cap</a:t>
            </a:r>
            <a:endParaRPr b="0" lang="en-US" sz="3200" spc="-1" strike="noStrike">
              <a:solidFill>
                <a:srgbClr val="ffffff"/>
              </a:solidFill>
              <a:latin typeface="Tahoma"/>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8F77E4A-BB17-40C3-9A6A-CCEDDF3F9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asonal aspec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siness vs. Non-business hou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lative value compared to other 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signals sent to the marke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UC desire to stimulate demand respon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ogical break points in pri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473E2E6-E85B-4127-9FCC-60C38324D1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Selection Cmty recommendation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 and agreement from Kent 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 and agreement from Officer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er subsequent Market Notice:</a:t>
            </a:r>
            <a:endParaRPr b="0" lang="en-US" sz="3200" spc="-1" strike="noStrike">
              <a:solidFill>
                <a:srgbClr val="ffffff"/>
              </a:solidFill>
              <a:latin typeface="Tahoma"/>
            </a:endParaRPr>
          </a:p>
          <a:p>
            <a:pPr lvl="1" marL="720720" indent="-27720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262 MW business hours @ $9.73 </a:t>
            </a:r>
            <a:endParaRPr b="0" lang="en-US" sz="3200" spc="-1" strike="noStrike">
              <a:solidFill>
                <a:srgbClr val="ffffff"/>
              </a:solidFill>
              <a:latin typeface="Tahoma"/>
            </a:endParaRPr>
          </a:p>
          <a:p>
            <a:pPr lvl="1" marL="720720" indent="-27720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185 MW non-business hours @ $7.86</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D02245B-C1AA-4A10-9A5D-EABDA511A4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02-06T15:48:46Z</dcterms:modified>
  <cp:revision>127</cp:revision>
  <dc:subject/>
  <dc:title>WMS Report TO TAC</dc:title>
</cp:coreProperties>
</file>