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C1D05-E4DD-4B29-A48C-7B80E71DD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37576-AAB9-4471-B29D-1631213B8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72798-56F5-4E5E-BF0C-92FE3622E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CB74C-0BBB-4201-BA89-29719FF57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6A884-E2B4-4E5F-A48D-F55A8D047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276DA-4AE6-43B9-A17B-84C86D16A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3F741-2B74-4D0B-AC48-D1D26E1AD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F8ADB-94E8-460A-AAC8-63D102735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B44F5-CA69-42E2-8504-3695D886B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572F7-CCBA-4577-A5FB-CCF108437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3C59F-29B5-4A4B-B2DA-95F47F36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14397-0A63-4FF4-9C16-F0221978C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4A638-490B-4D58-96AB-12000531B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FC8F7-56D3-4C6D-B66E-812B67B6C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6C21F-24A2-460E-99DA-95DCFD837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71376-407E-4C02-B77A-21F5998D7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05124-2F15-4DD1-9AAF-44BCB83BF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FF481-4BFD-4DA2-82B6-90703182F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1B822-1B9A-469C-ADC6-57FB12AAF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66987-A968-41F3-8220-20420A26C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A3456-7CC8-4D6B-BE72-76C4140A9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C3F63-1193-49D1-B409-0A387040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4D244-ED99-43CD-A596-B6149573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F5659-2CF9-407C-BC58-69988708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D3B49-41B3-41AD-AB10-C83791D469D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46A31-5F67-47BC-922D-21A04E1ACDA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81280"/>
            <a:ext cx="7772400" cy="15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Garamond"/>
              </a:rPr>
              <a:t>Protocol Revision Subcommitte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80880" y="38862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sentation to th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RCOT Technical Advisory Committe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ebruary 7, 200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NPRR 085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 – Revision of Digital Certificate Procedure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457200" y="1600200"/>
          <a:ext cx="8229600" cy="4851360"/>
        </p:xfrm>
        <a:graphic>
          <a:graphicData uri="http://schemas.openxmlformats.org/drawingml/2006/table">
            <a:tbl>
              <a:tblPr/>
              <a:tblGrid>
                <a:gridCol w="2743200"/>
                <a:gridCol w="698400"/>
                <a:gridCol w="4788000"/>
              </a:tblGrid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ERCO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ocuments that MPs must generate their own USA and digital certificate holder lists for audit purposes; automates digital certificate transactions (i.e., enroll, renew, revoke, audit)  (PRR 741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creased ERCOT IT system security; streamlines and improves current processes; automation facilitates MP certificate management without ERCOT staff  interac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S unanimously recommended approval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Upon Texas Nodal implementation; no impact to nodal budget or implement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NPRR 088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 – Revision to 16.11.5, Monitoring of a Counter-Party’s Creditworthiness and Credit Exposure by ERCOT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57200" y="1600200"/>
          <a:ext cx="8229600" cy="4727520"/>
        </p:xfrm>
        <a:graphic>
          <a:graphicData uri="http://schemas.openxmlformats.org/drawingml/2006/table">
            <a:tbl>
              <a:tblPr/>
              <a:tblGrid>
                <a:gridCol w="2743200"/>
                <a:gridCol w="698400"/>
                <a:gridCol w="4788000"/>
              </a:tblGrid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Reliant Energy, IPM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nsures that ERCOT will receive and accept as sufficient from the QSE, financial statements of a QSE or a guarantor if a guarantee is being provided for the purpose of determining a QSE’s creditworthiness (PRR 744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nforms the Protocols to industry standard credit practic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S recommended approval with 1 opposing vote (MOU) and 2 abstentions (IREP, Coop)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Upon Texas Nodal implementation; no impact to nodal budget or implement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NPRR 090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 – Corrections of FIP-FOP in Energy Offer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457200" y="1523880"/>
          <a:ext cx="8229600" cy="4969080"/>
        </p:xfrm>
        <a:graphic>
          <a:graphicData uri="http://schemas.openxmlformats.org/drawingml/2006/table">
            <a:tbl>
              <a:tblPr/>
              <a:tblGrid>
                <a:gridCol w="2743200"/>
                <a:gridCol w="698400"/>
                <a:gridCol w="4788000"/>
              </a:tblGrid>
              <a:tr h="111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ERCOT for TPTF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rrects the submission and use of Fuel Index Price (FIP) and Fuel Oil Price (FOP) percentages in energy offer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nsures correct mitigated levels of start-up offers, minimum energy offers and energy offer curves will result in better market price signals and eliminate likely disputes regarding use of incorrect valu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S recommended approval with 1 opposing vote and 1 abstention (revised by PRS)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Upon Texas Nodal implementation; no impact to nodal budget or implementation; critical to project timelin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Garamond"/>
              </a:rPr>
              <a:t>PRR/NPRR Summa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37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Revision Requests Recommended for Approva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Garamond"/>
              </a:rPr>
              <a:t>PRR 740 – Creating Amendment to Standard Form Market Participant Agreement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Garamond"/>
              </a:rPr>
              <a:t>PRR 749 – Rule Change to the REC Trading Program – </a:t>
            </a:r>
            <a:r>
              <a:rPr b="1" lang="en-US" sz="1800" spc="-1" strike="noStrike">
                <a:solidFill>
                  <a:srgbClr val="ff0000"/>
                </a:solidFill>
                <a:latin typeface="Garamond"/>
              </a:rPr>
              <a:t>URGENT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Garamond"/>
              </a:rPr>
              <a:t>PRR 750 – Unannounced Generation Resource Testing -- </a:t>
            </a:r>
            <a:r>
              <a:rPr b="1" lang="en-US" sz="1800" spc="-1" strike="noStrike">
                <a:solidFill>
                  <a:srgbClr val="ff0000"/>
                </a:solidFill>
                <a:latin typeface="Garamond"/>
              </a:rPr>
              <a:t>URGENT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Garamond"/>
              </a:rPr>
              <a:t>NPRR 084 – Creating Amendment to Standard Form Market Participant Agreement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Garamond"/>
              </a:rPr>
              <a:t>NPRR 085 – Revision of Digital Certificate Procedure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Garamond"/>
              </a:rPr>
              <a:t>NPRR 088 – Revision to 16.11.5, Monitoring of Counter-Party’s Creditworthiness and Credit Exposure by ERCOT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Garamond"/>
              </a:rPr>
              <a:t>NPRR 090 – Corrections of FIP-FOP in Energy Offer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Garamond"/>
              </a:rPr>
              <a:t>PRS Activities Update &amp;  Goal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37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ppeals Proces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PRR 753, PRR Appeals Process was submitted by ERCOT and will be reviewed by PRS on a normal timelin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PRS suggests the ERCOT Board could base an appeals process for non-PRR TAC decisions on the outcome of PRR 75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Goals (Not approved by PRS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Process PRRs and NPRRs (Section 21 requirement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Facilitate and make recommendations for 2009 Project Priorities as requested by ERCO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Review NPRRs necessary for “go-live” and collaborate with ERCOT PMO to structure a process for “releasing” NPRRs to be included in “go-live plus ‘x’”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891360" indent="-178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PRS reported a process for “parking” NPRRs not necessary to “go-live” in May 2007 to TAC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891360" indent="-178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PRS deferred developing a process for NPRR releases until 2008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Garamond"/>
              </a:rPr>
              <a:t>PRS Summa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1120" y="1985760"/>
            <a:ext cx="792936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 PRRs for Approval (IAs only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 NPRRs for Approv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ctivity Upda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ppeals Proc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Goa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R 740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 – Creating Amendment to Standard Form Market Participant Agreement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533520" y="1752480"/>
          <a:ext cx="8076960" cy="3664080"/>
        </p:xfrm>
        <a:graphic>
          <a:graphicData uri="http://schemas.openxmlformats.org/drawingml/2006/table">
            <a:tbl>
              <a:tblPr/>
              <a:tblGrid>
                <a:gridCol w="3047760"/>
                <a:gridCol w="639720"/>
                <a:gridCol w="4389480"/>
              </a:tblGrid>
              <a:tr h="68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ERCO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dds new form amendment to the Protoco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llows Market Participants to amend their Standard Form Agreement (SFA) without submitting a new SF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S unanimously recommended approval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pril 1, 20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R 740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 – Creating Amendment to Standard Form Market Participant Agreement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1905120"/>
            <a:ext cx="761976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95480" y="18892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86200" y="18892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800600" y="18892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25146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2120" y="30481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35812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41148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46483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51814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29000" y="2070000"/>
            <a:ext cx="186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39600" y="199404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35440" y="1944720"/>
            <a:ext cx="909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7880" y="5192640"/>
            <a:ext cx="210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Credit Monitor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Liabi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97760" y="2625840"/>
            <a:ext cx="89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Bud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75440" y="3159000"/>
            <a:ext cx="97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Staff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23160" y="3681360"/>
            <a:ext cx="22230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Garamond"/>
              </a:rPr>
              <a:t>Computer System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39720" y="4226040"/>
            <a:ext cx="21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Business Func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35760" y="4759200"/>
            <a:ext cx="18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Grid Oper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49840" y="1944720"/>
            <a:ext cx="90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00400" y="25909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00400" y="31240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00400" y="365760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00400" y="41911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00400" y="47242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00400" y="52578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57913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R 749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 – Rule Change to the REC Trading Program -- </a:t>
            </a:r>
            <a:r>
              <a:rPr b="1" i="1" lang="en-US" sz="3600" spc="-1" strike="noStrike">
                <a:solidFill>
                  <a:srgbClr val="ff0000"/>
                </a:solidFill>
                <a:latin typeface="Garamond"/>
              </a:rPr>
              <a:t>URGENT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57200" y="1828800"/>
          <a:ext cx="8229600" cy="4325760"/>
        </p:xfrm>
        <a:graphic>
          <a:graphicData uri="http://schemas.openxmlformats.org/drawingml/2006/table">
            <a:tbl>
              <a:tblPr/>
              <a:tblGrid>
                <a:gridCol w="2743200"/>
                <a:gridCol w="698400"/>
                <a:gridCol w="4788000"/>
              </a:tblGrid>
              <a:tr h="99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ERCO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mends Protocols regarding Renewable Energy Credits including account qualification, award formulas and introduces compliance premium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nforms to PUC Subst. R. 25.173, 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oal for Renewable Energ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S unanimously recommended approval (revised by Luminant, FPL Energy, Austin Energy &amp; PRS)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rch 1, 20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R 749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 – Rule Change to the REC Trading Program -- </a:t>
            </a:r>
            <a:r>
              <a:rPr b="1" i="1" lang="en-US" sz="3600" spc="-1" strike="noStrike">
                <a:solidFill>
                  <a:srgbClr val="ff0000"/>
                </a:solidFill>
                <a:latin typeface="Garamond"/>
              </a:rPr>
              <a:t>URGENT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"/>
          <p:cNvSpPr/>
          <p:nvPr/>
        </p:nvSpPr>
        <p:spPr>
          <a:xfrm>
            <a:off x="762120" y="1905120"/>
            <a:ext cx="761976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895480" y="18892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86200" y="18892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800600" y="18892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25146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62120" y="30481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62120" y="35812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41148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62120" y="46483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62120" y="51814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9000" y="2070000"/>
            <a:ext cx="186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439600" y="199404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35440" y="1944720"/>
            <a:ext cx="909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77880" y="5192640"/>
            <a:ext cx="210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Credit Monitor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Liabi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97760" y="2625840"/>
            <a:ext cx="89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Bud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75440" y="3159000"/>
            <a:ext cx="97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Staff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3160" y="3681360"/>
            <a:ext cx="22230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Garamond"/>
              </a:rPr>
              <a:t>Computer System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39720" y="4226040"/>
            <a:ext cx="21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Business Func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5760" y="4759200"/>
            <a:ext cx="18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Grid Oper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49840" y="1944720"/>
            <a:ext cx="90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00400" y="25909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0400" y="31240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00400" y="365760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0400" y="41911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00400" y="47242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00400" y="52578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57913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R 750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 – Unannounced Generation Capacity Testing -- </a:t>
            </a:r>
            <a:r>
              <a:rPr b="1" i="1" lang="en-US" sz="3600" spc="-1" strike="noStrike">
                <a:solidFill>
                  <a:srgbClr val="ff0000"/>
                </a:solidFill>
                <a:latin typeface="Garamond"/>
              </a:rPr>
              <a:t>URGENT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609480" y="1828800"/>
          <a:ext cx="8001000" cy="4367160"/>
        </p:xfrm>
        <a:graphic>
          <a:graphicData uri="http://schemas.openxmlformats.org/drawingml/2006/table">
            <a:tbl>
              <a:tblPr/>
              <a:tblGrid>
                <a:gridCol w="2667240"/>
                <a:gridCol w="677880"/>
                <a:gridCol w="4655880"/>
              </a:tblGrid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ERCO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places the current seasonal testing requirement with unannounced generation resource testing and requires QSEs to seasonally update their resource High Sustainable Limits (HSL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mproved accuracy in report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ossibility of increased OOME cost associated with unannounced tes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S recommended approval with 1 abstention from MOU segment (revised by Luminant, LCRA, ERCOT Staff &amp; PRS)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rch 1, 20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R 750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 – Unannounced Generation Capacity Testing -- </a:t>
            </a:r>
            <a:r>
              <a:rPr b="1" i="1" lang="en-US" sz="3600" spc="-1" strike="noStrike">
                <a:solidFill>
                  <a:srgbClr val="ff0000"/>
                </a:solidFill>
                <a:latin typeface="Garamond"/>
              </a:rPr>
              <a:t>URGENT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1905120"/>
            <a:ext cx="761976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95480" y="18892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86200" y="18892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800600" y="18892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25146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2120" y="30481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35812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62120" y="41148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62120" y="46483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51814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29000" y="2070000"/>
            <a:ext cx="186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439600" y="199404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935440" y="1944720"/>
            <a:ext cx="909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77880" y="5192640"/>
            <a:ext cx="210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Credit Monitor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Liabi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97760" y="2625840"/>
            <a:ext cx="89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Bud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75440" y="3159000"/>
            <a:ext cx="97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Staff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23160" y="3681360"/>
            <a:ext cx="22230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Garamond"/>
              </a:rPr>
              <a:t>Computer System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39720" y="4226040"/>
            <a:ext cx="21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Business Func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35760" y="4759200"/>
            <a:ext cx="18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Grid Oper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849840" y="1944720"/>
            <a:ext cx="90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00400" y="25909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00400" y="31240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200400" y="365760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00400" y="41911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200400" y="47242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00400" y="52578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62120" y="57913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NPRR 084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 – Creating Amendment to Standard Form Market Participant Agreement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57200" y="1828800"/>
          <a:ext cx="8229600" cy="3973680"/>
        </p:xfrm>
        <a:graphic>
          <a:graphicData uri="http://schemas.openxmlformats.org/drawingml/2006/table">
            <a:tbl>
              <a:tblPr/>
              <a:tblGrid>
                <a:gridCol w="2743200"/>
                <a:gridCol w="698400"/>
                <a:gridCol w="4788000"/>
              </a:tblGrid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ERCO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dds new form amendment to the Protocols (PRR 740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llows Market Participants to amend their Standard Form Agreement (SFA) without submitting a new SF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S unanimously recommended approval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Upon Texas Nodal implementation; no impact to nodal budget or implement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1T14:00:20Z</dcterms:created>
  <dc:creator>Reliant</dc:creator>
  <dc:description/>
  <dc:language>en-US</dc:language>
  <cp:lastModifiedBy>User</cp:lastModifiedBy>
  <dcterms:modified xsi:type="dcterms:W3CDTF">2008-02-05T19:58:32Z</dcterms:modified>
  <cp:revision>200</cp:revision>
  <dc:subject/>
  <dc:title>Protocol Revision Subcommittee</dc:title>
</cp:coreProperties>
</file>