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E234-D1C4-49CB-B5D8-C0D02E46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186D-C25A-41FF-AA75-8CDA53BE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FDE9-4395-425D-9A97-25B02489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6987-94AD-4DD8-9040-9CDE5C71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CD42-2821-4E42-B050-6492F592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A4BA-E656-4241-9146-C32E0424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42E1-2CCA-407E-9552-EA699F97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A5E3-891A-468D-A546-70E080A1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0EDD-DC3C-4183-B277-5778F7C4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AD50-4A43-4E29-91BE-A202B38A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202D-A025-461E-B881-1E8A247E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742D-74D3-4323-A75C-C2CC7A44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0342-5EB3-4EC3-AF62-BDC28BDF8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nuary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rformance Metrics -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lesale batch processing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lesale batch processing performance in December continued to be impacted by events in November that caused delays in the batch schedu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tatistics refresh failed due to a software bug, causing a delay in the batch processing schedule and requiring several days to catch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ed data backup jobs on two occasions caused significant de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 processing was on schedule as of December 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infrastructure were implemented on January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8, to improve ongoing batch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6324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1266-573C-4329-AC94-86E3A3F6D4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280" y="914400"/>
          <a:ext cx="853452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853452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8229600" y="6324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61722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e slide 2 for explanation of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1981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B6E1-7FAB-4898-8058-A0737992CE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ember 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914400"/>
          <a:ext cx="861084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861084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133720" y="61722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e slide 2 for explanation of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1828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29600" y="6324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8014-E8E4-42CB-B76E-DE65699E0B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914400"/>
          <a:ext cx="861048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1048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495680" y="6324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D133-08C5-4CCA-8391-ECAC7D2E34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" y="914400"/>
          <a:ext cx="8458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458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495680" y="6324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A282-94BB-4B8D-B91E-5C6CCD9AF3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914400"/>
          <a:ext cx="792504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792504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495680" y="6324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4D8F-44D0-4FAB-B469-BDB97CF3C8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8-01-07T22:17:07Z</dcterms:modified>
  <cp:revision>92</cp:revision>
  <dc:subject/>
  <dc:title>Instructions</dc:title>
</cp:coreProperties>
</file>