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151-0F84-4BD0-BD89-1AB9AE54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E6B-0F41-4A7D-BDB2-1BBAA784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7E6-8CB5-43F8-9E87-3E6FA6ED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7F1-451A-4871-AC8E-2C07D964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8CC-4EC6-4C9C-971F-9F99CCB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05E-7DCE-4D64-A4EC-D8D06D4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212-78BB-4B7A-BE37-E327945E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113-F2DD-436B-A239-87A1BA69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80B-E516-4C34-8DB0-02D7968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F50-327D-4308-A5D9-F256FE6A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5E8-AF99-4E8E-BED1-1A635A6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6A1-FD3F-4919-B1F6-5377CD1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5CDC-CEC0-4B24-B021-71B732E6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bruary 7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BFF-2D28-47F2-AD4C-2F369E0812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Leadership 2008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Lee Starr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Chuck Moore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Ernie Podraza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Brad Boles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rr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C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Michelle Trenary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aska Pow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Jennifer Frederick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666-0821-4AD6-B56F-02F710A33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3920" y="-560844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Eric Goff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tellatio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Heather Boisseau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James Galvin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Heddie Lookadoo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RG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5B4-9794-43F4-8F89-884A9705BB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/07/08 TAC Update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is seeking additional clarification and understanding related to recent extract del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members are working to complete the extract and data S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COMS nodal extract delivery and schedu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ing on EDS 4 testing - settlements and data delivery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596-AF40-4029-8D2F-E18754E8B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/07/08 TAC Updat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with DRTF to support the implementation of a demand respon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ing to COPS at the Februar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their recommendations in response to TAC’s Request for a profile solution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as per the DGTF recommendation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R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Response Task Force has discussed a proposed interim solution and is drafting a PRR for COPS to review and provide input at the  Februar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2FE-5520-4B1D-8EB3-9088C0D640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S – 2008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d goals from each “Working Gro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S anticipates adopting goals at the February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eting that sup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l  Working Group Goal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put from TAC at the February 8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retreat; a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vide support required to implement the new Nodal Market and Distributed Generation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EEE-BFAF-4436-A619-F1D6DAB9E7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PS -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Working Group Goa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C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COPMG and incorporate Noda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information and data structures for successful  Testing of Nodal Financial Settlement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input and recommendations regarding Nodal Financial Settlement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various Nodal NPRR’s for their impact upon the Settle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and review extract and data delivery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the Service Level Agreement (SLA) for extract and data delivery expec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9840" y="3108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5BC-DA9E-4B21-81D7-535BC20E65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PS -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Working Group Goa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F08-9D5F-46F6-ABFC-735FD211AB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801-289A-480B-8EB1-9A70CE3FC0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albracht</cp:lastModifiedBy>
  <dcterms:modified xsi:type="dcterms:W3CDTF">2008-02-05T16:32:46Z</dcterms:modified>
  <cp:revision>255</cp:revision>
  <dc:subject/>
  <dc:title>Point-to-Point</dc:title>
</cp:coreProperties>
</file>