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D84E7-BE34-4160-B93C-64412BD57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15F425-7D63-44CE-ADFF-DDE3B0B1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B62B2F-2A6B-40B3-A18C-8AFD7096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38087-3E13-4E44-AD52-47EE7015B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F20990-D3C7-438B-B41A-68B3A731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EA646F-8B39-44A8-B7F1-F2D45460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0EA88D-EE21-4E60-B120-0F845FA6E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0A1D63-E024-43EC-9718-A9772867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4622ED-B784-469D-BED3-2E204563C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7FB96E-D1F4-4AA4-AE5C-724236D12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28080"/>
            <a:ext cx="899172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-885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C8BD89A-6334-460D-8174-9B2F2A19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4"/>
          <p:cNvSpPr/>
          <p:nvPr/>
        </p:nvSpPr>
        <p:spPr>
          <a:xfrm>
            <a:off x="7010280" y="63054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FE6FDB9-9C77-45BF-80B4-C386E9B61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 Market Implementation Program </a:t>
            </a:r>
            <a:br>
              <a:rPr sz="20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Infrastructure Updat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February 5</a:t>
            </a:r>
            <a:r>
              <a:rPr b="0" lang="en-US" sz="2400" spc="-1" strike="noStrike" baseline="30000">
                <a:solidFill>
                  <a:srgbClr val="808080"/>
                </a:solidFill>
                <a:latin typeface="Arial Black"/>
              </a:rPr>
              <a:t>th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, 2008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" name="Picture 3" descr="logo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urrent environmental deployment statu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3280" y="1003320"/>
          <a:ext cx="7975440" cy="3008160"/>
        </p:xfrm>
        <a:graphic>
          <a:graphicData uri="http://schemas.openxmlformats.org/drawingml/2006/table">
            <a:tbl>
              <a:tblPr/>
              <a:tblGrid>
                <a:gridCol w="2136600"/>
                <a:gridCol w="2136960"/>
                <a:gridCol w="2136600"/>
                <a:gridCol w="156528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Primary 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Secondary 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Test 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 Deliv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s Insta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6" name="Oval 6"/>
          <p:cNvSpPr/>
          <p:nvPr/>
        </p:nvSpPr>
        <p:spPr>
          <a:xfrm>
            <a:off x="3225960" y="1571760"/>
            <a:ext cx="471240" cy="41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5533920" y="1571760"/>
            <a:ext cx="470160" cy="41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7345440" y="1571760"/>
            <a:ext cx="469800" cy="41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b8e3e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225960" y="2208240"/>
            <a:ext cx="471240" cy="417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5533920" y="2208240"/>
            <a:ext cx="470160" cy="417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7345440" y="2208240"/>
            <a:ext cx="469800" cy="417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3225960" y="2855880"/>
            <a:ext cx="471240" cy="4190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5533920" y="2855880"/>
            <a:ext cx="470160" cy="419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7345440" y="2855880"/>
            <a:ext cx="469800" cy="419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7345440" y="3475080"/>
            <a:ext cx="469800" cy="417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5533920" y="3475080"/>
            <a:ext cx="470160" cy="41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3225960" y="3475080"/>
            <a:ext cx="471240" cy="417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522360" y="4821120"/>
            <a:ext cx="8164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While the initial technical architecture documents are complete, the assumption is that the initial deployment specifications will have to be chang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9B13838-4B22-48B3-BB97-6AC1B137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63360" y="1092240"/>
            <a:ext cx="8991720" cy="75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360" y="3181320"/>
            <a:ext cx="899172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824120" y="1301760"/>
            <a:ext cx="28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MP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653160" y="128916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i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851120" y="33782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i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411960" y="3363840"/>
            <a:ext cx="24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MP 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368280" y="10033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5549760" y="101592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5"/>
          <p:cNvSpPr/>
          <p:nvPr/>
        </p:nvSpPr>
        <p:spPr>
          <a:xfrm>
            <a:off x="8555040" y="101592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 rot="10800000">
            <a:off x="74520" y="3104640"/>
            <a:ext cx="243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 rot="10800000">
            <a:off x="74520" y="990720"/>
            <a:ext cx="24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>
            <a:off x="368280" y="310500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976320" y="311796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7"/>
          <p:cNvSpPr/>
          <p:nvPr/>
        </p:nvSpPr>
        <p:spPr>
          <a:xfrm>
            <a:off x="5492880" y="310356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152280" y="28440"/>
            <a:ext cx="8991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itial testing release and site utilization strategy is to isolate sites by rel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 rot="10800000">
            <a:off x="431280" y="2925720"/>
            <a:ext cx="487080" cy="1247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4824360" y="310032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owchart: Decision 56"/>
          <p:cNvSpPr/>
          <p:nvPr/>
        </p:nvSpPr>
        <p:spPr>
          <a:xfrm>
            <a:off x="4781520" y="2128680"/>
            <a:ext cx="1254240" cy="58896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1040" indent="-3110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t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6211800" y="1012680"/>
            <a:ext cx="0" cy="84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 rot="10800000">
            <a:off x="4933440" y="2921040"/>
            <a:ext cx="487080" cy="1247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 rot="10800000">
            <a:off x="5625720" y="909720"/>
            <a:ext cx="487080" cy="1247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2"/>
          <p:cNvSpPr/>
          <p:nvPr/>
        </p:nvSpPr>
        <p:spPr>
          <a:xfrm rot="10800000">
            <a:off x="8586360" y="879480"/>
            <a:ext cx="487080" cy="1247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4"/>
          <p:cNvSpPr/>
          <p:nvPr/>
        </p:nvSpPr>
        <p:spPr>
          <a:xfrm>
            <a:off x="704880" y="4389480"/>
            <a:ext cx="7889760" cy="15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 of the strategy are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Ensure the consistency  and stability of market readiness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Minimize the rework for project and production re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Verify the production sites in preparation for Nodal 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Allow vendors to complete as scheduled with FAT deliv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BB4F4A3-87D4-413D-8E8E-E7E2DE9C4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63360" y="1092240"/>
            <a:ext cx="8991720" cy="75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3360" y="2514600"/>
            <a:ext cx="899172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824120" y="1301760"/>
            <a:ext cx="30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MP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418440" y="1289160"/>
            <a:ext cx="24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MP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028880" y="2711520"/>
            <a:ext cx="31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MP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97440" y="269892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MP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368280" y="10033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5549760" y="101592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 rot="10800000">
            <a:off x="74520" y="2437920"/>
            <a:ext cx="243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 rot="10800000">
            <a:off x="74520" y="990720"/>
            <a:ext cx="24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368280" y="2438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7"/>
          <p:cNvSpPr/>
          <p:nvPr/>
        </p:nvSpPr>
        <p:spPr>
          <a:xfrm>
            <a:off x="5549760" y="242568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152280" y="28440"/>
            <a:ext cx="8991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inal testing release and site utilization strategy is what will be used i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4824360" y="243540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6211800" y="1012680"/>
            <a:ext cx="0" cy="84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 rot="10800000">
            <a:off x="4933440" y="2255760"/>
            <a:ext cx="487080" cy="1246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 rot="10800000">
            <a:off x="5625720" y="936360"/>
            <a:ext cx="487080" cy="1245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/A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5160" y="3895560"/>
            <a:ext cx="8923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166760" y="407844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i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442800" y="3832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2"/>
          <p:cNvSpPr/>
          <p:nvPr/>
        </p:nvSpPr>
        <p:spPr>
          <a:xfrm rot="10800000">
            <a:off x="176040" y="3819600"/>
            <a:ext cx="24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>
            <a:off x="4871880" y="382752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5"/>
          <p:cNvSpPr/>
          <p:nvPr/>
        </p:nvSpPr>
        <p:spPr>
          <a:xfrm>
            <a:off x="4319640" y="382428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 rot="10800000">
            <a:off x="4354200" y="3635280"/>
            <a:ext cx="487080" cy="1247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2"/>
          <p:cNvSpPr/>
          <p:nvPr/>
        </p:nvSpPr>
        <p:spPr>
          <a:xfrm rot="10800000">
            <a:off x="5673240" y="3687840"/>
            <a:ext cx="487080" cy="1247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#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7"/>
          <p:cNvSpPr/>
          <p:nvPr/>
        </p:nvSpPr>
        <p:spPr>
          <a:xfrm>
            <a:off x="5610240" y="3832200"/>
            <a:ext cx="0" cy="84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6649920" y="411336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S i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6211800" y="3844800"/>
            <a:ext cx="0" cy="84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9"/>
          <p:cNvSpPr/>
          <p:nvPr/>
        </p:nvSpPr>
        <p:spPr>
          <a:xfrm>
            <a:off x="574560" y="5081760"/>
            <a:ext cx="78901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ing standard Test and Release methodologies requi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All environments comp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Incremental vendor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Automated release management processes in p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FA90960-59BC-40D0-A3F1-F3DF18622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8859-6A03-4A51-A554-242D0D380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uary 15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111560" y="20210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08F3-D282-423A-81EA-FAEADF48C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logo_C"/>
          <p:cNvPicPr/>
          <p:nvPr/>
        </p:nvPicPr>
        <p:blipFill>
          <a:blip r:embed="rId1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81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2916360" y="2244600"/>
            <a:ext cx="2714400" cy="20368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4111560" y="20210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854800" y="167652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 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Number-34c-ERCOT-Congestion"/>
          <p:cNvPicPr/>
          <p:nvPr/>
        </p:nvPicPr>
        <p:blipFill>
          <a:blip r:embed="rId3"/>
          <a:stretch/>
        </p:blipFill>
        <p:spPr>
          <a:xfrm>
            <a:off x="1295280" y="4192560"/>
            <a:ext cx="1603440" cy="151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MCj04131380000[1]"/>
          <p:cNvPicPr/>
          <p:nvPr/>
        </p:nvPicPr>
        <p:blipFill>
          <a:blip r:embed="rId4"/>
          <a:stretch/>
        </p:blipFill>
        <p:spPr>
          <a:xfrm>
            <a:off x="3525840" y="4152960"/>
            <a:ext cx="2503440" cy="175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texas map nodes"/>
          <p:cNvPicPr/>
          <p:nvPr/>
        </p:nvPicPr>
        <p:blipFill>
          <a:blip r:embed="rId5"/>
          <a:stretch/>
        </p:blipFill>
        <p:spPr>
          <a:xfrm>
            <a:off x="6173640" y="4152960"/>
            <a:ext cx="1827360" cy="1712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1924200" y="4238640"/>
            <a:ext cx="505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Nodal Market Tran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1084320" y="6361200"/>
            <a:ext cx="78357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F1C9BA2-01A0-438A-8CD5-602B518B2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F: Project Summary - Initial Charter with Approved Chang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52280" y="855720"/>
            <a:ext cx="8723520" cy="374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ject area: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280" y="1241280"/>
            <a:ext cx="8723520" cy="374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vision of development, testing, EDS and production environments across th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203720" y="1627200"/>
            <a:ext cx="4672080" cy="374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ndor(s)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BM, EMC, 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52280" y="1627200"/>
            <a:ext cx="4051440" cy="374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ject Manager: David For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52280" y="2013120"/>
            <a:ext cx="4051440" cy="414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4203720" y="2013120"/>
            <a:ext cx="2382840" cy="38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6586560" y="2013120"/>
            <a:ext cx="2289240" cy="38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2449440"/>
          <a:ext cx="8723520" cy="3691080"/>
        </p:xfrm>
        <a:graphic>
          <a:graphicData uri="http://schemas.openxmlformats.org/drawingml/2006/table">
            <a:tbl>
              <a:tblPr/>
              <a:tblGrid>
                <a:gridCol w="4362480"/>
                <a:gridCol w="4361040"/>
              </a:tblGrid>
              <a:tr h="189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deliverables/short term deliverabl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 specif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 procu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capacity re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Services Catalog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Level Agreements for all Nodal pro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development &amp; test (FAT) enviro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testing (SAT) enviro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enviro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enviro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ket Participant Identity Management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lease Management processes (from I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racle 10g upgrade for EDW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ff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gh availability monitoring environment  (ne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70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Assumption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capacity can be incrementally added as the project progresses using IBM’s capacity upgrade on-demand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capacity issues will be resolved in the next 90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s/Risk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 Data Center capacity (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33280" indent="-231840">
                        <a:lnSpc>
                          <a:spcPct val="85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Operations will be the first ERCOT function to transition to Nodal operations, starting with setting up development enviro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05000CA-E2D1-42DC-BFF6-940E92783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400" y="18396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ap of October 2007 Pres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87158F5-2D62-44E4-8CA9-08DC6596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xpanding existing data center capacity is an integrated proces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3200" y="895320"/>
            <a:ext cx="4197600" cy="5067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3 components which are balanced to ensure a reliable data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by Generator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nterruptible Power Supply (UPS)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enter Air Conditioning (DCAC)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aximum capacity for equipment is determined by the minimum carrying capacity of any one of the compon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taken al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ssible to maximize the current capacity of the data centers to running at the available capacity of the UPS systems in each site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Converting EMS test lab into an iTest capable data cen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StandardPlot26"/>
          <p:cNvPicPr/>
          <p:nvPr/>
        </p:nvPicPr>
        <p:blipFill>
          <a:blip r:embed="rId1"/>
          <a:stretch/>
        </p:blipFill>
        <p:spPr>
          <a:xfrm>
            <a:off x="4514760" y="1003320"/>
            <a:ext cx="4484880" cy="3343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72" name="TextBox 6"/>
          <p:cNvSpPr/>
          <p:nvPr/>
        </p:nvSpPr>
        <p:spPr>
          <a:xfrm>
            <a:off x="4572000" y="4829040"/>
            <a:ext cx="4352760" cy="5806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a50021"/>
                </a:solidFill>
                <a:latin typeface="Arial"/>
              </a:rPr>
              <a:t>Very nearly all possible near term facility upgrades have been comple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CFEA269-7FFF-4AA3-9261-DD103ADC7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47680" y="923760"/>
            <a:ext cx="1581120" cy="1301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ystem requirements are driven by project detailed design  docu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" name="Picture 12" descr="Sample EDS UML.jpg"/>
          <p:cNvPicPr/>
          <p:nvPr/>
        </p:nvPicPr>
        <p:blipFill>
          <a:blip r:embed="rId2"/>
          <a:stretch/>
        </p:blipFill>
        <p:spPr>
          <a:xfrm>
            <a:off x="2674800" y="2462040"/>
            <a:ext cx="1692360" cy="1347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4897440" y="3792600"/>
            <a:ext cx="184644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"/>
          <p:cNvPicPr/>
          <p:nvPr/>
        </p:nvPicPr>
        <p:blipFill>
          <a:blip r:embed="rId4"/>
          <a:stretch/>
        </p:blipFill>
        <p:spPr>
          <a:xfrm>
            <a:off x="7754760" y="5619600"/>
            <a:ext cx="1175040" cy="50184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17"/>
          <p:cNvSpPr/>
          <p:nvPr/>
        </p:nvSpPr>
        <p:spPr>
          <a:xfrm>
            <a:off x="1442880" y="2689200"/>
            <a:ext cx="1067040" cy="34128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18"/>
          <p:cNvSpPr/>
          <p:nvPr/>
        </p:nvSpPr>
        <p:spPr>
          <a:xfrm>
            <a:off x="3630600" y="4356000"/>
            <a:ext cx="1066680" cy="3412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1971720" y="1111320"/>
            <a:ext cx="607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Each project team has an assigned architect who is responsible for the architecture for the project’s 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4491000" y="2536920"/>
            <a:ext cx="425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that are consolidated into a deployment diagram by 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0" y="4257720"/>
            <a:ext cx="34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that become individual work requests for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Arrow 23"/>
          <p:cNvSpPr/>
          <p:nvPr/>
        </p:nvSpPr>
        <p:spPr>
          <a:xfrm>
            <a:off x="6383160" y="5692680"/>
            <a:ext cx="1067040" cy="339840"/>
          </a:xfrm>
          <a:prstGeom prst="rightArrow">
            <a:avLst>
              <a:gd name="adj1" fmla="val 50000"/>
              <a:gd name="adj2" fmla="val 50136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4006800" y="57024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to deploy the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C8B366E-AA91-4536-A030-A9C41152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ket trials and Integration testing will drive changes to the environ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8" name="Picture 10" descr="Sample EDS UML.jpg"/>
          <p:cNvPicPr/>
          <p:nvPr/>
        </p:nvPicPr>
        <p:blipFill>
          <a:blip r:embed="rId1"/>
          <a:stretch/>
        </p:blipFill>
        <p:spPr>
          <a:xfrm>
            <a:off x="193680" y="830160"/>
            <a:ext cx="4183200" cy="33339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89" name="TextBox 12"/>
          <p:cNvSpPr/>
          <p:nvPr/>
        </p:nvSpPr>
        <p:spPr>
          <a:xfrm>
            <a:off x="4937040" y="1411200"/>
            <a:ext cx="3984840" cy="11912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ssumption in the infrastructure plan is that the initial deployment specifications will have to be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496800" y="5121360"/>
            <a:ext cx="790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The infrastructure technologies selected as the core for the Nodal system were picked because they adapt well to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17C8E79-B54E-49F2-924F-663E03ED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ritical Path Mitigation Strategi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curement and Architectural Delay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66760" y="766800"/>
          <a:ext cx="8620200" cy="4967280"/>
        </p:xfrm>
        <a:graphic>
          <a:graphicData uri="http://schemas.openxmlformats.org/drawingml/2006/table">
            <a:tbl>
              <a:tblPr/>
              <a:tblGrid>
                <a:gridCol w="4309920"/>
                <a:gridCol w="43102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procurement lead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system requirements as soon as possible and place ord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e existing systems or virtual machines where appropri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 Technical Architecture design docu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order unassembled equipment and have ERCOT staff built to 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ize overtime to build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build standard server configurations based upon service catalogue and assign to projects as requirements become 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8f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 consolidation decommissions behind 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 data center in the safe “buffer” zone of capacity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Add capacity in Taylor for Test environment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Continue implementing consolidation efforts in other infrastructure compon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</a:tr>
            </a:tbl>
          </a:graphicData>
        </a:graphic>
      </p:graphicFrame>
      <p:sp>
        <p:nvSpPr>
          <p:cNvPr id="95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AA2B597-BE20-440E-88AA-72EED9DA3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rastructure Capacity is Identified Major risks to Go Liv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93760" y="892080"/>
          <a:ext cx="8502480" cy="4883400"/>
        </p:xfrm>
        <a:graphic>
          <a:graphicData uri="http://schemas.openxmlformats.org/drawingml/2006/table">
            <a:tbl>
              <a:tblPr/>
              <a:tblGrid>
                <a:gridCol w="979560"/>
                <a:gridCol w="1611000"/>
                <a:gridCol w="882720"/>
                <a:gridCol w="935280"/>
                <a:gridCol w="4093920"/>
              </a:tblGrid>
              <a:tr h="51768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lih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 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L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tig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6356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S delivery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ght delivery schedule constrains testing and defect cycles, impacts EDS trials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oversight of, and on-site working with, A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location of work from ABB to ERC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ap EDS with FAT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40544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constraints (power, space, cool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s speed and scale of environment build outs, impacts development projects, integration and EDS t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izing build out of environments and applications based on EDS schedu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active / standby EDS environment to eliminate short-term ITest n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test environment in Blue Building server ro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ing 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l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n-essential equipment from Austin data ce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ng Nodal deployment footprint as much as pos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126576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(including CIM Mod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source systems and infrastructure limits ability to validate integration points, impacts re- factoring cycle times and cos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interfaces in advance of applications delivery based on available information expecting re-facto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application and integration in available, sub-optimal environ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3096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>
                      <a:noFill/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ty over ability to integrate CIM models may impact data and system quality and tes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with 3 main vendors on multiple iterations of development and validation of CIM import/ex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275"/>
                        </a:spcBef>
                        <a:buClr>
                          <a:srgbClr val="00999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ing contingency plan to preserve April 1st start of DAM / RUC EDS t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98" name="Oval 6"/>
          <p:cNvSpPr/>
          <p:nvPr/>
        </p:nvSpPr>
        <p:spPr>
          <a:xfrm>
            <a:off x="4336920" y="1828800"/>
            <a:ext cx="4807080" cy="20638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821B1FD-9C01-424D-A8B1-3B9418F3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35080" y="998280"/>
            <a:ext cx="4037040" cy="4513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ing build out of environments and applications based on EDS schedu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est environment in Blue Building server ro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in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on-essential equipment from secondary data center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ssing Nodal deployment footprint as much as possibl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active / standby EDS environment (Active / Passive) to eliminate short-term ITest n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rastructure Capacity is Identified Major risks to Go Liv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ith mitigation activities in progr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24200" y="995040"/>
            <a:ext cx="4284360" cy="4513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ing environments as prioritized by delivery schedul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 Building server room construction completes in Februa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equipment to Disaster Recovery, Zonal market and the new Nodal to be in secondary site equipmen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deployment footprint was architecturally compressed as much a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of standby EDS environment in progr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F8C9AAF-3D4B-4D06-B8A1-C772A12C3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TF Nodal Update 02/05/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16:50Z</dcterms:created>
  <dc:creator>tpare</dc:creator>
  <dc:description/>
  <dc:language>en-US</dc:language>
  <cp:lastModifiedBy>David Forfia</cp:lastModifiedBy>
  <dcterms:modified xsi:type="dcterms:W3CDTF">2008-02-05T15:56:03Z</dcterms:modified>
  <cp:revision>481</cp:revision>
  <dc:subject/>
  <dc:title>Texas Nodal Scenario definition &amp; evaluation Draft storyboard Tim Pare, July 26, 2006</dc:title>
</cp:coreProperties>
</file>