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4E5454-0F3A-4380-9FE4-240290B52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9B308C-E6B1-4F9A-B2EB-538B5AEAA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AD5265-1479-42DD-8553-5B6422125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6A6A84-D41A-46FB-991E-1D03570B1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243075-61CE-4CE5-AC30-AB81C0435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68891B-F708-4B2E-91BE-27B29201F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5DE70A-5274-4377-9633-0C687917A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D992B3-1198-4D36-A0D7-2650E36F6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6DBFCD-21D3-4CEC-9440-363AC6196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853F98-1654-4927-9550-C042907D5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683025-D307-42B6-989E-FB38E6F35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469FFE-4C52-4BE0-BD2B-C09833A74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2C33C-268B-488C-A72A-053E43D34A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dt" idx="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3429000" y="64771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A01A0-636C-40FA-A529-365CEC425E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33520" y="1905120"/>
            <a:ext cx="647712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2333520" y="5466960"/>
            <a:ext cx="62769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2333520" y="5067360"/>
            <a:ext cx="627696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333520" y="1904760"/>
            <a:ext cx="6019920" cy="123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urrent Day Reports (CDR) Projec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342880" y="3580920"/>
            <a:ext cx="6343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Michael Daskalantonakis &amp; Brian Cook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2" name=""/>
          <p:cNvSpPr/>
          <p:nvPr/>
        </p:nvSpPr>
        <p:spPr>
          <a:xfrm>
            <a:off x="2343240" y="5867280"/>
            <a:ext cx="63435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Revised 1/26/0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CDR Presentation to TPTF - v1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1/22/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DR 3.0 Release – Currently Identified Content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7200" y="1828800"/>
          <a:ext cx="8229600" cy="4325760"/>
        </p:xfrm>
        <a:graphic>
          <a:graphicData uri="http://schemas.openxmlformats.org/drawingml/2006/table">
            <a:tbl>
              <a:tblPr/>
              <a:tblGrid>
                <a:gridCol w="1252440"/>
                <a:gridCol w="3090960"/>
                <a:gridCol w="2092320"/>
                <a:gridCol w="1793880"/>
              </a:tblGrid>
              <a:tr h="505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dex #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duct nam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raceability </a:t>
                      </a:r>
                      <a:br>
                        <a:rPr sz="900"/>
                      </a:b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Protocol/OG/NERC)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 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 AUG 0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DS 4 - Release #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P3 - 762 - C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ourly Demand Forecas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2.2 (3) 3.12 (a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P6 - 291 - C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pology Consistency Analyzer Incorrect Breaker and Switch Statu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.5.7.1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P6 - 411 - C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utput Schedule of Changes/Adjustment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.5.7.6.2.3 (6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P6 - 483 - C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CED Shadow Pric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.3.2 (2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0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P6 - 606 - C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hadow Prices on Binding Transmission Constraint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.5.7.1.13 (4) (g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6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P6 - 619 - C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ate Estimator Transmission Flows and Voltag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.5.7.1.13 (4) (b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P6 - 620 - C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ate Estimator 15-minute Load Averages on Electrical Bus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.5.7.1.13 (4) (h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P6 - 621 - C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dividual transmission Load on Electrical Buses from the State Estimato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.5.7.1.13 (4) (c) 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P6 - 622 - C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ate Estimator Transformer Flows, Voltages and Tap Posit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.5.7.1.13 (4) (d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P6 - 787 - C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MPs by Resource Nod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.3.2(2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P6 - 804 - C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m of the Load on each Electrical Bus in each Load Zone from the State Estimato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.5.7.1.13(4)(c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.5.7.1.13 (4) (c) i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P6 - 805 - C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Load on Electrical Buses in the ERCOT System from the State Estimato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.5.7.1.13 (4) (c) ii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5" name=""/>
          <p:cNvSpPr/>
          <p:nvPr/>
        </p:nvSpPr>
        <p:spPr>
          <a:xfrm>
            <a:off x="457200" y="762120"/>
            <a:ext cx="838188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DS 4, Release 9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2 reports to support remaining EDS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quirements, as well as to deliver State Estimator and SCED reports that are already in EDS with a temporary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DR Presentation to TPTF - v1.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1/22/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ERCOT Enterprise Architecture’s Vision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6383" r="0" b="41489"/>
          <a:stretch/>
        </p:blipFill>
        <p:spPr>
          <a:xfrm>
            <a:off x="457200" y="1066680"/>
            <a:ext cx="4343400" cy="472464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4876920" y="990720"/>
            <a:ext cx="42670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mon set of capabiliti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to enable query/retrieval, data aggregation of data from specified data sources, and perform any aggregations and calculations if need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mple, stateless, extremely lightweight, horizontally scalable ser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nguage-neutral business logic engin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at enables business rules to be implemented in plain Java, SQL, PL/SQL and other scripting langua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tputs can be easily formatted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o XML, HTML, CSV, etc. and Java objects / other forma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orts will contai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ata elements that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e a part of th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NODAL SoSA Domain mod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DR Presentation to TPTF - v1.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1/22/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urrent Day Reporting High Level View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990720" y="1066680"/>
            <a:ext cx="83808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tatic HT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nd Char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438280" y="1066680"/>
            <a:ext cx="99072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port/Extrac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pdf, doc, xls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v and xm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962520" y="1066680"/>
            <a:ext cx="83808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xterna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eb Servi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80880" y="1981080"/>
            <a:ext cx="71629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533520" y="2286000"/>
            <a:ext cx="2514600" cy="2209680"/>
            <a:chOff x="533520" y="2286000"/>
            <a:chExt cx="2514600" cy="2209680"/>
          </a:xfrm>
        </p:grpSpPr>
        <p:sp>
          <p:nvSpPr>
            <p:cNvPr id="126" name=""/>
            <p:cNvSpPr/>
            <p:nvPr/>
          </p:nvSpPr>
          <p:spPr>
            <a:xfrm>
              <a:off x="533520" y="2286000"/>
              <a:ext cx="2514600" cy="2209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Information Abstraction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Business Lay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752480" y="2819520"/>
              <a:ext cx="1143000" cy="4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Transformation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85800" y="2819520"/>
              <a:ext cx="914400" cy="4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chema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85800" y="3429000"/>
              <a:ext cx="914400" cy="4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Busines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Logic an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Aggrega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828800" y="3429000"/>
              <a:ext cx="1066680" cy="4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omputational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Logic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143000" y="4038480"/>
              <a:ext cx="137160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Querie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"/>
          <p:cNvSpPr/>
          <p:nvPr/>
        </p:nvSpPr>
        <p:spPr>
          <a:xfrm>
            <a:off x="3657600" y="2286000"/>
            <a:ext cx="2895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porting Engi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819520"/>
            <a:ext cx="13716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po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esign 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09880" y="2819520"/>
            <a:ext cx="10605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po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orm Layou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809880" y="3429000"/>
            <a:ext cx="106704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po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ublish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029200" y="3429000"/>
            <a:ext cx="13716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port Storage 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L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80880" y="4800600"/>
            <a:ext cx="70866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914400" y="5105520"/>
            <a:ext cx="8380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MS Stag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09680" y="5105520"/>
            <a:ext cx="83844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MS Stag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429000" y="5105520"/>
            <a:ext cx="8380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572000" y="5105520"/>
            <a:ext cx="8380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67280" y="5105520"/>
            <a:ext cx="83844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257800" y="1066680"/>
            <a:ext cx="18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rket Particip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295280" y="16765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2895480" y="16765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419720" y="16765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219320" y="48006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590920" y="48006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809880" y="48006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876920" y="48006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172200" y="48006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3047760" y="327672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DR Presentation to TPTF - v1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1/22/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urrent Day Reporting Strategy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verage ERCOT Enterprise Architecture for reportin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opt 8 hour-SLA for replication stream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be resolved into O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nect to Source Staging databas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reports that rely on data that i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ot available in ODS yet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nect to ODS and MIR for archived report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at rely on data that is not available in the source system anymor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form data aggregations, computations, and business logic that is required for report generation and is not performed by source systems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quired and dictated by the nodal protocols and translated by the ERCOT business tea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nerate reports and extract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defined by th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report layout templates and schema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om th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ERCOT Domain Mod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ore the generated report in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COT repositor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MI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duce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ch graphic content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b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displayed via the MIS Porta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able Web Servic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deliver the same data to market participa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DR Presentation to TPTF - v1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1/22/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urrent Day Reporting Architecture Diagram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655560" y="1066680"/>
          <a:ext cx="7829640" cy="472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5560" y="1066680"/>
                    <a:ext cx="7829640" cy="47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DR Presentation to TPTF - v1.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1/22/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urrent Day Reporting Architectur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ava Engine connects to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ource System(s) staging tables and the ERCOT EDW MI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based on configuration and latency requiremen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ava Engine extracts the data within the required tim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 repor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nd performs data aggregation, business logic, and computation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 the domain mod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 from the Java Engine is then presented to the Reporting Engine (JReport) to be assembled into a repor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 defined by the business requirements for that repor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 can also be translated into graphs and charts to be represented in the MIS Port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 is also enabled to be delivered via Web Service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fa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s are then persisted in the ERCOT EDW MI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rchival and retriev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DR Presentation to TPTF - v1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1/22/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Major CDR Team Accomplishment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761760"/>
            <a:ext cx="83818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solidated list of CDR repor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ioritized CDR reports to match EDS release priorities / schedu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leted Project Charter and Budge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leted initial report specs; working on completing the remaining specific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leted Technical Architecture docume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R Conceptual System Design (CSD) document available for TPTF review and approv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ilt the core project team and established interfa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w Level Design and Development in progr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6934320" y="4267080"/>
            <a:ext cx="1814400" cy="1501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DR Presentation to TPTF - v1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1/22/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Q&amp;A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swers to any Questions you may h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DR Presentation to TPTF - v1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1/22/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Project Overview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880" y="12189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livering reports that are generated within 8 hours of the data being calculated by the systems, as required by the Nodal Protoco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viding an integrated system that will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rea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urrent day repo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tract data items with the right latency from multiple operational source system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or use in current day repo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id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urce data traceabil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reproduci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f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long-term nodal report management solu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MID/MIR) that meets performance requir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viding MP access to current day reports through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S Por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COT.com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b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04920" y="838080"/>
            <a:ext cx="84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urrent Day Reports (CDR) project is responsible fo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DR Presentation to TPTF - v1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1/22/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Scope and Dependencie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ject Scope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btain dat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with right latency from source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ggregate dat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or current day report purpo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mat and present the repo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o the end-u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rchiv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report per report retention poli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arch and retriev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 previously archived 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ject Dependencie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urce system staging tables (e.g., MMS, EMS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or obtaining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S Portal and ERCOT.co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or presenting current day reports to MP us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b Servic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or ERCOT machine to/from MP machine distribution of selected current day report dat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DR Presentation to TPTF - v1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1/22/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Implementation Approach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837720"/>
            <a:ext cx="838188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reate report specs in parallel to developing the system architect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incremental development and test approach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roup current day reports based on EDS priorities; define report releases and align with the respective EDS releas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next pages provide a listing of the reports currently planned for delivery via the CDR projec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list of reports may evolve as reporting requirements and specifications are finalized  through feedback from TPTF and ERCOT Busi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nges to the list will be maintained on the Nodal Data Services Master List (NDSML)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NDSML references all interactions outside of user interfaces, including reports, extracts, downloads, web ser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ludes cross references to Protoco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dated weekly (every Frida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hould be reviewed for completeness and access metho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DR Presentation to TPTF - v1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1/22/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DR 1A Release – Currently Identified Content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457200" y="1752480"/>
          <a:ext cx="8229600" cy="1725840"/>
        </p:xfrm>
        <a:graphic>
          <a:graphicData uri="http://schemas.openxmlformats.org/drawingml/2006/table">
            <a:tbl>
              <a:tblPr/>
              <a:tblGrid>
                <a:gridCol w="1252440"/>
                <a:gridCol w="2800440"/>
                <a:gridCol w="2382840"/>
                <a:gridCol w="1793880"/>
              </a:tblGrid>
              <a:tr h="505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dex #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duct nam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  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raceability </a:t>
                      </a:r>
                      <a:br>
                        <a:rPr sz="900"/>
                      </a:b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Protocol/OG/NERC) </a:t>
                      </a:r>
                      <a:br>
                        <a:rPr sz="900"/>
                      </a:b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 AUG 0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DS 4 - Release #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7257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P3 - 560 - C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ven-Day Forecasts (ERCOT System, Weather Zone, and Load Zone Forecasts for next 7 days, by hour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2 (a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46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P3 - 763 - C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hort-Term System Adequacy Repor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2.3 (2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2" name=""/>
          <p:cNvSpPr/>
          <p:nvPr/>
        </p:nvSpPr>
        <p:spPr>
          <a:xfrm>
            <a:off x="457200" y="838080"/>
            <a:ext cx="83818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DS 4, Release 9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 reports to support Outage Scheduler Repor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DR Presentation to TPTF - v1.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1/22/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DR 1B Release – Currently Identified Content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1295280"/>
          <a:ext cx="8229600" cy="4994280"/>
        </p:xfrm>
        <a:graphic>
          <a:graphicData uri="http://schemas.openxmlformats.org/drawingml/2006/table">
            <a:tbl>
              <a:tblPr/>
              <a:tblGrid>
                <a:gridCol w="1066680"/>
                <a:gridCol w="3657600"/>
                <a:gridCol w="1711440"/>
                <a:gridCol w="1793880"/>
              </a:tblGrid>
              <a:tr h="505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dex #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duct nam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  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raceability </a:t>
                      </a:r>
                      <a:br>
                        <a:rPr sz="900"/>
                      </a:b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Protocol/OG/NERC) </a:t>
                      </a:r>
                      <a:br>
                        <a:rPr sz="900"/>
                      </a:b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 AUG 0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DS 4 - Release #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P4 - 159 - C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ily Electrical Bus Load Distribution Factor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.2.3 (e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P4 - 179 - C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warded Day Ahead Market Ancillary Service Offer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.5.3 (2) (e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P4 - 183 - C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y Ahead Market Hourly LMP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.5.3 (2) (c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P4 - 188 - C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y Ahead MCP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.5.3 (2) (a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P4 - 19 - C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ggregated Ancillary Service Offer Curv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.5.3 (2) (h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P4 - 190 - C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y Ahead Market Settlement Point Pric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.5.3 (2) (b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P4 - 191 - C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y Ahead Market Shadow Pric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.5.3 (2) (d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P4 - 192 - C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y Ahead Market Total Energy Bough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.5.3 (2) (f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P4 - 193 - C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y Ahead Market Total Energy Sol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.5.3 (2) (g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P4 - 209 - C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istribution Loss &amp; ERCOT Transmission Loss Factors for Settlement Intervals of the Operating 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.2.3 (g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P4 - 236 - C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RCOT System, Weather Zone, and Load Zone Forecasts (for next 7 days, by hour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.2.3 (d) (i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P4 - 33 - C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cillary Service Pla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.2.1.1 (1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P4 - 34 - C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cillary Service Obligations &amp; QSE Load Ratio Shar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.2.1.2 (3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P4 - 722 - C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eather to Forecast ERCOT System Conditions &amp; Dynamic Ratings Processo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.2.3 (b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P4 - 730 - C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GRPP Forecasts Aggregated for All WGR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.2.2(5)-(6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P4 - 731 - C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GRPP Forecasts for Each WG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.2.2(4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P5 - 755 - C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ctive and Binding Transmissions Constraint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.3 (3) (b) (i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5" name=""/>
          <p:cNvSpPr/>
          <p:nvPr/>
        </p:nvSpPr>
        <p:spPr>
          <a:xfrm>
            <a:off x="457200" y="685800"/>
            <a:ext cx="83818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DS 4, Release 9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7 reports to support DAM &amp; RUC function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DR Presentation to TPTF - v1.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1/22/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DR 2.0 Release – Currently Identified Contents – 1 of 3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304920" y="1447920"/>
          <a:ext cx="8229600" cy="4545000"/>
        </p:xfrm>
        <a:graphic>
          <a:graphicData uri="http://schemas.openxmlformats.org/drawingml/2006/table">
            <a:tbl>
              <a:tblPr/>
              <a:tblGrid>
                <a:gridCol w="990720"/>
                <a:gridCol w="3733920"/>
                <a:gridCol w="2133360"/>
                <a:gridCol w="1371600"/>
              </a:tblGrid>
              <a:tr h="505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dex #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duct nam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  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raceability </a:t>
                      </a:r>
                      <a:br>
                        <a:rPr sz="900"/>
                      </a:b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Protocol/OG/NERC) </a:t>
                      </a:r>
                      <a:br>
                        <a:rPr sz="900"/>
                      </a:b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 AUG 0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DS 4 - Release #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P3 - 650 - C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ermanent Removal of Electrical Bus within Hub Bu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5.1 (2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.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P5 - 200 - C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selected Contingenci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.5.1 (11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.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P5 - 649 - C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mporarily Removed Contingenci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.5.1 (6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.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P6 - 235 - C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RCOT System Demand from Real-Time Operations per Settlement Interva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.3.2 (3) (d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.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P6 - 323 - C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al-time Load Forecast Distribution Factors for MPs to calculate Electrical Bus Load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.3.2 (3) (e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.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P6 - 398 - C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tification to QSEs of No Output Schedule or Energy Offer Curv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.3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.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P6 - 484 - C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al-Time Prices Parameter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.3.2 (2); 6.4.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.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P6 - 561 - C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MR Services Quantiti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.3.2 (3) (c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.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70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P6 - 569 - C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ASM MCP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i: 6.4.8.2.3(2)(a)   6.4.8.2.3 (3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.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P6 - 609 - C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hift Schedul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.3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.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P6 - 635 - C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ystem-Wide Load Forecast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.3.2 (3) (b)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.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76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P6 - 655 - C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Ancillary Service Procured in SAS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i:  6.4.8.2.3(2) &amp; (3) 6.4.8.2.3 (3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.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P6 - 661 - C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ERCOT System Deman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.3.2 (3) (a) (i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.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6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P6 - 697 - C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pdated Electrical Bus Load Distribution Factor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i: 6.3.2(3)(e)  6.3.2 (3) (a) (i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.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P6 - 709 - C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alidated Output Schedul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.4.2.4 (3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.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8" name=""/>
          <p:cNvSpPr/>
          <p:nvPr/>
        </p:nvSpPr>
        <p:spPr>
          <a:xfrm>
            <a:off x="457200" y="762120"/>
            <a:ext cx="83818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DS 4, Release 9.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6 reports to support additional function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DR Presentation to TPTF - v1.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1/22/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DR 2.0 Release – Currently Identified Contents – 2 of 3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533520" y="990720"/>
          <a:ext cx="8229600" cy="4870440"/>
        </p:xfrm>
        <a:graphic>
          <a:graphicData uri="http://schemas.openxmlformats.org/drawingml/2006/table">
            <a:tbl>
              <a:tblPr/>
              <a:tblGrid>
                <a:gridCol w="1067040"/>
                <a:gridCol w="4343400"/>
                <a:gridCol w="1676160"/>
                <a:gridCol w="1143000"/>
              </a:tblGrid>
              <a:tr h="505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dex #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duct nam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raceabilit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Protocol/OG/NERC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 AUG 0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DS 4 - Release #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P6 - 717 - C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oltage Schedul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.5.7.1.13 (4) (e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.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P6 - 806 - C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he sum of ERCOT generation from the State Estimato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.5.7.1.13 (4) (c) i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.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P6 - 807 - C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low on the DC Ties from the State Estimato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.5.7.1.13 (4) (c) 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.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P6 - 86 - C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inding Transmission Constraints with Causal Contingency or Overloaded Element Pair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.5.7.1.13 (4) (f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.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P6 - 93 - C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reaker and Switch Status -- Network Security Analysi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.5.7.1.13 (4) (a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.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P4 - 139 - C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y-Ahead Market CRR Offer - Minimum Reservation Pric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.4.5 (3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.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P4 - 162 - C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ustomer Load Profil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.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P4 - 199 - C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rated CRR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.5.1(8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.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P4 - 344 - C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ket MCPC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.5.2(2)(a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.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ms - 314 - C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ad Distribution Factor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.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P3 - 129 - C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mpetitive Constraint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9 (5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.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P3 - 215 - C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ynamic rating deviation dat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.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P3 - 217 - C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ynamic Rating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.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P3 - 715 - C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oltage Profil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5 (1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.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P4 - 562 - C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RS deployment - RRS Deployment Instruction for non-controllable load resourc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.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P4 - 563 - C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RS Deployment Instruction for non-controllable load resourc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.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P6 – 62 - C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cillary Services Capacity Monito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.5.7.5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.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DR Presentation to TPTF - v1.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1/22/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DR 2.0 Release – Currently Identified Contents – 3 of 3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7200" y="1066680"/>
          <a:ext cx="8229600" cy="3900600"/>
        </p:xfrm>
        <a:graphic>
          <a:graphicData uri="http://schemas.openxmlformats.org/drawingml/2006/table">
            <a:tbl>
              <a:tblPr/>
              <a:tblGrid>
                <a:gridCol w="1066680"/>
                <a:gridCol w="3962520"/>
                <a:gridCol w="2057400"/>
                <a:gridCol w="1143000"/>
              </a:tblGrid>
              <a:tr h="505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dex #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duct nam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raceability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Protocol/OG/NERC)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 AUG 0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DS 4 - Release #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P4 - 659 - C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ERCOT Generation Operating Reserv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.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P4 - 665 - C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Regulat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.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P4 - 690 - C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nit Availabilit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.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P6 - 6 - C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ctive SCED Contingenci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.5.7.1.11 (1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.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P6 - 689 - C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ndeployed Reg-Up and Reg-Dow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.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P6 - 84 - C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inding Constraints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.5.7.3 (5) 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.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YS - 264 - C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orecasted Loa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.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YS - 270 - C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requenc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.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YS - 349 - C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ket Total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.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YS - 487 - C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al-Time System Loa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.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YS - 608 - C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hift Factor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.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YS - 617 - C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artup and Shutdown Instruction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.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YS - 63 - C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verage monthly Dynamic deviat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.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YS - 25 - C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ll real-time contingency violation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.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DR Presentation to TPTF - v1.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1/22/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>Michael Daskalantonakis</dc:creator>
  <dc:description/>
  <dc:language>en-US</dc:language>
  <cp:lastModifiedBy>Michael K. Daskalantonakis</cp:lastModifiedBy>
  <dcterms:modified xsi:type="dcterms:W3CDTF">2008-01-24T21:47:29Z</dcterms:modified>
  <cp:revision>32</cp:revision>
  <dc:subject>CDR</dc:subject>
  <dc:title>CDR Project Presentation to TPTF</dc:title>
</cp:coreProperties>
</file>