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9219-73AE-47B7-92E1-F4781BC6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9C03-F85C-4202-8BDA-0EFBEDD8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370A-0B08-4F5B-8838-ADC66185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3A2C-AF37-4F94-AB95-C62A9D0F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7738-7F96-4455-B686-9D014977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C888F-8EDA-483D-A188-C32EAB1F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676D7C-D59F-4737-9E08-62D67CDB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C4028D-74BD-4118-84DC-E4859657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6D2FE-091D-4E1C-BEFD-D45E9D5D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C7FA4-9799-441C-BC07-5C574735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6D85-67A7-49CB-9D07-AAB63CEF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932DB7-0B95-49E0-AAB0-9BD37B3D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1C3D22-CD99-46C4-9D6A-5963C241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1384BC-1ACF-4A07-8005-36FA2FE0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AC118-4EF4-4DB7-B613-79E278CF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212217-6FD6-4518-A4D6-C3EA6870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4333C-D44F-4A43-A420-54AFE69A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A0F5B0-C9AA-40C0-9205-C5111F59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F5D97-68A4-42ED-8375-0612BA13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1D2C1-1205-4A2E-951D-DC6531C8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4E4EE-8DC0-4C60-B8E5-761E6539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C82B-D509-45F0-B3A7-9A78A996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52A65-D739-44AF-A787-0D630C4F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3F1D-79B3-4138-99AC-F4A69E4A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F669-487A-4B1F-9210-3111D9FBF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572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2EEF-7A8C-49EE-B805-292B85EB61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2817-6595-4FBB-951D-FA3EA12EF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4960" y="1905120"/>
            <a:ext cx="647676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4960" y="5466960"/>
            <a:ext cx="627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43240" y="5067360"/>
            <a:ext cx="6278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4432-1B4A-4EB9-988F-239413E1782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9739-54D6-431B-8431-B5EAFD0FD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24160" y="224784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Texas Nodal Market Implementation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Data Center Data Migr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nodaleds.ercot.com/misportal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crrinfo@erco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1920" y="1905120"/>
            <a:ext cx="691524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7.1: UI Connectivity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structions &amp; Test Scrip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99840" y="3790800"/>
            <a:ext cx="634356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S 3 Release 7 (CRR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ebruary 4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2008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6A00CEB-86A4-4D88-868C-16CDD1BE10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5. Create a buy/sell bilateral trade posting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280" y="799920"/>
            <a:ext cx="822960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teps: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aunch CRR application – go to “View Bilateral Market” link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If within application already, go to “Bilateral Market” ta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a buy bid OR sell offer posting – enter any valid values (and dummy contact info) and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choose “public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ost bid/off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i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71920" y="2181240"/>
            <a:ext cx="5448240" cy="17517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Guidance material on how to create a buy bid posting (either one below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RR User 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</a:rPr>
              <a:t>http://nodal.ercot.com/readiness/eds3/documents/index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nder Release 7 – CRR: click on “crr_market_user_interface_user_manual_v1_0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ection 8: Bilateral Market (Page 6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RR UI Training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</a:rPr>
              <a:t>https://www.ercottraining.com</a:t>
            </a:r>
            <a:r>
              <a:rPr b="0" lang="en-US" sz="1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ign in (or register if not already) and go to “CRR User Interface Training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iew demo on “Bilateral Market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7276680" y="180972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FC80D-E15E-4004-9C71-2751F97D9CC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247273-623B-4547-9606-66E1528153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aveats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data in R7.1 are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not meaningful or related to one an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e.g. content in auction results file is inconsistent with content in submitted bi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MIS portal, the “CRR Credit Limit” link and certain CRR information links are not live for R7.1 (clicking on them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will lead to an error pa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certificates used in R7.1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will b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replaced when MPIM goes l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currently scheduled for early March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B412-DCB0-4FB7-921D-E4B4A6B6496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8B9D35-7C17-4B07-9439-92FB523D8F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ssue submission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any issues arise during R7, please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end em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crrinfo@ercot.co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 info belo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iss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nt DUNS numb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 used (if relev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reenshot (if relev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issue occurred (if relev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s to reproduce (if relev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 Matter Expert (SME) support will be available during workshop days (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business hou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 that internal testing will occur in parallel with R7 testing activities. ERCOT will communicate known defects whenever possible, and log any previously unknown defects reported by participants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2FDE-AEF0-474F-8D22-A360E9E71EB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5E97A6-CA9E-426E-B920-67D248432F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ming up - R7.2: fully structured mock monthly allocation/auc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3514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Objec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conducts mock monthly allocation (NOIEs submi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RCOT-provi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minations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conducts mock monthly auction (CRR AHs submi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RCOT-provi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ids and offers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R AHs bilaterally trade CRRs a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rchestra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ERCO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Exit Criteri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d all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articipant-repo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sues regarding any of the followi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load of the bid/offer portfolios provided by ERCOT (in either XML or CS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of auction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on and/or acceptance (as orchestrated by ERCOT) of bilateral tr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eligible NOIE – upload of nomination information provided by ER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eligible NOIE – download of allocation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CP – entering of credit limit assigned to market provided by ER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6275" r="0" b="0"/>
          <a:stretch/>
        </p:blipFill>
        <p:spPr>
          <a:xfrm>
            <a:off x="457200" y="851040"/>
            <a:ext cx="635328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E6B49-208C-4176-8567-E1EA74D95F0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6BA6A3-323C-438B-9486-96AEEAAD57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R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gestion Revenue Righ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S 3 R7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arly Delivery System 3, Release 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7.1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 7, Sub-release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CRR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-assigned Congestion Revenue Righ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CFRI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cCamey Area Flowgate Righ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ket Participan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R A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gestion Revenue Rights Account Hold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unter Par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PTF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ition Plan Task Forc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UN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Universal Numbering Syste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A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er System Administ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M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xas Market Link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51674-E5B3-4A0F-8EBD-583F641EA63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3DFBDD-4B2F-4995-9A15-620040512B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able of content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7.1 schedule, objectives and exit criter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sue submiss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ing up - R7.2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2AE1-0B87-43A8-905E-5415E5A3F10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8760F5-791F-478A-B1C8-D3439F0028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7.1: UI Connectivity – schedule, objectives and exit criteri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009800"/>
            <a:ext cx="7601040" cy="20984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319104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Objec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R AHs are able to connect to the CRR system using a digital certifica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R AHs are able to upload and download information to/from CRR syste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Exit Criteri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solved all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articipant-repo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issues regarding any of the followi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og-in and access of the CRR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load of a bid/offer portfolio (in either XML or CS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iting a bid/offer within a portfolio (confirms web browser supports java apple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ownload of auction market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ion of a sell/buy bilateral trade po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9240" y="5907240"/>
            <a:ext cx="78390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b2b2b2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b2b2b2"/>
                </a:solidFill>
                <a:latin typeface="Arial"/>
              </a:rPr>
              <a:t>Download one of the pre-auction market information” and “Accept a bilateral trade posting” activities were mentioned in handbook – these are now optional; not required for R7.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EDBB-8EE3-4A8D-9EA9-A891DDEE9A5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C55810-4297-427C-8E78-204934A2A3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7.1 Test Script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og-in and access the CRR appl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load a bid/offer portfolio (in either XML or CSV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it a bid/offer within a portfolio (confirms web browser supports java applet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ownload auction market result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a sell/buy bilateral trade pos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2b2b2"/>
                </a:solidFill>
                <a:latin typeface="Arial"/>
                <a:ea typeface="Times New Roman"/>
              </a:rPr>
              <a:t>Not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2b2b2"/>
                </a:solidFill>
                <a:latin typeface="Arial"/>
                <a:ea typeface="Times New Roman"/>
              </a:rPr>
              <a:t>	</a:t>
            </a:r>
            <a:r>
              <a:rPr b="1" i="1" lang="en-US" sz="1200" spc="-1" strike="noStrike">
                <a:solidFill>
                  <a:srgbClr val="b2b2b2"/>
                </a:solidFill>
                <a:latin typeface="Arial"/>
                <a:ea typeface="Times New Roman"/>
              </a:rPr>
              <a:t>“</a:t>
            </a:r>
            <a:r>
              <a:rPr b="1" i="1" lang="en-US" sz="1200" spc="-1" strike="noStrike">
                <a:solidFill>
                  <a:srgbClr val="b2b2b2"/>
                </a:solidFill>
                <a:latin typeface="Arial"/>
                <a:ea typeface="Times New Roman"/>
              </a:rPr>
              <a:t>Download one of the pre-auction market information” and “Accept a bilateral trade posting” activities were mentioned in handbook – these activities are optional but not requir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C4976-61E2-4693-B826-C5B39166D7E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50E3C0-2305-4BF6-9C25-4FD6CE118D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1. Log-in and access the CRR applica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400" y="771120"/>
            <a:ext cx="810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certificates will be emailed to MP User System Administrator (if CRR AH not yet fully registered, emailed to R7 testing contact)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ps: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1" lang="en-US" sz="1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s://nodaleds.ercot.com/misportal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on Markets -&gt; Congestion Revenue Righ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24354" t="10100" r="13918" b="26771"/>
          <a:stretch/>
        </p:blipFill>
        <p:spPr>
          <a:xfrm>
            <a:off x="152280" y="1962000"/>
            <a:ext cx="5238720" cy="4286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57200" y="3048120"/>
            <a:ext cx="1219320" cy="171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rcRect l="24118" t="9742" r="13531" b="30699"/>
          <a:stretch/>
        </p:blipFill>
        <p:spPr>
          <a:xfrm>
            <a:off x="3000240" y="3305160"/>
            <a:ext cx="4164120" cy="3181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457200" y="3139920"/>
            <a:ext cx="2523960" cy="3308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139920"/>
            <a:ext cx="1323720" cy="174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95640" y="4295880"/>
            <a:ext cx="1123920" cy="581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57960" y="2144880"/>
            <a:ext cx="357192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on any link below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ew CRR Bid/Offer Portfolio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ew Bilateral Market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wnload Reports” 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ew User Message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14037-8C23-49CA-B254-A695712DF05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B26A77-DA9F-4344-9E7E-7C78EEA326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. Upload a bid/offer portfolio (in either XML or CSV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799920"/>
            <a:ext cx="779148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teps: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ownload generic bid file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from EDS3 websit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 t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http://nodal.ercot.com/readiness/eds3/documents/index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er Release 7 – CRR: click on “r7_1_generic_bid_for_uploa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opulate “Account Holder” column/field with participant’s short name and save locall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http://nodal.ercot.com/readiness/eds3/documents/index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er Release 7 – CRR: click on “r7_1_ah_short_name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aunch CRR application – go to “View Bid/Offer Portfolios” link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If within application already, go to “Auction Portfolio” ta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pload saved bid file from step 2 above –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enter portfolio name a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UPLOAD FILE FROM [CRR AH NAME]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ave portfolio – continue with steps in next slid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91120" y="3095640"/>
            <a:ext cx="4829040" cy="17179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Guidance material on how to navigate within this page (either one below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RR User 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</a:rPr>
              <a:t>http://nodal.ercot.com/readiness/eds3/documents/index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nder Release 7 – CRR: click on “crr_market_user_interface_user_manual_v1_0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ection 3: Auction Portfolio Manager (Page 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RR UI Training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</a:rPr>
              <a:t>https://www.ercottraining.com</a:t>
            </a:r>
            <a:r>
              <a:rPr b="0" lang="en-US" sz="1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ign in (or register if not already) and go to “CRR User Interface Training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iew demo on “Auction Portfolio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4562280" y="27241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2F49-F5B3-4C1E-8FC0-EAA293CDA15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DEE90C-BA2F-4F1F-BA6A-376137C9DF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3. Edit a bid/offer portfolio (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nfirms web browser supports java applets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440" y="799920"/>
            <a:ext cx="822960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teps: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*steps from slide befor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u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be completed before these steps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 a bid item (additional new row) and populate required fields with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any valid valu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Select marke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: “EDS R7.1 Market for upload”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ave portfoli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Submit portfoli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to market (the “remove” link becomes visible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i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29160" y="2009880"/>
            <a:ext cx="5391000" cy="1870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Guidance material on what is “valid” (CRR User Manual) and how to navigate within this page (either one below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RR User 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</a:rPr>
              <a:t>http://nodal.ercot.com/readiness/eds3/documents/index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nder Release 7 – CRR: click on “crr_market_user_interface_user_manual_v1_0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ection 3: Auction Portfolio Manager (Page 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RR UI Training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</a:rPr>
              <a:t>https://www.ercottraining.com</a:t>
            </a:r>
            <a:r>
              <a:rPr b="0" lang="en-US" sz="1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ign in (or register if not already) and go to “CRR User Interface Training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iew demo on “Auction Portfolio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5800320" y="163836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09511-372E-42EA-839E-1255E7AC2AE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E42859-9A85-483E-84E1-BCC45EDF89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4. Download auction market results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280" y="799920"/>
            <a:ext cx="822960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teps: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aunch CRR application – go to “Download Reports” link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If within application already, go to “Downloads” ta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ownload “Market Results” file in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either csv or xml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 -&gt; Market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Type -&gt; Aucti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Term -&gt; Month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-&gt; EDS 7.1 Market for down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ownload “Market Result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ave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file name a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DOWNLOAD FILE FROM [CRR AH NAME]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ttach file in email and send to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crrinfo@ercot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with email subject tit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: DOWNLOAD FILE FROM [CRR AH NAME]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24200" y="2181240"/>
            <a:ext cx="5295960" cy="17517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Guidance material on how to navigate within this page (either one below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RR User 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</a:rPr>
              <a:t>http://nodal.ercot.com/readiness/eds3/documents/index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nder Release 7 – CRR: click on “crr_market_user_interface_user_manual_v1_0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ection 6: Downloads Manager (Page 37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RR UI Training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</a:rPr>
              <a:t>https://www.ercottraining.com</a:t>
            </a:r>
            <a:r>
              <a:rPr b="0" lang="en-US" sz="1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ign in (or register if not already) and go to “CRR User Interface Training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iew demo on “Download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3838320" y="1809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3628A-C55E-4A28-BE52-6DD79694352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7FDFA3-157F-46A5-A31B-3FD51E8330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Cheng</cp:lastModifiedBy>
  <dcterms:modified xsi:type="dcterms:W3CDTF">2008-02-04T18:36:50Z</dcterms:modified>
  <cp:revision>521</cp:revision>
  <dc:subject/>
  <dc:title>Texas Nodal Market Implementation ERCOT Board of Directors Meeting Budget Rationale October 17, 2006  Kathy Hager, Market Redesign Program Director </dc:title>
</cp:coreProperties>
</file>