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11FC-61AB-4828-B472-355B439A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5687-4011-4AA1-87A1-2413BA0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CE46-F76B-41E0-861D-A534F8AB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D045-F21C-47D1-989C-924EAD77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4670-7581-458D-B843-0650F3F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AE06-8C5A-470C-AF4A-CD11D770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5E48-44A4-4380-9C75-B63857A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1AA7-61E1-4945-A81F-9381D0F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53A2-6C95-4759-A9BC-F24DAFB4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0890-AB39-48F2-8765-789D4DAA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CA35-692E-45B9-942B-44948FF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624-2C24-4658-A17F-6727513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A83-BC8E-4348-8C47-5B02240F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C8E-9E5D-451C-8A0E-69C2DA18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anuary 17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sults will be reported in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Chang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9A5B-CE12-49D8-A84C-070362E11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veral months earlier than the usu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is will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is proposing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6EDE-6271-43C8-A82A-010D500FE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BD92-7139-4B3B-BDB7-57A54B8D9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approval of proces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1" i="1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5C15-AB15-4951-8524-8EDC60B327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494B-CA9A-4539-BCDB-B89B93301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Project Counts at Year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447920"/>
          <a:ext cx="8458200" cy="297180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838440"/>
                <a:gridCol w="838080"/>
                <a:gridCol w="990720"/>
                <a:gridCol w="838080"/>
                <a:gridCol w="914400"/>
                <a:gridCol w="685800"/>
                <a:gridCol w="914400"/>
                <a:gridCol w="8380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r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/ 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28600" y="472428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roject List (approved Sept. 2006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xpected Carryov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rojects A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1143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5275-9271-4115-A2E0-830CA1083A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Nodal Change Contro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Major Nodal Software Drop Occurs on 4/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odal systems have now frozen changes to functionality required for Go L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changes with a systems impact deemed absolutely essential for the correct operation of the Nodal market can be considered (with the knowledge that their introduction may delay Go L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s with no impact can proceed, but diverting Nodal Subject Matter Experts to analyze new NPRRs is not advi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essential changes should be tabled or will be boxed in the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9EC3-E853-4DFD-A9E7-F43B7472D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1-16T15:21:50Z</dcterms:modified>
  <cp:revision>163</cp:revision>
  <dc:subject/>
  <dc:title>Instructions</dc:title>
</cp:coreProperties>
</file>