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3"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152280" y="6351480"/>
            <a:ext cx="727200" cy="392400"/>
          </a:xfrm>
          <a:prstGeom prst="rect">
            <a:avLst/>
          </a:prstGeom>
          <a:ln w="0">
            <a:noFill/>
          </a:ln>
        </p:spPr>
      </p:pic>
      <p:sp>
        <p:nvSpPr>
          <p:cNvPr id="5"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9DE098F-0279-4DE5-A726-58F5AE67E74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Reduction of MMS Vendor Effort </a:t>
            </a:r>
            <a:br>
              <a:rPr sz="2400"/>
            </a:br>
            <a:r>
              <a:rPr b="0" lang="en-GB" sz="1800" spc="-1" strike="noStrike">
                <a:solidFill>
                  <a:srgbClr val="808080"/>
                </a:solidFill>
                <a:latin typeface="Arial Black"/>
              </a:rPr>
              <a:t>for TPTF January 8, 2008</a:t>
            </a:r>
            <a:br>
              <a:rPr sz="1800"/>
            </a:br>
            <a:r>
              <a:rPr b="0" lang="en-GB" sz="1800" spc="-1" strike="noStrike">
                <a:solidFill>
                  <a:srgbClr val="808080"/>
                </a:solidFill>
                <a:latin typeface="Arial Black"/>
              </a:rPr>
              <a:t>Murray Nixon</a:t>
            </a:r>
            <a:br>
              <a:rPr sz="1800"/>
            </a:br>
            <a:r>
              <a:rPr b="0" lang="en-GB" sz="1800" spc="-1" strike="noStrike">
                <a:solidFill>
                  <a:srgbClr val="808080"/>
                </a:solidFill>
                <a:latin typeface="Arial Black"/>
              </a:rPr>
              <a:t>Sai Moorty</a:t>
            </a:r>
            <a:endParaRPr b="0" lang="en-US" sz="1800" spc="-1" strike="noStrike">
              <a:solidFill>
                <a:srgbClr val="ffffff"/>
              </a:solidFill>
              <a:latin typeface="Arial Black"/>
            </a:endParaRPr>
          </a:p>
        </p:txBody>
      </p:sp>
      <p:pic>
        <p:nvPicPr>
          <p:cNvPr id="47"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sp>
        <p:nvSpPr>
          <p:cNvPr id="49" name="PlaceHolder 2"/>
          <p:cNvSpPr>
            <a:spLocks noGrp="1"/>
          </p:cNvSpPr>
          <p:nvPr>
            <p:ph/>
          </p:nvPr>
        </p:nvSpPr>
        <p:spPr>
          <a:xfrm>
            <a:off x="228600" y="914040"/>
            <a:ext cx="8547120" cy="471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driver (reminder)</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of proposed changes impacting MP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of proposed changes impacting ERCOT Operation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amp; implementation timeline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S2 FAT statu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Black"/>
              </a:rPr>
              <a:t>Key Driver for Proposed Changes</a:t>
            </a:r>
            <a:endParaRPr b="0" lang="en-US" sz="1500" spc="-1" strike="noStrike">
              <a:solidFill>
                <a:srgbClr val="ffffff"/>
              </a:solidFill>
              <a:latin typeface="Arial Black"/>
            </a:endParaRPr>
          </a:p>
        </p:txBody>
      </p:sp>
      <p:sp>
        <p:nvSpPr>
          <p:cNvPr id="51"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sure the final MMS FAT completes by 30Jun08, allowing 2 months for integration &amp; EDS4 activities prior to the 168 hour test start on 1Sep08</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as the direction provided to the ERCOT &amp; ABB MMS teams by the Nodal and ABB executives on 28Nov07</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sed deferrals will help MMS meet the Nodal program timeline by reducing ~8300 hours of vendor requested work until after the delivery of the final release to ERCOT for the start of FAT</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7500 additional hours have been removed from the vendor scope by methods such as reducing the number of releases, moving work to ERCOT, deferring low priority SPR work post go-liv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Black"/>
              </a:rPr>
              <a:t>Proposed Changes</a:t>
            </a:r>
            <a:endParaRPr b="0" lang="en-US" sz="1500" spc="-1" strike="noStrike">
              <a:solidFill>
                <a:srgbClr val="ffffff"/>
              </a:solidFill>
              <a:latin typeface="Arial Black"/>
            </a:endParaRPr>
          </a:p>
        </p:txBody>
      </p:sp>
      <p:sp>
        <p:nvSpPr>
          <p:cNvPr id="53"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change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models</a:t>
            </a:r>
            <a:endParaRPr b="0" lang="en-US" sz="20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Workaround is being defined that will be acceptable to ERCOT &amp; MPs</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S&amp;B information only calculations (DAOPTPRINFO &amp; RTOPTPRINFO; sections 7.9.1.2 and 7.9.2.2)</a:t>
            </a:r>
            <a:endParaRPr b="0" lang="en-US" sz="20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No proposed workaround; info to be made available after go-live</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interface for QSEs with resources to update resource parameters (e.g., ramp rates) in MMS</a:t>
            </a:r>
            <a:endParaRPr b="0" lang="en-US" sz="20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Workaround being defined to determine feasibility of implementation prior to 168 hour test. Otherwise, proposed original functionality to be implemented after go-live.</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ally scheduled resource incremental and decremental energy offer curves</a:t>
            </a:r>
            <a:endParaRPr b="0" lang="en-US" sz="20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No proposed workaround; functionality to be implemented after go-live</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timizing energy and AS for self-committed resources in DAM </a:t>
            </a:r>
            <a:endParaRPr b="0" lang="en-US" sz="20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Regardless of future outcome of TPTF sub-group, functionality to be implemented after go-liv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Black"/>
              </a:rPr>
              <a:t>Proposed Changes (cont’d)</a:t>
            </a:r>
            <a:endParaRPr b="0" lang="en-US" sz="1500" spc="-1" strike="noStrike">
              <a:solidFill>
                <a:srgbClr val="ffffff"/>
              </a:solidFill>
              <a:latin typeface="Arial Black"/>
            </a:endParaRPr>
          </a:p>
        </p:txBody>
      </p:sp>
      <p:sp>
        <p:nvSpPr>
          <p:cNvPr id="55"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ed changes (cont’d)</a:t>
            </a:r>
            <a:endParaRPr b="1"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 the performance of Phase 2 validation for the credit limit check component. Reason for deferring: At present it is not known whether further performance improvements are needed.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major processes (SCED, DAM, RUC) inputs/outputs are archived (referred to as save cases). These save cases can be reloaded into MMS for future analysis. To aid in analysis it was considered beneficial if the binary files in the save case could be stored in a ASCII file format. Reason for deferring: Workaround is available as data in binary file is still accessible after loading into MMS.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C: add display to show the corresponding binding transmission constraint, shift factors and flow contribution from the resource (NOTE: ERCOT is considering moving this work in-house if possible). Reason for deferring: Workaround is that data is available in MMS and ERCOT’s plan is to check feasibility of building display internally.</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aint Competitive Test (CCT): For monthly and annual CCT making additional data available in database for further analysis (Congestion management group) (NOTE: ERCOT is considering moving this work in-house if possible) Reason for deferring: Workaround is that raw data will be available in file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ability Evaluation Function (DEF): This tool is used by ERCOT operators to determine if there is a situation where Ancillary Service (AS) over a given time horizon is undeliverable. During MMS 2 pre-FAT where this tool was tested, certain enhancements in the scenarios simulated and results presented were proposed. Reason for deferring: ERCOT still needs to evaluate the proposed enhancements.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ekly RUC : Enhanced configurability of WRUC study periods. Reason for deferring: Very low prior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imeline for Development &amp; Implementation of Proposed Changes</a:t>
            </a:r>
            <a:endParaRPr b="0" lang="en-US" sz="1400" spc="-1" strike="noStrike">
              <a:solidFill>
                <a:srgbClr val="ffffff"/>
              </a:solidFill>
              <a:latin typeface="Arial Black"/>
            </a:endParaRPr>
          </a:p>
        </p:txBody>
      </p:sp>
      <p:sp>
        <p:nvSpPr>
          <p:cNvPr id="57"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development timeline: continue work on these items between the start of the last MMS FAT (currently scheduled for 22Apr08) and go-live (1Dec08)</a:t>
            </a:r>
            <a:endParaRPr b="1"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implementation timeline: no later than the end of the 2</a:t>
            </a:r>
            <a:r>
              <a:rPr b="1" lang="en-US" sz="2000" spc="-1" strike="noStrike" baseline="30000">
                <a:solidFill>
                  <a:srgbClr val="000000"/>
                </a:solidFill>
                <a:latin typeface="Arial"/>
              </a:rPr>
              <a:t>nd</a:t>
            </a:r>
            <a:r>
              <a:rPr b="1" lang="en-US" sz="2000" spc="-1" strike="noStrike">
                <a:solidFill>
                  <a:srgbClr val="000000"/>
                </a:solidFill>
                <a:latin typeface="Arial"/>
              </a:rPr>
              <a:t> quarter after Nodal go-live with prioritization of implementation items to be a joint TPTF / Nodal program / MMS project decision</a:t>
            </a:r>
            <a:endParaRPr b="1"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regular joint reviews of outstanding MMS requests will be necessary since items of varying priority will be identified during the remaining MMS pre-FAT &amp; FAT, integration and EDS activities</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Black"/>
              </a:rPr>
              <a:t>MMS2 FAT Status</a:t>
            </a:r>
            <a:endParaRPr b="0" lang="en-US" sz="1500" spc="-1" strike="noStrike">
              <a:solidFill>
                <a:srgbClr val="ffffff"/>
              </a:solidFill>
              <a:latin typeface="Arial Black"/>
            </a:endParaRPr>
          </a:p>
        </p:txBody>
      </p:sp>
      <p:sp>
        <p:nvSpPr>
          <p:cNvPr id="59"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S2 FAT started on 3Dec07 with a targeted completion of 11Jan08</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of 4Jan08, 83% of the all FAT tests are complete with a 90% pass rat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f the remaining tests are unstructu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patch containing SPR fixes was deployed to MMS DEV on 7Jan08; planning to move to MMS FAT 8Jan08</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maining unstructured tests and SPR fixes will be tested 9-11Jan08</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tch will be available for deployment to other environments as soon as the migration to MMS FAT is complete</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Trip Doggett</dc:creator>
  <dc:description/>
  <dc:language>en-US</dc:language>
  <cp:lastModifiedBy>mnixon</cp:lastModifiedBy>
  <dcterms:modified xsi:type="dcterms:W3CDTF">2008-01-10T22:42:14Z</dcterms:modified>
  <cp:revision>898</cp:revision>
  <dc:subject/>
  <dc:title>TAC Update</dc:title>
</cp:coreProperties>
</file>