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B651A-03F5-409B-94BD-D73B580BF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6BF86-C624-43E7-A041-395FFF08D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B69C5-08EE-448A-9B28-E2A98404B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E4C8B-0187-4C3E-BEF9-302507CB8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61EFD-320E-4B0E-93C0-B734C094E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01DF4-D94C-4F18-9519-1DE51D652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58609-739F-4882-B8C7-04755DCEB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5294D-5114-426A-B901-9CDCFF381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42031-2953-4AE1-80A6-D214BB32C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C6FB-2FE9-4423-ABE9-29B0FA11A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F6F3C-8562-453A-982A-3D26623F6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D1FA7-5C06-446F-8F28-382E84B8E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D0DB-D8A0-4C87-89AF-B7FC0D0CE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Wind Surv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 Villanueva</a:t>
            </a:r>
            <a:endParaRPr b="0" lang="en-US" sz="3200" spc="-1" strike="noStrike">
              <a:solidFill>
                <a:srgbClr val="000000"/>
              </a:solidFill>
              <a:latin typeface="Arial"/>
            </a:endParaRPr>
          </a:p>
        </p:txBody>
      </p:sp>
      <p:pic>
        <p:nvPicPr>
          <p:cNvPr id="43" name="" descr=""/>
          <p:cNvPicPr/>
          <p:nvPr/>
        </p:nvPicPr>
        <p:blipFill>
          <a:blip r:embed="rId1"/>
          <a:stretch/>
        </p:blipFill>
        <p:spPr>
          <a:xfrm>
            <a:off x="3886200" y="2514600"/>
            <a:ext cx="1563840" cy="20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457200" y="274680"/>
          <a:ext cx="8229600" cy="5516640"/>
        </p:xfrm>
        <a:graphic>
          <a:graphicData uri="http://schemas.openxmlformats.org/drawingml/2006/table">
            <a:tbl>
              <a:tblPr/>
              <a:tblGrid>
                <a:gridCol w="4343400"/>
                <a:gridCol w="1089000"/>
                <a:gridCol w="1422360"/>
                <a:gridCol w="1374840"/>
              </a:tblGrid>
              <a:tr h="1968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bilen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V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g Spr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V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cCame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V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3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g. Reactive Capability at 50% O/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7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g. Reactive Capability at 100% O/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9.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5.7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g. Reactive Capability at no O/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0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
          <p:cNvSpPr/>
          <p:nvPr/>
        </p:nvSpPr>
        <p:spPr>
          <a:xfrm>
            <a:off x="594720" y="6056280"/>
            <a:ext cx="495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r west do not have any reactive cap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the VAR Capability required in the Interconnection Agreement?</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ilene: 6 of 15 WPGR’s said 0.95 pf leading or lagging. 2 WPGR said 0.98 pf leading or lagging. 8 said n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Spring: All the WPGR’s said 0.95 pf leading or lag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cCamey: 4 of 10 WPGR’s said 0.97 pf leading, 3 said 0.98 leading and 1 said 0.96 leading. 2 said n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r West: Both the WPGR’s said 1 pf leading or lagg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far can units be backed down before operation becomes unstable?</a:t>
            </a:r>
            <a:endParaRPr b="0" lang="en-US" sz="2800" spc="-1" strike="noStrike">
              <a:solidFill>
                <a:srgbClr val="000000"/>
              </a:solidFill>
              <a:latin typeface="Arial"/>
            </a:endParaRPr>
          </a:p>
        </p:txBody>
      </p:sp>
      <p:graphicFrame>
        <p:nvGraphicFramePr>
          <p:cNvPr id="76" name=""/>
          <p:cNvGraphicFramePr/>
          <p:nvPr/>
        </p:nvGraphicFramePr>
        <p:xfrm>
          <a:off x="762120" y="2209680"/>
          <a:ext cx="8001000" cy="1597320"/>
        </p:xfrm>
        <a:graphic>
          <a:graphicData uri="http://schemas.openxmlformats.org/drawingml/2006/table">
            <a:tbl>
              <a:tblPr/>
              <a:tblGrid>
                <a:gridCol w="3733560"/>
                <a:gridCol w="1600200"/>
                <a:gridCol w="1371600"/>
                <a:gridCol w="1295640"/>
              </a:tblGrid>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bilen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g Spr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cCame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4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 output per farm after which operation becomes uns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0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0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
          <p:cNvSpPr/>
          <p:nvPr/>
        </p:nvSpPr>
        <p:spPr>
          <a:xfrm>
            <a:off x="1050840" y="40752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 name=""/>
          <p:cNvSpPr/>
          <p:nvPr/>
        </p:nvSpPr>
        <p:spPr>
          <a:xfrm>
            <a:off x="379080" y="4189320"/>
            <a:ext cx="869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of 10 WPGR’s in McCamey and both WPGR’s in Far west said Curtailment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d by stopping a group of turbines (groups are predetermined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hrough), not by reducing individual turbine 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an individual turbines of this type be shut down at the facility on a routine basis (stop and start once per day)?</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ilene: 14 of 15 WPGR’s have the capability and 1 does no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Spring: 7 of 7 WPGR’s have the capability of shutting individual turbines at the facility on a routine ba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cCamey: 8 of 10 WPGR’s have the capability and 2 of 10 WPGR’s said that current control scheme does not shut down turbines but limit power output by modulating blade pit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r West: Both WPGR’s have the cap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Are the facility turbines and control system and facility turbines able to provide automatic generation control (AGC) from a technical point of view? If not, would the turbines be capable of this if the control system was upgraded?</a:t>
            </a:r>
            <a:endParaRPr b="0" lang="en-US" sz="2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ilene: 3 of 15 in Abilene area can provide AGC and 3 can provide with a control system up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Spring: 6 of 7 in Big Spring cannot provide automatic generation control (AGC). 1 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cCamey: Response was unclea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r West: N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flexible is the zero output reactive capability? For example, is it manually or automatically switched in?  What are the issues associated with provided this reactive capability if requested by ERCOT in Real Time.</a:t>
            </a:r>
            <a:endParaRPr b="0" lang="en-US" sz="2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lene: 3 of 15 have static reactive capability, which is only capacitive reactive compensation that can be controlled manually or automatically. 3 cannot provide any flexibility. 4 said wind dependant. 3 said they are automatically controlled by two controllers, but that could take some programming work to implement. 1 said automatically controlled between +9 or -9 MVAr. 1 WPGR’s VAr output is attributed to the capacitive nature of the underground collection system. Capability is limited due to underground cable splices and thermal backfill materi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g Spring Area: 5 of 7 do not have any flexible reactive capability at zero output. 1 has manual switching capability. 1 has static reactive capability, which is only capacitive reactive compensation that can be controlled manually or automaticall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Camey: None in McCamey area have flexible reactive capability at zero outpu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r West: None in this area have flexible reactive capability at zero outpu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86"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e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 voltage - 299vac at the turbine. Over voltage - 365vac at the turbine. Over frequency - 61hz at the turbine. Under frequency - 59hz at the turbine. 25vac asymmetry between phases at the turbine for 6 of 15 WPG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age 110 % nominal or &lt; 70 % nominal for 1 WPG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sponse from 8 WPG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g Spring Area:</a:t>
            </a:r>
            <a:endParaRPr b="0" lang="en-US" sz="2600" spc="-1" strike="noStrike">
              <a:solidFill>
                <a:srgbClr val="000000"/>
              </a:solidFill>
              <a:latin typeface="Arial"/>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90% ≤ System Voltage ≥ 110% ;  94% ≤ System Frequency ≥ 104% is the response from 2 of 7 WPGR’s </a:t>
            </a:r>
            <a:endParaRPr b="0" lang="en-US" sz="2600" spc="-1" strike="noStrike">
              <a:solidFill>
                <a:srgbClr val="000000"/>
              </a:solidFill>
              <a:latin typeface="Arial"/>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gh voltage 500V sensed phase to ground, low voltage 340V sensed phase to ground; For a V-47: high frequency 60.4hz, low frequency 59.2hz; For a V-66: high frequency 60.3hz, low frequency 59.5hz.</a:t>
            </a:r>
            <a:endParaRPr b="0" lang="en-US" sz="2600" spc="-1" strike="noStrike">
              <a:solidFill>
                <a:srgbClr val="000000"/>
              </a:solidFill>
              <a:latin typeface="Arial"/>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 Freq&gt;61Hz for 0.5 s, Under Freq &lt;=59 Hz Over Vol&gt;120% is the response from 2 WPGR’s</a:t>
            </a:r>
            <a:endParaRPr b="0" lang="en-US" sz="2600" spc="-1" strike="noStrike">
              <a:solidFill>
                <a:srgbClr val="000000"/>
              </a:solidFill>
              <a:latin typeface="Arial"/>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e was unclear from 1 WPGR.</a:t>
            </a:r>
            <a:endParaRPr b="0" lang="en-US" sz="2600" spc="-1" strike="noStrike">
              <a:solidFill>
                <a:srgbClr val="000000"/>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90"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Cam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age 110 % nominal or &lt; 70 % nominal for 2 of 10 WPG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 from 4 WPGR’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5% V after 0.1 sec time delay (T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0% V &amp; 5 sec TD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 V &amp; 60 sec TD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12% V &amp; 0.1 sec T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 from 4 WPGR’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0% V &amp; 0.2 sec T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0% V &amp; 60 sec T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8% V &amp; 5 sec T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10% V &amp; 0.2 sec T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92"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 w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sponse for this questio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76320" y="0"/>
            <a:ext cx="9067680" cy="6818400"/>
            <a:chOff x="76320" y="0"/>
            <a:chExt cx="9067680" cy="6818400"/>
          </a:xfrm>
        </p:grpSpPr>
        <p:pic>
          <p:nvPicPr>
            <p:cNvPr id="45" name="" descr=""/>
            <p:cNvPicPr/>
            <p:nvPr/>
          </p:nvPicPr>
          <p:blipFill>
            <a:blip r:embed="rId1"/>
            <a:stretch/>
          </p:blipFill>
          <p:spPr>
            <a:xfrm>
              <a:off x="76320" y="152280"/>
              <a:ext cx="8940600" cy="6399360"/>
            </a:xfrm>
            <a:prstGeom prst="rect">
              <a:avLst/>
            </a:prstGeom>
            <a:ln w="0">
              <a:noFill/>
            </a:ln>
          </p:spPr>
        </p:pic>
        <p:sp>
          <p:nvSpPr>
            <p:cNvPr id="46" name=""/>
            <p:cNvSpPr/>
            <p:nvPr/>
          </p:nvSpPr>
          <p:spPr>
            <a:xfrm>
              <a:off x="158760" y="4913280"/>
              <a:ext cx="21337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867280" y="380880"/>
              <a:ext cx="3276720" cy="281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315200" y="320040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16640" y="380988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lene</a:t>
              </a:r>
              <a:endParaRPr b="0" lang="en-US" sz="1800" spc="-1" strike="noStrike">
                <a:solidFill>
                  <a:srgbClr val="000000"/>
                </a:solidFill>
                <a:latin typeface="Arial"/>
              </a:endParaRPr>
            </a:p>
          </p:txBody>
        </p:sp>
        <p:sp>
          <p:nvSpPr>
            <p:cNvPr id="50" name=""/>
            <p:cNvSpPr/>
            <p:nvPr/>
          </p:nvSpPr>
          <p:spPr>
            <a:xfrm flipV="1">
              <a:off x="1981080" y="48769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577960" y="468468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Camey</a:t>
              </a:r>
              <a:endParaRPr b="0" lang="en-US" sz="1800" spc="-1" strike="noStrike">
                <a:solidFill>
                  <a:srgbClr val="000000"/>
                </a:solidFill>
                <a:latin typeface="Arial"/>
              </a:endParaRPr>
            </a:p>
          </p:txBody>
        </p:sp>
        <p:sp>
          <p:nvSpPr>
            <p:cNvPr id="52" name=""/>
            <p:cNvSpPr/>
            <p:nvPr/>
          </p:nvSpPr>
          <p:spPr>
            <a:xfrm>
              <a:off x="3310200" y="3726000"/>
              <a:ext cx="133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g Spring</a:t>
              </a:r>
              <a:endParaRPr b="0" lang="en-US" sz="1800" spc="-1" strike="noStrike">
                <a:solidFill>
                  <a:srgbClr val="000000"/>
                </a:solidFill>
                <a:latin typeface="Arial"/>
              </a:endParaRPr>
            </a:p>
          </p:txBody>
        </p:sp>
        <p:sp>
          <p:nvSpPr>
            <p:cNvPr id="53" name=""/>
            <p:cNvSpPr/>
            <p:nvPr/>
          </p:nvSpPr>
          <p:spPr>
            <a:xfrm>
              <a:off x="2133720" y="0"/>
              <a:ext cx="3429000" cy="3352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886200" y="3352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at is the response time required to reduce output by 20%? (time from ERCOT notice to reduce to time when wind-ranch is 20% below previous output)?</a:t>
            </a:r>
            <a:endParaRPr b="0" lang="en-US" sz="2400" spc="-1" strike="noStrike">
              <a:solidFill>
                <a:srgbClr val="000000"/>
              </a:solidFill>
              <a:latin typeface="Arial"/>
            </a:endParaRPr>
          </a:p>
        </p:txBody>
      </p:sp>
      <p:sp>
        <p:nvSpPr>
          <p:cNvPr id="9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esponse time for 9 of 15 WPGR’s in Abilene is 8 min. 6 have a response of “This is not the way the system operates, the turbines are turned off in groups to reduce the maximum MW output - it does not "set" outpu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esponse time for Big Spring is 24 m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esponse time for 2 of 10 WPGR’s in McCamey is 10 min. 8 have a response of “This is not the way the system operates, the turbines are turned off in groups to reduce the maximum MW output - it does not "set" outpu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f 2 WPGR’s in Far west have a response of “This is not the way the system operates, the turbines are turned off in groups to reduce the maximum MW output - it does not "set" outpu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at is the response time required to increase output by 20% (presuming wind available)? (time from ERCOT notice to increased to time when wind-ranch is 20% above previous output?</a:t>
            </a:r>
            <a:endParaRPr b="0" lang="en-US" sz="2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response time for 9 of 15 WPGR’s in Abilene is 8 min. 6 have a response of “This is not the way the system operates, the turbines are turned back on  in groups to increase the maximum MW output - it does not "set" out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response time for 5 of 7 WPGR’s Big Spring is 21 min.2 WPGR’s have a response of “This is not the way the system operates, the turbines are turned back on in groups to increase the maximum MW output - it does not "set" out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response time for 2 of 10 WPGR’s in McCamey is 10 min. 8 have a response of “This is not the way the system operates, the turbines are turned off in groups to reduce the maximum MW output - it does not "set" out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f 2 WPGR’s in Far west have a response of “This is not the way the system operates, the turbines are turned off in groups to reduce the maximum MW output - it does not "set" outp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hen turbines are being controlled what is the available ramping capability assuming wind conditions and system transmission conditions that could accommodate full output? </a:t>
            </a:r>
            <a:endParaRPr b="0" lang="en-US" sz="1600" spc="-1" strike="noStrike">
              <a:solidFill>
                <a:srgbClr val="000000"/>
              </a:solidFill>
              <a:latin typeface="Arial"/>
            </a:endParaRPr>
          </a:p>
        </p:txBody>
      </p:sp>
      <p:sp>
        <p:nvSpPr>
          <p:cNvPr id="98" name="PlaceHolder 2"/>
          <p:cNvSpPr>
            <a:spLocks noGrp="1"/>
          </p:cNvSpPr>
          <p:nvPr>
            <p:ph/>
          </p:nvPr>
        </p:nvSpPr>
        <p:spPr>
          <a:xfrm>
            <a:off x="457200" y="990360"/>
            <a:ext cx="830592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en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of 15 WPGR’s response:</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00% (1,500kw per unit) less than 4 minut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100% (1,500kw) less than 1 minute</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75% (1,125kw) less than 1 minute</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50% (750kw) less than 1 minute</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5% (375kw) less than 1 minute</a:t>
            </a:r>
            <a:endParaRPr b="0" lang="en-US" sz="16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 WPGR’s response: There are no ramp rates. 0 – 100% output in 5 minutes (At perfect wind conditions)”.</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 WPGR’s response: No ramp rates</a:t>
            </a:r>
            <a:endParaRPr b="0" lang="en-US" sz="17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 WPGR’s response:is “Individual turbine from 0 – 100 % in about 2.5 minutes.  Entire farm in about 5 minutes (wind dependent).</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ig Spring: Non responsive “There are no ramp rat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cCamey: </a:t>
            </a:r>
            <a:endParaRPr b="0" lang="en-US" sz="22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 of 10 WPGR’s response: “Individual turbine from 0 – 100 % in about 2.5 minutes.  Entire farm in about 5 minutes (wind dependent). </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8 WPGR’s response: There are no ramp rates. 0 – 100% output in 5 minutes (At perfect wind conditions)”. </a:t>
            </a:r>
            <a:endParaRPr b="0" lang="en-US" sz="17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r West: There are no ramp rates. 0 – 100% output in 5 minutes (At perfect wind conditions)”. </a:t>
            </a:r>
            <a:endParaRPr b="0" lang="en-US" sz="22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1447920"/>
            <a:ext cx="8534160" cy="4208400"/>
          </a:xfrm>
          <a:prstGeom prst="rect">
            <a:avLst/>
          </a:prstGeom>
          <a:ln w="0">
            <a:noFill/>
          </a:ln>
        </p:spPr>
      </p:pic>
      <p:sp>
        <p:nvSpPr>
          <p:cNvPr id="56" name=""/>
          <p:cNvSpPr/>
          <p:nvPr/>
        </p:nvSpPr>
        <p:spPr>
          <a:xfrm>
            <a:off x="1282680" y="2206800"/>
            <a:ext cx="213372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2895480" y="211248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719160" y="186516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es</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99284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surveys s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respons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s follow-u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ile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Spr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cCam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r Wes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ilene Area</a:t>
            </a:r>
            <a:br>
              <a:rPr sz="4400"/>
            </a:br>
            <a:r>
              <a:rPr b="0" lang="en-US" sz="1600" spc="-1" strike="noStrike">
                <a:solidFill>
                  <a:srgbClr val="000000"/>
                </a:solidFill>
                <a:latin typeface="Arial"/>
              </a:rPr>
              <a:t>All the values are based on returned ERCOT survey results</a:t>
            </a:r>
            <a:endParaRPr b="0" lang="en-US" sz="1600" spc="-1" strike="noStrike">
              <a:solidFill>
                <a:srgbClr val="000000"/>
              </a:solidFill>
              <a:latin typeface="Arial"/>
            </a:endParaRPr>
          </a:p>
        </p:txBody>
      </p:sp>
      <p:sp>
        <p:nvSpPr>
          <p:cNvPr id="6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number of Wind Powered Generation Resources (WPGR) 15 (1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max rated capacity – 2271 MW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ated capacity – 151 M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ut-off speed – 59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inimum wind speed at which generation starts – 8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rated reactive capability –  798 MV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Ar control – 68% and Static VAr control – 32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number of turbines at each plant site – 98</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 % of the units in this area have feathering of the blades to control the output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Spring Area</a:t>
            </a:r>
            <a:br>
              <a:rPr sz="4400"/>
            </a:br>
            <a:r>
              <a:rPr b="0" lang="en-US" sz="1600" spc="-1" strike="noStrike">
                <a:solidFill>
                  <a:srgbClr val="000000"/>
                </a:solidFill>
                <a:latin typeface="Arial"/>
              </a:rPr>
              <a:t>All the values are based on returned ERCOT survey results</a:t>
            </a:r>
            <a:endParaRPr b="0" lang="en-US" sz="1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number of WPGR’s 7 (7)</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max rated capacity – 624 MW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ated capacity – 89 MW</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ut-off speed – 56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inimum wind speed at which generation starts – 9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rated reactive capability –  181 MV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Ar control – 43% and Static VAr control – 57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number of turbines at each plant site – 8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 % of the units in this area have feathering of the blades to control the output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Camey Area</a:t>
            </a:r>
            <a:br>
              <a:rPr sz="4400"/>
            </a:br>
            <a:r>
              <a:rPr b="0" lang="en-US" sz="1600" spc="-1" strike="noStrike">
                <a:solidFill>
                  <a:srgbClr val="000000"/>
                </a:solidFill>
                <a:latin typeface="Arial"/>
              </a:rPr>
              <a:t>All the values are based on ERCOT returned survey results</a:t>
            </a:r>
            <a:endParaRPr b="0" lang="en-US" sz="1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number of WPGR’s 10 (1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max rated capacity – 761 MW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ated capacity – 76 M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ut-off speed – 56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inimum wind speed at which generation starts – 9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rated reactive capability –  290 MV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Ar control – 20% , Static VAr control –    60 % and 20% non respons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number of turbines at each plant site – 15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the units have feathering of the blades to control the output lev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r West Area</a:t>
            </a:r>
            <a:br>
              <a:rPr sz="4400"/>
            </a:br>
            <a:r>
              <a:rPr b="0" lang="en-US" sz="1600" spc="-1" strike="noStrike">
                <a:solidFill>
                  <a:srgbClr val="000000"/>
                </a:solidFill>
                <a:latin typeface="Arial"/>
              </a:rPr>
              <a:t>All the values are based on ERCOT returned survey results</a:t>
            </a:r>
            <a:endParaRPr b="0" lang="en-US" sz="1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number of WPGR’s 2 (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max rated capacity – 72 MW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rated capacity – 36 M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cut-off speed – 56 MP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minimum wind speed at which generation starts – 9 MP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rated reactive capability –  0 MV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number of turbines at each plant site – 7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e of the units have feathering of the blades to control the output lev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d on the survey results we have a total wind capacity of 3726 MW divided among 34 WPGR’s</a:t>
            </a:r>
            <a:endParaRPr b="0" lang="en-US" sz="3200" spc="-1" strike="noStrike">
              <a:solidFill>
                <a:srgbClr val="000000"/>
              </a:solidFill>
              <a:latin typeface="Arial"/>
            </a:endParaRPr>
          </a:p>
        </p:txBody>
      </p:sp>
      <p:pic>
        <p:nvPicPr>
          <p:cNvPr id="70" name="" descr=""/>
          <p:cNvPicPr/>
          <p:nvPr/>
        </p:nvPicPr>
        <p:blipFill>
          <a:blip r:embed="rId1"/>
          <a:stretch/>
        </p:blipFill>
        <p:spPr>
          <a:xfrm>
            <a:off x="3524400" y="3200400"/>
            <a:ext cx="194292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18:47:07Z</dcterms:created>
  <dc:creator>nkota</dc:creator>
  <dc:description/>
  <dc:language>en-US</dc:language>
  <cp:lastModifiedBy>nkota</cp:lastModifiedBy>
  <dcterms:modified xsi:type="dcterms:W3CDTF">2008-01-09T20:47:41Z</dcterms:modified>
  <cp:revision>28</cp:revision>
  <dc:subject/>
  <dc:title>Slide 1</dc:title>
</cp:coreProperties>
</file>