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652A-8DD9-4724-A12B-8C33CDC25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3E6F-5EB7-4E7D-9DB1-12F1DE0E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C3B1-A783-4C44-9058-D816A6E9D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D87E-E789-4E6D-B48A-FF84F77C8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811D-1E4C-4B06-AADA-088B30DE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4C3C-2D01-433A-B37A-C7BC3F11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478D-73B6-40E0-807D-9707601E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C9DD-0FBA-42D0-ADE9-96E7CFE5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271B-0151-47DD-B42F-D87DBFA8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C8FF-49F1-4587-8782-F9C073CD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C946-9E56-4D4A-BD2B-81A6AE33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2866-5681-48F9-B905-302F001C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9030-798D-4171-9B3F-A61B7474E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Report to R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nuary 10,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CWG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land Power &amp;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9480" y="624852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:  December’s 120.71 is NRG’s calculation of CPS1 (not offic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2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096480" cy="6553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620120" y="3808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0.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20120" y="228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2.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267080" y="3170160"/>
          <a:ext cx="609480" cy="51768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0" y="608040"/>
          <a:ext cx="9144000" cy="564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8040"/>
                    <a:ext cx="9144000" cy="56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819000"/>
            <a:ext cx="8686800" cy="60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2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DCWG met on January 8 and 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DCWG continues to do some high level analysis of control performance during periods with low CPS1 sc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G continues to discuss potential Nodal market control performanc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xt meeting is February 12 and 1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22:09:42Z</dcterms:created>
  <dc:creator>Bob Green</dc:creator>
  <dc:description/>
  <dc:language>en-US</dc:language>
  <cp:lastModifiedBy>Bob Green</cp:lastModifiedBy>
  <dcterms:modified xsi:type="dcterms:W3CDTF">2008-01-08T02:41:00Z</dcterms:modified>
  <cp:revision>30</cp:revision>
  <dc:subject/>
  <dc:title>ROS Report</dc:title>
</cp:coreProperties>
</file>