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A72-1CB5-474D-A43E-5538DAF2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782-D7AD-4A35-86B0-3DDC9599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ED3-D955-493D-BD5C-F1022C3F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9A5-8950-486C-AAA9-216F4C10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1FB3-AD36-48ED-8A0A-D0625045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9A27-15B2-426A-9878-D17FD307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C49C-4BEC-4D07-8B96-7A33DBCD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7A1E-D561-4011-B472-0FE1F987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80AA-69C8-4C48-9AA9-33B4DC16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95AF-1807-4362-B2C1-89415E18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9523-D6BF-4350-A5F2-B2FE1125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A6D-F074-4083-B523-C01776E7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CC17-F807-432A-AC4C-5C053D41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0F0C-8BBA-4D18-BB33-B904E888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5A61-3136-46D6-B33C-E30E4A58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DE00-0BCE-4776-8F44-E96161BC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5EC9-DBB6-4A28-8E5B-FC22A2A4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515-D91B-48A2-A4D2-D70D8685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B9B-8593-48FF-9E16-859439DE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DCC-F2F8-48D7-8833-DC872D93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5AB-3E78-48AF-89C0-7EF17F14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C49-2637-4EC5-9D17-C39EAA6B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B98-D399-4C9C-8286-6E46826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740-61D0-42F7-94E7-D5A543C8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AF2E-EF5A-4933-A2F0-4CDA837BA41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3CD0-4F30-4DCE-865F-763D8D65358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userguides/ret/User_Guide-Clean_10-10-06.doc" TargetMode="External"/><Relationship Id="rId2" Type="http://schemas.openxmlformats.org/officeDocument/2006/relationships/hyperlink" Target="http://www.ercot.com/services/userguides/ret/User_Guide-Clean_10-10-06.doc" TargetMode="External"/><Relationship Id="rId3" Type="http://schemas.openxmlformats.org/officeDocument/2006/relationships/hyperlink" Target="http://www.ercot.com/services/userguides/ret/User_Guide-Clean_10-10-06.doc" TargetMode="External"/><Relationship Id="rId4" Type="http://schemas.openxmlformats.org/officeDocument/2006/relationships/hyperlink" Target="http://www.ercot.com/services/userguides/ret/User_Guide-Clean_10-10-06.doc" TargetMode="External"/><Relationship Id="rId5" Type="http://schemas.openxmlformats.org/officeDocument/2006/relationships/hyperlink" Target="http://www.ercot.com/services/training/Retail_Market_Participant_Workshop.html" TargetMode="External"/><Relationship Id="rId6" Type="http://schemas.openxmlformats.org/officeDocument/2006/relationships/hyperlink" Target="http://www.ercot.com/services/userguides/ret/User_Guide-Clean_10-10-06.doc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MarkeTrak Phase II Task Forc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pdate to R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cember 5, 2007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ovember 1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and 15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ccomplishments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inalized MarkeTrak Detailed Requirements Document. This was signed off and submitted on November 16</a:t>
            </a:r>
            <a:r>
              <a:rPr b="0" lang="en-US" sz="1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vised the requirements that would be required for Market Testing – high level . To be discussed at TTPT in Decemb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mpleted the prioritization of the Requirement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t meeting schedule for the remainder of the Planning phas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January 10th and 11th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January 24th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February 7th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February 21st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March 6th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March 20th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Date: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March 27th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ovember 1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and 1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cont.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ction items from our last meeting:   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ser’s Guide to be reviewed by individual shops based on Market Participant assignment.  Please provide comments/suggestions about updating the User’s guide to the current functionality of the tool as well as suggestions on how we should incorporate phase 2 requirements to the User’s guide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ink to MarkeTrak webpag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ttp://www.ercot.com/services/client_svcs/mktrk_info/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MarkeTrak</a:t>
            </a:r>
            <a:r>
              <a:rPr b="0" lang="en-US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 User Guide</a:t>
            </a:r>
            <a:r>
              <a:rPr b="0" lang="en-US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P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lease review training document.  All input will be    greatly appreciated (enhancements, areas to focus on, etc.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ink to MarkeTrak Retail Market Participant training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http://www.ercot.com/services/training/Retail_Market_Participant_Workshop.html</a:t>
            </a: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 -  labeled as December 2007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arkeTrak Task Force 2007 Accomplishmen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inalized the MarkeTrak Detailed Requirements Document which included 47 requirements. Submitted ahead of schedule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eted the high level MarketTest requirements for Market Testi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t our aggressive Requirements schedule which included 11 CR’s,4 TDSP’s and SME’s from ERCOT.  Since the formation of the Task Force on July 30th,  we had 14 meetings covering 3 1/2 month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w Use Case format prove to be very successful for ERCOT and Market Participants  This new tool assisted ERCOT and Market Participants with writing and developing the detailed requirements documentation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arkeTrak Task Force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008 Goal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ccessful implementation of the detailed requirements – MT phase 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crease efficiencies within the tool where necessary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pdate and Restructure User’s Gui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pdate and Restructure User Training where applicab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ok into a Web Based Training for MarkeTra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ext Meeting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anuary 10 and 11th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cation – Dallas, TX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sted by ONCOR (Downtown)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itial Conceptual Design Review will be presented by ERCOT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utline initial training plan.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view User’s Guide -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ments/suggestions about updating the User’s guide to the current functionality of the tool as well as suggestions on how we should incorporate Phase 2 requirements into the User’s guide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CenterPoint Energy</cp:lastModifiedBy>
  <dcterms:modified xsi:type="dcterms:W3CDTF">2007-11-28T17:55:36Z</dcterms:modified>
  <cp:revision>17</cp:revision>
  <dc:subject/>
  <dc:title>MarkeTrak Task Force</dc:title>
</cp:coreProperties>
</file>