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972-6FCD-4739-B000-67906205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583-65EA-432D-A5EA-7513BF45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7BC-D3F0-49FB-891D-6B54B1DD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C11-43F6-49BA-A3D0-5311A76F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1539B-F10B-4430-83B7-490B0B51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13196-4762-44D1-AA88-16433F80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0CD5-C599-4366-ADAA-0A04C15E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2003B-1627-4F3A-876F-BE53334B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86771-4E77-4B1C-880B-CCB888C1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D9A3-23DE-4F76-99B9-CEAE5C18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6CEF8-DBEB-4A8C-8846-AFBBA3E0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C0E-BAEF-47BA-B710-23CEF2EE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2EEF-DD0B-4054-9051-B9A9668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012C-87AE-4E97-AF43-F2F0377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4E1C-F051-4EC3-AFCF-60B59AAA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AFCB4-A2E0-4E9F-95C1-BF068EF6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4B57A-E647-4715-9469-83D4716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8E0-0695-4E6E-BEF5-8B9169CA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EF3-8F95-4513-A5D0-A185DF3C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292-049B-47FB-99A6-723548A6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D3D-E005-43AA-BD34-8457102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DF7-7382-4339-9E66-A3A35C16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C50-A679-4838-896E-869D98EF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4CB-7F6B-4B2A-996A-01CBC34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FE7-18FB-46FE-80D4-D600CC285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A443-2EED-4DCA-B0EE-0A82E66440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gency FB"/>
              </a:rPr>
              <a:t>Texas Test Plan T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2007 Accomplish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2008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12/12/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43200" y="228600"/>
            <a:ext cx="3542760" cy="3351240"/>
            <a:chOff x="2743200" y="228600"/>
            <a:chExt cx="3542760" cy="3351240"/>
          </a:xfrm>
        </p:grpSpPr>
        <p:sp>
          <p:nvSpPr>
            <p:cNvPr id="87" name=""/>
            <p:cNvSpPr/>
            <p:nvPr/>
          </p:nvSpPr>
          <p:spPr>
            <a:xfrm flipV="1">
              <a:off x="2982960" y="942120"/>
              <a:ext cx="3123000" cy="2637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24040" y="228600"/>
              <a:ext cx="186840" cy="1792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3200" y="524160"/>
              <a:ext cx="186840" cy="1792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38880" y="524160"/>
              <a:ext cx="186840" cy="17928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5400000">
              <a:off x="3760560" y="3153960"/>
              <a:ext cx="186120" cy="1800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5400000">
              <a:off x="2978280" y="2383920"/>
              <a:ext cx="189000" cy="1800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2738520" y="1426320"/>
              <a:ext cx="189000" cy="1800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5201640" y="3100680"/>
              <a:ext cx="186120" cy="1800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463200" y="1181520"/>
              <a:ext cx="2162160" cy="1915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5920920" y="2383560"/>
              <a:ext cx="189000" cy="18072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6101280" y="1426320"/>
              <a:ext cx="189000" cy="180000"/>
            </a:xfrm>
            <a:prstGeom prst="star5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982960" y="1425240"/>
              <a:ext cx="3123000" cy="11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12600" dir="5400000" blurRad="0" rotWithShape="0">
                      <a:srgbClr val="ffffff"/>
                    </a:outerShdw>
                  </a:effectLst>
                  <a:latin typeface="Agency FB"/>
                </a:rPr>
                <a:t>TTPT</a:t>
              </a:r>
              <a:endParaRPr b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12600" dir="5400000" blurRad="0" rotWithShape="0">
                    <a:srgbClr val="ffffff"/>
                  </a:outerShdw>
                </a:effectLst>
                <a:latin typeface="Agency FB"/>
                <a:ea typeface="Agency FB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gency FB"/>
              </a:rPr>
              <a:t>2007Accomplish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Reduced number of flights in 2008 from four to th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Designed Flight Plan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Developed and modified scripts for the approved Fl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ducted Flight Testing for TX SET Version 3.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tinued to enhance Retail Testing Website to support market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Maintained content within TMTP, TTPT Procedures and Protocol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160" indent="-308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Twenty-seven new CRs completed testing in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gency FB"/>
              </a:rPr>
              <a:t>2008 Go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Designed Flight Plan for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Develop and modify scripts for the approved Flights a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Develop testing scripts and testing procedures for MarkeTrak Phase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inued to enhance Retail Testing Website to support market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400" indent="-3654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gency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Maintained content within TMTP, TTPT Procedures and Protocol up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Windows XP ver. 2.2</cp:lastModifiedBy>
  <dcterms:modified xsi:type="dcterms:W3CDTF">2007-12-12T17:39:03Z</dcterms:modified>
  <cp:revision>4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