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A617-6561-4668-935E-4937CF72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8A1B-2889-4B17-B6A3-9E1C8FAE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A4FE-05FE-443E-A78A-4FE4B071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A074-F50F-46F7-A505-F7AC2CB1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EA42-D15E-4AF9-A4D1-10A9159A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CE1E-7C1F-4BF2-9778-265ECEDB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9A61-869D-42C2-82CA-E5C6B3B5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DEF3-AF5A-4B5E-BD41-3BA24628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26A6-AAE9-4B04-89E7-4082EF0D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92FE-7798-4179-B62E-5EE37D5C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5ABE-38B5-4481-9C73-F038BE84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FBCB-A22A-4E75-AAFA-3157E5B4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4A8E-64E6-4044-A22D-4C5C25CF8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nuary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rformance Metrics -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lesale batch processing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lesale batch processing performance in December continued to be impacted by events in November that caused delays in the batch schedu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tatistics refresh failed due to a software bug, causing a delay in the batch processing schedule and requiring several days to catch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ed data backup jobs on two occasions caused significant de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 processing was on schedule as of December 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infrastructure were implemented on January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8, to improve ongoing batch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6324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6AB1-E5B0-4559-9CF8-8869B1EA90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280" y="914400"/>
          <a:ext cx="853452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853452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8229600" y="6324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61722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e slide 2 for explanation of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1981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6759-EB50-4ED0-BC7B-F792F7E9AF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ember 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914400"/>
          <a:ext cx="861084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861084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133720" y="61722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e slide 2 for explanation of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1828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29600" y="6324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BC95-2E28-4664-BE6F-022E214572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914400"/>
          <a:ext cx="861048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1048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495680" y="6324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946B-8B83-4476-A2C3-D2A6E0FFB0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" y="914400"/>
          <a:ext cx="8458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458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495680" y="6324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1D41-798F-4BE7-B05F-14560F2C0B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914400"/>
          <a:ext cx="792504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792504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495680" y="6324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AD2D-717D-44C4-9A74-D8BF779B0E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8-01-07T22:17:07Z</dcterms:modified>
  <cp:revision>92</cp:revision>
  <dc:subject/>
  <dc:title>Instructions</dc:title>
</cp:coreProperties>
</file>