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D00F-78F9-4101-922E-8C78422C0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284D-72E5-4C68-BFFC-737E99CAD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BF83-F3B9-4BAE-B325-54F6EBBA9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D56C-C08F-4AA6-9EC5-7A67B6F58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550D-D4C0-4076-817B-B472AA63E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AE66-A061-451C-829A-ECB224EF3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24D9-D10E-4502-8561-FCB7EDA00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BCA2-4D51-4B29-9ADD-744B32ABF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A07B-78D2-4D46-AA94-F2A161F06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4B16-94C0-4BBB-8B64-3F45E252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F957-BED5-4892-9033-A430648F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F55C-DE0A-4845-A4C8-120D48EC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F7C1A-DFE6-4167-B7FD-BC9C3771FF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1828800" cy="9824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984240"/>
            <a:ext cx="9144000" cy="8244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ommercial Operations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Sub-Committee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Update to TAC</a:t>
            </a:r>
            <a:endParaRPr b="0" lang="en-US" sz="4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95280" y="4191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January 3, 200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0025-2EDD-4AFC-8692-EC24186A6BB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PS –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December 10</a:t>
            </a:r>
            <a:r>
              <a:rPr b="1" lang="en-US" sz="3600" spc="-1" strike="noStrike" u="sng" baseline="30000">
                <a:solidFill>
                  <a:srgbClr val="ffffff"/>
                </a:solidFill>
                <a:uFillTx/>
                <a:latin typeface="Times New Roman"/>
              </a:rPr>
              <a:t>th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Meeting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DEW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led attention to recent extract delays and communication issues being forwarded to CCW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WG suggested the current “48 hour” notice be revisited and may not be acceptable for some key extra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PW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DR Mandatory Installation – Presented draft PRR to conform protocols with the AM Rule and PUC directive – Straw Vote at COPS in favor of support of PR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DAW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viewed Verifiable Cost Manual – participating in TPTF VC Task Force – SDAWG will address VC Tool and Nodal Settle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1946-74D7-4980-A7B1-F11450A6E61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PS –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ccomplishment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s – 2007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all Resettlements – submitted proposal to reduce impact on ERCOT and Market Participa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viewed Nodal Settlement Invoice Prototypes for DAM_RUC_RTM_ &amp; CARD 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RR Auction Revenue Disburseme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viewed various PRR’s &amp; Nodal NPRR’s for their impact upon the Settlement Process and responded to PRR720 creating an ad hoc participant group to work with ERCOT in developing a new TRE Fee proces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F0EE-2500-4F56-A9B7-1D28C3F41EB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00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PS –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ccomplishments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– 2007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eated a “Nodal Day Ahead Invoice Task Force” to review DAM Invoices being daily versus weekly – TF determined it could not overcome CWG “perception of Market Risk” and decided to take a wait and see approach as DAM market opens –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earned that DAM invoices are due &amp; payable 6 days after operating da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PS &amp; RMS jointly formed a Demand Response Task Force to build requirements for DR Programs  &amp; Report to COPS &amp; RMS by Feb. 2008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F has developed Scope in response to HB 3693 Sect. 20 and Sect. 39.107 Utilities Code as amend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F988-7C06-42BA-B713-7ECC1CDC753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7652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PS –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ccomplishments – 2007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228600" y="1142640"/>
            <a:ext cx="922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DAW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bmitted NPRR to alter the nodal dispute proc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Created business requirements for Nodal CO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Sponsored 2-day mini-market workshop for nodal extracts (hosted at LCR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Worked on VC manual and associated document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CW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Updated COPMG to include Nodal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Updated Section 4, Market Notice Communication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Created Section 11, “Extracts and Report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CFFF-CEB9-4B37-9770-3E44E9E8EAA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PS –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ccomplishments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– 2007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3055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W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plemented new Version 2 ERCOT Profi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gned LRS Sample selection round tw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plemented New Oil &amp; Gas Profile –BUSOGF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leted 2007 Annual Valid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sued 2004, 2005, 2006, and 2007 preview UFE analys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t up area on PWG web page for key docu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led LPGRR &amp; NPRR Language for Demand Response Implemen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bmitted 9 Load Profiling Market Guide Revision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ED21-2475-46E1-8C55-CE222B71057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PS –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ccomplishments – 2007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EW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ormed late in the year to address the concerns of current Extract and Reporting issu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velopment of a Service Level Agreement is in progress to provide a better sense of expectations from the Extract/Reporting Proc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th ERCOT’s help, provided MPs an understanding of the process and issues around Extracts and Repor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vided a forum for MPs to discuss concerns related to Extracts and Report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A86A-0FE8-4CAE-8E22-95F34D6F5E9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765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imes New Roman"/>
              </a:rPr>
              <a:t>Questions 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362B-269A-4AB9-B9ED-2A7419CA10C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4T11:17:23Z</dcterms:created>
  <dc:creator>cpsc600</dc:creator>
  <dc:description/>
  <dc:language>en-US</dc:language>
  <cp:lastModifiedBy>lstarr</cp:lastModifiedBy>
  <dcterms:modified xsi:type="dcterms:W3CDTF">2007-12-26T18:49:01Z</dcterms:modified>
  <cp:revision>245</cp:revision>
  <dc:subject/>
  <dc:title>Point-to-Point</dc:title>
</cp:coreProperties>
</file>