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2A4-921E-48CB-9305-35BA13C1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DA5-F45D-42A7-B5EC-EC2ADCC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77C-C15F-4259-8D44-E6A01CEF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CAF-1E9B-4565-AAAE-2F5706E6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9C5-26AF-4529-BB67-4DE3BC4B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6D8-F72C-4877-B036-B6EC46C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D4B9-8CCE-49C2-8B09-D4444A5A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6DC7-A39A-4861-9E9F-8D4F97E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B142-3E03-4406-B2E7-315D4B72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98DE-45FA-40CD-9D8B-3EF9A248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773-BE94-4342-98B1-D2BB72A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C71-22F2-4A24-9C34-7936D7E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175A-4332-4E6C-A20A-03E3175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B0D-8723-46DD-8E69-8C78FE3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54F6-E6F9-49F3-B372-4B18BF2C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1C9-3F38-4615-AA06-90738FB2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E35D-DCE4-49DA-A4C8-F228EE7C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273-6A5C-43CA-8866-88868E8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F80-79E5-4DD8-B6ED-AE74A6FA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A10-A5F6-4869-84C1-E28C9568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0012-564E-44A6-BDC7-BB9C6BE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5AF-5741-4AF0-885A-EFE45BC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82B-21A3-4325-B72E-6A644A9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BD7-5A2B-4073-B351-B6B4812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gency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gency FB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C3D-C221-4AD0-AF77-E10AC0006093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gency FB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87E-776A-4BE4-8F70-C31148AE5C00}" type="slidenum">
              <a:rPr b="0" lang="en-US" sz="1400" spc="-1" strike="noStrike">
                <a:solidFill>
                  <a:srgbClr val="ffffff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gency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7 Accomplishments and </a:t>
            </a:r>
            <a:br>
              <a:rPr sz="5100"/>
            </a:br>
            <a:r>
              <a:rPr b="1" lang="en-US" sz="5100" spc="-1" strike="noStrike">
                <a:solidFill>
                  <a:srgbClr val="ee941c"/>
                </a:solidFill>
                <a:latin typeface="Agency FB"/>
              </a:rPr>
              <a:t>2008 Goals</a:t>
            </a:r>
            <a:br>
              <a:rPr sz="5100"/>
            </a:br>
            <a:r>
              <a:rPr b="1" lang="en-US" sz="1400" spc="-1" strike="noStrike">
                <a:solidFill>
                  <a:srgbClr val="ee941c"/>
                </a:solidFill>
                <a:latin typeface="Agency FB"/>
              </a:rPr>
              <a:t>RMS Meeting January 9, 2008</a:t>
            </a:r>
            <a:endParaRPr b="0" lang="en-US" sz="1400" spc="-1" strike="noStrike">
              <a:solidFill>
                <a:srgbClr val="b7e7ff"/>
              </a:solidFill>
              <a:latin typeface="Agency FB"/>
            </a:endParaRPr>
          </a:p>
        </p:txBody>
      </p:sp>
      <p:sp>
        <p:nvSpPr>
          <p:cNvPr id="82" name=""/>
          <p:cNvSpPr/>
          <p:nvPr/>
        </p:nvSpPr>
        <p:spPr>
          <a:xfrm>
            <a:off x="3251160" y="685800"/>
            <a:ext cx="2733840" cy="24321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3" name=""/>
          <p:cNvSpPr/>
          <p:nvPr/>
        </p:nvSpPr>
        <p:spPr>
          <a:xfrm>
            <a:off x="3424320" y="785880"/>
            <a:ext cx="2371680" cy="1942920"/>
          </a:xfrm>
          <a:prstGeom prst="star5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44920" y="2513160"/>
            <a:ext cx="344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c0c0"/>
                </a:solidFill>
                <a:latin typeface="Niagara Solid"/>
              </a:rPr>
              <a:t>08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c0c0c0"/>
              </a:solidFill>
              <a:latin typeface="Niagara Solid"/>
              <a:ea typeface="Niagara Solid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19520" y="1160640"/>
            <a:ext cx="3581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c0c0c0"/>
                  </a:outerShdw>
                </a:effectLst>
                <a:latin typeface="Niagara Solid"/>
              </a:rPr>
              <a:t>TX SET</a:t>
            </a:r>
            <a:endParaRPr b="0" lang="en-US" sz="24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38160" dir="5400000" blurRad="0" rotWithShape="0">
                  <a:srgbClr val="c0c0c0"/>
                </a:outerShdw>
              </a:effectLst>
              <a:latin typeface="Niagara Solid"/>
              <a:ea typeface="Niagara Sol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C49-19E9-4CB9-A4B1-876501B3296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alyzed Issues presented to TX SET to determine if there is a Market need for another TX SET Release based on Market issues and/or approved PUCT Rule requirements  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d approved Rulemakings to determine their Transactional and Market impacts to processes: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POLR Rule: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reated a manual process to Transition ESI IDs from POLR to POLR (end of term) 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moved Drop to AREP references from Protocols, Texas SET Implementation Guides and Solution to Stacking documentation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ass Transition: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the Retail Market Guide processes to coincide with Rule  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7 Accomplishments 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0C9-8F1E-4675-81C4-99292E4C73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d 814_20 Short Term Large Volume processing solution to determine if additional changes are warranted long term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TX SET’s Recommended solution of an additional processing pipe was implemented by ERCOT in February 07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Protocols and Retail Market Guide when and where necessary for example: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commended changes to IDR Installation Process found in  Protocols and Retail Market Guide in conjunction with approval from PWG 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Transaction Timing Matrix in Retail Market Guide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CBCI file language in Retail Market Guide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 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064-DCAE-4889-AFEA-872B6F5F62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Improved Texas SET pages found on ERCOT.com 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dded more links and shortcuts for finding information quickly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Improved the Texas SET issues link 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and reduced the number of Swimlanes (flow processes), also these documents were converted and posted in PDF.file format for easier downloads.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Updated Texas SET Procedures that included process for approving change control and version releases, along with acceptable extended character sets allowed within the TX SET transaction.  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939-3563-46EF-8617-BBBDE14196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Maintain and update the Stacking documentation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viewed document for Mass Transition automated process impacts 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Removed the Drop to AREP processes from Stacking documentation </a:t>
            </a:r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d to be involved with all market participants and in market meetings to provide TX SET assistance and expertise when and where needed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-291600">
              <a:spcBef>
                <a:spcPts val="700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lways encouraged all market participants to attend and participate in TX SET meetings and workshops</a:t>
            </a: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Accomplishments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2C7-BCA9-4944-9152-5F96F9332B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nalyze Issues as they are presented to TX SET to determine if there is a Market need for another TX SET Release based on Market issues and/or approved PUCT Rule requirement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Evaluate upcoming Rulemakings and determine their Transactional and Market impacts to current processes: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utomated Meter Systems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istributed Generation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Demand Response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lvl="1" marL="653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8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4D0-494B-4AE0-BD43-FA72ED6B08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-29484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utomate the process for end of term POLR to POLR transition – 2 year term ends 12/31/2008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-29484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dd Change Control management functionality to ERCOT.com webpage similar to Texas SET’s Issues page on the same website. 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-294840">
              <a:spcBef>
                <a:spcPts val="901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Improve usability of transaction examples</a:t>
            </a: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8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BFE-6239-4325-9E06-A410B65E35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solidFill>
            <a:srgbClr val="0000a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Update Protocols and Retail Market Guide when and where necessary 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maintain and update the Stacking documentation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Continue to be involved with all market participants and market meetings to provide assistance and TX SET expertise where needed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gency FB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  <a:ea typeface="Lucida Sans Unicode"/>
              </a:rPr>
              <a:t>Always encourage all market participants to attend and participate in TX SET meetings and workshops</a:t>
            </a: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941c"/>
                </a:solidFill>
                <a:latin typeface="Agency FB"/>
              </a:rPr>
              <a:t>TX SET 2008 Goals </a:t>
            </a:r>
            <a:endParaRPr b="0" lang="en-US" sz="4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926-BCF4-4124-8173-CFB7A9CBFCA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37:34Z</dcterms:created>
  <dc:creator>kpatrick</dc:creator>
  <dc:description/>
  <dc:language>en-US</dc:language>
  <cp:lastModifiedBy>Kathy Scott</cp:lastModifiedBy>
  <dcterms:modified xsi:type="dcterms:W3CDTF">2007-12-13T04:49:07Z</dcterms:modified>
  <cp:revision>56</cp:revision>
  <dc:subject/>
  <dc:title>PowerPoint Presentation</dc:title>
</cp:coreProperties>
</file>