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66B-BB51-49E0-8B7C-6A9AD422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B4D-4F45-4608-BCE9-28B4C4C0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D7D-F99E-4A20-B4B7-B7162C17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1F8-AD6C-4514-89E3-CEDC4448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A1E6-45BF-4FEE-BB5F-22C7B6C8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5906-879D-4A50-A233-EB05C78D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12B5-86F0-4E78-9C20-17FED29F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5E26-B1CB-455C-AEF3-D3BC861D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3CDB-5795-48EF-BC4D-0F6796CB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D94F-C8DD-4CFF-A659-2FAE9907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75AE-9814-4019-B564-EFD285FB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FFB-627A-4926-BB0C-7B3ABD11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4191-59FA-41BD-B3F0-F6203BE2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E287-6B76-45CF-A943-934B80D3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A124-F8FD-4C4B-A299-C3704D56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E4F5-9FCF-42EF-BC86-A55E73B5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89F9-8C38-4A47-806B-869D6994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9C1-5360-43F4-ABA0-2E7420B0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F8C-7EFE-4C72-858F-3BAAEB54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A3B-E684-493C-B3ED-9316EDCF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B47-BC59-4794-B870-46881C87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108-F6D5-4378-9CB1-43A9D266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E6E-B136-448E-B3E8-98655D9D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73A-70AB-41C6-A947-44DC2140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54E-96F1-4057-ABAA-D213CC296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D730-8A6F-472A-BBE9-59D9228A8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Demand Response Task Force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January 2008 Upd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vised Scop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mand Response Task Force (DRTF) will build a short term solution that allows for the limited deployment of retail Demand Response programs and their settlement by the summer of 2008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ort term solution should inform the development of a long term solution for offering Demand Response programs to the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oal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liver requirements for “Bridge Solution” by Feb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recommendations for long term solu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ridge Solu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rt Term Only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s “bridge” to long term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ize Energy Impact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ze “deemed” impacts (set $/k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ching out to CCET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mited Program Participa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0 ESIIDs per participating C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set total load Li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ridge Solution (cont.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mited Programs (proposals only)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1: Res, Single Family, AC, 33% cyc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2:  Res, Multifamily, AC, 33% cyc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3:  Res, Single Family, Pool Pump, 100% cyc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4:  Res, Single Family, Electric Water Heater, 100% cyc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5: Commercial, T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ridge Solution (cont.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mited Number of Event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 cannot call more than 1 event per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s can only be called on 1 Operating Day per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events can occur on the same Operating 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ndardize Payment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ng CRs get Load adjusted by ERCOT for that day based on “deemed”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Next Meet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ATE CHANGE!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zing data to establish “deemed”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ing method for validation of CR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6:05:10Z</dcterms:created>
  <dc:creator>DRTF</dc:creator>
  <dc:description/>
  <dc:language>en-US</dc:language>
  <cp:lastModifiedBy>DRTF</cp:lastModifiedBy>
  <dcterms:modified xsi:type="dcterms:W3CDTF">2008-01-08T02:58:06Z</dcterms:modified>
  <cp:revision>17</cp:revision>
  <dc:subject/>
  <dc:title>Demand Response Task Force</dc:title>
</cp:coreProperties>
</file>