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130-D397-4E06-917B-0D2A1610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A24-17ED-4737-8932-3CB9CC9C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AE8-811A-45D6-87ED-F131CB4E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B9C-6872-4F35-9243-299F7F2C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69D-51B2-4635-A0F9-033D3917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FF31-0FC9-41B5-B85F-EEA927AA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2C63-4942-44F2-853B-CDDC36B3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C875-6078-49AE-8FDB-A9B53C8C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94C4-226D-4E08-A7F3-DCB3837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FE6D-CA78-4780-87CA-08316172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CB21-D2EA-4E95-B0AA-85F1AB4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FD4-D120-407C-A0EC-FB0F95B8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923D-41D3-4CCD-9BFD-6D81753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CE79-50CC-42E1-9EDD-80ED883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FB0C-B7B5-4765-B91E-A71A85F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E7A-5BA6-41D6-9161-19EFDF1D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C733-E3FF-465A-B58C-C9B6D19D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6E6-6663-4CEA-9DA5-C3D622CA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319-A637-49D7-8C50-53DF5B9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BB1-E437-4E22-AE3D-F631DF5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934-D204-4FA3-AFB6-DE0F773E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AE6-65B6-4FE2-8F8C-C6DD56D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76F-B437-4C19-839F-5F25BB2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2FF-AB5E-4F7F-BADB-A74775E1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A33-D44E-4A13-88ED-26955BE2C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34EB-6369-4476-BFC9-74410AAC8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Demand Response Task Force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January 9, 2008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op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mand Response Task Force (DRTF) was created jointly by COPS and RMS to build a solution that will allow for the settlement of retail Demand Response programs by the summer of 200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oa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ilding on the work already done by the Profile Working Grou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termine how to link participating ESIIDs to their specific demand response progr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iver all requirements by Feb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6:05:10Z</dcterms:created>
  <dc:creator>DRTF</dc:creator>
  <dc:description/>
  <dc:language>en-US</dc:language>
  <cp:lastModifiedBy>DRTF</cp:lastModifiedBy>
  <dcterms:modified xsi:type="dcterms:W3CDTF">2007-12-14T17:15:00Z</dcterms:modified>
  <cp:revision>7</cp:revision>
  <dc:subject/>
  <dc:title>Demand Response Task Force</dc:title>
</cp:coreProperties>
</file>