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341-EF5A-4572-9AC0-56813041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AB6-0CF3-4779-8AEF-E53A899F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594-BCA4-4CCC-A7ED-E7ED5D00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230-C566-4D31-A912-E708ECEE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0414-7B17-4F6D-A1F7-D4704456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46F0-906D-4B51-8579-5BC84C4C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8D38-A832-4941-8F07-2C459444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C91F-F1A6-417D-8893-898F5406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8C24-0CEE-4C1E-8C52-DFA14D5E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39A2-C137-4132-A7C0-2545ED5C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FFAE-4AE7-4522-99AE-9AFB5F13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5B3-2696-4F7E-9E60-B56919E4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9A7E-EA55-4182-AB71-FDD16FC1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1A06-56E8-42F8-A66C-3A9CC02B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9E45-FC28-48FE-A341-6EEB9D61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4B80-9B82-4AD3-97EE-CA506662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842D-D403-49E3-B850-42A0F547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862-1A64-40E2-ABB9-0B1F7935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7D1-4E93-4F4B-B6C5-9206AD55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CC4-429D-4F82-9936-8E435E28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839-E1C2-419E-B491-3AB5DA49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29F-9BAC-41C5-AB87-4D03E665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C37-76F5-4A23-9BD4-A8513861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97C-0EB1-4F05-BCD1-D1737C8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F27F-78C3-44A6-910B-D694372DFCD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93A7-6269-4FEB-B8BC-4918EE438CB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Arial"/>
              </a:rPr>
              <a:t>Inadvertent Gain Task Force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2498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RMS Update: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January 9, 200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aining Recommend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evelop and present training on the Inadvertent Gain Process to the Mark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osted by TDSPs in Dallas and Houston are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esented by both CR and TDSP Volunte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oing forward, ask ERCOT to include in ERCOT 10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t training on ERCOT websi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itial sessions to begin February 2008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als &amp; Accomplishme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vise sections of the RMG to clarify timelines and responsibilities for all partie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RMGRR059 Inadvertent Gain Task Force Revision was approved by RMS in December and will be implemented in March 2008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reate consistent processes among Market Participant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Revisions made by RMGRR059 will provide more clarity on the IAG process used by CRs and consolidated approach by TDSP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rovide recommendations for monthly report to RMS that would monitor IAG MarkeTrak issues open more than 20 business day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New reporting is now included as part of RMS background material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evelop better escalation path for unresolved IAG MarkeTrak issue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-533520">
              <a:spcBef>
                <a:spcPts val="4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RMGRR059 documented escalation process and will add two new escalation points with the implementation MarkeTrak Enhancements project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als &amp; Accomplishme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commend and help develop IAG Training for all Market Participant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881640" indent="-47448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evelopment of training is currently underway and will be first presented in February 2008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881640" indent="-47448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aining will also be posted on ERCOT website and included as part of ERCOT 101 going forwar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881640" indent="-47448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dditional training will be provided as part of MarkeTrak Enhancements projec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42160" indent="-54216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ovide requirements for the MarkeTrak Enhancements projects to help better manage the IAG workflow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881640" indent="-47448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GTF worked closely with the MarkeTrak Task Force to develop new work flows for the Inadvertent Gain proce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220400" indent="-4068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treamlines the overall proce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220400" indent="-4068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rovide additional touch points for TDSP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220400" indent="-4068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ncreases the number of escalations point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220400" indent="-4068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dd auto-close feature for issues open and untouched for 45 day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nset Recommend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GTF will no longer be meeting but will remain active until all training requirements have been m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GTF will ask for RMS to officially sunset the task force at that ti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ticipated timeframe of February 200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51:13Z</dcterms:created>
  <dc:creator>jgarcia</dc:creator>
  <dc:description/>
  <cp:keywords/>
  <dc:language>en-US</dc:language>
  <cp:lastModifiedBy>DRTF</cp:lastModifiedBy>
  <dcterms:modified xsi:type="dcterms:W3CDTF">2007-12-14T15:47:10Z</dcterms:modified>
  <cp:revision>42</cp:revision>
  <dc:subject/>
  <dc:title>Market Metric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71033</vt:lpwstr>
  </property>
</Properties>
</file>