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69E9-B52E-4465-BC03-FCF13F0B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E6A2-725D-44F4-9031-1ED0B6AE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70B8-ECCB-4D32-A892-A1E383DD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BD67-3DF8-4FA2-B53B-74AD0AA9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436F-B1D1-4EBB-97B2-AFE699C3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A958-17DB-4A58-91CC-E371794C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ECD6-47A9-4465-AE28-6594C01E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E229-FD3E-4C64-8FD5-DF2523D5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5A5F-202B-4CE2-8779-BE1D95C1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86A1-BAA1-481B-81E4-EFD46B41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2BDA-F070-4688-8679-3F7E5886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5350-C68F-43AE-9250-2C5AD4DA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8FBE-E8EB-4859-B9BA-B41E261A3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7848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materials for RMS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ded b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ail Customer Choice (RCC)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9363-8658-469F-89DE-BCCA662945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y To Day Issues: Subtype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1143000" y="229716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80880" y="1676520"/>
          <a:ext cx="8229600" cy="4573440"/>
        </p:xfrm>
        <a:graphic>
          <a:graphicData uri="http://schemas.openxmlformats.org/drawingml/2006/table">
            <a:tbl>
              <a:tblPr/>
              <a:tblGrid>
                <a:gridCol w="2178000"/>
                <a:gridCol w="60516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advertent Swi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 has inadvertently gained or lost (or is pending the gain/loss) an LSE Relationship to another CR in erro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 w/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requesting cancellation of an initiating transaction in instances submitting an 814_08 would result in a rejec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 w/o 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DSP requesting cancellation of an initiating transaction for market defined reasons that do not require approval from the C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sing Trans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is missing any expected 814, 867_04 or 867_03 Fina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ge/Billing 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point-to-point transactions excluding the 867 Contingency Pla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ject Transa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rejected transactions or reject reas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 of 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questions pertaining to ERCOT LSE or TDSP LSE relationship histor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issues pertaining to internal/market projects, system trouble, or related problems as defined by the submitt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ebel/Chg Inf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questioning a discrepancy pertaining to Siebel service order status changes and Start/Stop time issues when transactions are present in ERCOT system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7 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verification of a 997 sent/receiv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/TDSP has Day to Day issues that do not fit one of the Sub Types indicated above such as: Siebel/997 reports, CSA’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456120" y="137160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sue Sub-Typ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5800" y="13716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mitted when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4C5E-06E8-43EC-AB3D-219705D19F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advertent Gains - Detail by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5112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8666280" cy="320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2D07-ACE1-4498-B71F-882C653AD6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advertent Gain: State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5112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80880" y="1523880"/>
          <a:ext cx="8305920" cy="4738680"/>
        </p:xfrm>
        <a:graphic>
          <a:graphicData uri="http://schemas.openxmlformats.org/drawingml/2006/table">
            <a:tbl>
              <a:tblPr/>
              <a:tblGrid>
                <a:gridCol w="2176560"/>
                <a:gridCol w="6129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Iss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sue has not yet been submitted for consideration by the initiating part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either initial acknowledgement by an individual at ERCOT or returned to ERCOT for additional conside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draw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ting MP has the option to remove the issue from consideration prior to acknowledgement by another M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COT to provide necessary information to move the issue towards resolution including IAS data and assistance with market guidelin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acknowledgement by CR2 – the non submitting CR involved in the issues resolu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mitting CR, CR2, and TDSP have simultaneous access to view, comment and ultimately vote on the resolution to the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reement Reach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parties have indicated the issue has or will be resolved per the information agreed upon in the Vote state. 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Agreement Reach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 party has indicated the issue is not a valid IAS or cannot be resolved as submitted per market guidelines.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Issue resolution Accepted by submitting party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No updates to issue for 2 weeks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ERCOT Intervention required to remove visibility due primarily to proprietary information updated to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457200" y="12193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41760" y="121932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 Detail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1726-6A08-42F0-B825-B6BF344CC6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cel With Approval - Detail by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1143000" y="179244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8839440" cy="255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73EE-B2AC-44A6-8E74-0B8EBDCFFD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cel with Approval: State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2193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5440" y="121932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e Detail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80880" y="1523880"/>
          <a:ext cx="8077320" cy="4711680"/>
        </p:xfrm>
        <a:graphic>
          <a:graphicData uri="http://schemas.openxmlformats.org/drawingml/2006/table">
            <a:tbl>
              <a:tblPr/>
              <a:tblGrid>
                <a:gridCol w="2117880"/>
                <a:gridCol w="5959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Iss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sue has not yet been submitted for consideration by the initiating part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either initial acknowledgement by an individual at the TDSP or returned to TDSP for additional conside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draw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ting MP has the option to remove the issue from consideration prior to acknowledgement by another M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DSP to provide ERCOT with agreement with cancel request or CR indication that request is already complete / unable to be complet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ing acknowledgement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rogress (ERC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COT to perform agreed upon cancels in the Registration System, request additional information or indicate that cancel cannot be performed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led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parties have indicated the requested service order has or will be cancelled. 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able to Cancel (P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 party has indicated the issue is not a valid Cancel w Approval issue or cannot be cancelled. Barring updates the Issue will auto close in 2 wee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Issue resolution Accepted by submitting party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No updates to issue for 2 weeks from a state of Agreement Reached (PC) or No Agreement Reached (PC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by 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sed state:  ERCOT Intervention required to remove visibility due primarily to proprietary information updated to iss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1591-D01E-4EC0-8F39-4330197B5C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 LSE Issues -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1143000" y="179244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8802720" cy="341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FC9E-18C2-4A6D-B84C-C494842E85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 LSE Issues: Subtype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80880" y="2133720"/>
          <a:ext cx="8305920" cy="3543120"/>
        </p:xfrm>
        <a:graphic>
          <a:graphicData uri="http://schemas.openxmlformats.org/drawingml/2006/table">
            <a:tbl>
              <a:tblPr/>
              <a:tblGrid>
                <a:gridCol w="3000600"/>
                <a:gridCol w="530532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MP System not ERCOT: 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Active LSE relationship not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MP System not ERCOT: In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Inactive LSE relationship not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in ERCOT System not 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do not show an LSE relationship which is present in ERCOT’s Registration System (Siebel) as indicated by MP SCR727 Extrac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different initiation/enrollment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p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different end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SE date change: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 and Stop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 systems show an LSE relationship present in ERCOT’s Registration System (Siebel) as indicated by MP SCR727 Extracts with a initiation/enrollment and end d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379800" y="175248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sue Sub-Typ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04240" y="175248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mitted when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B205-6B4E-41F4-AD29-C843996C3E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DD7C-570F-4A8D-96F8-EA804372D1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1430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eriodically receives 867_03 Finals and 867_04s for service orders that are Cancelled in ERCOT systems.  The Service Order Sub-Statuses that are considered Cancelled are:  CR Requested, Customer Objection, ERCOT Operating Rule, Manual, Permit Not Received, with Exception, Unexecutable and Rejected by TDSP.   This can indicate an out-of-sync condition between the TDSP and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Mechanism for Handling 867 RCS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COT produces 867RCSO data each Friday and submits a report file to each TDSP via the ERCOT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TDSPs review the report line items and take one of the following a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ancell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further action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omplet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y will initiate a day-to-day MarkeTrak issue and work with ERCOT to get ERCOT systems changed to complete.  Completion of cancelled service orders will require the approval of the CR initiating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For Cancel by Customer Objection, the TDSP will honor the cancel in their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0612-937F-461A-AFA6-05FBF7725B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67s received on Cancelled Service Orders -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8858520" cy="30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0B6F-FBD0-43DF-A80A-F4B63A47A4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lution Measure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867 Report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802A-2B80-4D3D-BE5F-0F0C91981B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219320"/>
            <a:ext cx="8610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867 Re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867 Report will provide TDSPs information about Service Orders in a scheduled state for which ERCOT has not received an 867 completing transaction at least seven days after the scheduled meter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ekly report provided to the TDSP via the ERCOT Por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ts Summar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3276720"/>
            <a:ext cx="8439120" cy="220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B86B-101C-4D3F-BD0E-17F7788F1C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97040" y="-1501920"/>
          <a:ext cx="600120" cy="3952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97040" y="-1305000"/>
          <a:ext cx="600120" cy="3952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097840" cy="378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532F-C38D-4EAE-9F05-D98E50FAA8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rkeTrak Issue Stat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35812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386B-86C5-4FBE-BBE1-DCFF55E0DE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y to Day Issues - Summ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4158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3716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328240" cy="340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1533-CC22-4D00-A27C-D907B8CC56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mhost</cp:lastModifiedBy>
  <cp:lastPrinted>2002-09-24T18:27:58Z</cp:lastPrinted>
  <dcterms:modified xsi:type="dcterms:W3CDTF">2008-01-04T15:05:21Z</dcterms:modified>
  <cp:revision>726</cp:revision>
  <dc:subject/>
  <dc:title>PowerPoint Presentation</dc:title>
</cp:coreProperties>
</file>