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CBF-8CE1-471A-90E3-3AE02991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A49-B897-40E6-B5EA-8764C4AD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45D-48C6-4F0D-AA12-720A3179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C61-8DE4-4841-9D16-3656061F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27C7-296E-4423-8ABA-5FF7668D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D8BB-457A-4989-97EB-D785FF65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7885-AF74-44B1-8699-F3FDF8B2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0187-4C28-4FCD-A324-824153D9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CC14-91DD-4026-8D30-801F2FB7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09C0-CC83-40D7-9B5A-E9FB8C54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D0C-E306-498E-8006-61167CA8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EFA-BF82-492D-95B4-E3C82485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7C7D-F45A-434F-A59C-F8A218FD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B075-A152-462E-9087-A5014A16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D15A-E1B5-4251-90E2-190752F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ACBE-15BD-4A49-9899-0EF20D83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A5CC-15E1-4B0D-A369-761A4762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924-3EF2-42A4-8C63-5B84A063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3A2-046D-48F1-A950-A2183C9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FD7-A249-4A99-93F1-BE3F6B56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FC5-A752-4925-B10B-E5778E88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92E-DB98-4269-8524-5B190CF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96C-D330-4C28-8AB8-7C66B136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1A9-4BB5-481B-A9E0-1C7D1D7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B61D-B640-4F84-9587-31696E423A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F196-521D-4440-9CC8-40E4AC1472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ket Metrics Working Gro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49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S Update: January 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07 Accomplish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itial set of requirements for MarkeT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mitted SCR 749 MarkeTrak Enhancements to initiat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input to PUCT Staff for Performance Measures Rulem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1:13Z</dcterms:created>
  <dc:creator>jgarcia</dc:creator>
  <dc:description/>
  <cp:keywords/>
  <dc:language>en-US</dc:language>
  <cp:lastModifiedBy>DRTF</cp:lastModifiedBy>
  <dcterms:modified xsi:type="dcterms:W3CDTF">2007-12-14T17:12:07Z</dcterms:modified>
  <cp:revision>35</cp:revision>
  <dc:subject/>
  <dc:title>Market Metric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71033</vt:lpwstr>
  </property>
</Properties>
</file>