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A0020-89AB-47FD-B73A-F52D4C2BB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4F374-D1DD-4BCD-AAE8-E705B963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C4A54-F760-4596-B720-3BAC3C09F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35714-AC95-4C64-8E2D-31C1C4AB3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2F408-96A8-4A75-85C3-78CD19967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DCB17-E45A-4A89-8AE0-A66AE91B4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A184F-4C34-4A87-96E4-5AFB6496A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02A06-EF54-4E3E-B0E4-33C9902FC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791F3-B385-4686-9F0F-27349C075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94B13-6B01-4D46-ABC4-65CE3350D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06915-4A41-4B3C-9A37-AA5E9ADA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9C27C-9432-4EA8-B136-71F84BA9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1E7E0-3474-4EC5-A861-FDECCCE83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FD96C-0347-4C9E-B588-25F3370A7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76537-8270-4C15-83C8-8E265E1CF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03EF4-1D5C-46FC-98FC-0C6E48C35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B1D56-5A5A-4278-B019-73FCEE435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B766-96A9-4055-837D-D0506315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CA12E-0B7E-429C-B679-0810F851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29A7-51F7-4718-9DC8-00B00647B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BB61B-FD1F-4096-83FC-EE0E6C08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840D-A72E-468D-9221-03FAE415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CB52-A41A-42B2-8E56-93283C2D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BAA8-DEF2-4562-9CD1-7F8E0EF4B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3FFE-82DF-4F79-8FD4-15F8B9DF851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5E1A-7D8E-45CF-9CE7-CC777CD4208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nuary 3,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ail Market Guide Revisions</a:t>
            </a:r>
            <a:endParaRPr b="0" lang="en-US" sz="28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0 Mass Transition Process for Events Initiated Prior to a Weekend or ERCOT Holiday and Additional Clarifications </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1 ERCOT Template- ESI IDs for Gaining CR/TDSP Use </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2 File naming convention for Customer Billing Info.</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3 Conforming RMG to Section 21 and other Guides.</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4 Provision of Customer Billing Info to TDSP’s during Mass Transition event. (Revised by 058).</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55 Transaction Timings: Synchs Matrix with PRR672, 693 and 707. Removes “Drop to AREP” references.</a:t>
            </a:r>
            <a:endParaRPr b="0" lang="en-US" sz="2400" spc="-1" strike="noStrike">
              <a:solidFill>
                <a:srgbClr val="ffffff"/>
              </a:solidFill>
              <a:latin typeface="Tahoma"/>
            </a:endParaRPr>
          </a:p>
          <a:p>
            <a:pPr lvl="1" marL="727920" indent="-2800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ding: 059 Inadvertent Gain; 060 Mandatory IDR Installation Proces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Design Performance Measures reporting template to support Project 33049</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utomate the process for end of term POLR to POLR transition – 2 year term ends 12/31/2008</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Add Change Control management functionality to ERCOT.com webpage similar to Texas SET’s Issues page on the same website. </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Improve usability of transaction examples</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MarkeTrak Ph 2</a:t>
            </a:r>
            <a:endParaRPr b="0" lang="en-US" sz="2800" spc="-1" strike="noStrike">
              <a:solidFill>
                <a:srgbClr val="ffffff"/>
              </a:solidFill>
              <a:latin typeface="Tahoma"/>
            </a:endParaRPr>
          </a:p>
          <a:p>
            <a:pPr marL="343080" indent="-343080">
              <a:lnSpc>
                <a:spcPct val="80000"/>
              </a:lnSpc>
              <a:spcBef>
                <a:spcPts val="700"/>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ea typeface="Lucida Sans Unicode"/>
              </a:rPr>
              <a:t>Complete and implement Inadvertent Gain training</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8 Goal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Monitor PUCT activities for market change requirements</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Support requirements definition to support Demand Response and Distributed Generation</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ea typeface="Lucida Sans Unicode"/>
              </a:rPr>
              <a:t>Monitor ERCOT system outage evaluation, resolution and communications inclusive of service degradation issues. Update SLA as needed.</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 success of Ph 1 and 2 of SCR745 to determine if further actions are necessary</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 ERCOT’s full implementation of SCR748 web based outage notification</a:t>
            </a:r>
            <a:endParaRPr b="0" lang="en-US" sz="2400" spc="-1" strike="noStrike">
              <a:solidFill>
                <a:srgbClr val="ffffff"/>
              </a:solidFill>
              <a:latin typeface="Tahoma"/>
            </a:endParaRPr>
          </a:p>
          <a:p>
            <a:pPr marL="343080" indent="-343080">
              <a:lnSpc>
                <a:spcPct val="90000"/>
              </a:lnSpc>
              <a:spcBef>
                <a:spcPts val="601"/>
              </a:spcBef>
              <a:buClr>
                <a:srgbClr val="ff00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resent TX Deregulated market to NAES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9"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and improve SCR745, Retail Market Outage Evaluation &amp; Resolution, implementation and reporting. </a:t>
            </a:r>
            <a:endParaRPr b="0" lang="en-US" sz="2800" spc="-1" strike="noStrike">
              <a:solidFill>
                <a:srgbClr val="ffffff"/>
              </a:solidFill>
              <a:latin typeface="Tahoma"/>
            </a:endParaRPr>
          </a:p>
          <a:p>
            <a:pPr lvl="1" marL="690840" indent="-2656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Unscheduled changes and issues discovered while in testing environment prevented planned implementation on 12/08/07. Vendor involvement was necessitated. Implementation planned for January 12, 2008.</a:t>
            </a:r>
            <a:endParaRPr b="0" lang="en-US" sz="2400" spc="-1" strike="noStrike">
              <a:solidFill>
                <a:srgbClr val="ffffff"/>
              </a:solidFill>
              <a:latin typeface="Tahoma"/>
            </a:endParaRPr>
          </a:p>
          <a:p>
            <a:pPr marL="318960" indent="-3189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e ERCOT Service Availability Agreement to be inclusive of service degradation Issues. </a:t>
            </a:r>
            <a:endParaRPr b="0" lang="en-US" sz="2800" spc="-1" strike="noStrike">
              <a:solidFill>
                <a:srgbClr val="ffffff"/>
              </a:solidFill>
              <a:latin typeface="Tahoma"/>
            </a:endParaRPr>
          </a:p>
          <a:p>
            <a:pPr lvl="1" marL="690840" indent="-26568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mpleted inclusive of increasing scope to include MarkeTrak and TML applications. In addition, a separate report reflecting service degradation issues and allowing transparency is being provided on monthly basis.</a:t>
            </a:r>
            <a:endParaRPr b="0" lang="en-US" sz="24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implementation of SCR748, Website Enhancements for ERCOT Outage Notifications.</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Live since 11/28/2007 is located on ERCOT’s homepage under “VIEW DATA AND REPORTS: Notices”. If red flag is shown, ERCOT has an outage. This is strictly a webpage notification and does not replace the email notifications. There are plans in place to make process more robust by linking notifications to email notice and add planned outage calendar in 2008.</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TX SET 3.0 Implementation</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X SET and MCT defined processes inclusive of market shutdown timing prior to and during transition.</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TPT developed additional scripts to support MP tes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MarkeTrak Ph II enhancements and performance monitor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MWG developed documentation identifying enhancements to market tool and worked with ERCOT to develop SCR749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R749 Approved by TAC 08/02/2007</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T2 Task Force defined requiremen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s now in planning stage with ERCO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PUCT Activities: </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eter Rulemaking</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ementation Planning Meetings underway. </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S and RMS Co-sponsor of Demand Response Task force </a:t>
            </a:r>
            <a:endParaRPr b="0" lang="en-US" sz="20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t Metering and Distributed Generation</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MWG broke ground identifying and elevating 12 issues </a:t>
            </a:r>
            <a:endParaRPr b="0" lang="en-US" sz="20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lemaking in progress and slated for October 2008 </a:t>
            </a:r>
            <a:endParaRPr b="0" lang="en-US" sz="20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Measures </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MWG collaborative effort supported refinement made in rulemaking</a:t>
            </a:r>
            <a:endParaRPr b="0" lang="en-US" sz="2000" spc="-1" strike="noStrike">
              <a:solidFill>
                <a:srgbClr val="ffffff"/>
              </a:solidFill>
              <a:latin typeface="Tahoma"/>
            </a:endParaRPr>
          </a:p>
          <a:p>
            <a:pPr lvl="3" marL="1600200" indent="-22860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 step to define reporting template supportive of rule.  Reporting begins 07/2008. </a:t>
            </a:r>
            <a:endParaRPr b="0" lang="en-US" sz="1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pay Rulemakings</a:t>
            </a:r>
            <a:endParaRPr b="0" lang="en-US" sz="2400" spc="-1" strike="noStrike">
              <a:solidFill>
                <a:srgbClr val="ffffff"/>
              </a:solidFill>
              <a:latin typeface="Tahoma"/>
            </a:endParaRPr>
          </a:p>
          <a:p>
            <a:pPr lvl="2" marL="1143000" indent="-228600">
              <a:lnSpc>
                <a:spcPct val="8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impacts identified</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Goals Update</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Move-ins:  Continue PRR672, Retail Market Timing Necessary for PUCT Project 29637, effort to improve ERCOT throughput of 814_20 maintenance transaction </a:t>
            </a:r>
            <a:endParaRPr b="0" lang="en-US" sz="32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Lucida Sans Unicode"/>
              </a:rPr>
              <a:t>TX SET’s Recommended solution of an additional processing pipe was implemented by ERCOT in February 07</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R707 developed and approved to support ERCOT ability to improve 814_20 processing</a:t>
            </a:r>
            <a:endParaRPr b="0" lang="en-US" sz="28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60008 is in “Initiation” s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MO/PPL and Stakeholder Communication Process </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threshold for ERCOT to communicate with Subcommittee prior to moving funding when in excess of $500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mmittee input included in BoD packe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 Flight Schedule</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from 4 per year to 3 for 2008</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e: 27 new CR’s tested in 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vised Inadvertent Gain process and documentation resulting in clarified timelines, responsibilities and process consistency. Training is under development and will be offered beginning in February and will  be available on ERCOT website and presented with ERCOT 101 training. (Ref. RMGRR05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GTF will sunset following establishment of train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007 Accomplishment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MGRR049 Electronic Authorization for Historical Usage LOA</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R option of using electronic  authorization request when submitting LOA for historical usage information</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larification on expiration date of LOA</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option for level of detail being requested for IDR accounts</a:t>
            </a:r>
            <a:endParaRPr b="0" lang="en-US" sz="2800" spc="-1" strike="noStrike">
              <a:solidFill>
                <a:srgbClr val="ffffff"/>
              </a:solidFill>
              <a:latin typeface="Tahoma"/>
            </a:endParaRPr>
          </a:p>
          <a:p>
            <a:pPr lvl="1" marL="720720" indent="-27720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ost impacts to ERCOT or MP’s</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7-12-27T19:54:21Z</dcterms:modified>
  <cp:revision>20</cp:revision>
  <dc:subject/>
  <dc:title>RMS Update to TAC</dc:title>
</cp:coreProperties>
</file>