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D06E6BE-508D-49CF-85F7-961159F14FE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38320" y="687240"/>
            <a:ext cx="4592520" cy="3445200"/>
          </a:xfrm>
          <a:prstGeom prst="rect">
            <a:avLst/>
          </a:prstGeom>
          <a:ln w="0">
            <a:noFill/>
          </a:ln>
        </p:spPr>
      </p:sp>
      <p:sp>
        <p:nvSpPr>
          <p:cNvPr id="8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6232244-5A76-408C-AD33-2D3CDE295C3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38320" y="687240"/>
            <a:ext cx="4592520" cy="3445200"/>
          </a:xfrm>
          <a:prstGeom prst="rect">
            <a:avLst/>
          </a:prstGeom>
          <a:ln w="0">
            <a:noFill/>
          </a:ln>
        </p:spPr>
      </p:sp>
      <p:sp>
        <p:nvSpPr>
          <p:cNvPr id="11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7091928-4B1E-4737-A03E-53598679BD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38320" y="687240"/>
            <a:ext cx="4592520" cy="3445200"/>
          </a:xfrm>
          <a:prstGeom prst="rect">
            <a:avLst/>
          </a:prstGeom>
          <a:ln w="0">
            <a:noFill/>
          </a:ln>
        </p:spPr>
      </p:sp>
      <p:sp>
        <p:nvSpPr>
          <p:cNvPr id="11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9AF8DC2-C463-4179-AC52-8CB7F5037DB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8320" y="687240"/>
            <a:ext cx="4592520" cy="3445200"/>
          </a:xfrm>
          <a:prstGeom prst="rect">
            <a:avLst/>
          </a:prstGeom>
          <a:ln w="0">
            <a:noFill/>
          </a:ln>
        </p:spPr>
      </p:sp>
      <p:sp>
        <p:nvSpPr>
          <p:cNvPr id="8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668A54F-AD29-4728-A28A-1698610A783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38320" y="687240"/>
            <a:ext cx="4592520" cy="3445200"/>
          </a:xfrm>
          <a:prstGeom prst="rect">
            <a:avLst/>
          </a:prstGeom>
          <a:ln w="0">
            <a:noFill/>
          </a:ln>
        </p:spPr>
      </p:sp>
      <p:sp>
        <p:nvSpPr>
          <p:cNvPr id="9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59C2FA7-36A4-43CE-9B3D-EBF73B2C388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38320" y="687240"/>
            <a:ext cx="4592520" cy="3445200"/>
          </a:xfrm>
          <a:prstGeom prst="rect">
            <a:avLst/>
          </a:prstGeom>
          <a:ln w="0">
            <a:noFill/>
          </a:ln>
        </p:spPr>
      </p:sp>
      <p:sp>
        <p:nvSpPr>
          <p:cNvPr id="9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A215753-C43A-450B-B4C0-5AC80EE545B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38320" y="687240"/>
            <a:ext cx="4592520" cy="3445200"/>
          </a:xfrm>
          <a:prstGeom prst="rect">
            <a:avLst/>
          </a:prstGeom>
          <a:ln w="0">
            <a:noFill/>
          </a:ln>
        </p:spPr>
      </p:sp>
      <p:sp>
        <p:nvSpPr>
          <p:cNvPr id="9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5DD054C-FDB1-4A3A-BCB3-D03CFC74A5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38320" y="687240"/>
            <a:ext cx="4592520" cy="3445200"/>
          </a:xfrm>
          <a:prstGeom prst="rect">
            <a:avLst/>
          </a:prstGeom>
          <a:ln w="0">
            <a:noFill/>
          </a:ln>
        </p:spPr>
      </p:sp>
      <p:sp>
        <p:nvSpPr>
          <p:cNvPr id="100"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D7572FB-A9F1-4FD4-B415-C8F56DB7C9C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38320" y="687240"/>
            <a:ext cx="4592520" cy="3445200"/>
          </a:xfrm>
          <a:prstGeom prst="rect">
            <a:avLst/>
          </a:prstGeom>
          <a:ln w="0">
            <a:noFill/>
          </a:ln>
        </p:spPr>
      </p:sp>
      <p:sp>
        <p:nvSpPr>
          <p:cNvPr id="10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D6B027C-61E7-4FD7-8F1E-3DB099EDF27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38320" y="687240"/>
            <a:ext cx="4592520" cy="3445200"/>
          </a:xfrm>
          <a:prstGeom prst="rect">
            <a:avLst/>
          </a:prstGeom>
          <a:ln w="0">
            <a:noFill/>
          </a:ln>
        </p:spPr>
      </p:sp>
      <p:sp>
        <p:nvSpPr>
          <p:cNvPr id="10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F177927-0E89-4FEA-BF97-31EC33A257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38320" y="687240"/>
            <a:ext cx="4592520" cy="3445200"/>
          </a:xfrm>
          <a:prstGeom prst="rect">
            <a:avLst/>
          </a:prstGeom>
          <a:ln w="0">
            <a:noFill/>
          </a:ln>
        </p:spPr>
      </p:sp>
      <p:sp>
        <p:nvSpPr>
          <p:cNvPr id="10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A36F140-89C2-425F-9EDE-5DA885EB0E7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CA57B-4CB2-48E7-A7F2-B84C540D9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0B463-7317-4611-A164-D332F4C03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4B4E9-4AD9-4E7D-A1FC-DE47556CF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87662-DB6F-48D6-AB6A-4378FA26C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D4958-339A-451C-9727-FD16070F5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45DDA-E1F9-4283-B791-1370C9F10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75894-17D7-4A1D-BD09-832E496AE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E6DD9-C1AF-4EC7-B3B5-43A01F2CE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F7396-EA8C-4108-A437-5E8C175A1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0ABBC-7E7D-4905-BA8D-AF7D38CAB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4704D-3449-406A-8389-1E2348663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A9F5C-40D9-4E0A-84AC-3A3F6D5CE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1E8D-30AC-4094-BE9B-6A07EAD30C6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8A7A-B1DD-4B46-9640-E3117BB4704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Report to RMS</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505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Goals and Accomplishments</a:t>
            </a:r>
            <a:endParaRPr b="0" lang="en-US" sz="3200" spc="-1" strike="noStrike">
              <a:solidFill>
                <a:srgbClr val="000000"/>
              </a:solidFill>
              <a:latin typeface="Arial"/>
            </a:endParaRPr>
          </a:p>
        </p:txBody>
      </p:sp>
      <p:sp>
        <p:nvSpPr>
          <p:cNvPr id="54" name="Text Box 4"/>
          <p:cNvSpPr/>
          <p:nvPr/>
        </p:nvSpPr>
        <p:spPr>
          <a:xfrm>
            <a:off x="5410080" y="5943600"/>
            <a:ext cx="35053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5</a:t>
            </a:r>
            <a:r>
              <a:rPr b="1" lang="en-US" sz="1800" spc="-1" strike="noStrike" baseline="30000">
                <a:solidFill>
                  <a:srgbClr val="000000"/>
                </a:solidFill>
                <a:latin typeface="Arial"/>
              </a:rPr>
              <a:t>th</a:t>
            </a:r>
            <a:r>
              <a:rPr b="1" lang="en-US" sz="1800" spc="-1" strike="noStrike">
                <a:solidFill>
                  <a:srgbClr val="000000"/>
                </a:solidFill>
                <a:latin typeface="Arial"/>
              </a:rPr>
              <a:t>, 2007</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D320-EEEC-4C76-ACCA-B29C86C6E1C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advised Market of Day Light Saving time change and the possibility of system impa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reviewed and recommended direction on Digital Certificate processes</a:t>
            </a:r>
            <a:endParaRPr b="0" lang="en-US" sz="2400" spc="-1" strike="noStrike">
              <a:solidFill>
                <a:srgbClr val="000000"/>
              </a:solidFill>
              <a:latin typeface="Arial"/>
            </a:endParaRPr>
          </a:p>
        </p:txBody>
      </p:sp>
      <p:sp>
        <p:nvSpPr>
          <p:cNvPr id="8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7 Accomplishments</a:t>
            </a:r>
            <a:endParaRPr b="0" lang="en-US" sz="3600" spc="-1" strike="noStrike">
              <a:solidFill>
                <a:srgbClr val="000000"/>
              </a:solidFill>
              <a:latin typeface="Arial"/>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15D4-43F3-4E74-943D-16EDC583B53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83"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 You</a:t>
            </a:r>
            <a:endParaRPr b="0" lang="en-US" sz="44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5A78-00F6-4203-A083-1578BAB4978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icers</a:t>
            </a:r>
            <a:endParaRPr b="0" lang="en-US" sz="4400" spc="-1" strike="noStrike">
              <a:solidFill>
                <a:srgbClr val="000000"/>
              </a:solidFill>
              <a:latin typeface="Arial"/>
            </a:endParaRPr>
          </a:p>
        </p:txBody>
      </p:sp>
      <p:sp>
        <p:nvSpPr>
          <p:cNvPr id="57" name="PlaceHolder 2"/>
          <p:cNvSpPr>
            <a:spLocks noGrp="1"/>
          </p:cNvSpPr>
          <p:nvPr>
            <p:ph/>
          </p:nvPr>
        </p:nvSpPr>
        <p:spPr>
          <a:xfrm>
            <a:off x="914400" y="1600200"/>
            <a:ext cx="77724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Officer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Jesse Cline, Cha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nnette Morton, Vice Chair</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7C1C-FD86-46CA-9639-02FB06FF1B2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Objective</a:t>
            </a:r>
            <a:endParaRPr b="0" lang="en-US" sz="3200" spc="-1" strike="noStrike">
              <a:solidFill>
                <a:srgbClr val="000000"/>
              </a:solidFill>
              <a:latin typeface="Arial"/>
            </a:endParaRPr>
          </a:p>
        </p:txBody>
      </p:sp>
      <p:sp>
        <p:nvSpPr>
          <p:cNvPr id="60"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DTWG will continue to work with Market Participants, their agents, ERCOT, the PUCT as well as other interested parties in an effort to improve and protect data delivery processes for the Texas Marke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863C-0246-4798-9E20-7AB13A76422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7</a:t>
            </a:r>
            <a:endParaRPr b="0" lang="en-US" sz="3200" spc="-1" strike="noStrike">
              <a:solidFill>
                <a:srgbClr val="000000"/>
              </a:solidFill>
              <a:latin typeface="Arial"/>
            </a:endParaRPr>
          </a:p>
        </p:txBody>
      </p:sp>
      <p:sp>
        <p:nvSpPr>
          <p:cNvPr id="63" name="PlaceHolder 2"/>
          <p:cNvSpPr>
            <a:spLocks noGrp="1"/>
          </p:cNvSpPr>
          <p:nvPr>
            <p:ph/>
          </p:nvPr>
        </p:nvSpPr>
        <p:spPr>
          <a:xfrm>
            <a:off x="456840" y="1599840"/>
            <a:ext cx="8458200" cy="480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74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 needed TDTWG will continue to work with ERCOT and MPs to complete the implementation of SCR745 (resolving outstanding connectivity and possibly other technical issu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System Outages and Communications –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working with ERCOT IT to design and achieve a complete successful implementation of SCR74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to work with ERCOT and Market Participants to determine  the most efficient manner for resolution of NAESB and other system iss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will continue to support ERCOT resolution efforts in addressing each outage experienced and provide information to RMS   </a:t>
            </a:r>
            <a:endParaRPr b="0" lang="en-US" sz="2000" spc="-1" strike="noStrike">
              <a:solidFill>
                <a:srgbClr val="000000"/>
              </a:solidFill>
              <a:latin typeface="Arial"/>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5707-CE09-4D16-9600-12FAC26893D2}"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7</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 Connectivi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 to work with ERCOT and Market Participants in order to resolve connectivity issues as they are experienced or brought forth to TDTWG. </a:t>
            </a:r>
            <a:endParaRPr b="0"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act with ERCOT as necessary to help insure market impacts for NAESB outages are minimal</a:t>
            </a:r>
            <a:endParaRPr b="0" lang="en-US" sz="28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CA7D-2C19-4246-8288-F1D7789CCBB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7</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38052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h American Energy Standards Board</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ESB is responsible for documenting standards for deregulated processes. Included in these standards is the Electronic Delivery Mechanism communication protocol that is in use today in the Texas Market (NAESB EDM v1.6)</a:t>
            </a:r>
            <a:endParaRPr b="0"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DTWG representatives will continue to participate in NAESB meetings in an effort to ensure Texas retail market requirements are included in all future version releases of the EDM</a:t>
            </a:r>
            <a:endParaRPr b="0" lang="en-US" sz="24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BE34-1B10-4795-8422-53C747B4DA8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Expected Work for 2007</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Market Projects as need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DTWG has knowledgeable technical resources available to assist the Market in moving forward with various projects.</a:t>
            </a:r>
            <a:endParaRPr b="0" lang="en-US" sz="2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e will continue to participate in these efforts and take work as assigned by R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639E-7624-4606-A74B-B81C39DAC98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Accomplishments</a:t>
            </a:r>
            <a:endParaRPr b="0" lang="en-US" sz="3200" spc="-1" strike="noStrike">
              <a:solidFill>
                <a:srgbClr val="000000"/>
              </a:solidFill>
              <a:latin typeface="Arial"/>
            </a:endParaRPr>
          </a:p>
        </p:txBody>
      </p:sp>
      <p:sp>
        <p:nvSpPr>
          <p:cNvPr id="75" name="PlaceHolder 2"/>
          <p:cNvSpPr>
            <a:spLocks noGrp="1"/>
          </p:cNvSpPr>
          <p:nvPr>
            <p:ph/>
          </p:nvPr>
        </p:nvSpPr>
        <p:spPr>
          <a:xfrm>
            <a:off x="304560" y="1219320"/>
            <a:ext cx="8381880" cy="54100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ed with ERCOT to support full implementation of Phase 1&amp;2 of SCR745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ctively with ERCOT worked to effectively address ERCOT system failures and outages in an effort to minimize future occurrenc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ed with ERCOT to support full implementation of SCR748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ed with ERCOT to support the revision of the Retail Market IT Services - SLA document increasing the scope to include MarkeTrak and TML applica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3521-2AF4-4A85-94B2-B9EF07FC10A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7 Accomplishments</a:t>
            </a:r>
            <a:endParaRPr b="0" lang="en-US" sz="3200" spc="-1" strike="noStrike">
              <a:solidFill>
                <a:srgbClr val="000000"/>
              </a:solidFill>
              <a:latin typeface="Arial"/>
            </a:endParaRPr>
          </a:p>
        </p:txBody>
      </p:sp>
      <p:sp>
        <p:nvSpPr>
          <p:cNvPr id="78"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sted Market Participants in resolving connectivity issues for Marketrak API(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to determine the appropriate protocol for the CBCI proces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sed and finalized the TDTWG NAESB EDM V 1.6 implementation Guid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requested supported Market Participant issue resolution efforts to achieve successful NAESB connectiv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cline</cp:lastModifiedBy>
  <cp:lastPrinted>2002-09-24T18:27:58Z</cp:lastPrinted>
  <dcterms:modified xsi:type="dcterms:W3CDTF">2007-11-29T15:27:53Z</dcterms:modified>
  <cp:revision>380</cp:revision>
  <dc:subject/>
  <dc:title>PowerPoint Presentation</dc:title>
</cp:coreProperties>
</file>