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F638F-BD7C-473F-9671-01F9EE8F8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6634D-BA46-4B16-BE71-09D1C2CF6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8072E-009D-4533-926E-1814EF954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ECC41-FA0B-40C6-8A4F-A798D208F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15870-681A-4938-A2D7-EBC7504B0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C494A-A726-40C7-82DD-7AAA5E913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0F2A9-9F3F-4EC2-B9F8-D8F5D40BE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6CBA6-B7D9-4E41-A475-481EEBB99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90010-3694-44A6-B501-825A1A373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5E1D0-D33A-4D75-A95E-9E4D23F73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F7FBB-E7D2-4AC3-BB67-FA7331305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1D676-2D71-4BEA-869C-38362D07C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E21BD-0745-49BA-91A0-FDCBF2B2E0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152280" y="76320"/>
            <a:ext cx="1828800" cy="98244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0" y="984240"/>
            <a:ext cx="9144000" cy="82440"/>
          </a:xfrm>
          <a:prstGeom prst="rect">
            <a:avLst/>
          </a:prstGeom>
          <a:gradFill rotWithShape="0">
            <a:gsLst>
              <a:gs pos="0">
                <a:srgbClr val="00475e"/>
              </a:gs>
              <a:gs pos="100000">
                <a:srgbClr val="0099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ctr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Commercial Operations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44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Sub-Committee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Update to TAC</a:t>
            </a:r>
            <a:endParaRPr b="0" lang="en-US" sz="4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295280" y="419112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January 3, 200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047E7-A37C-4B1C-A70B-7A04100CC0F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PS –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December 10</a:t>
            </a:r>
            <a:r>
              <a:rPr b="1" lang="en-US" sz="3600" spc="-1" strike="noStrike" u="sng" baseline="30000">
                <a:solidFill>
                  <a:srgbClr val="ffffff"/>
                </a:solidFill>
                <a:uFillTx/>
                <a:latin typeface="Times New Roman"/>
              </a:rPr>
              <a:t>th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 Meeting</a:t>
            </a:r>
            <a:br>
              <a:rPr sz="3200"/>
            </a:b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0773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DEWG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lled attention to recent extract delays and communication issues being forwarded to CCW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WG suggested the current “48 hour” notice be revisited and may not be acceptable for some key extrac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PW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DR Mandatory Installation – Presented draft PRR to conform protocols with the AM Rule and PUC directive – Straw Vote at COPS in favor of support of PR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SDAW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viewed Verifiable Cost Manual – participating in TPTF VC Task Force – SDAWG will address VC Tool and Nodal Settleme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DFD09-7401-422C-859F-82F8E4BFF34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PS –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Accomplishment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s – 2007</a:t>
            </a:r>
            <a:br>
              <a:rPr sz="3200"/>
            </a:b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mall Resettlements – submitted proposal to reduce impact on ERCOT and Market Participa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viewed Nodal Settlement Invoice Prototypes for DAM_RUC_RTM_ &amp; CARD (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CRR Auction Revenue Disbursemen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viewed various PRR’s &amp; Nodal NPRR’s for their impact upon the Settlement Process and responded to PRR720 creating an ad hoc participant group to work with ERCOT in developing a new TRE Fee process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BB5C0-E6F3-4997-81A8-2F6BE8826D5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00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PS –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Accomplishments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 – 2007</a:t>
            </a:r>
            <a:br>
              <a:rPr sz="3200"/>
            </a:b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3059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reated a “Nodal Day Ahead Invoice Task Force” to review DAM Invoices being daily versus weekly – TF determined it could not overcome CWG “perception of Market Risk” and decided to take a wait and see approach as DAM market opens –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learned that DAM invoices are due &amp; payable 6 days after operating day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PS &amp; RMS jointly formed a Demand Response Task Force to build requirements for DR Programs  &amp; Report to COPS &amp; RMS by Feb. 2008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F has developed Scope in response to HB 3693 Sect. 20 and Sect. 39.107 Utilities Code as amend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FAE5A-F1EB-437A-B4DA-6B88C7013D9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67652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PS –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Accomplishments – 2007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228600" y="1142640"/>
            <a:ext cx="922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DAW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bmitted NPRR to alter the nodal dispute proces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Created business requirements for Nodal CO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Sponsored 2-day mini-market workshop for nodal extracts (hosted at LCRA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Worked on VC manual and associated document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CWG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Updated COPMG to include Nodal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Updated Section 4, Market Notice Communication Pro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Created Section 11, “Extracts and Reports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86D02-9499-4902-98AC-A8FB63CFA96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52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PS –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Accomplishments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 – 2007</a:t>
            </a:r>
            <a:br>
              <a:rPr sz="3200"/>
            </a:b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560" y="1142640"/>
            <a:ext cx="83055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W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mplemented new Version 2 ERCOT Profi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signed LRS Sample selection round tw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mplemented New Oil &amp; Gas Profile –BUSOGFL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mpleted 2007 Annual Valid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ssued 2004, 2005, 2006, and 2007 preview UFE analysi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t up area on PWG web page for key docume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led LPGRR &amp; NPRR Language for Demand Response Implement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bmitted 9 Load Profiling Market Guide Revision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6B466-D6E1-4157-9218-73EEF685174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5248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PS –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Accomplishments – 2007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DEW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formed late in the year to address the concerns of current Extract and Reporting issu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velopment of a Service Level Agreement is in progress to provide a better sense of expectations from the Extract/Reporting Proces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ith ERCOT’s help, provided MPs an understanding of the process and issues around Extracts and Repor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vided a forum for MPs to discuss concerns related to Extracts and Report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C2076-D8E8-4CA8-96DA-E48ECD71FD4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6765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Times New Roman"/>
              </a:rPr>
              <a:t>Questions ?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2FC2C-109C-4D2B-A124-6F6199A96AF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24T11:17:23Z</dcterms:created>
  <dc:creator>cpsc600</dc:creator>
  <dc:description/>
  <dc:language>en-US</dc:language>
  <cp:lastModifiedBy>lstarr</cp:lastModifiedBy>
  <dcterms:modified xsi:type="dcterms:W3CDTF">2007-12-26T18:49:01Z</dcterms:modified>
  <cp:revision>245</cp:revision>
  <dc:subject/>
  <dc:title>Point-to-Point</dc:title>
</cp:coreProperties>
</file>