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2EED3-0478-475B-883B-A08C59BF9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LS was on the agenda at every WMS meeting in 2007 and included the creation of th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TSTF and the BEERTF, both of which completed their work.   The issues have been largely resolved with significant input from the PU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ATF was reconstituted in 2007 and reviewed and refined the calculation of reserve margi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ssue of Renewable Production Potential (RPP) &amp; Uninstructed Resource Charge (URC) was resolved through the drafting and passing PR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MS did not take up the settlement of Ancillary Services for multipl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e Implementation of CREZ &amp; Resource Adequacy/Market Power Ru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 very quantifiable goal.  We did a lot of talking about these 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MS did not take up the Evaluate the capacity value of distributed gen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iable cost is a work in progress.  ERCOT staff and COPS have invested considerable time in the development of manual.  TPTF has reviewed and asked for more work before being brought to W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10D-62FD-46CC-AFAC-63B3E476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2D6-6E47-4789-AED7-01A5D91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7BA-A4B0-470A-9064-3B1478C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4A9-C54D-42B0-91C6-104EE1ED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7B8E-208D-4840-8986-1EFEAE25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47C1-4E9B-4E66-9F5D-A98CDF0D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829E-A7AF-4E76-981C-A41672B7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476-E311-4798-BBD1-E711143F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585-A70E-426B-BB4D-F407185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0FC8-7B3B-4686-AB63-CF76C7C1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85C3-D624-4A77-8F19-E706E67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423-5197-406D-A932-9DD0E93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5AF-BA29-4443-ABD5-AC3CDFF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D54-AAC8-40DA-952D-97B899B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54B5-3D6E-43E2-BDCA-A4A0815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435C-108F-4AA6-917A-60355E30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094A-7075-4447-85E3-C652DE8B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3E4-38D3-4A33-A910-8ED2DA2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65C-FFB6-46B7-8E68-F406042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AED-DB22-4EBC-B682-8E8F846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144-A883-40C9-A40C-9B618009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B61-6D1F-42A7-8503-1D0E21B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983-36AE-4B03-8FB1-23333C8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EA-3ADD-440F-9184-FDF0399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E1F6-CDE2-418F-9362-3A8A6ED9E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627-B7AD-4BB6-8CAE-DC455CCBD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S Report TO TA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uary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195F-EA6F-4852-9DFE-AF56FE1E22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olesale Market Subcommittee (WMS):  2007 Go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cost-effective strategies to minimize involuntary loss of load probability (EILS and successor issu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review of revised ERCOT reserve margin calculation methodology and make appropriate recommendation to TA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olve the issue of Renewable Production Potential (RPP) &amp; Uninstructed Resource Charge (URC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ine settlement of Ancillary Services for multiple marke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ine Implementation of CREZ &amp; Resource Adequacy/Market Power Ru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ate the capacity value of distributed gener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1160" indent="-37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the verifiable and minimum-energy costs for the Nodal Mark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B35-9A21-471F-BDEF-011FC7F31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ditional  accomplishments for 2007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olved issues associated with Non-Spin Deployment in Nod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ted the work of the RTTF – project take over by the PUC and still under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ed the process for determining competitive constraints in nod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ed and resolved issues associated with the McCamey area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ed the operations of the RTCAM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longed discussions of the Price Formation issues associated with the over lap between reliability VS Market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ed process for LaaR interruptions during EECP for nod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epherded the development of zones and CSCs for 2008 in a decision that was wisely overturned by TAC in favor of the number 2 choice of W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BD3-C667-4831-97BD-6BAD11407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12:36Z</dcterms:created>
  <dc:creator>bbelk</dc:creator>
  <dc:description/>
  <dc:language>en-US</dc:language>
  <cp:lastModifiedBy>bbelk</cp:lastModifiedBy>
  <dcterms:modified xsi:type="dcterms:W3CDTF">2008-01-02T20:31:17Z</dcterms:modified>
  <cp:revision>87</cp:revision>
  <dc:subject/>
  <dc:title>WMS Report TO TAC</dc:title>
</cp:coreProperties>
</file>