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7348-4FCD-47CC-8224-BC3F01444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DA79-99A2-41AE-9999-EC3C5507D9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EC8B-1451-40AB-92CC-B66AAA44E7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5D0B3E3-E32A-4C78-9001-72B6F4008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6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2B92CBF-657F-4B98-ACCC-5C9626FEB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PTF 2007 Accomplishments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for TAC January 3, 2008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Trip Doggett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" name="Picture 5" descr="logo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PTF 2007 Accomplishm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 Meeting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82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31 Conceptual System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56 draft N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35 whitepapers / other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75 Readiness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16 Testing Handbooks and Approach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TCR to CRR Transition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Nodal Transition Outage Management Guidelin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289019E-5F0D-4445-B863-10220786F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PRS121307</cp:lastModifiedBy>
  <dcterms:modified xsi:type="dcterms:W3CDTF">2008-01-03T19:08:51Z</dcterms:modified>
  <cp:revision>929</cp:revision>
  <dc:subject/>
  <dc:title>TAC Update</dc:title>
</cp:coreProperties>
</file>