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97188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883116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2749-9FA6-40AC-943A-B1248DC39E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34DD-12E8-41E4-8D57-2061B4E80F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9DB2-FDF8-4CBB-85F1-1F7D3EC0A9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F03D-BB1B-4FA3-B094-2F60A8594E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CCE3-5F51-4E88-9F08-6D39237DC3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96C4-B396-4D17-9B69-A1BD98EDDC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22BF-6080-463E-9302-4D13C8E49B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1EDE-04AC-451D-8F1A-99FDA79E86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AB49-BD3A-4F32-A434-D4BFD8D479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68B9-E9E2-4BF3-B6FF-777B2A2115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52BD-0C03-474D-84CA-746EC47449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2C1B-7563-425C-AF2D-C9B88D269E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0D05-78A9-4D82-98BE-2664045CF6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886A-7B20-429B-B451-17E92B5A44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04DC-D08D-4E13-A217-F04AB3CCA9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6C71-DDB8-4B21-A14A-B0841711EF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0092-9474-44DB-A57F-1B03AD7302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EC44-08F7-49A1-B6F5-EC2EAD84FC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74D9-B9C3-4BE4-8FE8-AE7B34BE5C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4632-E3A7-4ED4-9CFA-5B5B617B0E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20A9-B487-4357-814E-A308C5D654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6316-916B-4BB4-A5D9-713053C431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4E92-D34C-4C94-81B1-5333FCC48F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CED6-3392-4D63-A33B-82F1D11AFC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C97C-7FC9-4C8E-8A09-91BF2A8364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CD37-AA60-47F7-ADE0-047CFB78DE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CA72-713B-41A5-9560-413A30BA89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9475-3B4B-4990-A001-A75D5A0D45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3BBC-139C-4080-979E-AFDC70E908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735F-9635-4A15-A048-212303E653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166A-3121-443B-87C4-D25CEE5586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0A18-8D0D-4A07-A2ED-84B259288A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D47D-EAE4-4801-8000-D2CF28F50E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EE4E-C391-49DA-93AC-C7FB49066E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3CC1AE2-D3EA-496D-9BB8-5160E7796D1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8FE4581-75F4-49CD-A627-2A96B297147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January 3, 2008</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8189EE6-543B-483B-936F-1C915615B7A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3 (continued)</a:t>
            </a:r>
            <a:endParaRPr b="0" lang="en-US" sz="1800" spc="-1" strike="noStrike">
              <a:solidFill>
                <a:srgbClr val="000000"/>
              </a:solidFill>
              <a:latin typeface="Arial"/>
            </a:endParaRPr>
          </a:p>
        </p:txBody>
      </p:sp>
      <p:sp>
        <p:nvSpPr>
          <p:cNvPr id="89" name="Text Box 3"/>
          <p:cNvSpPr/>
          <p:nvPr/>
        </p:nvSpPr>
        <p:spPr>
          <a:xfrm>
            <a:off x="380880" y="770040"/>
            <a:ext cx="8077320" cy="5200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3,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COT Nodal Inter-Control Center Communications Protocol (ICCP) Handbook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ICCP Communications Handbook</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3, TPTF approved the updated ERCOT Nodal ICCP Communications Handbook v1.04 as presented.  The motion carried by roll-call vote, with 75% in favor and fourteen abstentions (First Choice Power, TXU, AEP, City of Dallas, Town of Flower Mound, </a:t>
            </a:r>
            <a:r>
              <a:rPr b="0" lang="en-GB" sz="1600" spc="-1" strike="noStrike">
                <a:solidFill>
                  <a:srgbClr val="000000"/>
                </a:solidFill>
                <a:latin typeface="Arial"/>
              </a:rPr>
              <a:t>Stream Energy, </a:t>
            </a:r>
            <a:r>
              <a:rPr b="0" lang="en-US" sz="1600" spc="-1" strike="noStrike">
                <a:solidFill>
                  <a:srgbClr val="000000"/>
                </a:solidFill>
                <a:latin typeface="Arial"/>
              </a:rPr>
              <a:t>StarTex Power, Strategic Energy, Accent Energy, Cirro Group, Green Mountain Energy, Integrys Energy, Coral Power, and BP Energy).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for Correction to FIP-FOP in Energy Offer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3, TPTF approved the Draft NPRR, Corrections of FIP-FOP in Energy Offers as modified by TPTF on December 3, 2007.  The motion carried by roll-call vote, with 100% in favor and four abstentions (AEP, Calpine, City of Dallas, and Town of Flower Mound).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84, Creating Amendment to Standard Form Market Participant Agreemen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3, TPTF approved NPRR084, Creating Amendment to Standard Form Market Participant Agreement as submitted.  The motion carried by roll-call vote, with 100% in favor and no abstentions.  All Market Segments were represented for the vote.</a:t>
            </a:r>
            <a:endParaRPr b="0" lang="en-US" sz="1600" spc="-1" strike="noStrike">
              <a:solidFill>
                <a:srgbClr val="000000"/>
              </a:solidFill>
              <a:latin typeface="Arial"/>
            </a:endParaRPr>
          </a:p>
        </p:txBody>
      </p:sp>
      <p:sp>
        <p:nvSpPr>
          <p:cNvPr id="90"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C3CAD2D-72EA-40D2-A300-0D26ADFE1BC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4</a:t>
            </a:r>
            <a:endParaRPr b="0" lang="en-US" sz="1800" spc="-1" strike="noStrike">
              <a:solidFill>
                <a:srgbClr val="000000"/>
              </a:solidFill>
              <a:latin typeface="Arial"/>
            </a:endParaRPr>
          </a:p>
        </p:txBody>
      </p:sp>
      <p:sp>
        <p:nvSpPr>
          <p:cNvPr id="93" name="Text Box 3"/>
          <p:cNvSpPr/>
          <p:nvPr/>
        </p:nvSpPr>
        <p:spPr>
          <a:xfrm>
            <a:off x="380880" y="770040"/>
            <a:ext cx="8077320" cy="3700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4,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ric MP11, MP Registration Activitie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3, TPTF voted to endorse ERCOT moving forward with MP11, MP Registration Activities, as modified by TPTF on December 4, 2007.  The motion carried by roll-call vote, with 100% in favor and two abstentions (TXU and Exelon). All Market Segments, except Independent Generator,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ric MP19, Load Serving Entity Engagement and Readines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draft NPRR for Protocol Sections 4 and 6 Formula Clarifica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draft NPRR for revisions to the RMR Startup Energy Payment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ails on the Settlement of Combined Cycle Plants White Paper</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Section 8: Performance Monitoring and Market Compliance v0.06</a:t>
            </a:r>
            <a:endParaRPr b="0" lang="en-US" sz="1600" spc="-1" strike="noStrike">
              <a:solidFill>
                <a:srgbClr val="000000"/>
              </a:solidFill>
              <a:latin typeface="Arial"/>
            </a:endParaRPr>
          </a:p>
        </p:txBody>
      </p:sp>
      <p:sp>
        <p:nvSpPr>
          <p:cNvPr id="9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A40599F-454F-4399-96D3-C2B86C47A85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7</a:t>
            </a:r>
            <a:endParaRPr b="0" lang="en-US" sz="1800" spc="-1" strike="noStrike">
              <a:solidFill>
                <a:srgbClr val="000000"/>
              </a:solidFill>
              <a:latin typeface="Arial"/>
            </a:endParaRPr>
          </a:p>
        </p:txBody>
      </p:sp>
      <p:sp>
        <p:nvSpPr>
          <p:cNvPr id="97" name="Text Box 3"/>
          <p:cNvSpPr/>
          <p:nvPr/>
        </p:nvSpPr>
        <p:spPr>
          <a:xfrm>
            <a:off x="380880" y="770040"/>
            <a:ext cx="8077320" cy="2307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7,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Management System (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posed deferrals for MM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 Participation by Self-Committed Unit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ifiable Cost Subgroup Activiti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dit Monitoring and Management (CMM) Update</a:t>
            </a:r>
            <a:endParaRPr b="0" lang="en-US" sz="1600" spc="-1" strike="noStrike">
              <a:solidFill>
                <a:srgbClr val="000000"/>
              </a:solidFill>
              <a:latin typeface="Arial"/>
            </a:endParaRPr>
          </a:p>
        </p:txBody>
      </p:sp>
      <p:sp>
        <p:nvSpPr>
          <p:cNvPr id="98"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487D74D-C4C6-4CBC-8DFC-C1CD870C5DB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8</a:t>
            </a:r>
            <a:endParaRPr b="0" lang="en-US" sz="1800" spc="-1" strike="noStrike">
              <a:solidFill>
                <a:srgbClr val="000000"/>
              </a:solidFill>
              <a:latin typeface="Arial"/>
            </a:endParaRPr>
          </a:p>
        </p:txBody>
      </p:sp>
      <p:sp>
        <p:nvSpPr>
          <p:cNvPr id="101" name="Text Box 3"/>
          <p:cNvSpPr/>
          <p:nvPr/>
        </p:nvSpPr>
        <p:spPr>
          <a:xfrm>
            <a:off x="380880" y="770040"/>
            <a:ext cx="8077320" cy="3623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A Punchlist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 of Systems Architecture (SoSA)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 Interface Subgroup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Public Posting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89, Changing Posting Requirements of Certain Documents From MIS Secure to Public Area</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8, TPTF voted to endorse forwarding TPTF comments for NPRR089 to PRS. The motion carried by roll-call vote, with 100% in favor and five abstentions (Austin Energy, First Choice, TXU, AEP, and Coral Power). All Market Segments, except Consumer, were represented for the vote.</a:t>
            </a:r>
            <a:endParaRPr b="0" lang="en-US" sz="1600" spc="-1" strike="noStrike">
              <a:solidFill>
                <a:srgbClr val="000000"/>
              </a:solidFill>
              <a:latin typeface="Arial"/>
            </a:endParaRPr>
          </a:p>
        </p:txBody>
      </p:sp>
      <p:sp>
        <p:nvSpPr>
          <p:cNvPr id="102"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7E03A78-41DF-4AD1-8AF9-8F1390F13D5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8 (continued)</a:t>
            </a:r>
            <a:endParaRPr b="0" lang="en-US" sz="1800" spc="-1" strike="noStrike">
              <a:solidFill>
                <a:srgbClr val="000000"/>
              </a:solidFill>
              <a:latin typeface="Arial"/>
            </a:endParaRPr>
          </a:p>
        </p:txBody>
      </p:sp>
      <p:sp>
        <p:nvSpPr>
          <p:cNvPr id="105" name="Text Box 3"/>
          <p:cNvSpPr/>
          <p:nvPr/>
        </p:nvSpPr>
        <p:spPr>
          <a:xfrm>
            <a:off x="380880" y="770040"/>
            <a:ext cx="8077320" cy="499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ion of Proposals for Setting System-Wide Offer Cap (SWCAP) at Market Open (Reference NPRR091, Scarcity Pricing and Mitigated Offer Cap During the Period Commencing on the Nodal Market Implementation Date and Continuing for a Total of 45 Day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wer &amp; Gas Consulting Proposal</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RG Proposal</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8, a motion to submit TPTF comments to PRS recommending using the higher of $150 or 16*FIP for setting SWCAP for initial 45-Day period following Texas Nodal implementation date as described by methodology in NPRR091 failed. The motion failed by roll-call vote, with 50% in favor and eight abstentions (Brazos, LCRA, City of Garland, First Choice, TNMP, AEP, Reliant, and BP Energy).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4 Approach Document</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8, TPTF voted to approve the EDS 4 Approach v0.04 as modified by TPTF on December 18, 2007.  The motion carried by roll-call vote, with 100% in favor and three abstentions (LCRA, City of Dallas, and Town of Flower Mound). All Market Segments were represented for the vote.</a:t>
            </a:r>
            <a:endParaRPr b="0" lang="en-US" sz="1600" spc="-1" strike="noStrike">
              <a:solidFill>
                <a:srgbClr val="000000"/>
              </a:solidFill>
              <a:latin typeface="Arial"/>
            </a:endParaRPr>
          </a:p>
        </p:txBody>
      </p:sp>
      <p:sp>
        <p:nvSpPr>
          <p:cNvPr id="106"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5E1E774-4EC8-46A0-8FEC-5F39A02B775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8 (continued)</a:t>
            </a:r>
            <a:endParaRPr b="0" lang="en-US" sz="1800" spc="-1" strike="noStrike">
              <a:solidFill>
                <a:srgbClr val="000000"/>
              </a:solidFill>
              <a:latin typeface="Arial"/>
            </a:endParaRPr>
          </a:p>
        </p:txBody>
      </p:sp>
      <p:sp>
        <p:nvSpPr>
          <p:cNvPr id="109" name="Text Box 3"/>
          <p:cNvSpPr/>
          <p:nvPr/>
        </p:nvSpPr>
        <p:spPr>
          <a:xfrm>
            <a:off x="380880" y="770040"/>
            <a:ext cx="8077320" cy="5146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EDS 4 – Release 9 MP Handbook</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8, TPTF voted to approve the EDS4 Release 9 DAM/RUC/SASM MP Handbook v0.2 as submitted.  The motion carried by roll-call vote, with 100% in favor and two abstentions (City of Dallas and Town of Flower Mound). All Market Segments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 from the ICCP for Split Generation Resource WebEx Conferenc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urce Registration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draft NPRR for Protocol Sections 4 and 6 Formula Clarification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8, TPTF voted to endorse the draft NPRR, Protocols 4 and 6 Formula Clarifications, to be submitted to PRS for consideration.  The motion carried by roll-call vote, with 100% in favor and twelve abstentions (Austin Energy, TNMP, City of Dallas, Town of Flower Mound, </a:t>
            </a:r>
            <a:r>
              <a:rPr b="0" lang="en-GB" sz="1600" spc="-1" strike="noStrike">
                <a:solidFill>
                  <a:srgbClr val="000000"/>
                </a:solidFill>
                <a:latin typeface="Arial"/>
              </a:rPr>
              <a:t>Stream Energy, </a:t>
            </a:r>
            <a:r>
              <a:rPr b="0" lang="en-US" sz="1600" spc="-1" strike="noStrike">
                <a:solidFill>
                  <a:srgbClr val="000000"/>
                </a:solidFill>
                <a:latin typeface="Arial"/>
              </a:rPr>
              <a:t>StarTex Power, Strategic Energy, Accent Energy, Cirro Group, Green Mountain Energy, Integrys Energy, and BP Energy ). All Market Segments, except the Independent Generators, were represented for the vote.</a:t>
            </a:r>
            <a:endParaRPr b="0" lang="en-US" sz="1600" spc="-1" strike="noStrike">
              <a:solidFill>
                <a:srgbClr val="000000"/>
              </a:solidFill>
              <a:latin typeface="Arial"/>
            </a:endParaRPr>
          </a:p>
        </p:txBody>
      </p:sp>
      <p:sp>
        <p:nvSpPr>
          <p:cNvPr id="110"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9E43804-5C92-452C-867F-8871D4A802C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8 (continued)</a:t>
            </a:r>
            <a:endParaRPr b="0" lang="en-US" sz="1800" spc="-1" strike="noStrike">
              <a:solidFill>
                <a:srgbClr val="000000"/>
              </a:solidFill>
              <a:latin typeface="Arial"/>
            </a:endParaRPr>
          </a:p>
        </p:txBody>
      </p:sp>
      <p:sp>
        <p:nvSpPr>
          <p:cNvPr id="113" name="Text Box 3"/>
          <p:cNvSpPr/>
          <p:nvPr/>
        </p:nvSpPr>
        <p:spPr>
          <a:xfrm>
            <a:off x="380880" y="770040"/>
            <a:ext cx="8077320" cy="277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draft NPRR for revisions to the RMR Startup Energy Paymen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ails on the Settlement of Combined Cycle Plants White Paper</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8, TPTF voted to approve the COMS white paper Details on the Settlements of Combined Cycle Plants v0.95 as modified by TPTF on December 18, 2007.  The motion carried by roll-call vote, with 83.3% in favor and three abstentions (AEP, Reliant, and BP Energy). All Market Segments, except the Independent Generator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Project - Discussion of Draft NPRRs</a:t>
            </a:r>
            <a:endParaRPr b="0" lang="en-US" sz="1600" spc="-1" strike="noStrike">
              <a:solidFill>
                <a:srgbClr val="000000"/>
              </a:solidFill>
              <a:latin typeface="Arial"/>
            </a:endParaRPr>
          </a:p>
        </p:txBody>
      </p:sp>
      <p:sp>
        <p:nvSpPr>
          <p:cNvPr id="11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354BDB3-61CD-468B-9F0A-77F5A73949B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9</a:t>
            </a:r>
            <a:endParaRPr b="0" lang="en-US" sz="1800" spc="-1" strike="noStrike">
              <a:solidFill>
                <a:srgbClr val="000000"/>
              </a:solidFill>
              <a:latin typeface="Arial"/>
            </a:endParaRPr>
          </a:p>
        </p:txBody>
      </p:sp>
      <p:sp>
        <p:nvSpPr>
          <p:cNvPr id="117" name="Text Box 3"/>
          <p:cNvSpPr/>
          <p:nvPr/>
        </p:nvSpPr>
        <p:spPr>
          <a:xfrm>
            <a:off x="380880" y="770040"/>
            <a:ext cx="8077320" cy="4656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9,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Project - Discussion of Draft NPRR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Correct Reference to Credit Limit</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9, TPTF voted to endorse forwarding the CRR draft NPRR, Correct Reference to Credit Limit, to PRS as modified by TPTF on December 19, 2007.  The motion carried by roll-call vote, with 100% in favor and three abstentions (City of Allen, City of Eastland, and Exelon). All Market Segments, except the Independent Generators,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Clarify Recipients of McFRI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9, TPTF voted to endorse forwarding the CRR draft NPRR, Clarify Recipients of McFRIs, to PRS as modified by TPTF on December 19, 2007.  The motion carried by roll-call vote, with 100% in favor and six abstentions (TXU, AEP, City of Allen, City of Eastland, Reliant and Exelon). All Market Segments, except the Independent Generator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Registered Configuration of Private Use Network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Project - Discussion of Draft NPRR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Removing PCRR Release Mechanism</a:t>
            </a:r>
            <a:endParaRPr b="0" lang="en-US" sz="1600" spc="-1" strike="noStrike">
              <a:solidFill>
                <a:srgbClr val="000000"/>
              </a:solidFill>
              <a:latin typeface="Arial"/>
            </a:endParaRPr>
          </a:p>
        </p:txBody>
      </p:sp>
      <p:sp>
        <p:nvSpPr>
          <p:cNvPr id="118"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85AFC9A-DEE3-44B7-8C95-65CDEC8C765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9 (continued)</a:t>
            </a:r>
            <a:endParaRPr b="0" lang="en-US" sz="1800" spc="-1" strike="noStrike">
              <a:solidFill>
                <a:srgbClr val="000000"/>
              </a:solidFill>
              <a:latin typeface="Arial"/>
            </a:endParaRPr>
          </a:p>
        </p:txBody>
      </p:sp>
      <p:sp>
        <p:nvSpPr>
          <p:cNvPr id="121" name="Text Box 3"/>
          <p:cNvSpPr/>
          <p:nvPr/>
        </p:nvSpPr>
        <p:spPr>
          <a:xfrm>
            <a:off x="380880" y="770040"/>
            <a:ext cx="8077320" cy="290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9,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adiness Metric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Project - Discussion of Draft NPRR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Removing PCRR Release Mechanism</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9, TPTF voted to endorse the ERCOT-proposed concept of the PCRR Release Mechanism as described in the CRR draft NPRR PCRR Release Mechanism as modified by TPTF on December 19, 2007, with the understanding that the draft NPRR will be reconciled with the Settlement component and approved by TPTF as a package before being forwarded to PRS.  The motion carried by roll-call vote, with 100% in favor and no abstentions.  All Market Segments, except the Independent Generators, were represented for the vote.</a:t>
            </a:r>
            <a:endParaRPr b="0" lang="en-US" sz="1600" spc="-1" strike="noStrike">
              <a:solidFill>
                <a:srgbClr val="000000"/>
              </a:solidFill>
              <a:latin typeface="Arial"/>
            </a:endParaRPr>
          </a:p>
        </p:txBody>
      </p:sp>
      <p:sp>
        <p:nvSpPr>
          <p:cNvPr id="122"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192D6A7-C2AA-49C6-B159-ABD0602AE90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9 (continued)</a:t>
            </a:r>
            <a:endParaRPr b="0" lang="en-US" sz="1800" spc="-1" strike="noStrike">
              <a:solidFill>
                <a:srgbClr val="000000"/>
              </a:solidFill>
              <a:latin typeface="Arial"/>
            </a:endParaRPr>
          </a:p>
        </p:txBody>
      </p:sp>
      <p:sp>
        <p:nvSpPr>
          <p:cNvPr id="125" name="Text Box 3"/>
          <p:cNvSpPr/>
          <p:nvPr/>
        </p:nvSpPr>
        <p:spPr>
          <a:xfrm>
            <a:off x="380880" y="770040"/>
            <a:ext cx="8077320" cy="524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9,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adiness Metric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9, TPTF voted to endorse ERCOT moving forward with the following metrics as modified by TPTF on December 19, 2007:</a:t>
            </a:r>
            <a:endParaRPr b="0" lang="en-US" sz="16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200" spc="-1" strike="noStrike">
                <a:solidFill>
                  <a:srgbClr val="000000"/>
                </a:solidFill>
                <a:latin typeface="Arial"/>
              </a:rPr>
              <a:t>MP19 - Load Serving Entities Engagement and Readines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P16 - MP EDS-4 Trials Participation</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P18 - Mapping of Resources and Loads in Private Area Networks is Complete</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1 - Settle Market for 7 Days and Provide Appropriate Extract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2 - Verify Dispute Process of 168 Hour Test</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3 - Verify DAM Settlement Statement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4 - Zonal/Nodal Coordinated Settlement Operation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5 - Verify RTM Settlement Statement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6 - Verify RTM Settlement Invoice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7 - Verify DAM Invoice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8 - Verify CRR Auction Invoice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9 - Verify Financial Transfer and Processing</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10 - Verify Credit Calculation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O12 - Network Operations Model and SE Performance</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O13 - ERCOT Operating Personnel and Facilities Readiness</a:t>
            </a:r>
            <a:endParaRPr b="0" lang="en-US" sz="1200" spc="-1" strike="noStrike">
              <a:solidFill>
                <a:srgbClr val="000000"/>
              </a:solidFill>
              <a:latin typeface="Arial"/>
            </a:endParaRPr>
          </a:p>
          <a:p>
            <a:pPr lvl="3" marL="1371600">
              <a:lnSpc>
                <a:spcPct val="85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7 - ERCOT Operating Personnel and Facilities Readiness</a:t>
            </a:r>
            <a:endParaRPr b="0" lang="en-US" sz="12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motion carried by roll-call vote, with 100% in favor and two abstentions (City of Allen and City of Eastland).  All Market Segments, except the Independent Generators, were represented for the vote.</a:t>
            </a:r>
            <a:endParaRPr b="0" lang="en-US" sz="1600" spc="-1" strike="noStrike">
              <a:solidFill>
                <a:srgbClr val="000000"/>
              </a:solidFill>
              <a:latin typeface="Arial"/>
            </a:endParaRPr>
          </a:p>
        </p:txBody>
      </p:sp>
      <p:sp>
        <p:nvSpPr>
          <p:cNvPr id="126"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42C16A6-F163-459F-B675-FB146BD76F6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2741400"/>
        </p:xfrm>
        <a:graphic>
          <a:graphicData uri="http://schemas.openxmlformats.org/drawingml/2006/table">
            <a:tbl>
              <a:tblPr/>
              <a:tblGrid>
                <a:gridCol w="2057400"/>
                <a:gridCol w="556272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61360">
                <a:tc>
                  <a:txBody>
                    <a:bodyPr lIns="90000" rIns="90000" tIns="46800" bIns="46800" anchor="ctr">
                      <a:noAutofit/>
                    </a:bodyPr>
                    <a:p>
                      <a:pPr marL="117360" indent="-117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eeting Summary</a:t>
                      </a:r>
                      <a:endParaRPr b="0" lang="en-US" sz="11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mmary of recent TPTF activities</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review</a:t>
                      </a:r>
                      <a:endParaRPr b="0" lang="en-US" sz="11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61360">
                <a:tc>
                  <a:txBody>
                    <a:bodyPr lIns="90000" rIns="90000" tIns="46800" bIns="46800" anchor="ctr">
                      <a:noAutofit/>
                    </a:bodyPr>
                    <a:p>
                      <a:pPr marL="225360" indent="-225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Next Meetings</a:t>
                      </a:r>
                      <a:endParaRPr b="0" lang="en-US" sz="11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coming activities</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review</a:t>
                      </a:r>
                      <a:endParaRPr b="0" lang="en-US" sz="11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96160">
                <a:tc>
                  <a:txBody>
                    <a:bodyPr lIns="90000" rIns="90000" tIns="46800" bIns="46800" anchor="t">
                      <a:noAutofit/>
                    </a:bodyPr>
                    <a:p>
                      <a:pPr marL="168120" indent="-1681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Approval of Readiness Metrics</a:t>
                      </a:r>
                      <a:endParaRPr b="0" lang="en-US" sz="11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5920" indent="-11592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est TAC Approval for ERCOT to move forward with deleting E13 and adding metrics E5, E12, MP8,MP9, MP10, MP11, MP13, MP15, MP16, MP17,MP18, MP19, CO1 thru CO10, EMO12, EMO13, and MO7  </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Vote</a:t>
                      </a:r>
                      <a:endParaRPr b="0" lang="en-US" sz="11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833400">
                <a:tc>
                  <a:txBody>
                    <a:bodyPr lIns="90000" rIns="90000" tIns="46800" bIns="46800" anchor="t">
                      <a:noAutofit/>
                    </a:bodyPr>
                    <a:p>
                      <a:pPr marL="225360" indent="-225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Approval of Milestones</a:t>
                      </a:r>
                      <a:endParaRPr b="0" lang="en-US" sz="11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est TAC acknowledge TPTF completion of the following Milestones–</a:t>
                      </a:r>
                      <a:endParaRPr b="0" lang="en-US" sz="1100" spc="-1" strike="noStrike">
                        <a:solidFill>
                          <a:srgbClr val="000000"/>
                        </a:solidFill>
                        <a:latin typeface="Arial"/>
                      </a:endParaRPr>
                    </a:p>
                    <a:p>
                      <a:pPr lvl="1" marL="231840">
                        <a:lnSpc>
                          <a:spcPct val="100000"/>
                        </a:lnSpc>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0" lang="en-US" sz="1100" spc="-1" strike="noStrike">
                          <a:solidFill>
                            <a:srgbClr val="000000"/>
                          </a:solidFill>
                          <a:latin typeface="Arial"/>
                        </a:rPr>
                        <a:t>Market Management System (MMS) Security Constrained Economic Dispatch (SCED) and Real-Time MMS Processes Requirements complete</a:t>
                      </a:r>
                      <a:endParaRPr b="0" lang="en-US" sz="1100" spc="-1" strike="noStrike">
                        <a:solidFill>
                          <a:srgbClr val="000000"/>
                        </a:solidFill>
                        <a:latin typeface="Arial"/>
                      </a:endParaRPr>
                    </a:p>
                    <a:p>
                      <a:pPr lvl="1" marL="231840">
                        <a:lnSpc>
                          <a:spcPct val="100000"/>
                        </a:lnSpc>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rket Information System (MIS) Web Portal Requirements complete</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Vote</a:t>
                      </a:r>
                      <a:endParaRPr b="0" lang="en-US" sz="11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12640">
                <a:tc>
                  <a:txBody>
                    <a:bodyPr lIns="90000" rIns="90000" tIns="46800" bIns="46800" anchor="t">
                      <a:noAutofit/>
                    </a:bodyPr>
                    <a:p>
                      <a:pPr marL="225360" indent="-2253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 Issue with TPTF Voting Spreadsheet</a:t>
                      </a:r>
                      <a:endParaRPr b="0" lang="en-US" sz="11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2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as brought to our attention that there was a flaw in the TPTF voting spreadsheet that impacted the votes of Consumer Sub segments under certain circumstances.</a:t>
                      </a:r>
                      <a:endParaRPr b="0" lang="en-US" sz="11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or review</a:t>
                      </a:r>
                      <a:endParaRPr b="0" lang="en-US" sz="11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45F16B7-4CEC-4410-B1F6-6E1B47823D0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19 (continued)</a:t>
            </a:r>
            <a:endParaRPr b="0" lang="en-US" sz="1800" spc="-1" strike="noStrike">
              <a:solidFill>
                <a:srgbClr val="000000"/>
              </a:solidFill>
              <a:latin typeface="Arial"/>
            </a:endParaRPr>
          </a:p>
        </p:txBody>
      </p:sp>
      <p:sp>
        <p:nvSpPr>
          <p:cNvPr id="129" name="Text Box 3"/>
          <p:cNvSpPr/>
          <p:nvPr/>
        </p:nvSpPr>
        <p:spPr>
          <a:xfrm>
            <a:off x="380880" y="770040"/>
            <a:ext cx="8077320" cy="3808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19,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Update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draft NPRR for revisions to the RMR Startup Energy Payment</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9, TPTF voted to endorse forwarding the draft NPRR, Nodal Protocol Revisions to the RMR Startup Energy Payment, to PRS as modified by TPTF December 19, 2007. The motion carried by roll-call vote, with 100% in favor and two abstentions (City of Dallas and Town of Flower Mound).  All Market Segments, except the Independent Generator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Section 8: Performance Monitoring and Market Compliance v0.06</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19, TPTF voted to endorse to endorse the draft NPRR "Changes to Section 8 to Incorporate Role of TRE, the IMM, and the Concept of Market Compliance" to be forwarded to PRS as modified by TPTF on December 19, 2007.  The motion carried by roll-call vote, with 100% in favor and no abstentions. The Independent Generator, Consumer, and IREP Market Segments were not represented for the vote.</a:t>
            </a:r>
            <a:endParaRPr b="0" lang="en-US" sz="1600" spc="-1" strike="noStrike">
              <a:solidFill>
                <a:srgbClr val="000000"/>
              </a:solidFill>
              <a:latin typeface="Arial"/>
            </a:endParaRPr>
          </a:p>
        </p:txBody>
      </p:sp>
      <p:sp>
        <p:nvSpPr>
          <p:cNvPr id="130"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91EBACB-7EA2-4ECA-ABAA-B45DEA5F13D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33" name="Text Box 6"/>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anuary 7 and Tuesday January 8</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anuary 21 through Wednesday January 23</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February 4 through Wednesday February 6</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February 21 and Friday February 22</a:t>
            </a:r>
            <a:endParaRPr b="0" lang="en-US" sz="1800" spc="-1" strike="noStrike">
              <a:solidFill>
                <a:srgbClr val="000000"/>
              </a:solidFill>
              <a:latin typeface="Arial"/>
            </a:endParaRPr>
          </a:p>
        </p:txBody>
      </p:sp>
      <p:sp>
        <p:nvSpPr>
          <p:cNvPr id="13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792C07A-9FC9-413A-BCA6-30081E38B93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8" name="Text Box 6"/>
          <p:cNvSpPr/>
          <p:nvPr/>
        </p:nvSpPr>
        <p:spPr>
          <a:xfrm>
            <a:off x="380880" y="765000"/>
            <a:ext cx="8610840" cy="4848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January 7 and 8, likely topics includ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aw in TPTF voting spreadsheet related to Consumer Segment vote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 to revisit the motion on September 28, 2006 by Reliant (Kevin Gresham) to strike subsection (ii) from Nodal Protocol Section 3.14.1.13(2), as proposed by NPRR 024.</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onal-to-Nodal Transition matrix and possible synchronization issues with the EDS Sequence Timelin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Updat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CRR Testing MP Handbook</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lanation of Market Submission/Retrieval Item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tlement issues for the Draft NPRR – PCRR Release Mechanism</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DC Tie Issue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the Subgroup discussion for DC Tie Issue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DC Tie Issues</a:t>
            </a:r>
            <a:endParaRPr b="0" lang="en-US" sz="1800" spc="-1" strike="noStrike">
              <a:solidFill>
                <a:srgbClr val="000000"/>
              </a:solidFill>
              <a:latin typeface="Arial"/>
            </a:endParaRPr>
          </a:p>
        </p:txBody>
      </p:sp>
      <p:sp>
        <p:nvSpPr>
          <p:cNvPr id="139"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F82218F-9377-4CAF-B1EA-28917E08014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3" name="Text Box 3"/>
          <p:cNvSpPr/>
          <p:nvPr/>
        </p:nvSpPr>
        <p:spPr>
          <a:xfrm>
            <a:off x="380880" y="765000"/>
            <a:ext cx="8610840" cy="5229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January 7 and 8, likely topics includ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EDS Updat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d EDS 1 Approach schedul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ults of EDS 1 Testing</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s for EDS 3 R5.4 in the EDS SCED Handbook</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Calpine proposal and Exelon comments regarding settlement issues associated with current limitation for combined-cycle configurations</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Updat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e the Dec. 17 TPTF discussion of DAM Participation for Self-Committed Generation Resource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MMS deferral items (what the deferral means for MPs, how S&amp;B components will impact market, work-arounds, clarification of how soon DSR inc/dec curves will be implemented if they are deferred to after go-liv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 Project</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the Market Participant Identity Management Requirements</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Draft Registration for Registration of Private Use Networks</a:t>
            </a:r>
            <a:endParaRPr b="0" lang="en-US" sz="1800" spc="-1" strike="noStrike">
              <a:solidFill>
                <a:srgbClr val="000000"/>
              </a:solidFill>
              <a:latin typeface="Arial"/>
            </a:endParaRPr>
          </a:p>
        </p:txBody>
      </p:sp>
      <p:sp>
        <p:nvSpPr>
          <p:cNvPr id="14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5"/>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919816F-E6EC-4771-B2B9-77F54BEEA16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8" name="Text Box 3"/>
          <p:cNvSpPr/>
          <p:nvPr/>
        </p:nvSpPr>
        <p:spPr>
          <a:xfrm>
            <a:off x="380880" y="765000"/>
            <a:ext cx="8610840" cy="2618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January 7 and 8, likely topics includ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draft NPRR - Nodal Protocols Section 3.2.3, System Adequacy Reports – Clarification Request</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clarifications to information requested by the Medium-Term System Adequacy Report and the Short-Term System Adequacy Report</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NPRR093, Clarification to Definition of DUNS Number; Section 2, Definitions and Acronyms, submitted by ERCOT Staff</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ifiable Cost Updat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 update on recent activities for the Verifiable Cost Subgroup</a:t>
            </a:r>
            <a:endParaRPr b="0" lang="en-US" sz="1800" spc="-1" strike="noStrike">
              <a:solidFill>
                <a:srgbClr val="000000"/>
              </a:solidFill>
              <a:latin typeface="Arial"/>
            </a:endParaRPr>
          </a:p>
        </p:txBody>
      </p:sp>
      <p:sp>
        <p:nvSpPr>
          <p:cNvPr id="149"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5"/>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30827B3-A704-451A-85CD-DCAB9227D6D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3" name="Text Box 3"/>
          <p:cNvSpPr/>
          <p:nvPr/>
        </p:nvSpPr>
        <p:spPr>
          <a:xfrm>
            <a:off x="380880" y="765000"/>
            <a:ext cx="8610840" cy="4934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January 7 and 8, likely topics includ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MO - Readiness Metrics Update - Review remaining metrics and market comments in the PMO Working Readiness Metric Inventory v0.03:</a:t>
            </a:r>
            <a:endParaRPr b="0" lang="en-US" sz="1800" spc="-1" strike="noStrike">
              <a:solidFill>
                <a:srgbClr val="000000"/>
              </a:solidFill>
              <a:latin typeface="Arial"/>
            </a:endParaRPr>
          </a:p>
          <a:p>
            <a:pPr lvl="2" marL="90972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RCOT Internal Metric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2 - Verify ERCOT Performance Monitoring Test Plan</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4 - Transition Pricing Mechanism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7 - Validate EDW Access and Accuracy of Postings Required by the WEMM and PUCT Rule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0 - Validate EDW Commercial Systems Access Accuracy</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1 - Validate EDW Compliance Data Acces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4 - Verify QSE Performance Monitoring Test Plan</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5 - Verify TSP Performance Monitoring Test Plan</a:t>
            </a:r>
            <a:endParaRPr b="0" lang="en-US" sz="1800" spc="-1" strike="noStrike">
              <a:solidFill>
                <a:srgbClr val="000000"/>
              </a:solidFill>
              <a:latin typeface="Arial"/>
            </a:endParaRPr>
          </a:p>
          <a:p>
            <a:pPr lvl="2" marL="90972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nergy Management Operations Metric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3 - Verify Outage Evaluation System Functionality</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4 - Run 7 Day Stability Test</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8 - Conduct EECP Test</a:t>
            </a:r>
            <a:endParaRPr b="0" lang="en-US" sz="1800" spc="-1" strike="noStrike">
              <a:solidFill>
                <a:srgbClr val="000000"/>
              </a:solidFill>
              <a:latin typeface="Arial"/>
            </a:endParaRPr>
          </a:p>
        </p:txBody>
      </p:sp>
      <p:sp>
        <p:nvSpPr>
          <p:cNvPr id="15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Rectangle 5"/>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1771191-6830-418E-88F8-7E589327CA2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8" name="Text Box 3"/>
          <p:cNvSpPr/>
          <p:nvPr/>
        </p:nvSpPr>
        <p:spPr>
          <a:xfrm>
            <a:off x="380880" y="765000"/>
            <a:ext cx="8610840" cy="4615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January 7 and 8, likely topics includ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MO - Readiness Metrics Update - Review remaining metrics and market comments in the PMO Working Readiness Metric Inventory v0.03:</a:t>
            </a:r>
            <a:endParaRPr b="0" lang="en-US" sz="1800" spc="-1" strike="noStrike">
              <a:solidFill>
                <a:srgbClr val="000000"/>
              </a:solidFill>
              <a:latin typeface="Arial"/>
            </a:endParaRPr>
          </a:p>
          <a:p>
            <a:pPr lvl="2" marL="90972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rket Operations Metric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1 - Operate DA Market for 7 Day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2 - Operate 7 Day market with RUC</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3 - Verify Supplemental Ancillary Services Market (SASM)</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6 - Verify DAM Ancillary Services</a:t>
            </a:r>
            <a:endParaRPr b="0" lang="en-US" sz="1800" spc="-1" strike="noStrike">
              <a:solidFill>
                <a:srgbClr val="000000"/>
              </a:solidFill>
              <a:latin typeface="Arial"/>
            </a:endParaRPr>
          </a:p>
          <a:p>
            <a:pPr lvl="2" marL="90972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ingency Metric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1 - Contingency Plan for Weekly, Daily and Hourly RUC Failur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2 - Contingency Plan for DAM Failur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3 - Contingency Plan for ICCP Data Failur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4 - Contingency Plan for SCED Failur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5 - Contingency Plans for Key Settlement and Financial Transfer Processes</a:t>
            </a:r>
            <a:endParaRPr b="0" lang="en-US" sz="1800" spc="-1" strike="noStrike">
              <a:solidFill>
                <a:srgbClr val="000000"/>
              </a:solidFill>
              <a:latin typeface="Arial"/>
            </a:endParaRPr>
          </a:p>
        </p:txBody>
      </p:sp>
      <p:sp>
        <p:nvSpPr>
          <p:cNvPr id="159"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Rectangle 5"/>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F53FA8D-167F-4ED3-8643-6437B7A2B4A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63" name="Text Box 3"/>
          <p:cNvSpPr/>
          <p:nvPr/>
        </p:nvSpPr>
        <p:spPr>
          <a:xfrm>
            <a:off x="380880" y="765000"/>
            <a:ext cx="8610840" cy="4934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January 7 and 8, likely topics include:</a:t>
            </a:r>
            <a:endParaRPr b="0" lang="en-US" sz="1800" spc="-1" strike="noStrike">
              <a:solidFill>
                <a:srgbClr val="000000"/>
              </a:solidFill>
              <a:latin typeface="Arial"/>
            </a:endParaRPr>
          </a:p>
          <a:p>
            <a:pPr lvl="1" marL="460440" indent="61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MO - Readiness Metrics Update - Review remaining metrics and market comments in the PMO Working Readiness Metric Inventory v0.03:</a:t>
            </a:r>
            <a:endParaRPr b="0" lang="en-US" sz="1800" spc="-1" strike="noStrike">
              <a:solidFill>
                <a:srgbClr val="000000"/>
              </a:solidFill>
              <a:latin typeface="Arial"/>
            </a:endParaRPr>
          </a:p>
          <a:p>
            <a:pPr lvl="2" marL="90972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ingency Metrics (continued)</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6 - Develop Plan for SE Failur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7 - Contingency Plan for a Backup Facility</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8 - Contingency Plan for Portal/API Failure</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9 - Contingency Plan for Site Unavailability</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10 - Verify Single Point of Failure Recovery EMS/MMS/NMMS/CRR/COMS</a:t>
            </a:r>
            <a:endParaRPr b="0" lang="en-US" sz="1800" spc="-1" strike="noStrike">
              <a:solidFill>
                <a:srgbClr val="000000"/>
              </a:solidFill>
              <a:latin typeface="Arial"/>
            </a:endParaRPr>
          </a:p>
          <a:p>
            <a:pPr lvl="2" marL="90972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MM Metric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M1 - Market Monitor Systems Capability</a:t>
            </a:r>
            <a:endParaRPr b="0" lang="en-US" sz="1800" spc="-1" strike="noStrike">
              <a:solidFill>
                <a:srgbClr val="000000"/>
              </a:solidFill>
              <a:latin typeface="Arial"/>
            </a:endParaRPr>
          </a:p>
          <a:p>
            <a:pPr lvl="2" marL="90972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verall Readiness Metric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0 - Market Participants Operations Readiness</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1 - Nodal Readiness Declaration</a:t>
            </a:r>
            <a:endParaRPr b="0" lang="en-US" sz="1800" spc="-1" strike="noStrike">
              <a:solidFill>
                <a:srgbClr val="000000"/>
              </a:solidFill>
              <a:latin typeface="Arial"/>
            </a:endParaRPr>
          </a:p>
          <a:p>
            <a:pPr lvl="2" marL="90972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2 - Develop Texas Nodal Market Launch Plan</a:t>
            </a:r>
            <a:endParaRPr b="0" lang="en-US" sz="1800" spc="-1" strike="noStrike">
              <a:solidFill>
                <a:srgbClr val="000000"/>
              </a:solidFill>
              <a:latin typeface="Arial"/>
            </a:endParaRPr>
          </a:p>
        </p:txBody>
      </p:sp>
      <p:sp>
        <p:nvSpPr>
          <p:cNvPr id="16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5"/>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F5BCC26-246B-4CC9-8377-2CE7A3A68A2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7"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168"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Text Box 8"/>
          <p:cNvSpPr/>
          <p:nvPr/>
        </p:nvSpPr>
        <p:spPr>
          <a:xfrm>
            <a:off x="380880" y="914400"/>
            <a:ext cx="8458200" cy="5242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27, TPTF moved to delete E13 - Standard Form Agreements Executed, and to endorse ERCOT moving forward with the metrics E5, E12, MP8,MP9, MP10, MP13, and MP15 as modified by TPTF on November 27, 2007 in the PMO Metric Inventory for TPTF Approval at TPTF 112607 v0.2.  The motion carried by roll-call vote, with 100% in favor and no abstentions.</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27, TPTF endorsed ERCOT moving forward with the metric MP17, MP Qualification Activities as modified by TPTF on November 27, 2007.  The motion carried by roll-call vote, with 100% in favor and no abstentions. The Municipal, Consumer, and Independent Generator Market Segments were not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December 3, TPTF voted to endorse ERCOT moving forward with MP11, MP Registration Activities, as modified by TPTF on December 4, 2007.  The motion carried by roll-call vote, with 100% in favor and two abstentions (TXU and Exelon). All Market Segments, except Independent Generator,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December 19, TPTF voted to endorse ERCOT moving forward with the metrics MP16, MP18, MP19, CO1 thru CO10, EMO12, EMO13, and MO7 as modified by TPTF on December 19, 2007.  The motion carried by roll-call vote, with 100% in favor and two abstentions (City of Allen and City of Eastland).  All Market Segments, except the Independent Generators, were represented for the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42C6A19-358A-40EF-9E79-9EDF86A62B7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5"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 (continued)</a:t>
            </a:r>
            <a:endParaRPr b="0" lang="en-US" sz="1800" spc="-1" strike="noStrike">
              <a:solidFill>
                <a:srgbClr val="000000"/>
              </a:solidFill>
              <a:latin typeface="Arial"/>
            </a:endParaRPr>
          </a:p>
        </p:txBody>
      </p:sp>
      <p:sp>
        <p:nvSpPr>
          <p:cNvPr id="176"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Text Box 8"/>
          <p:cNvSpPr/>
          <p:nvPr/>
        </p:nvSpPr>
        <p:spPr>
          <a:xfrm>
            <a:off x="380880" y="914400"/>
            <a:ext cx="8458200" cy="525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delete the metric:</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3 - Standard Form Agreements Execu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move forward with the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5 - Nodal SAS 70 Preparednes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2 - MIS Compliance Tes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8 - QSE Ability to Submit Transactions Via MI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9 - QSE Ability to Submit Web Service Transac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0 - Mapping of Resources to Resource Nodes and Resources to EPS Meters is Comple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1 - MP Registration Activiti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3- MP Completes EDS-4 Related Train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5 - MP EDS-3 Particip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6 - MP EDS-4 Trials Particip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7 - MP Qualification Activiti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8 - Mapping of Resources and Loads in Private Area Networks is Comple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19 - Load Serving Entities Engagement and Read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3250293-6A64-4E21-BFD8-FCBD064BA5D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26</a:t>
            </a:r>
            <a:endParaRPr b="0" lang="en-US" sz="1800" spc="-1" strike="noStrike">
              <a:solidFill>
                <a:srgbClr val="000000"/>
              </a:solidFill>
              <a:latin typeface="Arial"/>
            </a:endParaRPr>
          </a:p>
        </p:txBody>
      </p:sp>
      <p:sp>
        <p:nvSpPr>
          <p:cNvPr id="61" name="Text Box 6"/>
          <p:cNvSpPr/>
          <p:nvPr/>
        </p:nvSpPr>
        <p:spPr>
          <a:xfrm>
            <a:off x="380880" y="770040"/>
            <a:ext cx="8077320" cy="4733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Meetings November 26-28, December 3-4, and December 17-19. </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26,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 (Part On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ergy Management System (EMS) Load Frequency Control (LFC) Functionality Delivery Timelin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R727, Process for Transition to Nodal Market Protocol Sec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On November 26, TPTF approved a motion to forward TPTF comments for PRR727 to TAC as modified at TPTF on November 26, 2007. The motion carried by roll-call vote, with 100% in favor and one abstention (Coral Power). All Market Segments, except Consumers, were represented for the vote.  [At TAC’s request, due to the urgency of the issue, this vote was discussed at TAC on November 29, 2007]</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 (Part On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85, Revision of Digital Certificate Procedures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26, TPTF approved a motion to recommend approval of NPRR085 to PRS.  The motion carried by roll-call vote, with 100% in favor and one abstention (Reliant). All Market Segments, except Consumers, were represented for the vote.</a:t>
            </a:r>
            <a:endParaRPr b="0" lang="en-US" sz="1600" spc="-1" strike="noStrike">
              <a:solidFill>
                <a:srgbClr val="000000"/>
              </a:solidFill>
              <a:latin typeface="Arial"/>
            </a:endParaRPr>
          </a:p>
        </p:txBody>
      </p:sp>
      <p:sp>
        <p:nvSpPr>
          <p:cNvPr id="6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34FFE13-E103-4BF2-914C-1804305E44E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3"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 (continued)</a:t>
            </a:r>
            <a:endParaRPr b="0" lang="en-US" sz="1800" spc="-1" strike="noStrike">
              <a:solidFill>
                <a:srgbClr val="000000"/>
              </a:solidFill>
              <a:latin typeface="Arial"/>
            </a:endParaRPr>
          </a:p>
        </p:txBody>
      </p:sp>
      <p:sp>
        <p:nvSpPr>
          <p:cNvPr id="184"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8"/>
          <p:cNvSpPr/>
          <p:nvPr/>
        </p:nvSpPr>
        <p:spPr>
          <a:xfrm>
            <a:off x="380880" y="914400"/>
            <a:ext cx="8458200" cy="4468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move forward with the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1 - Settle Market for 7 Days and Provide Appropriate Extrac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2 - Verify Dispute Process of 168 Hour Tes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3 - Verify DAM Settlement State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4 - Zonal/Nodal Coordinated Settlement Opera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5 - Verify RTM Settlement State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6 - Verify RTM Settlement Invoic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7 - Verify DAM Invoic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8 - Verify CRR Auction Invoic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9 - Verify Financial Transfer and Process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10 - Verify Credit Calcula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12 - Network Operations Model and SE Performanc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13 - ERCOT Operating Personnel and Facilities Readines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7 - ERCOT Operating Personnel and Facilities Read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238A5BF-7622-4C32-9C61-71D41D60A3E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92"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 Box 9"/>
          <p:cNvSpPr/>
          <p:nvPr/>
        </p:nvSpPr>
        <p:spPr>
          <a:xfrm>
            <a:off x="380880" y="781200"/>
            <a:ext cx="8458200" cy="5266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28,  TPTF approved the MMS SCED and Real-Time MMS Processes Requirements (B2) v2.1.  The motion carried by roll-call vote, with 100% in favor and five abstentions (Brazos, City of Dallas, City of Allen, City of Eastland, and Town of Flower Mound).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December 3, TPTF approved the MIS Web Portal Requirements (B2) v1.02.  The motion carried by roll-call vote, with 100% in favor and three abstentions (First Choice Power, City of Dallas, and Town of Flower Mound). All Market Segments were represented for the vot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cknowledge TPTF completion of the following Milestones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Security Constrained Economic Dispatch (SCED) and Real-Time MMS Processes Requirements (B2) v2.1 comple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Information System (MIS) Web Portal Requirements (B2) v1.02 comp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2CD3394-FDB5-4475-9818-EF44FBAEC63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sue with TPTF Voting Spreadsheet</a:t>
            </a:r>
            <a:endParaRPr b="0" lang="en-US" sz="1800" spc="-1" strike="noStrike">
              <a:solidFill>
                <a:srgbClr val="000000"/>
              </a:solidFill>
              <a:latin typeface="Arial"/>
            </a:endParaRPr>
          </a:p>
        </p:txBody>
      </p:sp>
      <p:sp>
        <p:nvSpPr>
          <p:cNvPr id="201"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9"/>
          <p:cNvSpPr/>
          <p:nvPr/>
        </p:nvSpPr>
        <p:spPr>
          <a:xfrm>
            <a:off x="380880" y="750960"/>
            <a:ext cx="8458200" cy="3697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was brought to our attention that there was a flaw in the TPTF voting spreadsheet that impacted the votes of Consumer Sub segments under certain circumstances.</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PTF votes were reviewed.  Any ballots requiring revision are being corrected and will be reposted and distributed to TPTF.</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verall outcome of one vote was affected.  A September 28, 2006 vote on a motion by Reliant (Kevin Gresham) to strike subsection (ii) from Nodal Protocol Section 3.14.1.13(2), as proposed by NPRR 024 was reported as failing (with a 65.7% in favor) but would have passed (with a 66.7% in favor) had the votes been tallied correctly.</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the request of Nick Fehrenbach, TPTF plans to revisit the motion made by Reliant on September 28, 2006.</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ules  confirmed the votes are being tallied correctly for other voting committee spreadsheets (including T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A31EF57-1AB9-481C-833F-9E5765F31E2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210"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1EBE5F6-7C1E-4EC5-A0DD-6E8E91CA110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26 (continued)</a:t>
            </a:r>
            <a:endParaRPr b="0" lang="en-US" sz="1800" spc="-1" strike="noStrike">
              <a:solidFill>
                <a:srgbClr val="000000"/>
              </a:solidFill>
              <a:latin typeface="Arial"/>
            </a:endParaRPr>
          </a:p>
        </p:txBody>
      </p:sp>
      <p:sp>
        <p:nvSpPr>
          <p:cNvPr id="65" name="Text Box 3"/>
          <p:cNvSpPr/>
          <p:nvPr/>
        </p:nvSpPr>
        <p:spPr>
          <a:xfrm>
            <a:off x="380880" y="770040"/>
            <a:ext cx="8077320" cy="3111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November 26,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26, TPTF approved the Training Course Curriculum v3.02 incorporating modifications made at TPTF on November 26, 2007.  The motion carried by roll-call vote, with 100% in favor and seven abstentions (</a:t>
            </a:r>
            <a:r>
              <a:rPr b="0" lang="en-GB" sz="1400" spc="-1" strike="noStrike">
                <a:solidFill>
                  <a:srgbClr val="000000"/>
                </a:solidFill>
                <a:latin typeface="Arial"/>
              </a:rPr>
              <a:t>Stream Energy, </a:t>
            </a:r>
            <a:r>
              <a:rPr b="0" lang="en-US" sz="1400" spc="-1" strike="noStrike">
                <a:solidFill>
                  <a:srgbClr val="000000"/>
                </a:solidFill>
                <a:latin typeface="Arial"/>
              </a:rPr>
              <a:t>StarTex Power, Strategic Energy, Accent Energy, Cirro Group, Green Mountain Energy, and Integrys Energy </a:t>
            </a:r>
            <a:r>
              <a:rPr b="0" lang="en-US" sz="1600" spc="-1" strike="noStrike">
                <a:solidFill>
                  <a:srgbClr val="000000"/>
                </a:solidFill>
                <a:latin typeface="Arial"/>
              </a:rPr>
              <a:t>). All Market Segments, except Consumer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ercial Systems Update - Details on the Settlements of Combined Cycle Plants white paper</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Scarcity Pricing and Mitigated Offer Cap During the Period Commencing on the Nodal Market Implementation Date and Continuing For A Total Of 45 Days  </a:t>
            </a:r>
            <a:endParaRPr b="0" lang="en-US" sz="1600" spc="-1" strike="noStrike">
              <a:solidFill>
                <a:srgbClr val="000000"/>
              </a:solidFill>
              <a:latin typeface="Arial"/>
            </a:endParaRPr>
          </a:p>
        </p:txBody>
      </p:sp>
      <p:sp>
        <p:nvSpPr>
          <p:cNvPr id="66"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D1D3E25-C3C8-444E-9B13-3FB542FB960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27</a:t>
            </a:r>
            <a:endParaRPr b="0" lang="en-US" sz="1800" spc="-1" strike="noStrike">
              <a:solidFill>
                <a:srgbClr val="000000"/>
              </a:solidFill>
              <a:latin typeface="Arial"/>
            </a:endParaRPr>
          </a:p>
        </p:txBody>
      </p:sp>
      <p:sp>
        <p:nvSpPr>
          <p:cNvPr id="69" name="Text Box 3"/>
          <p:cNvSpPr/>
          <p:nvPr/>
        </p:nvSpPr>
        <p:spPr>
          <a:xfrm>
            <a:off x="380880" y="770040"/>
            <a:ext cx="8077320" cy="2622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November 27,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Scarcity Pricing and Mitigated Offer Cap During the Period Commencing on the Nodal Market Implementation Date and Continuing For A Total Of 45 Day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27, TPTF approved the draft NPRR Scarcity Pricing And Mitigated Offer Cap During the Period Commencing on the Nodal Market Implementation Date and Continuing For A Total Of 45 Days, as modified by TPTF on November 27, 2007.  The motion carried by roll-call vote, with 100% in favor and one abstention (Calpine).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p:txBody>
      </p:sp>
      <p:sp>
        <p:nvSpPr>
          <p:cNvPr id="70"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2505689-0F5D-497B-B4D6-B0D4C9C21CC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27 (continued)</a:t>
            </a:r>
            <a:endParaRPr b="0" lang="en-US" sz="1800" spc="-1" strike="noStrike">
              <a:solidFill>
                <a:srgbClr val="000000"/>
              </a:solidFill>
              <a:latin typeface="Arial"/>
            </a:endParaRPr>
          </a:p>
        </p:txBody>
      </p:sp>
      <p:sp>
        <p:nvSpPr>
          <p:cNvPr id="73" name="Text Box 3"/>
          <p:cNvSpPr/>
          <p:nvPr/>
        </p:nvSpPr>
        <p:spPr>
          <a:xfrm>
            <a:off x="380880" y="770040"/>
            <a:ext cx="8077320" cy="5505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November 27,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27, TPTF moved to delete E13 - Standard Form Agreements Executed, and to endorse ERCOT moving forward with the following metrics as modified by TPTF on November 27, 2007 in the PMO Metric Inventory for TPTF Approval at TPTF 112607 v0.2:</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5 - Nodal SAS 70 Preparednes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2 - MIS Compliance Test</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8 - QSE Ability to Submit Transactions Via MI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9 - QSE Ability to Submit Web Service Transaction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0 - Mapping of Resources to Resource Nodes and Resources to EPS Meters is Complete</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3- MP Completes EDS-4 Related Training</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P15 - MP EDS-3 Participatio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motion carried by roll-call vote, with 100% in favor and no abstentions. The Municipal, Consumer, and Independent Generator Market Segments were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27, TPTF moved to endorse ERCOT moving forward with the metric MP17, MP Qualification Activities as modified by TPTF on November 27, 2007.  The motion carried by roll-call vote, with 100% in favor and no abstentions. The Municipal, Consumer, and Independent Generator Market Segments were not represented for the vote.</a:t>
            </a:r>
            <a:endParaRPr b="0" lang="en-US" sz="1600" spc="-1" strike="noStrike">
              <a:solidFill>
                <a:srgbClr val="000000"/>
              </a:solidFill>
              <a:latin typeface="Arial"/>
            </a:endParaRPr>
          </a:p>
        </p:txBody>
      </p:sp>
      <p:sp>
        <p:nvSpPr>
          <p:cNvPr id="7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C91F6E4-0C40-4666-9626-28C38033A8D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27 (continued)</a:t>
            </a:r>
            <a:endParaRPr b="0" lang="en-US" sz="1800" spc="-1" strike="noStrike">
              <a:solidFill>
                <a:srgbClr val="000000"/>
              </a:solidFill>
              <a:latin typeface="Arial"/>
            </a:endParaRPr>
          </a:p>
        </p:txBody>
      </p:sp>
      <p:sp>
        <p:nvSpPr>
          <p:cNvPr id="77" name="Text Box 3"/>
          <p:cNvSpPr/>
          <p:nvPr/>
        </p:nvSpPr>
        <p:spPr>
          <a:xfrm>
            <a:off x="380880" y="770040"/>
            <a:ext cx="8077320" cy="223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November 27,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C Tie Issu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Settlement of Power Imported via DC Ties an Block Load Transfer Under Emergency Condition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 (Part Two)</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W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p:txBody>
      </p:sp>
      <p:sp>
        <p:nvSpPr>
          <p:cNvPr id="78"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3606B65-1766-4B0E-BBBF-43C169994F3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28</a:t>
            </a:r>
            <a:endParaRPr b="0" lang="en-US" sz="1800" spc="-1" strike="noStrike">
              <a:solidFill>
                <a:srgbClr val="000000"/>
              </a:solidFill>
              <a:latin typeface="Arial"/>
            </a:endParaRPr>
          </a:p>
        </p:txBody>
      </p:sp>
      <p:sp>
        <p:nvSpPr>
          <p:cNvPr id="81" name="Text Box 3"/>
          <p:cNvSpPr/>
          <p:nvPr/>
        </p:nvSpPr>
        <p:spPr>
          <a:xfrm>
            <a:off x="380880" y="770040"/>
            <a:ext cx="8077320" cy="4113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November 2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for CRR Business Proces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lanation of MMS Market Submission Item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SCED and Overall System Requirement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November 28,  TPTF approved the MMS SCED and Real-Time MMS Processes Requirements (B2) v2.1.  The motion carried by roll-call vote, with 100% in favor and five abstentions (Brazos, City of Dallas, City of Allen, City of Eastland, and Town of Flower Mound).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itial Review of the EDS 4 Approach Documen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Draft NPRR, Scarcity Pricing and Mitigated Offer Cap During the Period Commencing on the Nodal Market Implementation Date and Continuing For A Total Of 45 Day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 on the COMS Verifiable Cost Manual</a:t>
            </a:r>
            <a:endParaRPr b="0" lang="en-US" sz="1600" spc="-1" strike="noStrike">
              <a:solidFill>
                <a:srgbClr val="000000"/>
              </a:solidFill>
              <a:latin typeface="Arial"/>
            </a:endParaRPr>
          </a:p>
        </p:txBody>
      </p:sp>
      <p:sp>
        <p:nvSpPr>
          <p:cNvPr id="82"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BF86209-6905-4AEA-811B-36621568BD9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December 3</a:t>
            </a:r>
            <a:endParaRPr b="0" lang="en-US" sz="1800" spc="-1" strike="noStrike">
              <a:solidFill>
                <a:srgbClr val="000000"/>
              </a:solidFill>
              <a:latin typeface="Arial"/>
            </a:endParaRPr>
          </a:p>
        </p:txBody>
      </p:sp>
      <p:sp>
        <p:nvSpPr>
          <p:cNvPr id="85" name="Text Box 3"/>
          <p:cNvSpPr/>
          <p:nvPr/>
        </p:nvSpPr>
        <p:spPr>
          <a:xfrm>
            <a:off x="380880" y="770040"/>
            <a:ext cx="8077320" cy="4266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December 3,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 Artifact Schedul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S Portal Requirements updated through Baseline 2</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December 3, TPTF approved the MIS Web Portal Requirements (B2) v1.02.  The motion carried by roll-call vote, with 100% in favor and three abstentions (First Choice Power, City of Dallas, and Town of Flower Mound).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89, Changing Posting Requirement of Certain Documents from MIS Secure to MIS Public Area</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 of Systems Architecture (SoSA)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A-ERCOT Data Dictionar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A punch list update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 Interface Subgroup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rastructure Projec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Participant Identity Management Update</a:t>
            </a:r>
            <a:endParaRPr b="0" lang="en-US" sz="1600" spc="-1" strike="noStrike">
              <a:solidFill>
                <a:srgbClr val="000000"/>
              </a:solidFill>
              <a:latin typeface="Arial"/>
            </a:endParaRPr>
          </a:p>
        </p:txBody>
      </p:sp>
      <p:sp>
        <p:nvSpPr>
          <p:cNvPr id="86"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rip Doggett</cp:lastModifiedBy>
  <dcterms:modified xsi:type="dcterms:W3CDTF">2007-12-28T23:03:00Z</dcterms:modified>
  <cp:revision>926</cp:revision>
  <dc:subject/>
  <dc:title>TAC Update</dc:title>
</cp:coreProperties>
</file>