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.png" ContentType="image/png"/>
  <Override PartName="/ppt/media/image4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3FA1-FC0D-4949-9200-45FDB0F4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A2F1-3BCA-485D-9B20-9616A490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C6D1-C005-4660-A7F9-A01B4A6B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F3C4-4252-4554-A23F-B27BE56B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C6CF-764A-445A-ADB9-15A654A2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1945-609F-4C22-A683-0893C7A0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54A6-5F26-4AC1-A662-9E3F08E5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4256-15B5-415E-8C0E-5CE9E944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119B-E2FD-4BE2-A33D-B5A5FE24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D744-E58A-4D22-A607-B1F9FE2A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A8A2-7861-40F5-8A62-09878BE4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597B-0073-4478-B9DA-500EE872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276B-4078-47B4-8AE3-80471AE8D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3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EF7F-9C2C-4D8F-8D16-B9548B863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nuary 3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C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8.png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xas Nodal Program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erry Sulliva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6840" y="984240"/>
            <a:ext cx="3433680" cy="528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verall program status remains amber 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660240" y="1727280"/>
            <a:ext cx="3768840" cy="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0240" y="1427040"/>
            <a:ext cx="0" cy="3096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394160" y="731880"/>
            <a:ext cx="2616120" cy="1592280"/>
            <a:chOff x="4394160" y="731880"/>
            <a:chExt cx="2616120" cy="159228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429080" y="731880"/>
              <a:ext cx="235260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56280" y="1371600"/>
              <a:ext cx="861840" cy="6858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od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13480" y="746280"/>
              <a:ext cx="76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94160" y="190008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8520" y="1760400"/>
              <a:ext cx="76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378480" y="2324160"/>
            <a:ext cx="2705040" cy="3924360"/>
          </a:xfrm>
          <a:prstGeom prst="rect">
            <a:avLst/>
          </a:prstGeom>
          <a:solidFill>
            <a:srgbClr val="73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7480" y="2324160"/>
            <a:ext cx="2347920" cy="3924360"/>
          </a:xfrm>
          <a:prstGeom prst="rect">
            <a:avLst/>
          </a:prstGeom>
          <a:solidFill>
            <a:srgbClr val="73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2960" y="2324160"/>
            <a:ext cx="2970000" cy="3924360"/>
          </a:xfrm>
          <a:prstGeom prst="rect">
            <a:avLst/>
          </a:prstGeom>
          <a:solidFill>
            <a:srgbClr val="73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/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60" y="4957920"/>
            <a:ext cx="9007560" cy="1131840"/>
          </a:xfrm>
          <a:prstGeom prst="rect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960" y="5224320"/>
            <a:ext cx="8791560" cy="247680"/>
          </a:xfrm>
          <a:prstGeom prst="rect">
            <a:avLst/>
          </a:prstGeom>
          <a:solidFill>
            <a:srgbClr val="cc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080" y="3276720"/>
            <a:ext cx="9007560" cy="1681200"/>
          </a:xfrm>
          <a:prstGeom prst="rect">
            <a:avLst/>
          </a:prstGeom>
          <a:solidFill>
            <a:srgbClr val="a6c0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04760" y="2846520"/>
            <a:ext cx="1140120" cy="353880"/>
          </a:xfrm>
          <a:prstGeom prst="rect">
            <a:avLst/>
          </a:prstGeom>
          <a:blipFill rotWithShape="0">
            <a:blip r:embed="rId3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76960" y="3571920"/>
            <a:ext cx="27655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 project to date costs are under budget.  However, the latest forecasted spending in 2008 indicates we may be over the 10% threshold. The focus on finding efficiencies and savings without compromising quality or deferring / delaying protocol intents.  We will work with TPTF on these issues. May ask for increased contingency for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34040" y="2846520"/>
            <a:ext cx="1639800" cy="353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27840" y="2846520"/>
            <a:ext cx="1682640" cy="353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9960" y="3754440"/>
            <a:ext cx="12697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fully aligned with protoc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working with TPTF on any possible defer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1960" y="5224320"/>
            <a:ext cx="555840" cy="247680"/>
          </a:xfrm>
          <a:prstGeom prst="rect">
            <a:avLst/>
          </a:prstGeom>
          <a:solidFill>
            <a:srgbClr val="cc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960" y="5494320"/>
            <a:ext cx="555840" cy="247680"/>
          </a:xfrm>
          <a:prstGeom prst="rect">
            <a:avLst/>
          </a:prstGeom>
          <a:solidFill>
            <a:srgbClr val="ff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960" y="5765760"/>
            <a:ext cx="555840" cy="222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0240" y="5765760"/>
            <a:ext cx="8423280" cy="247680"/>
          </a:xfrm>
          <a:prstGeom prst="rect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7280" y="5486400"/>
            <a:ext cx="8796240" cy="247680"/>
          </a:xfrm>
          <a:prstGeom prst="rect">
            <a:avLst/>
          </a:prstGeom>
          <a:solidFill>
            <a:srgbClr val="ff993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5280" y="5770440"/>
            <a:ext cx="24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imate at Complete = &lt;$263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5280" y="5494320"/>
            <a:ext cx="24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timate at Complete = &lt; $263m + 1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56400" y="5218200"/>
            <a:ext cx="218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imate a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= &gt;$263m + 1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35440" y="5780160"/>
            <a:ext cx="21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-live =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/1/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36880" y="5504040"/>
            <a:ext cx="218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-live = &l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ays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8680" y="5227560"/>
            <a:ext cx="21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-live = &gt;30 days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9960" y="5722920"/>
            <a:ext cx="13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 is aligned with current protoc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3920" y="5454720"/>
            <a:ext cx="150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 is aligned to previous protocol 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400" y="518004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 is not aligned to protoc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49640" y="3395520"/>
            <a:ext cx="157788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480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5200" y="2846520"/>
            <a:ext cx="1140120" cy="353880"/>
          </a:xfrm>
          <a:prstGeom prst="rect">
            <a:avLst/>
          </a:prstGeom>
          <a:blipFill rotWithShape="0">
            <a:blip r:embed="rId4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268800"/>
            <a:ext cx="0" cy="289404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2160" y="5176800"/>
            <a:ext cx="151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rrent product quality is not sufficient for Nodal laun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01680" y="5450040"/>
            <a:ext cx="16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t Nodal products currently achieve quality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01680" y="5722920"/>
            <a:ext cx="16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Nodal products currently achieve quality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33800" y="3565440"/>
            <a:ext cx="216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48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around the importing and exporting of the Network Model (CIM Importer / Exporter) are greatest threat to project schedule at this time. Much progress has been made in last two weeks (since TPTF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46320" y="3505320"/>
            <a:ext cx="1725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48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results are being managed in Quality Center and results are being used to track defects for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20D2-EE2F-4CDE-9E14-5CFA0F3C37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NMIP – Various ways in which we’ve measured statu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306600" y="1487520"/>
            <a:ext cx="2692440" cy="4143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09560" y="852480"/>
            <a:ext cx="2063520" cy="1324440"/>
            <a:chOff x="709560" y="852480"/>
            <a:chExt cx="2063520" cy="132444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736920" y="852480"/>
              <a:ext cx="185580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310760" y="1326240"/>
              <a:ext cx="679680" cy="5079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od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70040" y="862920"/>
              <a:ext cx="60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9560" y="1717920"/>
              <a:ext cx="601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72240" y="1614240"/>
              <a:ext cx="60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12800" y="2581200"/>
            <a:ext cx="2016000" cy="172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45" name=""/>
          <p:cNvGrpSpPr/>
          <p:nvPr/>
        </p:nvGrpSpPr>
        <p:grpSpPr>
          <a:xfrm>
            <a:off x="3378240" y="2560680"/>
            <a:ext cx="2247840" cy="1785960"/>
            <a:chOff x="3378240" y="2560680"/>
            <a:chExt cx="2247840" cy="1785960"/>
          </a:xfrm>
        </p:grpSpPr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3378240" y="2560680"/>
              <a:ext cx="22478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138920" y="3201840"/>
              <a:ext cx="114120" cy="100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70760" y="3201840"/>
              <a:ext cx="114120" cy="100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99360" y="3201840"/>
              <a:ext cx="114120" cy="100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45880" y="3185640"/>
              <a:ext cx="185400" cy="146160"/>
            </a:xfrm>
            <a:prstGeom prst="rect">
              <a:avLst/>
            </a:prstGeom>
            <a:solidFill>
              <a:srgbClr val="faf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0800000">
              <a:off x="3870720" y="3192120"/>
              <a:ext cx="146160" cy="110160"/>
            </a:xfrm>
            <a:prstGeom prst="triangle">
              <a:avLst>
                <a:gd name="adj" fmla="val 50000"/>
              </a:avLst>
            </a:prstGeom>
            <a:solidFill>
              <a:srgbClr val="fad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698400" y="4502160"/>
            <a:ext cx="2276640" cy="1706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6134040" y="627120"/>
            <a:ext cx="2747880" cy="16477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6137280" y="2552760"/>
            <a:ext cx="2247840" cy="1785960"/>
            <a:chOff x="6137280" y="2552760"/>
            <a:chExt cx="2247840" cy="1785960"/>
          </a:xfrm>
        </p:grpSpPr>
        <p:pic>
          <p:nvPicPr>
            <p:cNvPr id="155" name="" descr=""/>
            <p:cNvPicPr/>
            <p:nvPr/>
          </p:nvPicPr>
          <p:blipFill>
            <a:blip r:embed="rId7"/>
            <a:stretch/>
          </p:blipFill>
          <p:spPr>
            <a:xfrm>
              <a:off x="6137280" y="2552760"/>
              <a:ext cx="22478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6897960" y="3193920"/>
              <a:ext cx="114120" cy="100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29800" y="3193920"/>
              <a:ext cx="114120" cy="100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58400" y="3193920"/>
              <a:ext cx="114120" cy="100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04920" y="3177720"/>
              <a:ext cx="185400" cy="146160"/>
            </a:xfrm>
            <a:prstGeom prst="rect">
              <a:avLst/>
            </a:prstGeom>
            <a:solidFill>
              <a:srgbClr val="faf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6629760" y="3184200"/>
              <a:ext cx="146160" cy="110160"/>
            </a:xfrm>
            <a:prstGeom prst="triangle">
              <a:avLst>
                <a:gd name="adj" fmla="val 50000"/>
              </a:avLst>
            </a:prstGeom>
            <a:solidFill>
              <a:srgbClr val="fad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539040" y="3543480"/>
            <a:ext cx="59364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08800" y="3054240"/>
            <a:ext cx="2728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02520" y="3044880"/>
            <a:ext cx="273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440" y="716040"/>
            <a:ext cx="7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63880" y="7160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7960" y="7160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3494160" y="4546440"/>
            <a:ext cx="2286000" cy="1524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2560" y="21906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24360" y="2190600"/>
            <a:ext cx="7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48440" y="21906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9040" y="42670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30480" y="42670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33960" y="4564080"/>
            <a:ext cx="282276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are examples of various communications graphics to illustrate the status of Noda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eb page scorecard (graphic 4, 5, 6) provides the best tool for detailed, objective metrics on quality and schedule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other items 1, 2, 3, 7 and 8 provide other ways to gauge status, schedule and cost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787F-EDAA-4F8C-833B-4D0E73948B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996160" y="66600"/>
            <a:ext cx="3024000" cy="465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048360" y="47520"/>
            <a:ext cx="609480" cy="52416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We are proactively managing primary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Nodal Delivery “ABB”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20840" y="1351080"/>
          <a:ext cx="8415360" cy="4465440"/>
        </p:xfrm>
        <a:graphic>
          <a:graphicData uri="http://schemas.openxmlformats.org/drawingml/2006/table">
            <a:tbl>
              <a:tblPr/>
              <a:tblGrid>
                <a:gridCol w="1769760"/>
                <a:gridCol w="2235240"/>
                <a:gridCol w="2133720"/>
                <a:gridCol w="2276640"/>
              </a:tblGrid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comic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comic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comic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5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Resources will perform more of the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B Does Value Engineer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o it smart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/ ABB / MP Revise detail des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ange approach of design, not require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 o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s ABB hours and lowers co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s ABB hours and lowers co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s ABB hours and lowers co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 on Schedu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ables 4/22/08 delivery to F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ables 4/22/08 delivery to F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ables 4/22/08 delivery to F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 on Confid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s confid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s confid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indent="-109440" algn="ctr"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s confid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295800" y="3059280"/>
            <a:ext cx="225360" cy="466560"/>
          </a:xfrm>
          <a:prstGeom prst="downArrow">
            <a:avLst>
              <a:gd name="adj1" fmla="val 50000"/>
              <a:gd name="adj2" fmla="val 5175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40240" y="3027240"/>
            <a:ext cx="225360" cy="466920"/>
          </a:xfrm>
          <a:prstGeom prst="downArrow">
            <a:avLst>
              <a:gd name="adj1" fmla="val 50000"/>
              <a:gd name="adj2" fmla="val 5179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9640" y="3025800"/>
            <a:ext cx="225360" cy="466560"/>
          </a:xfrm>
          <a:prstGeom prst="downArrow">
            <a:avLst>
              <a:gd name="adj1" fmla="val 50000"/>
              <a:gd name="adj2" fmla="val 5175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35440" y="4183200"/>
            <a:ext cx="914400" cy="274680"/>
          </a:xfrm>
          <a:prstGeom prst="leftArrow">
            <a:avLst>
              <a:gd name="adj1" fmla="val 50000"/>
              <a:gd name="adj2" fmla="val 8322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4162320"/>
            <a:ext cx="914400" cy="274680"/>
          </a:xfrm>
          <a:prstGeom prst="leftArrow">
            <a:avLst>
              <a:gd name="adj1" fmla="val 50000"/>
              <a:gd name="adj2" fmla="val 8322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45360" y="4105440"/>
            <a:ext cx="914400" cy="27432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19560" y="4992840"/>
            <a:ext cx="218880" cy="439560"/>
          </a:xfrm>
          <a:prstGeom prst="upArrow">
            <a:avLst>
              <a:gd name="adj1" fmla="val 50000"/>
              <a:gd name="adj2" fmla="val 5020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46720" y="4962600"/>
            <a:ext cx="218880" cy="439560"/>
          </a:xfrm>
          <a:prstGeom prst="upArrow">
            <a:avLst>
              <a:gd name="adj1" fmla="val 50000"/>
              <a:gd name="adj2" fmla="val 5020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81960" y="4957920"/>
            <a:ext cx="218880" cy="439560"/>
          </a:xfrm>
          <a:prstGeom prst="upArrow">
            <a:avLst>
              <a:gd name="adj1" fmla="val 50000"/>
              <a:gd name="adj2" fmla="val 5020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80000" y="304632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24800" y="30160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44200" y="302256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56960" y="4041720"/>
            <a:ext cx="132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68280" y="4019400"/>
            <a:ext cx="132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5440" y="3959280"/>
            <a:ext cx="132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80BA-9CBD-4000-84B4-EFB0AE7ECAC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MS Project has plan to deliver quality product that meets requirements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471600"/>
          <a:ext cx="9144000" cy="58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1600"/>
                    <a:ext cx="9144000" cy="58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0E0B-4955-4C5A-A861-5D9E015E8A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8880" y="12384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cts working hard to deliver to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4920" y="779400"/>
          <a:ext cx="8534160" cy="5160960"/>
        </p:xfrm>
        <a:graphic>
          <a:graphicData uri="http://schemas.openxmlformats.org/drawingml/2006/table">
            <a:tbl>
              <a:tblPr/>
              <a:tblGrid>
                <a:gridCol w="961920"/>
                <a:gridCol w="7572240"/>
              </a:tblGrid>
              <a:tr h="307080">
                <a:tc>
                  <a:txBody>
                    <a:bodyPr lIns="45720" rIns="183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5720" rIns="1836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hievements and Outl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79040">
                <a:tc>
                  <a:txBody>
                    <a:bodyPr lIns="45720" rIns="1836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18360" tIns="46800" bIns="46800" anchor="t">
                      <a:noAutofit/>
                    </a:bodyPr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int-to-point check out 99%, 1% error rate; 1 MP outstanding (Extend) due to MP ICCP server implement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 tuning progressing in the right direction, but lack of combined cycle and data error handling causing issues. Convergence rate at 50 MW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ED is executing and publishing LMPs to market participants through MIS and ICCP.  Issue analysis on-going. MPs encouraged to bring up LMPs questions on weekly EDS 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rking with TPTF on LMP reasonableness understan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45720" rIns="1836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18360" tIns="46800" bIns="46800" anchor="t">
                      <a:noAutofit/>
                    </a:bodyPr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Release 2 (DAM &amp; RUC) is in FAT at ERCOT – Planned to deploy to EDS in Jan 2008 on 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on CIM Importer issues with ERCOT and other vendor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functionality required for 168-hour test scheduled to enter FAT by 4/22/08 and to clear FAT by 6/30/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45720" rIns="1836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18360" tIns="46800" bIns="46800" anchor="t">
                      <a:noAutofit/>
                    </a:bodyPr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e product is in FAT at ERCOT – Planned to deploy to EDS in late Jan 2008 or early Feb 2008 based on HW and FAT comple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start of EDS CRR auction in Feb 200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45720" rIns="1836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18360" tIns="46800" bIns="46800" anchor="t">
                      <a:noAutofit/>
                    </a:bodyPr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Release 3A, 3B and 5.7 OS upgrade completed FAT with defec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ng to EDS for start of LFC (Release 6) testing in early Jan 2008 (on schedul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on CIM exporter and Importer issues with ERCOT and other vendo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45720" rIns="1836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18360" tIns="46800" bIns="46800" anchor="t">
                      <a:noAutofit/>
                    </a:bodyPr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ment &amp; Billing (core calculations) in FAT at ERCOT, iteration 2 planned FAT release in Jan 2008, on schedul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M (core credit calculations) completed FAT at ERCOT with defects (all fixed or deferred). On schedule to deliver to i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5720" rIns="1836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18360" tIns="46800" bIns="46800" anchor="t">
                      <a:noAutofit/>
                    </a:bodyPr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IM 1.0 Released to Sandbox, and MP training deliver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MPIM release 1.5 progressing on 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45720" rIns="1836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18360" tIns="46800" bIns="46800" anchor="t">
                      <a:noAutofit/>
                    </a:bodyPr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User Interface development in progress, but schedule is tight and date may be threatened, workaround avail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MIS releases scheduled corresponding to application relea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45720" rIns="1836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18360" tIns="46800" bIns="46800" anchor="t">
                      <a:noAutofit/>
                    </a:bodyPr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/RUC data submissions in FAT at ERCOT – on target deployment to EDS in Jan 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45720" rIns="1836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18360" tIns="46800" bIns="46800" anchor="t">
                      <a:noAutofit/>
                    </a:bodyPr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 testing running late due to Citrix issues (new security layer). Start of Market Trials may be threaten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 Importer issues continues to be addressed with ERCOT and other vendors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45720" rIns="1836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ess Metr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18360" tIns="46800" bIns="46800" anchor="t">
                      <a:noAutofit/>
                    </a:bodyPr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und Market Participant and ERCOT Executive readiness self-reporting completed.  Results will be published within the week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45720" rIns="1836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18360" tIns="46800" bIns="46800" anchor="t">
                      <a:noAutofit/>
                    </a:bodyPr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of 15 courses now available for enrollment (Instructor-led ). New December releases: NOIE QSE Operations, Settl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t 4000 individuals have attended training sess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996160" y="66600"/>
            <a:ext cx="3024000" cy="465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048360" y="47520"/>
            <a:ext cx="609480" cy="524160"/>
          </a:xfrm>
          <a:prstGeom prst="ellipse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14280" y="5983200"/>
            <a:ext cx="852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Both near-term Jan 15 and long-term Dec 1 goals are threatened, but achiev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D90E-0657-44EF-901F-B94C518AA2C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udget Update - Cost Element Summar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996160" y="66600"/>
            <a:ext cx="3024000" cy="465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37200" y="38160"/>
            <a:ext cx="609840" cy="52380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071720" y="1098720"/>
            <a:ext cx="690696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9F5C-89AF-4D7D-A66D-4FA04AB7B6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996160" y="66600"/>
            <a:ext cx="3024000" cy="465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037200" y="38160"/>
            <a:ext cx="609840" cy="52380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udget Update – Project Summar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739880" y="868320"/>
            <a:ext cx="5722920" cy="522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A5CA-0432-4141-A99A-9B23D5515D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udget Update – Latest Forecast of Spend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&amp; Anticipated Requiremen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96160" y="66600"/>
            <a:ext cx="3024000" cy="465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37200" y="38160"/>
            <a:ext cx="609840" cy="52380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455840" y="1273320"/>
            <a:ext cx="6448320" cy="420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6A55-72B8-47FE-AF66-15A522DFDA0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chudgar</cp:lastModifiedBy>
  <dcterms:modified xsi:type="dcterms:W3CDTF">2007-12-28T20:25:32Z</dcterms:modified>
  <cp:revision>829</cp:revision>
  <dc:subject/>
  <dc:title>Texas Nodal Market Implementation ERCOT Board of Directors Meeting Budget Rationale October 17, 2006  Kathy Hager, Market Redesign Program Director </dc:title>
</cp:coreProperties>
</file>