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B44-3C33-4FF1-8523-058E9BB3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TRE_Compliance_Enforcement_Program_Implementation_Plan_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January 2008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QSE PRR 525 10-Minute Interval Scoring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5080" y="990720"/>
            <a:ext cx="8673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November 2007 – SCPS2 Scores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296"/>
                </a:solidFill>
                <a:latin typeface="Arial Black"/>
              </a:rPr>
              <a:t>November 2007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2280" y="949320"/>
            <a:ext cx="87631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Registration Activities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 registration issues continue to be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ing-Selling Entity (PSE) reg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itially, registration notices sent to 33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istration criteria u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operates as a Qualified Scheduling Entity (QSE) in the ERCOT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shown on NERC TSIN (Transmission Service Information Network) Li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tity schedules transactions across a HVDC t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SE registration being rem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-Serving Entity (LSE) registration to be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Registration of some entities lik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NERC Functional Entity Types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Compliance Process Flowcharts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2008 Audits by Registered Function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2008 Compliance Audits Scheduled by Entity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2008 Audit Schedule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Compliance Reviews of Events by Month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Performance Highligh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November – 112.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res for November indicate 34 non-wind-only QSEs passed and 1 non-wind-only QSE failed the PRR 525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Violations of ERCOT Protocols</a:t>
            </a:r>
            <a:r>
              <a:rPr b="0" lang="en-US" sz="1900" spc="-1" strike="noStrike">
                <a:solidFill>
                  <a:srgbClr val="00329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153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5 Total Registered 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4% overall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standing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ity is challenging their regist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ate, 25 alleged violations identified (September, October, &amp; Novemb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AC-008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FAC-009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IP-001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G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RO-004 – lack docum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 GOs; 1 G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RC-005 – relay maintenance delin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TO; 2 G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296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50368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434340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4305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NERC Standards Self-Reported Violations</a:t>
            </a:r>
            <a:br>
              <a:rPr sz="2000"/>
            </a:b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Risk Factors for Self-Reported NERC Standards Violations  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NERC Standards Self-Reported Violation Categorization Pre-June 18</a:t>
            </a:r>
            <a:r>
              <a:rPr b="0" lang="en-US" sz="2000" spc="-1" strike="noStrike" baseline="30000">
                <a:solidFill>
                  <a:srgbClr val="003296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Texas RE Monthly Summary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vember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new alleg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 new alleged – all resulting from entity self-certif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Compliance Review in final st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 new events reported – Compliance Reviews initi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NERC Spot-Checks Init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approved th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RE 2008 Compliance Enforcement Program Implementation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NERC CPS1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vember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:  112.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:  131.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2006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7:  128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2005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6:  142.77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ores for November indicate 34 non-wind-only QSEs passed and 1 non-wind-only QSE failed the mea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 CPS1 Performance Comparison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296"/>
                </a:solidFill>
                <a:latin typeface="Arial Black"/>
              </a:rPr>
              <a:t>ERCOT CPS1 Year-to-Year Comparison</a:t>
            </a:r>
            <a:endParaRPr b="0" lang="en-US" sz="2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’s CPS1 Monthly Performance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ERCOT CPS1 by Interval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12-19T22:15:56Z</dcterms:modified>
  <cp:revision>963</cp:revision>
  <dc:subject/>
  <dc:title>PRR 525 Compliance Analysis</dc:title>
</cp:coreProperties>
</file>