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56D-3E96-4DF1-B645-678B557E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B6A-CCF6-49FE-9807-D40D6C37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C7E-E273-43B1-BBB8-E3CA7C2F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2C9-3BF1-4920-956F-C1CF44AF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E51-0363-4134-8385-F02ECADB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98A-FAFD-4A03-A017-C100BCF3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207-941C-4A71-92C8-239CB255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6C8-CEA6-49F4-B3B0-ED789DEF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D74-E270-4B34-B925-1E06899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E04-8E59-4165-B82E-CF24CE1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273-6963-4838-8C15-8F74AF60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74520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894-806B-4507-A85B-12C5BCAE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00A8-DF66-43D3-A50B-83F04798E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28127" t="0" r="45313" b="0"/>
          <a:stretch/>
        </p:blipFill>
        <p:spPr>
          <a:xfrm>
            <a:off x="0" y="0"/>
            <a:ext cx="1512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772400" cy="990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OS Report to TA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3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 N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Meeting – December 6, 200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discussed commercial operations of the DC Ties with C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reviewed results from Wind Power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reviewed EDS2 observability and ERCOT’s request for additional data related to 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GRR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ek approval at February 2008 TAC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2007 Accomplish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d ERCOT System Operations, EECP events and other significant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ERCOT load flow, stability and short circuit data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rafted existing ERCOT Operating Guides to conform to the nod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manual point-to-point check out of ERCOT Network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2007 Accomplish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d various PRRs related to E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d multiple workshops for Telemetry Standards and State Estimator Perform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the results from the pilot program to use controllable load as responsive reserve conducted by ERCOT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the Wind Ancillary Servic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96080" cy="6094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2007 Accomplish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temperature dependent responsive reserve reduc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TRE’s development of regional standards draf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ered process to map requirements in NERC Standards to ERCOT Protocols and Operating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5:53:54Z</dcterms:created>
  <dc:creator>sschneid</dc:creator>
  <dc:description/>
  <dc:language>en-US</dc:language>
  <cp:lastModifiedBy>LCRA Employee</cp:lastModifiedBy>
  <dcterms:modified xsi:type="dcterms:W3CDTF">2008-01-03T01:50:55Z</dcterms:modified>
  <cp:revision>50</cp:revision>
  <dc:subject/>
  <dc:title>Slide 1</dc:title>
</cp:coreProperties>
</file>