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8A96-6CC6-4FE7-ABEC-0C4B0554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5E11-FDA5-4ED3-A8AA-FF408D5D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974C-C7A2-4D58-BA84-64C66043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95EC-C925-417A-A4D0-273A0696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02CB-3718-4889-BE90-F1389C33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6092-2F5B-4034-A213-650C4C4D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7653B-D7B4-4C1B-B01E-146CD1F3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EB8B-F98C-4A4C-9EF0-2B784783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A15B-028B-40C6-9593-3CAE4B08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11FC2-62A5-4AA0-9281-8054713F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4097F-68C9-425D-A83A-7F2C8627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63FB-A56C-45DD-B255-9D8FE484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ED84-F44B-481F-92F3-5764ECC51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redit update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WG activity over the last six mon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WG activity for upcoming six mon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coming BOD credit pres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WG discussion re:  guarant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WG activity over the last six month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d with OW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input to RFP Scope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feedback on respon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 for two full day sessions to review assumptions and provide input for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group researched other risk mitigation meas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d Creditworthiness 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d CWG Cha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ed PRRs and NPRRs for credit im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WG activity for upcoming six month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ion of new Chair and Vice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going involvement in Oliver Wyman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reliminary results in January – date T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Nodal credit requirements for CRRs in light of PJM ev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group researching other risk mitigation measures - ongo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d Creditworthiness Standards - ongo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Upcoming BOD credit presen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n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Feb 1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as part of BOD Nodal review, will discuss credit approach for Nod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 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F&amp;A Committee to review OW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 1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Expect to present OW results to full BOD at their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WG discussion re:  guarante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consensus tha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mount of discount should be applied to guaran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 results of OW capital adequacy study would be helpful in determining “how mu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 form sho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an evergreen 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preclude an “unlimited” guaran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ed a requirement that all entities that have a parent entity should provide some level of guarantee above the EAL requireme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“close out”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otential future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lbracht</cp:lastModifiedBy>
  <dcterms:modified xsi:type="dcterms:W3CDTF">2008-01-03T15:35:36Z</dcterms:modified>
  <cp:revision>26</cp:revision>
  <dc:subject/>
  <dc:title>Instructions</dc:title>
</cp:coreProperties>
</file>