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CF655-CB6E-4E8A-88FA-19E045FEF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AC200-7119-484A-92A7-C0B48C2EE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B3F1D-8B9F-49E5-8C6F-19B6DF5F3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D7E9C-BB71-4D17-8EF2-65A6747B7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433E57-F88E-4B99-ACC7-D627CB5C1F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20232-C760-41BE-855C-C4EA9B6F3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1667E-FA12-4722-BFB0-830F5EAEF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FF0D2-D6B4-436C-B4B9-39C51EF30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07E81-40BC-45F7-80A1-3CC65D18B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452AE-B970-4679-85B9-CDEEC6152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C110A-9EEC-47FD-B3DE-47BAEAABA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16A8A-AAF9-4099-82E9-B46FCCD7C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8F86E-3020-4DA8-8FB1-92B8DCAAF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E8003-E2F0-437E-A79C-C2993C6F5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880A1-675B-4BC6-ADFA-6710CB463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879673-1DCA-4D5A-AF78-E24E983F60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CA5F8B-646D-4933-8DF5-9350CEBFAB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BF00D-53CA-4F32-AAE0-131FC537C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634A9-81BB-4351-9C5F-77D3A7300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BF7C4-99AF-4A0A-8ACE-05A158C8D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91E68-FF26-4988-B8B0-73FC94F6F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70B22-9B4C-4FAC-9170-DFC9129DF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3E836-75BB-4056-828B-F1D088CF7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B1F6A-D2A4-4B8A-A15F-F27271D73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5B337-E0F7-4A9E-9566-2BFE376E31F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69795-BA90-4811-9DD7-58B4EA670385}"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RMS Update to TAC</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anuary 3, 200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7 Accomplishments</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tail Market Guide Revisions</a:t>
            </a:r>
            <a:endParaRPr b="0" lang="en-US" sz="2800" spc="-1" strike="noStrike">
              <a:solidFill>
                <a:srgbClr val="ffffff"/>
              </a:solidFill>
              <a:latin typeface="Tahoma"/>
            </a:endParaRPr>
          </a:p>
          <a:p>
            <a:pPr lvl="1" marL="727920" indent="-2800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50 Mass Transition Process for Events Initiated Prior to a Weekend or ERCOT Holiday and Additional Clarifications </a:t>
            </a:r>
            <a:endParaRPr b="0" lang="en-US" sz="2400" spc="-1" strike="noStrike">
              <a:solidFill>
                <a:srgbClr val="ffffff"/>
              </a:solidFill>
              <a:latin typeface="Tahoma"/>
            </a:endParaRPr>
          </a:p>
          <a:p>
            <a:pPr lvl="1" marL="727920" indent="-2800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51 ERCOT Template- ESI IDs for Gaining CR/TDSP Use </a:t>
            </a:r>
            <a:endParaRPr b="0" lang="en-US" sz="2400" spc="-1" strike="noStrike">
              <a:solidFill>
                <a:srgbClr val="ffffff"/>
              </a:solidFill>
              <a:latin typeface="Tahoma"/>
            </a:endParaRPr>
          </a:p>
          <a:p>
            <a:pPr lvl="1" marL="727920" indent="-2800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52 File naming convention for Customer Billing Info.</a:t>
            </a:r>
            <a:endParaRPr b="0" lang="en-US" sz="2400" spc="-1" strike="noStrike">
              <a:solidFill>
                <a:srgbClr val="ffffff"/>
              </a:solidFill>
              <a:latin typeface="Tahoma"/>
            </a:endParaRPr>
          </a:p>
          <a:p>
            <a:pPr lvl="1" marL="727920" indent="-2800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53 Conforming RMG to Section 21 and other Guides.</a:t>
            </a:r>
            <a:endParaRPr b="0" lang="en-US" sz="2400" spc="-1" strike="noStrike">
              <a:solidFill>
                <a:srgbClr val="ffffff"/>
              </a:solidFill>
              <a:latin typeface="Tahoma"/>
            </a:endParaRPr>
          </a:p>
          <a:p>
            <a:pPr lvl="1" marL="727920" indent="-2800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54 Provision of Customer Billing Info to TDSP’s during Mass Transition event. (Revised by 058).</a:t>
            </a:r>
            <a:endParaRPr b="0" lang="en-US" sz="2400" spc="-1" strike="noStrike">
              <a:solidFill>
                <a:srgbClr val="ffffff"/>
              </a:solidFill>
              <a:latin typeface="Tahoma"/>
            </a:endParaRPr>
          </a:p>
          <a:p>
            <a:pPr lvl="1" marL="727920" indent="-2800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55 Transaction Timings: Synchs Matrix with PRR672, 693 and 707. Removes “Drop to AREP” references.</a:t>
            </a:r>
            <a:endParaRPr b="0" lang="en-US" sz="2400" spc="-1" strike="noStrike">
              <a:solidFill>
                <a:srgbClr val="ffffff"/>
              </a:solidFill>
              <a:latin typeface="Tahoma"/>
            </a:endParaRPr>
          </a:p>
          <a:p>
            <a:pPr lvl="1" marL="727920" indent="-2800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ding: 059 Inadvertent Gain; 060 Mandatory IDR Installation Process</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8 Goals</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Design Performance Measures reporting template to support Project 33049</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Automate the process for end of term POLR to POLR transition – 2 year term ends 12/31/2008</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Add Change Control management functionality to ERCOT.com webpage similar to Texas SET’s Issues page on the same website. </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Improve usability of transaction examples</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Complete and implement MarkeTrak Ph 2</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Complete and implement Inadvertent Gain training</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8 Goals</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ea typeface="Lucida Sans Unicode"/>
              </a:rPr>
              <a:t>Monitor PUCT activities for market change requirements</a:t>
            </a:r>
            <a:endParaRPr b="0" lang="en-US" sz="2400" spc="-1" strike="noStrike">
              <a:solidFill>
                <a:srgbClr val="ffffff"/>
              </a:solidFill>
              <a:latin typeface="Tahoma"/>
            </a:endParaRPr>
          </a:p>
          <a:p>
            <a:pPr marL="343080" indent="-343080">
              <a:lnSpc>
                <a:spcPct val="90000"/>
              </a:lnSpc>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ea typeface="Lucida Sans Unicode"/>
              </a:rPr>
              <a:t>Support requirements definition to support Demand Response and Distributed Generation</a:t>
            </a:r>
            <a:endParaRPr b="0" lang="en-US" sz="2400" spc="-1" strike="noStrike">
              <a:solidFill>
                <a:srgbClr val="ffffff"/>
              </a:solidFill>
              <a:latin typeface="Tahoma"/>
            </a:endParaRPr>
          </a:p>
          <a:p>
            <a:pPr marL="343080" indent="-343080">
              <a:lnSpc>
                <a:spcPct val="90000"/>
              </a:lnSpc>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ea typeface="Lucida Sans Unicode"/>
              </a:rPr>
              <a:t>Monitor ERCOT system outage evaluation, resolution and communications inclusive of service degradation issues. Update SLA as needed.</a:t>
            </a:r>
            <a:endParaRPr b="0" lang="en-US" sz="2400" spc="-1" strike="noStrike">
              <a:solidFill>
                <a:srgbClr val="ffffff"/>
              </a:solidFill>
              <a:latin typeface="Tahoma"/>
            </a:endParaRPr>
          </a:p>
          <a:p>
            <a:pPr marL="343080" indent="-343080">
              <a:lnSpc>
                <a:spcPct val="90000"/>
              </a:lnSpc>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ess success of Ph 1 and 2 of SCR745 to determine if further actions are necessary</a:t>
            </a:r>
            <a:endParaRPr b="0" lang="en-US" sz="2400" spc="-1" strike="noStrike">
              <a:solidFill>
                <a:srgbClr val="ffffff"/>
              </a:solidFill>
              <a:latin typeface="Tahoma"/>
            </a:endParaRPr>
          </a:p>
          <a:p>
            <a:pPr marL="343080" indent="-343080">
              <a:lnSpc>
                <a:spcPct val="90000"/>
              </a:lnSpc>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pport ERCOT’s full implementation of SCR748 web based outage notification</a:t>
            </a:r>
            <a:endParaRPr b="0" lang="en-US" sz="2400" spc="-1" strike="noStrike">
              <a:solidFill>
                <a:srgbClr val="ffffff"/>
              </a:solidFill>
              <a:latin typeface="Tahoma"/>
            </a:endParaRPr>
          </a:p>
          <a:p>
            <a:pPr marL="343080" indent="-343080">
              <a:lnSpc>
                <a:spcPct val="90000"/>
              </a:lnSpc>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resent TX Deregulated market to NAES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estions?</a:t>
            </a:r>
            <a:endParaRPr b="0" lang="en-US" sz="4400" spc="-1" strike="noStrike">
              <a:solidFill>
                <a:srgbClr val="ffffcc"/>
              </a:solidFill>
              <a:latin typeface="Tahoma"/>
            </a:endParaRPr>
          </a:p>
        </p:txBody>
      </p:sp>
      <p:pic>
        <p:nvPicPr>
          <p:cNvPr id="409" name="" descr=""/>
          <p:cNvPicPr/>
          <p:nvPr/>
        </p:nvPicPr>
        <p:blipFill>
          <a:blip r:embed="rId1"/>
          <a:stretch/>
        </p:blipFill>
        <p:spPr>
          <a:xfrm>
            <a:off x="2133720" y="1612800"/>
            <a:ext cx="4952880" cy="45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7 Goals Update</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te and improve SCR745, Retail Market Outage Evaluation &amp; Resolution, implementation and reporting. </a:t>
            </a:r>
            <a:endParaRPr b="0" lang="en-US" sz="2800" spc="-1" strike="noStrike">
              <a:solidFill>
                <a:srgbClr val="ffffff"/>
              </a:solidFill>
              <a:latin typeface="Tahoma"/>
            </a:endParaRPr>
          </a:p>
          <a:p>
            <a:pPr lvl="1" marL="690840" indent="-2656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Unscheduled changes and issues discovered while in testing environment prevented planned implementation on 12/08/07. Vendor involvement was necessitated. Implementation planned for January 12, 2008.</a:t>
            </a:r>
            <a:endParaRPr b="0" lang="en-US" sz="2400" spc="-1" strike="noStrike">
              <a:solidFill>
                <a:srgbClr val="ffffff"/>
              </a:solidFill>
              <a:latin typeface="Tahoma"/>
            </a:endParaRPr>
          </a:p>
          <a:p>
            <a:pPr marL="318960" indent="-31896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pdate ERCOT Service Availability Agreement to be inclusive of service degradation Issues. </a:t>
            </a:r>
            <a:endParaRPr b="0" lang="en-US" sz="2800" spc="-1" strike="noStrike">
              <a:solidFill>
                <a:srgbClr val="ffffff"/>
              </a:solidFill>
              <a:latin typeface="Tahoma"/>
            </a:endParaRPr>
          </a:p>
          <a:p>
            <a:pPr lvl="1" marL="690840" indent="-2656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ompleted inclusive of increasing scope to include MarkeTrak and TML applications. In addition, a separate report reflecting service degradation issues and allowing transparency is being provided on monthly basis.</a:t>
            </a:r>
            <a:endParaRPr b="0" lang="en-US" sz="2400" spc="-1" strike="noStrike">
              <a:solidFill>
                <a:srgbClr val="ffffff"/>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7 Goals Update</a:t>
            </a:r>
            <a:endParaRPr b="0" lang="en-US" sz="4400" spc="-1" strike="noStrike">
              <a:solidFill>
                <a:srgbClr val="ffffcc"/>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itor implementation of SCR748, Website Enhancements for ERCOT Outage Notifications.</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Live since 11/28/2007 is located on ERCOT’s homepage under “VIEW DATA AND REPORTS: Notices”. If red flag is shown, ERCOT has an outage. This is strictly a webpage notification and does not replace the email notifications. There are plans in place to make process more robust by linking notifications to email notice and add planned outage calendar in 2008.</a:t>
            </a:r>
            <a:endParaRPr b="0" lang="en-US" sz="20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ccessful TX SET 3.0 Implementation</a:t>
            </a:r>
            <a:endParaRPr b="0" lang="en-US" sz="2400" spc="-1" strike="noStrike">
              <a:solidFill>
                <a:srgbClr val="ffffff"/>
              </a:solidFill>
              <a:latin typeface="Tahoma"/>
            </a:endParaRPr>
          </a:p>
          <a:p>
            <a:pPr lvl="1" marL="727920" indent="-2800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X SET and MCT defined processes inclusive of market shutdown timing prior to and during transition.</a:t>
            </a:r>
            <a:endParaRPr b="0" lang="en-US" sz="2400" spc="-1" strike="noStrike">
              <a:solidFill>
                <a:srgbClr val="ffffff"/>
              </a:solidFill>
              <a:latin typeface="Tahoma"/>
            </a:endParaRPr>
          </a:p>
          <a:p>
            <a:pPr lvl="1" marL="727920" indent="-2800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TPT developed additional scripts to support MP testin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7 Goals Update</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e MarkeTrak Ph II enhancements and performance monitoring</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MMWG developed documentation identifying enhancements to market tool and worked with ERCOT to develop SCR749 </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CR749 Approved by TAC 08/02/2007</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MT2 Task Force defined requirement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Is now in planning stage with ERCO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7 Goals Update</a:t>
            </a:r>
            <a:endParaRPr b="0" lang="en-US" sz="44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PUCT Activities: </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d Meter Rulemaking</a:t>
            </a:r>
            <a:endParaRPr b="0" lang="en-US" sz="24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lementation Planning Meetings underway. </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S and RMS Co-sponsor of Demand Response Task force </a:t>
            </a:r>
            <a:endParaRPr b="0" lang="en-US" sz="20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t Metering and Distributed Generation</a:t>
            </a:r>
            <a:endParaRPr b="0" lang="en-US" sz="24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MWG broke ground identifying and elevating 12 issues </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lemaking in progress and slated for October 2008 </a:t>
            </a:r>
            <a:endParaRPr b="0" lang="en-US" sz="20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formance Measures </a:t>
            </a:r>
            <a:endParaRPr b="0" lang="en-US" sz="24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MWG collaborative effort supported refinement made in rulemaking</a:t>
            </a:r>
            <a:endParaRPr b="0" lang="en-US" sz="2000" spc="-1" strike="noStrike">
              <a:solidFill>
                <a:srgbClr val="ffffff"/>
              </a:solidFill>
              <a:latin typeface="Tahoma"/>
            </a:endParaRPr>
          </a:p>
          <a:p>
            <a:pPr lvl="3" marL="1600200" indent="-22860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xt step to define reporting template supportive of rule.  Reporting begins 07/2008. </a:t>
            </a:r>
            <a:endParaRPr b="0" lang="en-US" sz="1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pay Rulemakings</a:t>
            </a:r>
            <a:endParaRPr b="0" lang="en-US" sz="24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impacts identified</a:t>
            </a:r>
            <a:endParaRPr b="0" lang="en-US" sz="20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7 Goals Update</a:t>
            </a: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ority Move-ins:  Continue PRR672, Retail Market Timing Necessary for PUCT Project 29637, effort to improve ERCOT throughput of 814_20 maintenance transaction </a:t>
            </a:r>
            <a:endParaRPr b="0" lang="en-US" sz="3200" spc="-1" strike="noStrike">
              <a:solidFill>
                <a:srgbClr val="ffffff"/>
              </a:solidFill>
              <a:latin typeface="Tahoma"/>
            </a:endParaRPr>
          </a:p>
          <a:p>
            <a:pPr lvl="1" marL="713160" indent="-27432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Lucida Sans Unicode"/>
              </a:rPr>
              <a:t>TX SET’s Recommended solution of an additional processing pipe was implemented by ERCOT in February 07</a:t>
            </a:r>
            <a:r>
              <a:rPr b="0" lang="en-US" sz="2800" spc="-1" strike="noStrike">
                <a:solidFill>
                  <a:srgbClr val="ffffff"/>
                </a:solidFill>
                <a:latin typeface="Tahoma"/>
              </a:rPr>
              <a:t> </a:t>
            </a:r>
            <a:endParaRPr b="0" lang="en-US" sz="2800" spc="-1" strike="noStrike">
              <a:solidFill>
                <a:srgbClr val="ffffff"/>
              </a:solidFill>
              <a:latin typeface="Tahoma"/>
            </a:endParaRPr>
          </a:p>
          <a:p>
            <a:pPr lvl="1" marL="713160" indent="-27432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RR707 developed and approved to support ERCOT ability to improve 814_20 processing</a:t>
            </a:r>
            <a:endParaRPr b="0" lang="en-US" sz="2800" spc="-1" strike="noStrike">
              <a:solidFill>
                <a:srgbClr val="ffffff"/>
              </a:solidFill>
              <a:latin typeface="Tahoma"/>
            </a:endParaRPr>
          </a:p>
          <a:p>
            <a:pPr lvl="1" marL="713160" indent="-27432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R60008 is in “Initiation” stag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7 Accomplishments</a:t>
            </a: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MO/PPL and Stakeholder Communication Process </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d threshold for ERCOT to communicate with Subcommittee prior to moving funding when in excess of $500K</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committee input included in BoD packet</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st Flight Schedule</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from 4 per year to 3 for 2008</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e: 27 new CR’s tested in 2007</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7 Accomplishments</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Revised Inadvertent Gain process and documentation resulting in clarified timelines, responsibilities and process consistency. Training is under development and will be offered beginning in February and will  be available on ERCOT website and presented with ERCOT 101 training. (Ref. RMGRR059)</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IGTF will sunset following establishment of train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7 Accomplishments</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GRR049 Electronic Authorization for Historical Usage LOA</a:t>
            </a:r>
            <a:endParaRPr b="0" lang="en-US" sz="2800" spc="-1" strike="noStrike">
              <a:solidFill>
                <a:srgbClr val="ffffff"/>
              </a:solidFill>
              <a:latin typeface="Tahoma"/>
            </a:endParaRPr>
          </a:p>
          <a:p>
            <a:pPr lvl="1" marL="720720" indent="-27720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s CR option of using electronic  authorization request when submitting LOA for historical usage information</a:t>
            </a:r>
            <a:endParaRPr b="0" lang="en-US" sz="2800" spc="-1" strike="noStrike">
              <a:solidFill>
                <a:srgbClr val="ffffff"/>
              </a:solidFill>
              <a:latin typeface="Tahoma"/>
            </a:endParaRPr>
          </a:p>
          <a:p>
            <a:pPr lvl="1" marL="720720" indent="-27720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s clarification on expiration date of LOA</a:t>
            </a:r>
            <a:endParaRPr b="0" lang="en-US" sz="2800" spc="-1" strike="noStrike">
              <a:solidFill>
                <a:srgbClr val="ffffff"/>
              </a:solidFill>
              <a:latin typeface="Tahoma"/>
            </a:endParaRPr>
          </a:p>
          <a:p>
            <a:pPr lvl="1" marL="720720" indent="-27720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s option for level of detail being requested for IDR accounts</a:t>
            </a:r>
            <a:endParaRPr b="0" lang="en-US" sz="2800" spc="-1" strike="noStrike">
              <a:solidFill>
                <a:srgbClr val="ffffff"/>
              </a:solidFill>
              <a:latin typeface="Tahoma"/>
            </a:endParaRPr>
          </a:p>
          <a:p>
            <a:pPr lvl="1" marL="720720" indent="-27720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cost impacts to ERCOT or MP’s</a:t>
            </a:r>
            <a:endParaRPr b="0" lang="en-US" sz="28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21:28:43Z</dcterms:created>
  <dc:creator>AEP</dc:creator>
  <dc:description/>
  <dc:language>en-US</dc:language>
  <cp:lastModifiedBy>AEP</cp:lastModifiedBy>
  <dcterms:modified xsi:type="dcterms:W3CDTF">2007-12-27T19:54:21Z</dcterms:modified>
  <cp:revision>20</cp:revision>
  <dc:subject/>
  <dc:title>RMS Update to TAC</dc:title>
</cp:coreProperties>
</file>