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1832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08400" y="102888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6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1832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08400" y="3393000"/>
            <a:ext cx="2751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1920" y="0"/>
            <a:ext cx="89917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08360" y="339300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08360" y="1028880"/>
            <a:ext cx="4170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600" y="3393000"/>
            <a:ext cx="854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55240" y="6432480"/>
            <a:ext cx="78361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S Meeting – 12/06/0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fld id="{243C6ECF-E568-49A7-A8C7-A56A1797E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as Nodal Program - TPTF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6351480"/>
            <a:ext cx="727200" cy="3924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698400"/>
            <a:ext cx="9144000" cy="55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3254040"/>
            <a:ext cx="7772400" cy="25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Black"/>
              </a:rPr>
              <a:t>Texas Nodal</a:t>
            </a:r>
            <a:br>
              <a:rPr sz="1800"/>
            </a:br>
            <a:r>
              <a:rPr b="0" lang="en-US" sz="2800" spc="-1" strike="noStrike">
                <a:solidFill>
                  <a:srgbClr val="808080"/>
                </a:solidFill>
                <a:latin typeface="Arial Black"/>
              </a:rPr>
              <a:t>Transition Plan Task Force</a:t>
            </a:r>
            <a:br>
              <a:rPr sz="2800"/>
            </a:br>
            <a:r>
              <a:rPr b="0" i="1" lang="en-US" sz="1800" spc="-1" strike="noStrike">
                <a:solidFill>
                  <a:srgbClr val="808080"/>
                </a:solidFill>
                <a:latin typeface="Arial"/>
              </a:rPr>
              <a:t>ROS Meeting</a:t>
            </a:r>
            <a:br>
              <a:rPr sz="1600"/>
            </a:br>
            <a:r>
              <a:rPr b="0" lang="en-US" sz="16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Stacy Bridges, ERCOT</a:t>
            </a:r>
            <a:br>
              <a:rPr sz="1200"/>
            </a:b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Thursday, 12/06/2007</a:t>
            </a:r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33920" y="2057400"/>
            <a:ext cx="16761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Next at TPTF (continued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to discuss (continue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R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Draft NPR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ing PCRR release mechanism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rify recipients of McCamey Flowgate Rights (MCFRIs)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rect reference to credit limit determina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rastructure (INF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 (UI) Subgroup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 Identity Management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ion and Product Testing (INT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Center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Information System (MIS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 Web Portal Requirements (B2) v1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Next at TPTF (continued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to discuss (continue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Management Office (PMO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Program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Timeline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Readiness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metric MP11, MP Registration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metric MP19, LSE Engagement and Readiness, and other readiness metrics for Resources and Load Serving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review approach for remaining metr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Next at TPTF (continued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547120" cy="53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to discuss (continue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Rs/NPR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089, Changing Posting Requirement of Certain Documents From MIS Secure to Public 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084, Creating Amendment to Standard Form Market Participant Agre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- Section 8:  Performance Monitoring and Market Comp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for Correction to FIP-FOP in Energy O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“Scarcity Pricing and Mitigated Offer Cap During the Period Commencing on the Nodal Market Implementation Date and Continuing For A Total Of 45 Day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for Private Use Network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I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Nodal ICCP Communications Handbook v1.0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Questions?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54712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November, TPTF Convened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mber 5 –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mber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ember 26 – 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 (continued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46240" y="1076040"/>
            <a:ext cx="889776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prise Integration Project (EIP)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P External Interfaces Specification v1.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gestion Revenue Right (CRR) Project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R Requirements (B2) v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articipant Engagement and Readiness (MER) Project—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al Training Course Curriculum v3.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Management System (MMS) Project—Approval of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S Security Constrained Economic Dispatch (SCED) and Real-Time MMS Processes Requirements (B2) v2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 (continued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5880" y="1076040"/>
            <a:ext cx="859284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Management Office (PMO)—Approvals of Readiness Metr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R2, Develop Transmission Congestion Right (TCR) to CRR Transition Pl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R3, Trial Operation of Monthly CRR A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R4, Implement TCR to CRR Transi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R5, Trial Operation of Annual CRR Auction during Tri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5, Nodal SAS 70 Preparednes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2, Market Information System (MIS) Compliance Test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O1, Network Security Analysis &amp; Transmission Constrain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O2, Verify Voltage Support Function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O5, Verify Area Control Error (ACE)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O6, Qualified Scheduling Entity (QSE) Response to Dispat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 (continued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45880" y="1076040"/>
            <a:ext cx="859284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Management Office (PMO)—Approvals of Readiness Metr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O7, Verify Load Forecast Accur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O10, Network Operations Model and State Estimator (SE)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O11, Operating Personnel and Facilities Read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4, Verify SCED Execution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8, QSE Ability to Submit Transactions Via 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9, QSE Ability to Submit Web Service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10, Mapping of Resources to Resource Nodes and Resources to EPS Meters is Comple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13, Market Participant (MP) Completes Early Delivery System (EDS)-4 Related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15, MP EDS-3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17, MP Qualification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Last Month at TPTF (continued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240" y="1104840"/>
            <a:ext cx="874548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jor Accomplishments (continu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—Endorsement/Approval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R727, Process for Transition to Nodal Market Protocol Se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085, Revision of Digital Certificate Proced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“Scarcity Pricing and Mitigated Offer Cap During the Period Commencing on the Nodal Market Implementation Date and Continuing For A Total Of 45 Day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PRR, EDS Load Frequency Control (LFC) Test Sett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Next at TPTF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54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ring December, TPTF has met/will meet 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ember 3 – 4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ember 17 – 1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Next at TPTF (continued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to discus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rcial Systems (COMS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for Protocols 4 and 6 Formula Clarification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NPRR for Nodal Protocol Revisions to the Reliability Must Run (RMR) Startup Energy Pa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s on the Settlement of Combined Cycle Plants White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able Cost Upd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 on Verifiable Cost Sub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ew Verifiable Cost Management System Requirements (tentativ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ming Next at TPTF (continued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54712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 to discuss (continued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rly Delivery Systems (EDS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d EDS 1 Approach schedul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 of EDS 1 Test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s for the EDS 4 Approach docume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sition of comments for the EDS Handbook for Day-Ahead Market (DAM)/Reliability Unit Commitment (RUC)/Supplemental Ancillary Services Market (SASM) (R9.1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s for EDS 3 R5.4 in the EDS SCED Hand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ion and Design Authority (IDA) Proj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 Punch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Dictio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of System Architecture (SoSA)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3:33:38Z</dcterms:created>
  <dc:creator>ctucker</dc:creator>
  <dc:description/>
  <dc:language>en-US</dc:language>
  <cp:lastModifiedBy>ERCOT Staff</cp:lastModifiedBy>
  <dcterms:modified xsi:type="dcterms:W3CDTF">2007-12-05T20:25:32Z</dcterms:modified>
  <cp:revision>165</cp:revision>
  <dc:subject/>
  <dc:title>Texas Nodal</dc:title>
</cp:coreProperties>
</file>