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C7F20-2598-4D2E-B833-3F56F91C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FB97A-B03E-4AD0-9EF2-985F90E0F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2080D-6680-4CAF-9ED0-4AF45F0C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531E1-8AE7-4C5E-8811-E0980F66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1294F-9EF8-4A6F-9069-E3069D5D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43FF9-A594-4100-8DA0-3CC3FE8B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A4DFF-6577-473F-93D0-F4F1C135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995C65-3C40-4A4D-8773-5A367BF5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97516-DA52-4599-86D5-C47033F2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AF12A0-44BB-4F3D-87EF-76A9B0C3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55712-D026-4AED-AAE1-220B2F79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83B92F-B543-45F5-B709-AC835BE40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33669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66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6248160" y="6171840"/>
            <a:ext cx="2514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C176-D797-470B-AF97-A1AE13BBC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380880" y="6076800"/>
            <a:ext cx="2590920" cy="72720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0" y="685800"/>
            <a:ext cx="91440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da6d00"/>
          </a:solidFill>
          <a:ln w="44280">
            <a:solidFill>
              <a:srgbClr val="da6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44280">
            <a:solidFill>
              <a:srgbClr val="da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44280">
            <a:solidFill>
              <a:srgbClr val="da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8F54-4BDC-438D-9DB0-A5D98D363C9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2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44280">
            <a:solidFill>
              <a:srgbClr val="da6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358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6324480"/>
            <a:ext cx="2438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00800" y="628668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280" y="1295280"/>
            <a:ext cx="91440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title"/>
          </p:nvPr>
        </p:nvSpPr>
        <p:spPr>
          <a:xfrm>
            <a:off x="609480" y="2057400"/>
            <a:ext cx="82296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6477120"/>
            <a:ext cx="2438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53080" y="6438960"/>
            <a:ext cx="22860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9040" y="76320"/>
            <a:ext cx="3238560" cy="907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280" y="838080"/>
            <a:ext cx="914400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da6d00"/>
          </a:solidFill>
          <a:ln w="44280">
            <a:solidFill>
              <a:srgbClr val="da6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66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336699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6600"/>
              </a:buClr>
              <a:buFont typeface="Verdana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compliance/tre/enforcement/doc/NERC_CEP_Flowcharts.pdf" TargetMode="External"/><Relationship Id="rId2" Type="http://schemas.openxmlformats.org/officeDocument/2006/relationships/hyperlink" Target="http://www.ercot.com/mktrules/compliance/keydocs/Compliance_Processes_Flowcharts.pdf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rcot.com/mktrules/compliance/tre/enforcement/doc/2008_Audit_Schedule_TexasRE.xls" TargetMode="Externa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mktinfo/reports/sce_qse/index.html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 Repor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200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1159A-EB64-4406-B4B9-74E4E92085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’s CPS1 Monthl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229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RCOT CPS1 by Interv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SE PRR 525 10-Minute Interval Sc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833400"/>
            <a:ext cx="769608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59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tober 2007 – SCPS2 Sc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968400"/>
            <a:ext cx="853416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ctober 2007 Resource Plan Performance Metr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36680" y="838080"/>
            <a:ext cx="8269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rganization Registration Statu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f 228 functions registered in the ERCOT Region, 9 entities have officially appealed their registr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 appeals resolved by the Texas 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 appeals heard by NERC Board of Trustees Compliance Committee (BOT C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 – appeal den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Transmission Owner/Planner – appeal deni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ed their registration as a Generator Operator – appeal remanded to Texas RE for continued discussion and resolution with appealing ent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appeals pending and may go before the BOT CC for 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ing their registration as a Generator Opera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entity appealing their registration as a Generator Own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gistration Activ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urchasing-Selling Entity (PSE) Regis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itially, registration notices sent to 33 ent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stration criteria us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y operates as a Qualified Scheduling Entity (QSE) in the ERCOT Marke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y shown on NERC TSIN (Transmission Service Information Network) List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y schedules transactions across a HVDC ti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COT PSE registration being remo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RC Functional Entity Typ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21896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P – Distribution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 – Generator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P – Generator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– Transmission 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P – Transmission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19360" y="114264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 – Reliability Coordin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 – Balanc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– Transmission Oper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 – Planning Autho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SP – Transmission Service Provi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P – Resource Plan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E – Purchasing-Selling Ent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mpliance Process Flowchar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C Compliance Monitoring and Enforcement Program – Reliability Standar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Link to NERC Reliability Flowcha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 Compliance Process – ERCOT Protocols and Operating Gu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Link to Protocols &amp; Guides Flowcha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7 Compliance Aud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4963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erformance Highligh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RCOT’s Control Performance Standard (NERC CPS1) score for October – 118.38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scores for October indicate 34 non-wind-only QSEs passed and 1 non-wind-only QSE failed the PRR 525 meas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008 Audit Schedu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2008 Texas RE Audit Schedule is available </a:t>
            </a:r>
            <a:r>
              <a:rPr b="0" lang="en-US" sz="30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ere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Verdana"/>
              </a:rPr>
              <a:t>Compliance Reviews of Events by Month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07696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olations of ERCOT Protoc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1014480"/>
            <a:ext cx="822960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olations of NERC Standards Reported by Mon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Self-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ERC Registered Entities NOT audited in 2007 required to self-certify to the Actively Monitored Reliability Standards applicable to their Registration(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01 G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41 GOP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3 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65 Total Registered Fun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Self-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Certifications were due Octo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95% overall respon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18 Entities required second not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8 responses outstand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requested extensions which were gran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5 Entities will receive third not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tilizing NERC escalation process for non-submittal of requested da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RC Standards Self-Certifi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 date, 19 alleged violations identified (September &amp; Octob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6 FAC-008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G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 FAC-009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G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4 CIP-001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G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3 IRO-004 – lack documented proce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GOs; 1 GO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PRC-005 – relay maintenance delinqu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TO; 1 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Standards Self-Certification Violation Detail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523880" y="990720"/>
            <a:ext cx="5504040" cy="19810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4343400" cy="2819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48320" y="3048120"/>
            <a:ext cx="42670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Standards Self-Reported Violations</a:t>
            </a:r>
            <a:br>
              <a:rPr sz="3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Risk Factors for Self-Reported NERC Standards Violatio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00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 Monthly Summ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or October………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tocol &amp; Operating Guides vio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new alleg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RC Standards viol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7 new alleged – all resulting from entity self-certif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 New events report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 Compliance Reviews in prog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inal on-site Compliance Audit completed for 2007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 Registration appeals denied by NERC Board of Trustees Compliance Committe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Appeal remanded to the Texas RE for resolu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 Pending registration appe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ERC Standards Self-Reported Violation Categorizatio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-June 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77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 Developm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tober 18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FERC conditionally accepted the proposed 2008 NERC and Regional Entity Budgets and Business Plans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s Regional Entities to collect their budgets as provided in their income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ember 14, 2007 – Compliance filing required to clarify Texas RE’s non-statutory cost for 200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ril 1, 2008 – File 2007 budget true-up comparing 2007 proposed budget to actual expenditur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ctober 2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NERC Board of Trustees approved the amended and restated Texas RE/NERC Delegation Agre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ober 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– Regional Delegation Agreements filed with FER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exas RE Fall Workshop Repor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vember 2nd – Austin Met Cen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pdated participants on the 2007 Compliance Monitoring &amp; Enforcement Pro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vided a “sneak peek” at the 2008 Compliance Progra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 100 attendees + additional participants on WebEx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akers included Texas RE and NERC Staff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xas Regional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85800" y="3123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port Detai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29DF60-A62A-4BD2-B756-3CBF5A6928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RCOT’s CPS1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ctobe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thly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07:  118.38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006:  137.26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2 month rolling average comparis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vember 2006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ctober 2007:  129.89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400"/>
              </a:spcBef>
              <a:buClr>
                <a:srgbClr val="336699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vember 2005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ctober 2006:  142.68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550"/>
              </a:spcBef>
              <a:buClr>
                <a:srgbClr val="cc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for October indicate 34 non-wind-only QSEs passed and 1 non-wind-only QSE failed the meas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4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451"/>
              </a:spcBef>
              <a:buClr>
                <a:srgbClr val="cc66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SCE Performance Sc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Performance Comparison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800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RCOT CPS1 Year-to-Year Comparis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80773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mhenry</cp:lastModifiedBy>
  <dcterms:modified xsi:type="dcterms:W3CDTF">2007-11-29T15:50:08Z</dcterms:modified>
  <cp:revision>926</cp:revision>
  <dc:subject/>
  <dc:title>PRR 525 Compliance Analysis</dc:title>
</cp:coreProperties>
</file>