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9EC42-EE20-4ECC-AAA0-F470AC6F8D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C199E-B6F4-477A-BA37-0870E5E8D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F9A5B-599D-406A-9CFB-E34858277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41E3E-F81C-4328-AB26-CC09E3BA5B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220E6-E362-492F-81F1-4089CA2E3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AE447-830A-429B-8633-C10A6B97C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58376-D0F4-409D-AFC3-83FE943F7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0C5CE-4594-4B65-A76B-526EC1B3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25DC2-F226-47BC-8EA5-166BEA5B6A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46658-D95A-4393-A0A5-634579E33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5ADAD-A378-470F-B660-68B8BF6E7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5F50A-B754-49DE-92BD-84B0FB5B8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B4A1-FF2F-4830-B9D1-B6234293E0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95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Wind Surve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7239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o Villanueva</a:t>
            </a:r>
            <a:endParaRPr b="0" lang="en-US" sz="3200" spc="-1" strike="noStrike">
              <a:solidFill>
                <a:srgbClr val="000000"/>
              </a:solidFill>
              <a:latin typeface="Arial"/>
            </a:endParaRPr>
          </a:p>
        </p:txBody>
      </p:sp>
      <p:pic>
        <p:nvPicPr>
          <p:cNvPr id="43" name="" descr=""/>
          <p:cNvPicPr/>
          <p:nvPr/>
        </p:nvPicPr>
        <p:blipFill>
          <a:blip r:embed="rId1"/>
          <a:stretch/>
        </p:blipFill>
        <p:spPr>
          <a:xfrm>
            <a:off x="3886200" y="2514600"/>
            <a:ext cx="1563840" cy="2084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far can units be backed down before operation becomes unstable (MW output or % of rated capability)?</a:t>
            </a:r>
            <a:endParaRPr b="0" lang="en-US" sz="2800" spc="-1" strike="noStrike">
              <a:solidFill>
                <a:srgbClr val="000000"/>
              </a:solidFill>
              <a:latin typeface="Arial"/>
            </a:endParaRPr>
          </a:p>
        </p:txBody>
      </p:sp>
      <p:graphicFrame>
        <p:nvGraphicFramePr>
          <p:cNvPr id="71" name=""/>
          <p:cNvGraphicFramePr/>
          <p:nvPr/>
        </p:nvGraphicFramePr>
        <p:xfrm>
          <a:off x="762120" y="2209680"/>
          <a:ext cx="8001000" cy="1597320"/>
        </p:xfrm>
        <a:graphic>
          <a:graphicData uri="http://schemas.openxmlformats.org/drawingml/2006/table">
            <a:tbl>
              <a:tblPr/>
              <a:tblGrid>
                <a:gridCol w="3733560"/>
                <a:gridCol w="1600200"/>
                <a:gridCol w="1371600"/>
                <a:gridCol w="1295640"/>
              </a:tblGrid>
              <a:tr h="6426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bilen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g Spr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cCame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54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W output after which operation becomes unstab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6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05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 name=""/>
          <p:cNvSpPr/>
          <p:nvPr/>
        </p:nvSpPr>
        <p:spPr>
          <a:xfrm>
            <a:off x="1050840" y="40752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 name=""/>
          <p:cNvSpPr/>
          <p:nvPr/>
        </p:nvSpPr>
        <p:spPr>
          <a:xfrm>
            <a:off x="626400" y="4189320"/>
            <a:ext cx="82915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5 WPGR’s in McCamey said Curtailment is achieved by stopping a grou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f turbines (groups are predetermined and cycle through), not by redu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dividual turbine 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n individual turbines of this type be shut down at the facility on a routine basis (stop and start once per day)?</a:t>
            </a:r>
            <a:endParaRPr b="0" lang="en-US" sz="28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 15 WPGR’s have the capability and 1 does n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 7 WPGR’s have the capability of shutting individual turbines at the facility on a routine bas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 5 WPGR’s have the capability and 2 WPGR’s said that current control scheme does not shut down turbines but limit power output by modulating blade pi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Are the facility turbines and control system and facility turbines able to provide automatic generation control (AGC) from a technical point of view? If not, would the turbines be capable of this if the control system was upgraded?</a:t>
            </a:r>
            <a:endParaRPr b="0" lang="en-US" sz="22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ilene: 3 in Abilene area can provide AGC and 3 can provide with a control system upgrad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g Spring: 6 in Big Spring cannot provide automatic generation control (AGC). 1 ca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cCamey: 2 in McCamey area can provide Automatic Voltage Control whose set point is controlled by ERCO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How flexible is the zero output reactive capability? For example, is it manually or automatically switched in?  What are the issues associated with provided this reactive capability if requested by ERCOT in Real Time.</a:t>
            </a:r>
            <a:endParaRPr b="0" lang="en-US" sz="2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bilene: 3 have static reactive capability, which is only capacitive reactive compensation that can be controlled manually or automatically. 3 cannot provide any flexibility. 4 said wind dependant. 4 said they are automatically controlled by two controllers, but that could take some programming work to implement. 1 said automatically controlled between +9 or -9 MVAr. 1 WPGR’s VAr output is attributed to the capacitive nature of the underground collection system. Capability is limited due to underground cable splices and thermal backfill materi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g Spring Area: 5 cannot have any flexible reactive capability at zero output. 1 has manual switching capability. 1 has static reactive capability, which is only capacitive reactive compensation that can be controlled manually or automatically.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cCamey: None in McCamey area have flexible reactive capability at zero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81"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ile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 voltage - 299vac at the turbine. Over voltage - 365vac at the turbine. Over frequency - 61hz at the turbine. Under frequency - 59hz at the turbine. 25vac asymmetry between phases at the turbine for 6 WPG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110 % nominal or &lt; 70 % nominal for 1 WPG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response from 9 WPG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g Spring Area:</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90% ≤ System Voltage ≥ 110% ;  94% ≤ System Frequency ≥ 104% is the response from 2 WPGR’s </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or a V-47 and a V-66 WTGL high voltage 500V sensed phase to ground, low voltage 340V sensed phase to ground; For a V-47: high frequency 60.4hz, low frequency 59.2hz; For a V-66: high frequency 60.3hz, low frequency 59.5hz.</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ver Freq&gt;61Hz for 0.5 s, Under Freq &lt;=59 Hz Over Vol&gt;120% is the response from 2 WPGR’s</a:t>
            </a:r>
            <a:endParaRPr b="0" lang="en-US" sz="2600" spc="-1" strike="noStrike">
              <a:solidFill>
                <a:srgbClr val="000000"/>
              </a:solidFill>
              <a:latin typeface="Arial"/>
            </a:endParaRPr>
          </a:p>
          <a:p>
            <a:pPr marL="332640" indent="-3326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reaker trip for 1 WPGR</a:t>
            </a: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What ERCOT electric system conditions can cause machines to trip offline and what are the corresponding set points?</a:t>
            </a:r>
            <a:br>
              <a:rPr sz="2400"/>
            </a:br>
            <a:endParaRPr b="0" lang="en-US" sz="2400" spc="-1" strike="noStrike">
              <a:solidFill>
                <a:srgbClr val="000000"/>
              </a:solidFill>
              <a:latin typeface="Arial"/>
            </a:endParaRPr>
          </a:p>
        </p:txBody>
      </p:sp>
      <p:sp>
        <p:nvSpPr>
          <p:cNvPr id="85"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Came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ltage 110 % nominal or &lt; 70 % nominal for 1 WPGR for 2 WPG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5% V &amp; 0.1 sec TD 90% V &amp; 5 sec TD 110% V &amp; 60 sec TD 112% V &amp; 0.1 sec TD for 1 WPG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V &amp; 0.2 sec TD 90% V &amp; 60 sec TD 108% V &amp; 5 sec TD 110% V &amp; 0.2 sec TD for 4 WPG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What is the response time required to reduce output by 20%? (time from ERCOT notice to reduce to time when wind-ranch is 20% below previous output)?</a:t>
            </a:r>
            <a:endParaRPr b="0" lang="en-US" sz="2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10 WPGR’s in </a:t>
            </a:r>
            <a:r>
              <a:rPr b="1" lang="en-US" sz="2400" spc="-1" strike="noStrike">
                <a:solidFill>
                  <a:srgbClr val="ff0000"/>
                </a:solidFill>
                <a:latin typeface="Arial"/>
              </a:rPr>
              <a:t>Abilene</a:t>
            </a:r>
            <a:r>
              <a:rPr b="1" lang="en-US" sz="2400" spc="-1" strike="noStrike">
                <a:solidFill>
                  <a:srgbClr val="000000"/>
                </a:solidFill>
                <a:latin typeface="Arial"/>
              </a:rPr>
              <a:t> is 8 min. 6 have a response of “This is not the way the system operates, the turbines are turned off in groups to reduce the maximum MW output - it does not "set" outpu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a:t>
            </a:r>
            <a:r>
              <a:rPr b="1" lang="en-US" sz="2400" spc="-1" strike="noStrike">
                <a:solidFill>
                  <a:srgbClr val="ff0000"/>
                </a:solidFill>
                <a:latin typeface="Arial"/>
              </a:rPr>
              <a:t>Big Spring</a:t>
            </a:r>
            <a:r>
              <a:rPr b="1" lang="en-US" sz="2400" spc="-1" strike="noStrike">
                <a:solidFill>
                  <a:srgbClr val="000000"/>
                </a:solidFill>
                <a:latin typeface="Arial"/>
              </a:rPr>
              <a:t> is 24 m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response time for 2 WPGR’s in </a:t>
            </a:r>
            <a:r>
              <a:rPr b="1" lang="en-US" sz="2400" spc="-1" strike="noStrike">
                <a:solidFill>
                  <a:srgbClr val="ff0000"/>
                </a:solidFill>
                <a:latin typeface="Arial"/>
              </a:rPr>
              <a:t>McCamey</a:t>
            </a:r>
            <a:r>
              <a:rPr b="1" lang="en-US" sz="2400" spc="-1" strike="noStrike">
                <a:solidFill>
                  <a:srgbClr val="000000"/>
                </a:solidFill>
                <a:latin typeface="Arial"/>
              </a:rPr>
              <a:t> is 10 min. 5 have a response of “This is not the way the system operates, the turbines are turned off in groups to reduce the maximum MW output - it does not "set" outp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at is the response time required to increase output by 20% (presuming wind available)? (time from ERCOT notice to increased to time when wind-ranch is 20% above previous output?</a:t>
            </a:r>
            <a:endParaRPr b="0" lang="en-US" sz="2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response time for 10 WPGR’s in </a:t>
            </a:r>
            <a:r>
              <a:rPr b="1" lang="en-US" sz="2200" spc="-1" strike="noStrike">
                <a:solidFill>
                  <a:srgbClr val="ff0000"/>
                </a:solidFill>
                <a:latin typeface="Arial"/>
              </a:rPr>
              <a:t>Abilene</a:t>
            </a:r>
            <a:r>
              <a:rPr b="1" lang="en-US" sz="2200" spc="-1" strike="noStrike">
                <a:solidFill>
                  <a:srgbClr val="000000"/>
                </a:solidFill>
                <a:latin typeface="Arial"/>
              </a:rPr>
              <a:t> is 8 min. 6 have a response of “This is not the way the system operates, the turbines are turned back on  in groups to increase the maximum MW output - it does not "set" outpu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response time for 5 WPGR’s </a:t>
            </a:r>
            <a:r>
              <a:rPr b="1" lang="en-US" sz="2200" spc="-1" strike="noStrike">
                <a:solidFill>
                  <a:srgbClr val="ff0000"/>
                </a:solidFill>
                <a:latin typeface="Arial"/>
              </a:rPr>
              <a:t>Big Spring</a:t>
            </a:r>
            <a:r>
              <a:rPr b="1" lang="en-US" sz="2200" spc="-1" strike="noStrike">
                <a:solidFill>
                  <a:srgbClr val="000000"/>
                </a:solidFill>
                <a:latin typeface="Arial"/>
              </a:rPr>
              <a:t> is 21 min.3 WPGR’s have a response of “This is not the way the system operates, the turbines are turned back on in groups to increase the maximum MW output - it does not "set" outpu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verage response time for 2 WPGR’s in </a:t>
            </a:r>
            <a:r>
              <a:rPr b="1" lang="en-US" sz="2200" spc="-1" strike="noStrike">
                <a:solidFill>
                  <a:srgbClr val="ff0000"/>
                </a:solidFill>
                <a:latin typeface="Arial"/>
              </a:rPr>
              <a:t>McCamey</a:t>
            </a:r>
            <a:r>
              <a:rPr b="1" lang="en-US" sz="2200" spc="-1" strike="noStrike">
                <a:solidFill>
                  <a:srgbClr val="000000"/>
                </a:solidFill>
                <a:latin typeface="Arial"/>
              </a:rPr>
              <a:t> is 10 min. 5 have a response of “This is not the way the system operates, the turbines are turned off in groups to reduce the maximum MW output - it does not "set" outpu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When turbines are being controlled what is the available ramping capability assuming wind conditions and system transmission conditions that could accommodate full output? (ERCOT seeks to understand the ramping characteristics of the units and facility as a whole).  Please describe (or provide output curves) on facility ramp rates and wind speed?  (i.e. How long would it take to go from zero to 25% output? How long to go from 25 to 50% output? How long from 50 to 75% output and from 75% to 100% output?) Is the wind farm operating as designed?  If not, why not?</a:t>
            </a:r>
            <a:endParaRPr b="0" lang="en-US" sz="1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ilene: 0-25% (375kw) less than 1 minute;25-50% (750kw) less than 1 minute; 50-75% (1,125kw) less than 1 minute; 75-100% (1,500kw) less than 1 minute; 0-100% (1,500kw per unit) less than 4 minutes from 6 WPGR’s. 1 WPGR’s response is “Individual turbine can modulate from very low load levels to full load in about 2.5 minutes.  Entire farm can modulate in about 5 minutes dependent on wind at each individual turbine location”. 1 WPGR said there are no ramp rates set and power of individual turbines can be quickly ramped down and park them as a whole when storms approach. 2 WPGR’s said “This is not the way the system operates, the turbines are turned back on in groups to increase the maximum MW output - it does not "set" output.  Assuming there are perfect wind conditions then it would take approxiamately 5 minutes to bring the site up to full load (or 100% outpu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g Spring: There are no ramp rates. Everyone answered wind is the deciding factor for the outpu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cCamey: 2 WPGR’s response is “Individual turbine can modulate from very low load levels to full load in about 2.5 minutes.  Entire farm can modulate in about 5 minutes dependent on wind at each individual turbine location”. 5 WPGR’s response is “This is not the way the system operates, the turbines are turned back on in groups to increase the maximum MW output - it does not "set" output.  Assuming there are perfect wind conditions then it would take approximately 5 minutes to bring the site up to full load (or 100% outp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76320" y="0"/>
            <a:ext cx="9067680" cy="6818400"/>
            <a:chOff x="76320" y="0"/>
            <a:chExt cx="9067680" cy="6818400"/>
          </a:xfrm>
        </p:grpSpPr>
        <p:pic>
          <p:nvPicPr>
            <p:cNvPr id="45" name="" descr=""/>
            <p:cNvPicPr/>
            <p:nvPr/>
          </p:nvPicPr>
          <p:blipFill>
            <a:blip r:embed="rId1"/>
            <a:stretch/>
          </p:blipFill>
          <p:spPr>
            <a:xfrm>
              <a:off x="76320" y="152280"/>
              <a:ext cx="8940600" cy="6399360"/>
            </a:xfrm>
            <a:prstGeom prst="rect">
              <a:avLst/>
            </a:prstGeom>
            <a:ln w="0">
              <a:noFill/>
            </a:ln>
          </p:spPr>
        </p:pic>
        <p:sp>
          <p:nvSpPr>
            <p:cNvPr id="46" name=""/>
            <p:cNvSpPr/>
            <p:nvPr/>
          </p:nvSpPr>
          <p:spPr>
            <a:xfrm>
              <a:off x="158760" y="4913280"/>
              <a:ext cx="2133720" cy="1905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5867280" y="380880"/>
              <a:ext cx="3276720" cy="2819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7315200" y="3200400"/>
              <a:ext cx="3049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16640" y="3809880"/>
              <a:ext cx="100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ilene</a:t>
              </a:r>
              <a:endParaRPr b="0" lang="en-US" sz="1800" spc="-1" strike="noStrike">
                <a:solidFill>
                  <a:srgbClr val="000000"/>
                </a:solidFill>
                <a:latin typeface="Arial"/>
              </a:endParaRPr>
            </a:p>
          </p:txBody>
        </p:sp>
        <p:sp>
          <p:nvSpPr>
            <p:cNvPr id="50" name=""/>
            <p:cNvSpPr/>
            <p:nvPr/>
          </p:nvSpPr>
          <p:spPr>
            <a:xfrm flipV="1">
              <a:off x="1981080" y="487692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2577960" y="46846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c Camey</a:t>
              </a:r>
              <a:endParaRPr b="0" lang="en-US" sz="1800" spc="-1" strike="noStrike">
                <a:solidFill>
                  <a:srgbClr val="000000"/>
                </a:solidFill>
                <a:latin typeface="Arial"/>
              </a:endParaRPr>
            </a:p>
          </p:txBody>
        </p:sp>
        <p:sp>
          <p:nvSpPr>
            <p:cNvPr id="52" name=""/>
            <p:cNvSpPr/>
            <p:nvPr/>
          </p:nvSpPr>
          <p:spPr>
            <a:xfrm>
              <a:off x="3310200" y="3726000"/>
              <a:ext cx="1338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g Spring</a:t>
              </a:r>
              <a:endParaRPr b="0" lang="en-US" sz="1800" spc="-1" strike="noStrike">
                <a:solidFill>
                  <a:srgbClr val="000000"/>
                </a:solidFill>
                <a:latin typeface="Arial"/>
              </a:endParaRPr>
            </a:p>
          </p:txBody>
        </p:sp>
        <p:sp>
          <p:nvSpPr>
            <p:cNvPr id="53" name=""/>
            <p:cNvSpPr/>
            <p:nvPr/>
          </p:nvSpPr>
          <p:spPr>
            <a:xfrm>
              <a:off x="2133720" y="0"/>
              <a:ext cx="3429000" cy="3352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886200" y="3352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04920" y="1447920"/>
            <a:ext cx="8534160" cy="4208400"/>
          </a:xfrm>
          <a:prstGeom prst="rect">
            <a:avLst/>
          </a:prstGeom>
          <a:ln w="0">
            <a:noFill/>
          </a:ln>
        </p:spPr>
      </p:pic>
      <p:sp>
        <p:nvSpPr>
          <p:cNvPr id="56" name=""/>
          <p:cNvSpPr/>
          <p:nvPr/>
        </p:nvSpPr>
        <p:spPr>
          <a:xfrm>
            <a:off x="1282680" y="2206800"/>
            <a:ext cx="213372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2895480" y="211248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719160" y="1865160"/>
            <a:ext cx="110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 We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ilene Area</a:t>
            </a:r>
            <a:br>
              <a:rPr sz="4400"/>
            </a:br>
            <a:r>
              <a:rPr b="0" lang="en-US" sz="1600" spc="-1" strike="noStrike">
                <a:solidFill>
                  <a:srgbClr val="000000"/>
                </a:solidFill>
                <a:latin typeface="Arial"/>
              </a:rPr>
              <a:t>All the values are based on returned ERCOT survey results</a:t>
            </a:r>
            <a:endParaRPr b="0" lang="en-US" sz="1600" spc="-1" strike="noStrike">
              <a:solidFill>
                <a:srgbClr val="000000"/>
              </a:solidFill>
              <a:latin typeface="Arial"/>
            </a:endParaRPr>
          </a:p>
        </p:txBody>
      </p:sp>
      <p:sp>
        <p:nvSpPr>
          <p:cNvPr id="60"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umber of Wind Powered Generation Resources (WPGR) 16 (16)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max rated capacity – 2271 MW Average rated capacity – 142 MW</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cut-off speed – 59 MP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minimum wind speed at which generation starts – 8 MP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rated reactive capability –  798 MVA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VAr control – 68% and Static VAr control – 32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number of turbines at each plant site – 98</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7 % of the units in this area have feathering of the blades to control the output level (Based on the survey respon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g Spring Area</a:t>
            </a:r>
            <a:br>
              <a:rPr sz="4400"/>
            </a:br>
            <a:r>
              <a:rPr b="0" lang="en-US" sz="1600" spc="-1" strike="noStrike">
                <a:solidFill>
                  <a:srgbClr val="000000"/>
                </a:solidFill>
                <a:latin typeface="Arial"/>
              </a:rPr>
              <a:t>All the values are based on returned ERCOT survey results</a:t>
            </a:r>
            <a:endParaRPr b="0" lang="en-US" sz="16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number of WPGR’s 7 (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ax rated capacity – 624 MW Average rated capacity – 89 MW</a:t>
            </a:r>
            <a:r>
              <a:rPr b="1" lang="en-US" sz="2400" spc="-1" strike="noStrike">
                <a:solidFill>
                  <a:srgbClr val="ff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ut-off speed – 56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inimum wind speed at which generation starts – 9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rated reactive capability –  181 MV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Ar control – 43% and Static VAr control – 57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number of turbines at each plant site – 8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6 % of the units in this area have feathering of the blades to control the output level (Based on the survey respon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cCamey Area</a:t>
            </a:r>
            <a:br>
              <a:rPr sz="4400"/>
            </a:br>
            <a:r>
              <a:rPr b="0" lang="en-US" sz="1600" spc="-1" strike="noStrike">
                <a:solidFill>
                  <a:srgbClr val="000000"/>
                </a:solidFill>
                <a:latin typeface="Arial"/>
              </a:rPr>
              <a:t>All the values are based on ERCOT returned survey results</a:t>
            </a:r>
            <a:endParaRPr b="0" lang="en-US" sz="16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number of WPGR’s 10 (7)</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ax rated capacity – 1791 MW Average rated capacity – 256 MW</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cut-off speed – 56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inimum wind speed at which generation starts – 9 MPH</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rated reactive capability –  272 MV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Ar control – 29% and Static VAr control – 71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number of turbines at each plant site – 168</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 the units have feathering of the blades to control the output level. (Based on the survey respons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ed on the returned survey results we have a total wind capacity of 4686 MW divided among 30 WPGR’s</a:t>
            </a:r>
            <a:endParaRPr b="0" lang="en-US" sz="3200" spc="-1" strike="noStrike">
              <a:solidFill>
                <a:srgbClr val="000000"/>
              </a:solidFill>
              <a:latin typeface="Arial"/>
            </a:endParaRPr>
          </a:p>
        </p:txBody>
      </p:sp>
      <p:pic>
        <p:nvPicPr>
          <p:cNvPr id="66" name="" descr=""/>
          <p:cNvPicPr/>
          <p:nvPr/>
        </p:nvPicPr>
        <p:blipFill>
          <a:blip r:embed="rId1"/>
          <a:stretch/>
        </p:blipFill>
        <p:spPr>
          <a:xfrm>
            <a:off x="3524400" y="3200400"/>
            <a:ext cx="1942920" cy="259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 name=""/>
          <p:cNvGraphicFramePr/>
          <p:nvPr/>
        </p:nvGraphicFramePr>
        <p:xfrm>
          <a:off x="457200" y="274680"/>
          <a:ext cx="8229600" cy="5851440"/>
        </p:xfrm>
        <a:graphic>
          <a:graphicData uri="http://schemas.openxmlformats.org/drawingml/2006/table">
            <a:tbl>
              <a:tblPr/>
              <a:tblGrid>
                <a:gridCol w="4343400"/>
                <a:gridCol w="1089000"/>
                <a:gridCol w="1422360"/>
                <a:gridCol w="1374840"/>
              </a:tblGrid>
              <a:tr h="20876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io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bilene</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ig Spring</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cCamey</a:t>
                      </a:r>
                      <a:endParaRPr b="0" lang="en-US" sz="1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VA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556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50%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7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1.7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53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100%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9.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5.77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8.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25424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vg. Reactive Capability at no O/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0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the VAR Capability required in the Interconnection Agreement?</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ilene: 6 WPGR’s said 0.95 pf leading or lagging. 2 WPGR said 0.98 pf leading or lagging. 8 said n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g Spring: All the WPGR’s said 0.95 pf leading or lagg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cCamey: 4 WPGR’s said 0.97 pf leading and 1 said 0.96 leading. 2 said n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6T18:47:07Z</dcterms:created>
  <dc:creator>nkota</dc:creator>
  <dc:description/>
  <dc:language>en-US</dc:language>
  <cp:lastModifiedBy>nkota</cp:lastModifiedBy>
  <dcterms:modified xsi:type="dcterms:W3CDTF">2007-12-04T21:35:42Z</dcterms:modified>
  <cp:revision>18</cp:revision>
  <dc:subject/>
  <dc:title>Slide 1</dc:title>
</cp:coreProperties>
</file>