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8D2-3BE4-4592-9966-CBB9C5EA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9F8-A974-478B-8AEC-DCCB89DC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CC3-0868-41A0-B863-817A573F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031-85DF-4CF8-82F1-6C479845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C13-9EFF-4494-A6C4-B5B169C5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3AA-C37C-45C0-958D-9EBC11B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DB0-C5AE-40AF-AE72-41800223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B24-9A20-4CC8-B890-EF4F52B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1AF-748B-4D97-8F0F-7F4A3DA2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0D1-E2CB-41F9-A739-5601A9C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B6A-25F9-4BC5-B114-B7FBDA70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113-6307-4893-85AB-351B0E9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650D-07FD-4BD6-8A39-78523505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D42-1880-4FD9-BC81-9F6CF03C89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90F-780E-4A77-B2A9-94A9F8BF6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66592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1C3-66D7-4727-8BED-61AF74F18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A2D-C5D7-4ABC-966A-0568B6EEFC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839440" cy="25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7ED-C6AA-49F8-A97C-3A8153902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14E-48F1-42BD-A381-CBA6A2DA8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0272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10D-8662-4738-8CE1-0A587B6B6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680-0B2F-4261-8E91-83B4EEFD9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C4F-3513-402E-98E2-4705AD206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192-60F8-421F-9F21-7AF1F5D0E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600" y="1779480"/>
            <a:ext cx="900900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5BD-3809-4420-BEE8-C2D7AC369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312-B927-4A2A-8C24-61C84347B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43912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97B-089C-4B94-A9C7-7E6F5CF366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7320" y="-1511280"/>
          <a:ext cx="7569360" cy="9882000"/>
        </p:xfrm>
        <a:graphic>
          <a:graphicData uri="http://schemas.openxmlformats.org/drawingml/2006/table">
            <a:tbl>
              <a:tblPr/>
              <a:tblGrid>
                <a:gridCol w="609480"/>
                <a:gridCol w="368280"/>
                <a:gridCol w="368280"/>
                <a:gridCol w="368640"/>
                <a:gridCol w="279360"/>
                <a:gridCol w="279360"/>
                <a:gridCol w="279360"/>
                <a:gridCol w="279360"/>
                <a:gridCol w="279360"/>
                <a:gridCol w="609480"/>
                <a:gridCol w="609840"/>
                <a:gridCol w="368280"/>
                <a:gridCol w="368280"/>
                <a:gridCol w="330120"/>
                <a:gridCol w="330120"/>
                <a:gridCol w="33048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87320" y="-1314360"/>
          <a:ext cx="7569360" cy="9486720"/>
        </p:xfrm>
        <a:graphic>
          <a:graphicData uri="http://schemas.openxmlformats.org/drawingml/2006/table">
            <a:tbl>
              <a:tblPr/>
              <a:tblGrid>
                <a:gridCol w="609840"/>
                <a:gridCol w="368280"/>
                <a:gridCol w="368280"/>
                <a:gridCol w="368280"/>
                <a:gridCol w="279360"/>
                <a:gridCol w="279360"/>
                <a:gridCol w="279360"/>
                <a:gridCol w="279360"/>
                <a:gridCol w="279360"/>
                <a:gridCol w="609840"/>
                <a:gridCol w="609480"/>
                <a:gridCol w="368280"/>
                <a:gridCol w="368280"/>
                <a:gridCol w="330120"/>
                <a:gridCol w="330480"/>
                <a:gridCol w="330120"/>
                <a:gridCol w="330120"/>
                <a:gridCol w="266760"/>
                <a:gridCol w="3045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97840" cy="37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209-447D-4028-A258-931F598B86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95D-64BB-45F2-8726-7C4A6E8EC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693280" cy="35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263-598B-4468-9628-37C9676DC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7-12-03T16:53:31Z</dcterms:modified>
  <cp:revision>7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40420146F57174D83BDFBEBF2D130460700E125D9B764E4DA448BFC30A2A3ECD211000000B42E830000A8F0C0500F07BC4C8C9F54CDE913A077000000B2CB680000</vt:lpwstr>
  </property>
  <property fmtid="{D5CDD505-2E9C-101B-9397-08002B2CF9AE}" pid="3" name="_NewReviewCycle">
    <vt:lpwstr/>
  </property>
  <property fmtid="{D5CDD505-2E9C-101B-9397-08002B2CF9AE}" pid="4" name="_ReviewCycleID">
    <vt:r8>1640113298</vt:r8>
  </property>
  <property fmtid="{D5CDD505-2E9C-101B-9397-08002B2CF9AE}" pid="5" name="_TentativeReviewCycleID">
    <vt:r8>1640113298</vt:r8>
  </property>
</Properties>
</file>