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D5DA-B61D-4C21-B6AA-41D900CA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B944-CA2E-4FCD-BE17-85521DC4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69E6-92EE-4B93-859C-9063DEBA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093B-9EF9-418F-9BEC-4B50FE81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3B29-0F00-4C4E-82BC-006AF345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CE0E-35E8-42D7-9925-3724094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8850-E227-45D2-98C5-329F063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0A24-E6A1-467D-87EC-A88CC44C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4C53-9D03-46E7-ABFD-25A0FD8B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86C8-B270-4793-B57A-B512EB5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E976-493C-4192-8EBF-F486A66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A22E-72B3-4392-A81A-4E45CD8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8D31-9278-46D0-93D8-F3EB4C845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A073-B9E4-426E-A275-2FC5CCEC3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01C-312C-4000-82C1-158B48B4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FB3-72E9-452E-BAB2-446D5ED10301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sts.ercot.com/" TargetMode="External"/><Relationship Id="rId2" Type="http://schemas.openxmlformats.org/officeDocument/2006/relationships/hyperlink" Target="http://nodal.ercot.com/docs/pd/nmms/" TargetMode="External"/><Relationship Id="rId3" Type="http://schemas.openxmlformats.org/officeDocument/2006/relationships/hyperlink" Target="mailto:jmoseley@ercot.co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ment of NMMS Security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/Train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hn Moseley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twork Modeling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6ED1B96-A01A-4AF1-825D-8DF7F940BF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ngs to pond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303" t="0" r="0" b="0"/>
          <a:stretch/>
        </p:blipFill>
        <p:spPr>
          <a:xfrm rot="5400000">
            <a:off x="6040440" y="1731600"/>
            <a:ext cx="2814480" cy="270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05740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, security can be viewed as two layers, an authentication layer, and an authorization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35268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Corporate security will control the authentication layer thru the use of digital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762120"/>
            <a:ext cx="512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st of you, there are two levels of staff between your modeling information and our modeling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648320"/>
            <a:ext cx="504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Network Modeling will control the authorization layer thru the use and ability to assign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4805F-F54A-450F-87EE-CCBDDB17E8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C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C Guid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ally they all boil down to the concept that people who are not authorized to view/manipulate data should not be able to do 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decides if a person is authorized --- YOU DO 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79444D-7DBD-4CBF-8122-86341552CC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will be initial issues with security access and role definition. ERCOT is requesting that as these issues are identified please let us know immediate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pt notification of problems to both Network Modeling and the ERCOT Helpdesk are essential to maintain function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’s Conspiracy Theory #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 so often IT does something to break functional systems so that they justify their existence by repairing them. (Of course I’m jok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4B22D4-6BC7-4B34-BC10-5083F2A21C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MMS 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, if you have not already, sign up on the NMFG email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sts.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, the websi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odal.ercot.com/docs/pd/nmm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ly, my e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moseley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76960" y="4419720"/>
            <a:ext cx="27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dal Modeling Foru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6583C2-A401-4B43-9FDB-B067179423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moseley</cp:lastModifiedBy>
  <dcterms:modified xsi:type="dcterms:W3CDTF">2007-05-18T13:21:59Z</dcterms:modified>
  <cp:revision>27</cp:revision>
  <dc:subject/>
  <dc:title>Instructions</dc:title>
</cp:coreProperties>
</file>