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9283-9834-406D-A467-D6359DCF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9938-0AB0-402B-9854-537A68D5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6F9D-1C13-4CBF-8A98-5F42D366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EC0A-CE70-4D37-8D38-35BBD2D7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2D24-0F7E-4103-8A31-99BA5E62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DB7D-40E5-46D3-A36E-94A94642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2F6A-DBFC-48F0-BCC1-41C699F2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E9D5-9BEF-4BBE-9A7F-5A3AAFCF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71EB-8E66-4708-980A-CCEDD2A7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7197-4920-4364-84AE-EBE7BC70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F652-0D12-4DCC-94B1-BED04CA3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12BD-234A-4B4C-A33A-5CBC411F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D664-3EE3-4B34-BDCB-6BEF56E24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8AD1-544B-499C-9B8D-096F4A910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28C9-B738-47ED-8CF5-0C9E56559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1FAC-AEDF-4D9A-B3F2-1A771628479A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Discussion of Issues (Q &amp; A)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ohn Moseley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twork Modeling Gro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BAA96BD-2E8E-449F-8614-0935C5A830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oughts to start with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MMS is both a strategic, logic-based, pro-active, enterprise solution  and  a tactically integrated simulation and virtual extended enabler that provides a holistic relational mindset enterprise which harmonizes synergies in a customer driven group wide scenari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E0EA88-D426-4B1C-805B-5324B94790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moseley</cp:lastModifiedBy>
  <dcterms:modified xsi:type="dcterms:W3CDTF">2007-05-18T12:29:06Z</dcterms:modified>
  <cp:revision>23</cp:revision>
  <dc:subject/>
  <dc:title>Instructions</dc:title>
</cp:coreProperties>
</file>