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A1E80F-AB61-4A74-A4FF-68B795B9E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C2DF6D5-FFE0-4A24-9880-C716A086D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B0183BE-D17A-4ABA-BF05-16C3B59168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9827C2-F1FA-40F2-AE44-7BD9645E04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B3F8D8-F276-419E-A3F7-5E8891ACF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B9785B5-9ABE-4213-904B-2354F76D2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91962C-24E4-4068-80E0-1B649B9E4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E6EF283-D33B-4EC2-95B1-ABEE813A3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0B73CCB-53BF-4F5A-BC4C-6F7E174D56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A384FD-EE42-4DA2-88E3-9327C9B7F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C0FD66-6B98-4CC8-BCD9-59702BBD9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2B98F2-FB27-48C7-8F0F-06ED84BC67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5AC7-3217-4FFF-9A44-D3E873874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592D-57C3-49DE-A1B7-D3B43BB71CD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34EF-EB67-4540-B014-39CC0B7E2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95EC-D160-4133-895D-02219858A479}" type="datetime">
              <a:rPr b="1" lang="en-US" sz="2400" spc="-1" strike="noStrike">
                <a:solidFill>
                  <a:srgbClr val="ffffff"/>
                </a:solidFill>
                <a:latin typeface="Times New Roman"/>
              </a:rPr>
              <a:t>07/29/26</a:t>
            </a:fld>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lists.ercot.com/" TargetMode="External"/><Relationship Id="rId2" Type="http://schemas.openxmlformats.org/officeDocument/2006/relationships/hyperlink" Target="http://nodal.ercot.com/docs/pd/nmms/" TargetMode="External"/><Relationship Id="rId3" Type="http://schemas.openxmlformats.org/officeDocument/2006/relationships/hyperlink" Target="mailto:jmoseley@ercot.co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Data Migration and Corrections</a:t>
            </a:r>
            <a:r>
              <a:rPr b="0"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hn Moseley</a:t>
            </a:r>
            <a:r>
              <a:rPr b="0" lang="en-US" sz="2000" spc="-1" strike="noStrike">
                <a:solidFill>
                  <a:srgbClr val="ffffff"/>
                </a:solidFill>
                <a:latin typeface="Arial Black"/>
              </a:rPr>
              <a:t>	</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twork Modeling Group</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dal Modeling Forum</a:t>
            </a:r>
          </a:p>
        </p:txBody>
      </p:sp>
      <p:sp>
        <p:nvSpPr>
          <p:cNvPr id="5" name="PlaceHolder 4"/>
          <p:cNvSpPr>
            <a:spLocks noGrp="1"/>
          </p:cNvSpPr>
          <p:nvPr>
            <p:ph type="dt" idx="4"/>
          </p:nvPr>
        </p:nvSpPr>
        <p:spPr/>
        <p:txBody>
          <a:bodyPr/>
          <a:p>
            <a:fld id="{8C83BB94-F2D1-4F52-B192-EF1FAB1E2E8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Plan:</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 data from the AREVA GENSYS, place it into CIM/XML and import it into the NMMS databas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ng an internet-based graphical editor/viewer on-line for use by the MP, as well as a CIM compliant model for use in verificatio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e State Estimator, Topology Analyzer, ICCP, Black Magic, and other assorted processes, review and correct model opportuniti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BF4E3D71-AB58-4EA5-BAEC-9BC610DF355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cerpts  from EDS 2</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that the Network Model Management System (NMMS) database has been successfully loaded with:</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Operations Model datab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CP modeling point datab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hip / Operatorship inform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dynamic rating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Contingencie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Special Protection Schemes (SPS) / Remedial Action Plans (RAP)</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load rollover mechanic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2645B982-643E-4559-AAAB-CBEBCAAFCB0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cerpts  from EDS 2</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y that ERCOT shall make available the full transmission model that is used to manage the reliability of the transmission system.</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e export is in CIM format and Web-based XML commun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MMS database has been place under full change control by the ERCOT Network Model Group</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chmark results against Zonal real-time operations data.</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5FF3B39F-5845-44C5-91A0-40E761F3167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DS 2 Exit Criteria</a:t>
            </a:r>
            <a:endParaRPr b="0" lang="en-US" sz="2000" spc="-1" strike="noStrike">
              <a:solidFill>
                <a:srgbClr val="ffffff"/>
              </a:solidFill>
              <a:latin typeface="Arial Black"/>
            </a:endParaRPr>
          </a:p>
        </p:txBody>
      </p:sp>
      <p:sp>
        <p:nvSpPr>
          <p:cNvPr id="99" name="PlaceHolder 2"/>
          <p:cNvSpPr>
            <a:spLocks noGrp="1"/>
          </p:cNvSpPr>
          <p:nvPr>
            <p:ph/>
          </p:nvPr>
        </p:nvSpPr>
        <p:spPr>
          <a:xfrm>
            <a:off x="533520" y="914040"/>
            <a:ext cx="82296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is ready to fully utilize the NOMCR process for all TSP data change requests. QSE changes will utilize the existing SR application capabilities (no change), with ERCOT adding the infomration through a NOMCR to the NMMS applicatio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P MPs can successfully submit data changes via the CIM compliant electronic NOMCR proces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E can successfully submit data changes through registration submissions (and updated in the Network Operations Model via the NOMCR proces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has processes in place to use a “single entry point” to maintain both Nodal and Zonal network model databases when MPs submit changes via the NOMCR pro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E3E0A003-5759-4344-B39A-D1A251DEFCC4}"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NOMCR Process (nutshell version)</a:t>
            </a:r>
            <a:endParaRPr b="0" lang="en-US" sz="2000" spc="-1" strike="noStrike">
              <a:solidFill>
                <a:srgbClr val="ffffff"/>
              </a:solidFill>
              <a:latin typeface="Arial Black"/>
            </a:endParaRPr>
          </a:p>
        </p:txBody>
      </p:sp>
      <p:graphicFrame>
        <p:nvGraphicFramePr>
          <p:cNvPr id="101" name=""/>
          <p:cNvGraphicFramePr/>
          <p:nvPr/>
        </p:nvGraphicFramePr>
        <p:xfrm>
          <a:off x="914400" y="684360"/>
          <a:ext cx="7620120" cy="5719680"/>
        </p:xfrm>
        <a:graphic>
          <a:graphicData uri="http://schemas.openxmlformats.org/presentationml/2006/ole">
            <p:oleObj r:id="rId1" spid="">
              <p:embed/>
              <p:pic>
                <p:nvPicPr>
                  <p:cNvPr id="102" name="" descr=""/>
                  <p:cNvPicPr/>
                  <p:nvPr/>
                </p:nvPicPr>
                <p:blipFill>
                  <a:blip r:embed="rId2"/>
                  <a:stretch/>
                </p:blipFill>
                <p:spPr>
                  <a:xfrm>
                    <a:off x="914400" y="684360"/>
                    <a:ext cx="7620120" cy="5719680"/>
                  </a:xfrm>
                  <a:prstGeom prst="rect">
                    <a:avLst/>
                  </a:prstGeom>
                  <a:ln w="9360">
                    <a:solidFill>
                      <a:srgbClr val="000000"/>
                    </a:solidFill>
                    <a:miter/>
                  </a:ln>
                </p:spPr>
              </p:pic>
            </p:oleObj>
          </a:graphicData>
        </a:graphic>
      </p:graphicFrame>
      <p:sp>
        <p:nvSpPr>
          <p:cNvPr id="3" name="PlaceHolder 2"/>
          <p:cNvSpPr>
            <a:spLocks noGrp="1"/>
          </p:cNvSpPr>
          <p:nvPr>
            <p:ph type="ftr" idx="2"/>
          </p:nvPr>
        </p:nvSpPr>
        <p:spPr/>
        <p:txBody>
          <a:bodyPr/>
          <a:p>
            <a:r>
              <a:t>Nodal Modeling Forum</a:t>
            </a:r>
          </a:p>
        </p:txBody>
      </p:sp>
      <p:sp>
        <p:nvSpPr>
          <p:cNvPr id="4" name="PlaceHolder 3"/>
          <p:cNvSpPr>
            <a:spLocks noGrp="1"/>
          </p:cNvSpPr>
          <p:nvPr>
            <p:ph type="dt" idx="3"/>
          </p:nvPr>
        </p:nvSpPr>
        <p:spPr/>
        <p:txBody>
          <a:bodyPr/>
          <a:p>
            <a:fld id="{E5060AF5-5269-4D71-AD21-98644EFBE6D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Information</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if you have not already, sign up on the NMFG email lis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lists.ercot.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the websi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nodal.ercot.com/docs/pd/nm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ly, my email</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jmoseley@ercot.com</a:t>
            </a:r>
            <a:endParaRPr b="0" lang="en-US" sz="2000" spc="-1" strike="noStrike">
              <a:solidFill>
                <a:srgbClr val="000000"/>
              </a:solidFill>
              <a:latin typeface="Arial"/>
            </a:endParaRPr>
          </a:p>
        </p:txBody>
      </p:sp>
      <p:sp>
        <p:nvSpPr>
          <p:cNvPr id="105" name=""/>
          <p:cNvSpPr/>
          <p:nvPr/>
        </p:nvSpPr>
        <p:spPr>
          <a:xfrm>
            <a:off x="3576960" y="4419720"/>
            <a:ext cx="2703240" cy="5814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E15D27A8-B11C-44E7-A3BC-6A1AB7AA534A}"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rchudgar</cp:lastModifiedBy>
  <dcterms:modified xsi:type="dcterms:W3CDTF">2007-05-15T12:24:38Z</dcterms:modified>
  <cp:revision>27</cp:revision>
  <dc:subject/>
  <dc:title>Instructions</dc:title>
</cp:coreProperties>
</file>