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8F2-EEA9-4DF1-BE1B-E9F1DFB4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3BD-7CE7-4D3F-86B9-C6ABBC01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FAA-B380-4A87-9B31-7DCAAEEC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79C-E3B0-4DFA-8ED7-E480D988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C8C7-A187-486E-A05B-B712F940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635E-DA3D-40D2-9660-F88DF611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781B-39BA-4ED7-956E-A59D1ABA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0D45-EC91-40EC-962E-1BA31AC8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37EB-A3E9-4F86-B947-A54FF11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1545-380D-456C-B8CF-78F2FEB3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6D1-5035-4125-A3D0-C8905EF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6E5-D184-453D-ACCB-960D0533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6F48-537D-460E-8850-B946B50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1274-772E-4859-B0C6-490B6EB7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FAFA-8BF3-4EB4-9B36-A432AE42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1C2A-475B-41FE-8047-97E5E17E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F9CE-8216-433F-B742-708CF5A0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F97-9FC5-4208-B405-3D12BAF6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16F-4AD3-4C03-89C0-DEA7D3A2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A9D-395A-4B1E-82B6-E6EE9FF2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009-EB85-42AC-927E-69211C22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D15-2E57-48C8-9C20-5B97E40E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3A8-CA6F-4081-84D2-0D30049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8DF-9BFB-4C35-923F-A68F96BA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3A32-09C6-437B-8C2B-3BF835481F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0C92-097B-4D12-B9F7-97102ED4DD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183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M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295280"/>
            <a:ext cx="4952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TC and Case Builder UI’s</a:t>
            </a:r>
            <a:br>
              <a:rPr sz="44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(that we have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This is screen showing Test Model generator after user clicks on Select NOMCR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3915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This is screen showing Production Model generator after user clicks on check selected NOMCR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CRR Model generator (Build Model)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86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CRR Model generator (Generate Model Files)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86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Scheduled Model generator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70581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952880" y="304920"/>
          <a:ext cx="40212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04920"/>
                    <a:ext cx="40212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0" y="0"/>
          <a:ext cx="4722840" cy="65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72284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Summary screen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549360"/>
            <a:ext cx="6514920" cy="630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15200" y="2286000"/>
            <a:ext cx="16016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is is the first screen based on your wire frame –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p grid is for existing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any project brings the lower grid with list of NOMCRs undern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new (green arrows) will  allow user to create a new NOMCR under that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projectid will bring up the edit project 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5029200"/>
            <a:ext cx="16016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changerequestid will will bring up the edit NOMCR 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Create Project screen on clicking ‘Create new Project’ button on Summary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81160" y="1805040"/>
            <a:ext cx="4981680" cy="3247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162920" y="2057400"/>
            <a:ext cx="1828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our second wireframe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licking on Create New NOMCR on previous slide brings up this screen to let user choose the project 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Create Project screen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680" y="1123920"/>
            <a:ext cx="8974080" cy="4610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15000" y="152280"/>
            <a:ext cx="1828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p part of your project detail wireframe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e NOMCR shown here will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 not 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be visible to us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at is now for my debug that I am bringing on the right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Create NOMCR/</a:t>
            </a:r>
            <a:r>
              <a:rPr b="0" lang="de-DE" sz="1400" spc="-1" strike="noStrike">
                <a:solidFill>
                  <a:srgbClr val="006666"/>
                </a:solidFill>
                <a:latin typeface="Arial"/>
              </a:rPr>
              <a:t>Edit NOMCR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15160" cy="632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467480" y="2057400"/>
            <a:ext cx="144792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reate NOMCR page based on your wireframe and our discus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ou wanted check boxes instead of ‘None’ buttons. Also Show Dependent NOMCRs’  button instead of expanding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lease note edit NOMCR will be very similar to this one with some minor differ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Edit Project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568440"/>
            <a:ext cx="6585120" cy="6454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467480" y="2743200"/>
            <a:ext cx="14479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our last wireframe p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When user clicks on projectid on first screen, this comes up allowing user to edit the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PTC UI Select NOMCR screen on clicking ‘select NOMCR’ from Create NOMCR for dependency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909720"/>
            <a:ext cx="7305840" cy="5948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41960" y="30034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2895480"/>
            <a:ext cx="14479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is is not yet ready with checkbo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his will have your advanced 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19807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ase Build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57200"/>
            <a:ext cx="183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M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0:03:29Z</dcterms:created>
  <dc:creator>Manjusri Sengupta</dc:creator>
  <dc:description/>
  <dc:language>en-US</dc:language>
  <cp:lastModifiedBy>Joel Koepke</cp:lastModifiedBy>
  <dcterms:modified xsi:type="dcterms:W3CDTF">2007-05-18T14:14:42Z</dcterms:modified>
  <cp:revision>67</cp:revision>
  <dc:subject/>
  <dc:title>          ERCOT Project Tracker and Coordinator</dc:title>
</cp:coreProperties>
</file>