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5129-6B85-4693-A30B-EAAFF55BA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E541-533D-4B95-99B1-2D93AFF81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9F10-B58B-4B27-8961-1EE244427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2D6B-1261-4983-952F-874DC4B40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8A5A-12D2-4E54-A15F-E4FC6C87C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C82F-0D53-44B6-946E-15F9B717E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6ED4-8121-4B08-9C88-F877043BE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7C9B-9C6B-44CD-81E2-098693B52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FBB7-22D4-454C-950D-DC1C78F85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D88A-5DF6-49E3-9D0B-FEC2E08F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A980-3A88-410A-80A4-C4B7949ED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3688-1AE3-46D7-95DF-724055B1A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6248520"/>
            <a:ext cx="4648320" cy="609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B50-143E-45BD-8922-1B842A06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904760"/>
            <a:ext cx="7362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ditional Responsive Reserv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914400"/>
          <a:ext cx="8229600" cy="5365800"/>
        </p:xfrm>
        <a:graphic>
          <a:graphicData uri="http://schemas.openxmlformats.org/drawingml/2006/table">
            <a:tbl>
              <a:tblPr/>
              <a:tblGrid>
                <a:gridCol w="811080"/>
                <a:gridCol w="1444680"/>
                <a:gridCol w="1990800"/>
                <a:gridCol w="1992240"/>
                <a:gridCol w="1990800"/>
              </a:tblGrid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lt; 8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gt;= 85, but &lt;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 of hours forecasted &gt;=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4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3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7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1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5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5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9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7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8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3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percentages only include between hour ending 6 and hour ending 22 for each da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Included in the days for 2007 are January 1 thru October 2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lt; 8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gt;= 85, but &lt;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hours forecasted &gt;= 95 in day-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of Coast and North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4ED1-950E-4A0F-B16B-C67704F33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reli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that adequate reserve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Clearing Price of Energy is synchronized with reliabil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design will allow for price response before manual reliability actions 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0156-11DD-4B02-87F6-0C09340B4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ditional 500 MW of Responsive Reser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ven percent discount is currently applied to the HOL of every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Responsive Reserve is approximately 1000 – 800 MW less than Responsive Rese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dditional 500 MW of responsive was deriv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ve Reserve Obligation equals 23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Up Obligation average equals 7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unadjusted Obligation equals 3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discount would equal approximately 2000 MW Adjusted Responsive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500 MW of responsive would result in approximately 2500 MW of Adjusted Responsive Reserve and thus allow the market time to work before the need to OOME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5403-4CA0-4480-AE21-95C94A9728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4280" y="52578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38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3526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57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8672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2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59432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505320" y="533376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35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91440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19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2670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84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1430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68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04812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66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8098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9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05120" y="3809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057040" y="3352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3812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57600" y="1447920"/>
            <a:ext cx="76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240" y="32004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581280" y="38098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343B-D5C1-42FA-B036-5DCE709B5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2520" y="5562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83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12408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13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8006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9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5053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952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4290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2BBA-9B0D-4110-A6F2-B120B211E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4120" y="5791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1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548640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37 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819520"/>
            <a:ext cx="99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1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00600" y="59436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6386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24080"/>
            <a:ext cx="2286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D70C-8E74-4009-81DF-4DA8F3A8C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ECP 02-24-07 ADJ RRS WITH DIFFERENT DISCOUNT FACTOR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53352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B579-4969-4445-9F61-42F550005B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implementing a temperature dependant discount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ly 100 MW of discount equals 1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purchase 500 MW of additional Responsive Reserve for the hours in which the next day temperature forecast is 95 degrees or higher in either North Central or Coast (7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300 MW of additional Responsive Reserve for the hours in which next day temperature forecast is between 85 and 95 degrees (5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200 MW of additional Responsive Reserve for the hours in which next day temperature forecast is less than 85 degrees (4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4934-8EFE-4151-AD21-AA9A1EF95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38:59Z</dcterms:created>
  <dc:creator>shsien</dc:creator>
  <dc:description/>
  <dc:language>en-US</dc:language>
  <cp:lastModifiedBy>jdumas</cp:lastModifiedBy>
  <dcterms:modified xsi:type="dcterms:W3CDTF">2007-11-28T22:24:38Z</dcterms:modified>
  <cp:revision>84</cp:revision>
  <dc:subject/>
  <dc:title>Computer-Aid Power System Restoration  Operations Planning Group Operations Engineer: Shun-Hsien Huang</dc:title>
</cp:coreProperties>
</file>