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C0B-3068-460D-907F-3068EA91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9BF-321C-4ABE-B30D-DE3A5F0C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D63-6AFC-4A87-9C06-5036EF68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3C4-3DB9-48FC-87CE-72BB239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09F-0B07-4B31-BCB0-384A044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782-CABE-424E-A181-44EE5D8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662-86C5-4B01-9E29-8CD857A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E7F-C822-4D21-9585-00D63EA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7C8-5F2C-4A1F-A64E-167F67A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304-F5BD-4F68-82D8-5A6A2B8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77-5C65-4C12-9FEC-CA10BDA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466-299E-42E8-A695-60E4BE7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B624-68F8-4B96-8F7A-1A702BCA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28127" t="0" r="45313" b="0"/>
          <a:stretch/>
        </p:blipFill>
        <p:spPr>
          <a:xfrm>
            <a:off x="0" y="0"/>
            <a:ext cx="151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9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8, 2007 RO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L/CURL and PSS Ad Hoc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Standards GAP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8, 2007 ROS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ed comments on BEER Task Force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on Telemetr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process to review network “Observabi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3 methods to solve State Estimator “Observability”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L/CURL and PSS Ad Hoc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point hosted a PSS Seminar on November 3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I gave training concerning PSS modeling and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SS applications in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NOGR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eed for PSS study and te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C Standards GAP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will charter a Gap Analysis to link NERC Standards with Protocols, Operating Guid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rocess started with Transmission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y requirements in NERC Standards that have not been add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ERCOT can demonstrat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roles and responsibilities of ERCOT and Mark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potential delegation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5:53:54Z</dcterms:created>
  <dc:creator>sschneid</dc:creator>
  <dc:description/>
  <dc:language>en-US</dc:language>
  <cp:lastModifiedBy>LCRA Employee</cp:lastModifiedBy>
  <dcterms:modified xsi:type="dcterms:W3CDTF">2007-11-28T19:30:38Z</dcterms:modified>
  <cp:revision>55</cp:revision>
  <dc:subject/>
  <dc:title>Slide 1</dc:title>
</cp:coreProperties>
</file>