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66B-93D7-4F04-9437-73710D17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2CD-3D6A-4C19-A33E-DC830880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EE0-274B-4C0E-B368-A0362B5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182-8288-4946-974B-F0865C19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E50-2AEC-4983-9CBC-0D86AE2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475-3248-4177-A191-D2180EC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C9E-B5FA-49E3-9D06-9E99E583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20C-DF26-4EDB-9B4F-5D1E251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9ACF-3D3B-4F27-9C14-914B23B0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54D-5C2B-44FC-BD49-FA085E89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F2E-A1D5-4005-A5B4-6EFB60D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8D0-6A90-4DCF-BF67-24A9A5C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69EC-6E0F-4042-91BF-3260147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2600-9ABB-44BD-A4EA-F90B2AF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656-C2D0-4D0D-B9C9-1B93A24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966-8E7A-4234-93BE-9A24FA92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9490-76EE-45F8-B9A1-2377E674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3F7-C21C-4234-B04D-C0C8E0F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589-EB78-4FE2-BFAC-96EE5CB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A46-C901-442C-969C-BC39A15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752-4DE8-4E5F-8ACA-C45FEE1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633-422C-4B0F-AFC1-2277ECB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710-C649-461C-A74F-ACC8DF1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467-BF53-44BB-B08E-BCECC8D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DF5-2812-4022-9DF3-7E35D7C14F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E333-04E8-4F22-BAA3-8FAD29D4FD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9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Procedures Guide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rak Phas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on ID Updates Prior to Nod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 Cart Bud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X SET Procedures Guide Upd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proved” Texas SET Working Group Procedures documentation, changes includ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guidelines for implementing change control request received outside of version releases (RMS Action item from August RMS meet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imeline for updates to TX SET Implementation Guides for a Version Releas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exas SET Acceptable Extended Character SETs for Alphanumeric data fields in the Texas SET transactions and SEF File process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dating website references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-organizing the flow of the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rkeTrak Phase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Requirements Documents Def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ed off on by Task Force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ted to ERCOT for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 Testing Requirements Defined and Submitted to TX Test Plan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on ID Updates Prior to Nod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 million ESI ID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s naming nomenc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requested direction from 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directed to follow process used for Annual Valid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ication to Market Participants before end of Nov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Updates to be coordinated through February and March at approximately 30K/day on weekdays and 50K on weekend days with no conflict to ERCOT maintenance or release wind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O Cart Budge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7.1M Budgeted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2.9M Allocated in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howed Allocation of $2.5M to IO, CO and 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.6M Still to be alloc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Requested ERCOT to return to RMS to Provide Detail of Funding Allocation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11-20T16:12:13Z</dcterms:modified>
  <cp:revision>48</cp:revision>
  <dc:subject/>
  <dc:title>RMS Update to TAC</dc:title>
</cp:coreProperties>
</file>