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72B0C9E-E577-4C1A-99A5-4B85548F5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5840" y="698400"/>
            <a:ext cx="4656240" cy="3492720"/>
          </a:xfrm>
          <a:prstGeom prst="rect">
            <a:avLst/>
          </a:prstGeom>
          <a:ln w="0">
            <a:noFill/>
          </a:ln>
        </p:spPr>
      </p:sp>
      <p:sp>
        <p:nvSpPr>
          <p:cNvPr id="10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 took us through the changes to PRR746.  WMS asked for some documentation on how ERCOT will make decisions regarding “reasonableness”.  This is in the PRR pip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tis went over the definition for Settlement points and talked about where there are likely to be exceptions.  The norm is the high side of the step up transformer.  There are some exceptions where that is not a clear answer.  An example is the LCRA Wirtz hydro that is connected to the tertiary of an auto controlled by the T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o warmed us up to a lengthy discussion we are going to have in December on the Verifiable Cost Methodology.  WMS is supposed to be finished with this by the end of the year.  A lot of work has gone on and TPTF is still working on it and will probably propose some protocol changes soon.  - From Bill Barnes E-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responsible for price setting through start-up and minimum-energy offer capping, start-up and minimum-energy proxy offers, and real-time energy offer curve mitigate, nodal verifiable cost seems to have been an unexplored frontier up until a few months ago and I can tell you trying to create definition around the details has been contentiou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5840" y="698400"/>
            <a:ext cx="4656240" cy="3492720"/>
          </a:xfrm>
          <a:prstGeom prst="rect">
            <a:avLst/>
          </a:prstGeom>
          <a:ln w="0">
            <a:noFill/>
          </a:ln>
        </p:spPr>
      </p:sp>
      <p:sp>
        <p:nvSpPr>
          <p:cNvPr id="10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bel took us back over some of the details associated with some high congestion costs at the end of September and early October associated with the South to Houston C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y, Isabel raised for WMS’s awareness an ommission on the CRE list.  The Tradinghouse to Lake line…… This needs a TAC v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update and add slide by Ma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C7B90-48E0-45D7-97FA-0A864C96A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20809-CB21-4956-916D-90AC24B27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3A75A-DCC1-41BE-A0BA-FF97FEFAE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822EE-BA01-4B51-80AC-593419C53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0C257-B7B7-44E5-A635-3C0C6B1CF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0B87B-48C8-4B49-93CF-8E0155D81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15192-256B-41D2-B7A5-E8E880589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D8999-0982-4F5F-BF8A-56D77FDED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FEA86-A641-4EAB-A72F-43BD34088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88BC1-2B69-463C-B0E6-9C3D6F3CF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53886-9D24-4230-B249-C9CC75A20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F5BFF-7AAB-4380-B0ED-46800A1D3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FF800-565D-4E39-A5D7-807E3D778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899EB-3DB8-43FC-98A8-C0FABA314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F418B-39F4-4578-9970-6E7029868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29942-E4A6-4012-8A18-92EA9FDFA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5A65F-F4EB-4435-9F9D-AACC3CD9C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D8EAB-4058-49EA-98F4-C8256F859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CB1B5-D84A-4547-B692-5DCAAC56B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4D3A9-3CA7-452B-BF8F-6591B93D7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A6CBC-B634-4EE5-83A8-2BBC44CB7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EF462-5A0B-4424-BD68-B2A5DCFBD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C0864-0FB5-4F2E-87E4-967175C87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C8D2-8741-41A3-8F44-9E21C446E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B86A-B9C8-4BEF-ADDF-53D52C78AF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4CC5-F1AC-4F69-B775-ED16666585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cember 2007</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DD64CA41-E24B-4836-979F-0A472F107F7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Working Group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 Staff Repor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6F320CE-6141-405C-86FB-FD6C1AA647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aff Reports</a:t>
            </a:r>
            <a:endParaRPr b="0" lang="en-US" sz="4400" spc="-1" strike="noStrike">
              <a:solidFill>
                <a:srgbClr val="e5ffff"/>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R746, Revisions to EILS Provisions to Conform to Amended P.U.C. Subst. R. 25.507</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Follow-up Discussion of Settlement Points </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Verifiable Cost Methodology, Progress Report</a:t>
            </a: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596871B5-A6E2-4366-9E7D-4F3B5D81EE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aff Reports</a:t>
            </a:r>
            <a:endParaRPr b="0" lang="en-US" sz="4400" spc="-1" strike="noStrike">
              <a:solidFill>
                <a:srgbClr val="e5ffff"/>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gestion Report on Recent Events (September 24 – October 3)</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RE omission - Tradinghouse to Lake Creek (TAC vot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S cost September 06 VS 07</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0BD1D5F-1084-43A9-8E71-F47E0855D5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BES cost September 06 VS 07</a:t>
            </a:r>
            <a:endParaRPr b="0" lang="en-US" sz="4000" spc="-1" strike="noStrike">
              <a:solidFill>
                <a:srgbClr val="e5ffff"/>
              </a:solidFill>
              <a:latin typeface="Tahoma"/>
            </a:endParaRPr>
          </a:p>
        </p:txBody>
      </p:sp>
      <p:pic>
        <p:nvPicPr>
          <p:cNvPr id="98" name="" descr=""/>
          <p:cNvPicPr/>
          <p:nvPr/>
        </p:nvPicPr>
        <p:blipFill>
          <a:blip r:embed="rId2"/>
          <a:stretch/>
        </p:blipFill>
        <p:spPr>
          <a:xfrm>
            <a:off x="457200" y="1828800"/>
            <a:ext cx="8153280" cy="5173560"/>
          </a:xfrm>
          <a:prstGeom prst="rect">
            <a:avLst/>
          </a:prstGeom>
          <a:ln w="0">
            <a:noFill/>
          </a:ln>
        </p:spPr>
      </p:pic>
      <p:sp>
        <p:nvSpPr>
          <p:cNvPr id="3" name="PlaceHolder 2"/>
          <p:cNvSpPr>
            <a:spLocks noGrp="1"/>
          </p:cNvSpPr>
          <p:nvPr>
            <p:ph type="sldNum" idx="3"/>
          </p:nvPr>
        </p:nvSpPr>
        <p:spPr/>
        <p:txBody>
          <a:bodyPr/>
          <a:p>
            <a:fld id="{506DEE0D-BEEF-499A-B312-54401968B6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EER Task Force Report</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cess</a:t>
            </a:r>
            <a:endParaRPr b="0" lang="en-US" sz="28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oard asked question</a:t>
            </a: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MS formed BEER</a:t>
            </a: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EER met and expanded questions</a:t>
            </a: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OS took up their questions</a:t>
            </a: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EER met and continued work</a:t>
            </a: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MS took up their questions</a:t>
            </a: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MS and BEER met and drafted response</a:t>
            </a:r>
            <a:endParaRPr b="0" lang="en-US" sz="24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MS Response to TAC/Board Question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66BC5E8-E2F2-4FCC-83B7-4361860152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ction of WMS</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MS endorses the responses to TAC and Board questions as revised by attendees of a duly noticed WMS meeting on Monday, November 26, 2007 at ERCOT Austi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assed with 81% of the vote</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8A9EDB2-E42C-4238-99D6-139C284883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vember 2007</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756F67F6-45BB-4F60-9CD3-37EA0A0FF55D}"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albracht</cp:lastModifiedBy>
  <dcterms:modified xsi:type="dcterms:W3CDTF">2007-11-30T22:18:23Z</dcterms:modified>
  <cp:revision>149</cp:revision>
  <dc:subject/>
  <dc:title>WMS Report TO TAC</dc:title>
</cp:coreProperties>
</file>