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E97-7688-4164-9355-72980652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C4A-C5E5-48C9-B77F-125D4E04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37E-950E-4E2E-A63E-5E026274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858-B687-48B4-AEBA-3866C0CC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B5C-070A-4607-B13A-0D7AA0F4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3F8-328B-4C35-B1EE-4C7EA970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43D-B560-49BD-B300-C46CF0BB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590-F839-447B-ADE1-02245170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CF2-C21A-4F06-8D36-B7D704A5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7F1-3214-4784-AA5F-39057E31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137-C147-479A-8F93-40DD3E36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AF8-37F3-440E-96DF-17494D15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FAEF-CD98-4909-A138-5D65F8BBC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tributed Gener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k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29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C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IDR Profile Sett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ly limited to solar, perhaps limited to small instal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G Owner installs 2-channel, non-IDR meter to separately measure excess load and excess generation in the aggre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ad and generation values are spread across previously-developed load and generation profiles or a hybrid load-and-generation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RCOT system change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21400" y="602136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UNDER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IDR Data Aggregation Settl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to installations for customers already on non-IDR, profiled set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limited to installations &lt;50k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G Owner installs 2-channel, non-IDR meter to separately measure excess load and excess generation in the aggre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oes not flow through full scheduling and settlement process, only through data 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, like load, is spread across pre-existing load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RCOT system change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68760" y="60958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UNDER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GTF Fo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 3693 Section 24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A § 39.914 Credit for Surplus Solar Generation by Public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 3693 Section 26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A § 39.916 Interconnection of Distributed Renewabl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C Project No. 34890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ulemaking Relating to Net Metering and Interconnection of Distributed Gen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will address these pro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COT’s Statutory Responsibility for Distributed Renewable Gen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RCOT] shall develop procedures so that the amount of electricity purchased for a district … is accounted for in settling the total load served by the provider that serves the district’s load.  A district … must have metering devices capable of providing measurements consistent with [ERCOT’s] settlement requirements.  PURA § 39.914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RCOT] shall develop procedures so that the amount of electricity purchased from a distributed renewable generation owner under … is accounted for in settling the total load served by the [distributed renewable generation owner’s retail provider] by January 1, 2009.  A distributed renewable generation owner requesting net metering services … must have metering devices capable of providing measurements consistent with [ERCOT’s] settlement requirements.  PURA § 39.916(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GTF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the status of the renewable DG owner under existing protocols and whether any protocol modification i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at meter standards are necessary to account for and settle excess generation produced by the renewable DG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ettlement methodology (actual meter reads, profiling, or some combination) for the renewable DG when acquired by the R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GTF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Force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22 (appx. 30 particip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5 (appx. 25 particip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19 (appx. 25 particip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Report to T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le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diversity of RD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use v. commercial sale of RD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of discerning and aligning incentives for REPs and RDG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city for RDG Owners, who may lack sophistication of conventional resource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gap between the present and the potential for widespread deployment of advanced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G Owner and REP already have a contract for sale of excess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tering will measure excess load and excess production, not gross load and gross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rs will only run 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ll IDR Settl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G Owner installs IDR meter to separately measure excess load and excess generation on two channels in 15-minute inc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G Owner registers as a resource (PGC) with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 QSE assumes all scheduling and settlement obligations for RDG 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 through full ERCOT settle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expensive for small (&lt;50kw) insta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TDSP tariff for IDR residential insta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require ERCOT/TDSP system changes to accommodate IDR data for residential ESI 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54480" y="60958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BEST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R Data Aggregation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G Owner installs IDR meter to separately measure excess load and excess generation on two channels in 15-minute inc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oes not flow through full scheduling and settlement process, only through data 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source registration, QSE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RCOT system change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45080" y="617220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UNDER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5:21:55Z</dcterms:created>
  <dc:creator>GP2K</dc:creator>
  <dc:description/>
  <dc:language>en-US</dc:language>
  <cp:lastModifiedBy>GP2K</cp:lastModifiedBy>
  <dcterms:modified xsi:type="dcterms:W3CDTF">2007-11-27T17:24:53Z</dcterms:modified>
  <cp:revision>5</cp:revision>
  <dc:subject/>
  <dc:title>Distributed Generation Task Force</dc:title>
</cp:coreProperties>
</file>