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89F1-B3D6-4F18-9AC5-FB56203FC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0D7D-1590-4921-87C3-E5541826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2851-44BC-4AE3-AD19-D6FEB161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3B44-0307-45CE-9DCF-C75001DA9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2699-D9D2-4CD4-BC51-D8B8C287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1948-D2E8-417C-9BE9-43862558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9C08-0A7A-4590-97B3-324101DA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E08A-3C4E-4CB6-B3BD-045A6927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1F68-735A-402A-AECC-AE630761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0A1A-17E5-4744-A656-782EAC75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4B9C-9F29-4394-96CC-9572F864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6E98-C6D2-4877-B686-C1A16027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FC6C-089D-437B-8B14-2A01A319A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Commercial Operations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November 29, 200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CDEB-15EC-4789-85D3-3E2D809B1E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02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ata Extract Working Group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DEWG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ttention is focused on recent extract issues occurring on 10/31 and 11/01 activity that has followed si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xperienced another incident of missing data from key data extracts and a Re-settlement of an Initial Statem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ncerns over basic controls that should identify major issues in extract completenes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WG Cha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Received complaints on 48-hour timeliness and notification process; however, ERCOT was within the 48-hr timing window (DEWG will be reviewing market expectations and protocol/market guide references on timeli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Communications issues, the timing of market notices to the events, and the detail provided, are concerns being discus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Requested ERCOT staff to clearly identify root cause of extract posting issues and advise of any corrective action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EE7D-BD54-4A6E-8F0E-7FB831D416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ttlements and Data Acquisition Working Group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(SDAWG)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Nodal Impact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viewed with ERCOT Staff Verifiable Cost Manual and issues related to non-fuel startup resulting from a RUC deploy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RCOT has prepared a list of issues/questions for WMS to consi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BEBF-4D8B-4EAD-B85B-530EFFE12C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810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rofile Working Group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(PWG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Demand Response Update (COPS &amp; RM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PS &amp; RMS have jointly formed a DR Task Force to build requirements for DR Programs  &amp; Report to COPS &amp; RMS by Feb. 2008 or sooner if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Jennifer Garcia, Direct Energy -Task Force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Kathy Scott, CenterPoint Energy – Task Force Vice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RCOT Staff to assemble a list of discussion items and questions for the Task Force on DR Program implem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First meeting of the DRTF was held Tuesday, November 27</a:t>
            </a:r>
            <a:r>
              <a:rPr b="0" lang="en-US" sz="2400" spc="-1" strike="noStrike" baseline="30000">
                <a:solidFill>
                  <a:srgbClr val="000099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8873-F5F4-4B2E-A140-0B48F604E4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Voting Item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WG submitted to COPS and COPS recommends to TAC approval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PGRR0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oad Profiling Guide cleanup, Corrections and Upd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cc99"/>
                </a:solidFill>
                <a:uFillTx/>
                <a:latin typeface="Times New Roman"/>
              </a:rPr>
              <a:t>VO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ercot.com/mktrules/issues/lpgrr/025-049/028/index.html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E925-67BF-45D1-A76D-784631E465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cc"/>
                </a:solidFill>
                <a:latin typeface="Times New Roman"/>
              </a:rPr>
              <a:t>Questions 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5950-50DF-4DAE-A74E-43F104440F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lstarr</cp:lastModifiedBy>
  <dcterms:modified xsi:type="dcterms:W3CDTF">2007-11-19T19:35:51Z</dcterms:modified>
  <cp:revision>239</cp:revision>
  <dc:subject/>
  <dc:title>Point-to-Point</dc:title>
</cp:coreProperties>
</file>