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72FC5-3A01-4897-BB42-D82152DA0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5963D-4D77-4975-9BF3-F8B80B46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7BD37-671B-434B-8FE3-190ABA40E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12DB7-3EF2-47B0-8163-6AA3345FE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2C9D6-EFDF-4E1F-AA14-4FD2364A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CE5AE-7D2F-491D-A720-5E5FE64D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B131F-A98D-4C75-8A52-669527DD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FD990-D797-4AFF-B8B7-80B85A92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A1236-2F7B-4D3A-A2CF-70EE7D15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BB51F-83F3-4FA4-B821-ACC1EFC9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6D710-2927-442A-8958-67DB92C2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50525-7D4D-4752-AB26-A4314D84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564A-3DC1-4BEA-A78C-05EB8BB05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Data Extracts &amp; Reporting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Recent Issues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2880" y="3581280"/>
            <a:ext cx="58863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AC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11/29/07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aron Smallwood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anager, IT Business &amp; Customer Service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RCO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cent Incidents &amp; Impac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recent types of incidents have caused delays in the batch process that in turn have impacted the posting of reports and extracts, and have delayed invoices on one occasion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base statistics inciden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l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27 – Database statistics refresh fails, requires recovery time and also causes batch to run slow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30 – Full rollback to old statistics, batch performance impro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9 – Fully caught up and processing norm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ed postings of extracts and repo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lu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 cause of the failing statistics was a software bug.  The vendor has recommended a workaround that will be used in future statistics refresh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cent Incidents &amp; Impac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backup incident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l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8 – Weekly full data backup caused servers to freeze.  Batch processing was unable to resume until servers were recovered.  Caused approximately 20 to 25 hours of batch processing del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ed hardware and software fixes recommended by the vendors in preparation for the next scheduled full data back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5 – Weekly full data backup nearly causes servers to freeze again.  Troubleshooting and recovery resulted in an additional 5 to 6 hours of delay in batch process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ed postings of extracts and repo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ed invo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solution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lu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yet resolved – we have continued to engage hardware and software vendors and many ERCOT staff are working to resolve the iss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 poin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ve not been able to reproduce the problem on cloned data in identical hardware &amp; software configur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ll not attempt another full backup until we are highly certain the problem is fix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ch processing is currently about 30 hours behind due to this issue and is averaging 3 to 6 hours per day of ‘catch up’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this rate, estimated catch up of batch processing will be during the first week of December – until then some extracts and reports will continue to be delay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empting to tune the batch jobs to speed up processing and improve performance – these require testing before promoting to produ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nue troubleshooting efforts through coordinated efforts with hardware and software vendors to resolve the iss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Aaron Smallwood</dc:creator>
  <dc:description/>
  <dc:language>en-US</dc:language>
  <cp:lastModifiedBy>balbracht</cp:lastModifiedBy>
  <dcterms:modified xsi:type="dcterms:W3CDTF">2007-11-30T22:17:11Z</dcterms:modified>
  <cp:revision>174</cp:revision>
  <dc:subject/>
  <dc:title>Extract Delays Issue TAC 112907</dc:title>
</cp:coreProperties>
</file>