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9C1-93A3-4C5B-AE87-38682FD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B78-3CAB-40B1-9AB5-AAD9F1D6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E4B-649C-462C-A892-EBD0CF73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38E-EC27-430F-9F69-207DCA41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E50F-8DA3-4AF4-B620-B051D7A7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0B4-659D-4DCA-A18E-A642A9E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6CA-903F-44DF-98C7-02E4DF2D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A629-71EF-4CD8-943A-8E9870A9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69F7-C3C8-457A-B651-50EEB4F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0385-76E7-43F1-B1C1-43EBF9BF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E6F-EFBB-4E54-8E56-D265F77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821-849D-4571-B98C-39B8FB73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5E6-90A6-4D01-853A-9D75D76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22C7-6368-419E-A3E8-953A2F3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6F7-76BE-4822-833B-30083205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F268-7E76-431A-9B6D-7E12FD45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FAC3-400A-4C56-9B7C-09E93008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CB0-B91F-4350-972F-974B3BA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77D-D043-4B2B-B618-E89BB0F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256-53D6-4D3A-B9FE-B7EEB830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385-BA1E-4EA1-91E0-BFA0E855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41C-60A0-4049-A013-1618A1B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08D-4B27-494C-9750-3977FE2E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EA2-66FD-4621-921F-2AF4EFE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DFDB-7DCD-4E16-B67C-8BD76805A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6746-F434-4A9E-B3FB-D9B324BFB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vember 29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8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Automatic Voltage Regulator (AVR) Statu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82880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requirement for telemetry of Generation Resource AVR status to comply with NERC standar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ilitates compliance with NERC standar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82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– Section 8 Performance Monitoring and Qualification Tes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76520"/>
          <a:ext cx="8229600" cy="48196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es testing and compliance requirements consistent with NPRR 049, Generation Subsystem Changes to Incorporate Whitepapers, and whitepapers on RRS and NS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 clarification results in cost effective use of RRS and NSRS without creating conges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No impact to nodal budget or implementation (NPRR replaces NPRR074 which was already included in Baseline 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83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– Remove Real-Time Energy Charge for a BLT from List of RT Char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82880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the Real-Time Energy Charge for a BLT from the list of Real-Time charg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s Nodal Protocols for consistenc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/N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72840"/>
            <a:ext cx="792468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R 738 – Remove Old Versions of Standard Form Agree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R 741 – Revision of Digital Certificate Proced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R 746 – Revisions to EILS Provisions to Conform to Amended PUC Subst R 25.5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 076 – Synchronization of EECP Event Realig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 081 – Automatic Voltage Regulator (AVR) Stat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 082 – Section 8 Performance Monitoring &amp; Comp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 083 – Remove Real-Time Energy Charge from a BLT from List of Real-Time Char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38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move Old Versions of Standard Form Agre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old versions of the Standard Form Market Participant Agre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s the total number of Standard Form Agreements between ERCOT and M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bruar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7632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38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move Old Versions of Standard Form Agre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4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of Digital Certificate Procedure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828800"/>
          <a:ext cx="8229600" cy="4699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uments that MPs must generate their own USA and digital certificate holder lists for audit purposes; automates digital certificate transactions (i.e., enroll, renew, revoke, audi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ased ERCOT IT system security; streamlines and improves current processes; automation facilitates MP certificate management without ERCOT staff inter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4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of Digital Certificate Procedure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240" y="20574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5080" y="1981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3600" y="19335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4600" y="51814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600" y="26146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040" y="31478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920" y="36702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42148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6960" y="47480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8000" y="19335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46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s to EILS to Conform to PUC Subst R 25.507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8288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EILS protocols to conform to PUC rulemaking revi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sures compliance with PUC rule chan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opposing vote and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ERCOT Board Appro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46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s to EILS to Conform to PUC Subst R 25.507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20574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45080" y="1981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3600" y="19335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4600" y="51814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0600" y="26146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2040" y="31478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920" y="36702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6960" y="42148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960" y="47480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8000" y="19335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PRR 076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Synchronization of EECP Event Realign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828800"/>
          <a:ext cx="8229600" cy="4575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nchronizes Nodal Protocols with PRR 682, EECP Event Realignment, approved by the ERCOT BOD on November 14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rlier communication of reliability concerns by ERCOT to MPs and concerned ent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opposing votes and 5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nodal implementation;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11-28T17:48:44Z</dcterms:modified>
  <cp:revision>181</cp:revision>
  <dc:subject/>
  <dc:title>Protocol Revision Subcommittee</dc:title>
</cp:coreProperties>
</file>