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C701A-78B6-4C17-BA7D-6DC0F18A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1B60B-E096-42C9-9223-84C62555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A59DB-9B91-4D4C-8A04-5BE39528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43022-DD7E-445D-8F6B-85FF39C6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A5EB4-9B1A-4031-BBA7-F10A275A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988F2-E429-4989-A89D-90C6FFDC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9C492-FA8D-450C-AE4A-46EE6654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5B810-6FBA-4620-955C-E67C8CB3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E8302-A0B8-4B92-91C9-3BB4DE30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11409-26C2-4BE7-83D8-4C2BF67D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A62AD-5EAB-49B3-B607-4D12699D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CDE53-8E54-4AE5-BD13-B0F7CE8A7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72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572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33669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66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6248160" y="617184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248E-77F4-4C91-8A03-5F49D81FF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380880" y="6076800"/>
            <a:ext cx="2590920" cy="72720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0" y="685800"/>
            <a:ext cx="91440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da6d00"/>
          </a:solidFill>
          <a:ln w="44280">
            <a:solidFill>
              <a:srgbClr val="da6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44280">
            <a:solidFill>
              <a:srgbClr val="da6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44280">
            <a:solidFill>
              <a:srgbClr val="da6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24DC-9547-4F1B-B9AD-09EB5CA8536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2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44280">
            <a:solidFill>
              <a:srgbClr val="da6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58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63244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6286680"/>
            <a:ext cx="22860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129528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title"/>
          </p:nvPr>
        </p:nvSpPr>
        <p:spPr>
          <a:xfrm>
            <a:off x="609480" y="2057400"/>
            <a:ext cx="82296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6477120"/>
            <a:ext cx="2438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53080" y="6438960"/>
            <a:ext cx="22860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9040" y="76320"/>
            <a:ext cx="3238560" cy="907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52280" y="838080"/>
            <a:ext cx="914400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da6d00"/>
          </a:solidFill>
          <a:ln w="44280">
            <a:solidFill>
              <a:srgbClr val="da6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66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336699"/>
              </a:buClr>
              <a:buFont typeface="Symbol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6600"/>
              </a:buClr>
              <a:buFont typeface="Verdan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rcot.com/mktrules/compliance/tre/enforcement/doc/NERC_CEP_Flowcharts.pdf" TargetMode="External"/><Relationship Id="rId2" Type="http://schemas.openxmlformats.org/officeDocument/2006/relationships/hyperlink" Target="http://www.ercot.com/mktrules/compliance/keydocs/Compliance_Processes_Flowcharts.pdf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rcot.com/mktrules/compliance/tre/enforcement/doc/2008_Audit_Schedule_TexasRE.xls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rcot.com/mktinfo/reports/sce_qse/index.html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1828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xas Regional Entity Repor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cember 200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2CA53-E84D-4F67-A509-FDB1970A89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RCOT’s CPS1 Monthl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229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RCOT CPS1 by Interv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3059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SE PRR 525 10-Minute Interval Sc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5800" y="833400"/>
            <a:ext cx="769608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ctober 2007 – SCPS2 Sco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968400"/>
            <a:ext cx="853416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ctober 2007 Resource Plan Performance Metr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36680" y="838080"/>
            <a:ext cx="8269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rganization Registration Statu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f 228 functions registered in the ERCOT Region, 9 entities have officially appealed their registr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 appeals resolved by the Texas 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 appeals heard by NERC Board of Trustees Compliance Committee (BOT C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entity appealed their registration as a Transmission Owner – appeal deni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entity appealed their registration as a Transmission Owner/Planner – appeal deni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entity appealed their registration as a Generator Operator – appeal remanded to Texas RE for continued discussion and resolution with appealing ent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appeals pending and may go before the BOT CC for reso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entity appealing their registration as a Generator Operat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entity appealing their registration as a Generator Ow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gistration Activ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rchasing-Selling Entity (PSE) Regist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lly, registration notices sent to 33 ent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istration criteria 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ntity operates as a Qualified Scheduling Entity (QSE) in the ERCOT Mark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ntity shown on NERC TSIN (Transmission Service Information Network) List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ntity schedules transactions across a HVDC ti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RCOT PSE registration being remo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RC Functional Entity Typ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P – Distribution Provi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 – Generator Ow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P – Generator Oper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– Transmission Ow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P – Transmission Plan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419360" y="114264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C – Reliability Coordin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 – Balancing Autho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P – Transmission Oper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 – Planning Autho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SP – Transmission Service Provi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P – Resource Plan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SE – Purchasing-Selling Ent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mpliance Process Flowchar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RC Compliance Monitoring and Enforcement Program – Reliability Standar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Link to NERC Reliability Flowcha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RCOT Compliance Process – ERCOT Protocols and Operating Gu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Link to Protocols &amp; Guides Flowcha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7 Compliance Aud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4963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erformance Highligh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RCOT’s Control Performance Standard (NERC CPS1) score for October – 118.3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scores for October indicate 34 non-wind-only QSEs passed and 1 non-wind-only QSE failed the PRR 525 meas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008 Audit Schedu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2008 Texas RE Audit Schedule is available </a:t>
            </a: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ere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Compliance Reviews of Events by Month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769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iolations of ERCOT Protoc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014480"/>
            <a:ext cx="822960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olations of NERC Standards Reported by Mont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3822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RC Standards Self-Certific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RC Registered Entities NOT audited in 2007 required to self-certify to the Actively Monitored Reliability Standards applicable to their Registration(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1 G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1 GOP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3 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65 Total Registered Fun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RC Standards Self-Certific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lf-Certifications were due October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95% overall respon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8 Entities required second not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8 responses outstand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3 requested extensions which were grant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5 Entities will receive third not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tilizing NERC escalation process for non-submittal of requested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RC Standards Self-Certific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date, 19 alleged violations identified (September &amp; Octob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6 FAC-008 – lack documented proc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cc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G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4 FAC-009 – lack documented proc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cc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G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4 CIP-001 – lack documented proc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cc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GO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3 IRO-004 – lack documented proc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cc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GOs; 1 GO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 PRC-005 – relay maintenance delinqu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cc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TO; 1 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RC Standards Self-Certification Violation Detail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5504040" cy="1981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28600" y="3048120"/>
            <a:ext cx="4343400" cy="2819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648320" y="3048120"/>
            <a:ext cx="42670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RC Standards Self-Reported Violations</a:t>
            </a:r>
            <a:br>
              <a:rPr sz="3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-June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isk Factors for Self-Reported NERC Standards Violation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-June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001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exas RE Monthly Summa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 October………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tocol &amp; Operating Guides viol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new alleg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RC Standards viol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7 new alleged – all resulting from entity self-certif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 New events report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Compliance Reviews in prog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nal on-site Compliance Audit completed for 2007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 Registration appeals denied by NERC Board of Trustees Compliance Committe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 Appeal remanded to the Texas RE for resolu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 Pending registration appe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RC Standards Self-Reported Violation Categorizatio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-June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077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exas RE Developm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ctober 18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FERC conditionally accepted the proposed 2008 NERC and Regional Entity Budgets and Business Plans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ows Regional Entities to collect their budgets as provided in their income stat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ember 14, 2007 – Compliance filing required to clarify Texas RE’s non-statutory cost for 200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ril 1, 2008 – File 2007 budget true-up comparing 2007 proposed budget to actual expenditur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ctober 2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NERC Board of Trustees approved the amended and restated Texas RE/NERC Delegation Agre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ctober 3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Regional Delegation Agreements filed with FER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exas RE Fall Workshop Repor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vember 2nd – Austin Met Cent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pdated participants on the 2007 Compliance Monitoring &amp; Enforcement Progra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vided a “sneak peek” at the 2008 Compliance Progra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 100 attendees + additional participants on WebE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peakers included Texas RE and NERC Staff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xas Regional Enti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85800" y="3123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port Detai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7E4C3-45CE-43C1-964E-B15C9BD743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RC CPS1 Performan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550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RCOT’s CPS1 Performa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ctober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spcBef>
                <a:spcPts val="451"/>
              </a:spcBef>
              <a:buClr>
                <a:srgbClr val="cc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nthly compari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59600" indent="-379440">
              <a:spcBef>
                <a:spcPts val="400"/>
              </a:spcBef>
              <a:buClr>
                <a:srgbClr val="336699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007:  118.38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59600" indent="-379440">
              <a:spcBef>
                <a:spcPts val="400"/>
              </a:spcBef>
              <a:buClr>
                <a:srgbClr val="336699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006:  137.26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spcBef>
                <a:spcPts val="451"/>
              </a:spcBef>
              <a:buClr>
                <a:srgbClr val="cc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2 month rolling average compari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59600" indent="-379440">
              <a:spcBef>
                <a:spcPts val="400"/>
              </a:spcBef>
              <a:buClr>
                <a:srgbClr val="336699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vember 2006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ctober 2007:  129.89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59600" indent="-379440">
              <a:spcBef>
                <a:spcPts val="400"/>
              </a:spcBef>
              <a:buClr>
                <a:srgbClr val="336699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vember 2005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ctober 2006:  142.68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550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R 525 Performa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res for October indicate 34 non-wind-only QSEs passed and 1 non-wind-only QSE failed the mea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res posted on the ERCOT Compliance Webs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spcBef>
                <a:spcPts val="451"/>
              </a:spcBef>
              <a:buClr>
                <a:srgbClr val="cc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SCE Performance Sc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RCOT CPS1 Performance Comparison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8001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RCOT CPS1 Year-to-Year Comparis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8077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22:17:43Z</dcterms:created>
  <dc:creator>lrobinson</dc:creator>
  <dc:description/>
  <dc:language>en-US</dc:language>
  <cp:lastModifiedBy>LGrimm</cp:lastModifiedBy>
  <dcterms:modified xsi:type="dcterms:W3CDTF">2007-11-20T19:34:58Z</dcterms:modified>
  <cp:revision>926</cp:revision>
  <dc:subject/>
  <dc:title>PRR 525 Compliance Analysis</dc:title>
</cp:coreProperties>
</file>