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3"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152280" y="6351480"/>
            <a:ext cx="727200" cy="392400"/>
          </a:xfrm>
          <a:prstGeom prst="rect">
            <a:avLst/>
          </a:prstGeom>
          <a:ln w="0">
            <a:noFill/>
          </a:ln>
        </p:spPr>
      </p:pic>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2924050-B070-4CBB-85C2-A2040CECAFC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November 29, 2007</a:t>
            </a:r>
            <a:br>
              <a:rPr sz="2400"/>
            </a:br>
            <a:r>
              <a:rPr b="0" lang="en-GB" sz="2400" spc="-1" strike="noStrike">
                <a:solidFill>
                  <a:srgbClr val="808080"/>
                </a:solidFill>
                <a:latin typeface="Arial Black"/>
              </a:rPr>
              <a:t>Trip Doggett</a:t>
            </a:r>
            <a:br>
              <a:rPr sz="3200"/>
            </a:br>
            <a:br>
              <a:rPr sz="2000"/>
            </a:br>
            <a:endParaRPr b="0" lang="en-US" sz="2400" spc="-1" strike="noStrike">
              <a:solidFill>
                <a:srgbClr val="ffffff"/>
              </a:solidFill>
              <a:latin typeface="Arial Black"/>
            </a:endParaRPr>
          </a:p>
        </p:txBody>
      </p:sp>
      <p:pic>
        <p:nvPicPr>
          <p:cNvPr id="4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73" name=""/>
          <p:cNvSpPr/>
          <p:nvPr/>
        </p:nvSpPr>
        <p:spPr>
          <a:xfrm>
            <a:off x="380880" y="765000"/>
            <a:ext cx="8610840" cy="5486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 November 26-28, likely topics include:</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Timeline Update</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LFC Testing</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R727, Process for Transition to Nodal Market Protocol Sections</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089, Changing Posting Requirement of Certain Documents From MIS Secure to Public Area</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085, Revision of Digital Certificate Procedures</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rifiable Cost Management System Requirements</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 Update</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the Training Course Curriculum v3.0</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ality Center Update</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r-FR" sz="1800" spc="-1" strike="noStrike">
                <a:solidFill>
                  <a:srgbClr val="000000"/>
                </a:solidFill>
                <a:latin typeface="Arial"/>
              </a:rPr>
              <a:t>DC Tie Issues</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en-US" sz="1800" spc="-1" strike="noStrike">
                <a:solidFill>
                  <a:srgbClr val="000000"/>
                </a:solidFill>
                <a:latin typeface="Arial"/>
              </a:rPr>
              <a:t>Discuss issues regarding emergency power imports via DC Ties</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onsider Draft NPRR - Settlement of Power Imported via DC Ties (Back to Back Ties) and Block Load Transfer Under Emergency Conditions  </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77" name=""/>
          <p:cNvSpPr/>
          <p:nvPr/>
        </p:nvSpPr>
        <p:spPr>
          <a:xfrm>
            <a:off x="380880" y="765000"/>
            <a:ext cx="8610840" cy="5441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 November 26-28, likely topics includ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PMO – Readiness Metric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sider approval for:</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5, Nodal SAS 70 Preparednes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12, MIS Compliance Test</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8, QSE Ability to Submit Transactions Via MI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9, QSE Ability to Submit Web Service Transaction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10, Mapping of Resources to Resource Nodes and Resources to EPS Meters is Complete</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13, MP Completes EDS-4 Related Training</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15, MP EDS-3 Participation</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17, MP Qualification Activitie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 revisions for the previously approved metric MP11, MP Registration Activities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sider option of drafting specific readiness metrics for Load Serving Entitie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r-FR" sz="1800" spc="-1" strike="noStrike">
                <a:solidFill>
                  <a:srgbClr val="000000"/>
                </a:solidFill>
                <a:latin typeface="Arial"/>
              </a:rPr>
              <a:t>Market Participation Qualification Checkl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8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80880" y="765000"/>
            <a:ext cx="8610840" cy="5314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 November 26-28, likely topics includ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MIS Portal Requirements updated through Baseline 2</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MIS support for EMS report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W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 flowchart for inputs to Nodal EDW Project Reporting Requirement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disposition of comments for the CRR Explanation of Submission/Retrieval items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updates to synchronize CRR Testing Market Participant Handbook with Readiness Metrics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Draft NPRR for CRR Business Process  </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Update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revisions for Explanation of Market Participant Submission Items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revisions for corrected SCED and Real-Time MMS Processes Requirements  </a:t>
            </a:r>
            <a:endParaRPr b="0" lang="en-US" sz="1800" spc="-1" strike="noStrike">
              <a:solidFill>
                <a:srgbClr val="000000"/>
              </a:solidFill>
              <a:latin typeface="Arial"/>
            </a:endParaRPr>
          </a:p>
        </p:txBody>
      </p:sp>
      <p:sp>
        <p:nvSpPr>
          <p:cNvPr id="8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87" name=""/>
          <p:cNvSpPr/>
          <p:nvPr/>
        </p:nvSpPr>
        <p:spPr>
          <a:xfrm>
            <a:off x="380880" y="765000"/>
            <a:ext cx="8610840" cy="2790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 November 26-28, likely topics includ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Update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4 Approach Document</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Clarification Item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Details on Settlements of Combined Cycle white paper</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Verifiable Costs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Verifiable Cost Implementation Plan White Paper v0.12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rifiable Cost Manual v0.04</a:t>
            </a:r>
            <a:endParaRPr b="0" lang="en-US" sz="1800" spc="-1" strike="noStrike">
              <a:solidFill>
                <a:srgbClr val="000000"/>
              </a:solidFill>
              <a:latin typeface="Arial"/>
            </a:endParaRPr>
          </a:p>
        </p:txBody>
      </p:sp>
      <p:sp>
        <p:nvSpPr>
          <p:cNvPr id="8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6320" y="81000"/>
            <a:ext cx="89913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Readiness Metrics</a:t>
            </a:r>
            <a:endParaRPr b="0" lang="en-US" sz="1800" spc="-1" strike="noStrike">
              <a:solidFill>
                <a:srgbClr val="000000"/>
              </a:solidFill>
              <a:latin typeface="Arial"/>
            </a:endParaRPr>
          </a:p>
        </p:txBody>
      </p:sp>
      <p:sp>
        <p:nvSpPr>
          <p:cNvPr id="9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
          <p:cNvSpPr/>
          <p:nvPr/>
        </p:nvSpPr>
        <p:spPr>
          <a:xfrm>
            <a:off x="380880" y="914400"/>
            <a:ext cx="8458200" cy="2974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November 9, TPTF endorsed ERCOT moving forward with metrics EMO1, EMO2, EMO5, EMO6, EMO7, EMO10, and EMO11 as modified by TPTF on November 9, 2007 in the Future Readiness Metric Inventory v1.03. The motion carried by roll-call vote with 100% in favor and one abstention (CPS San Antonio). The Consumer, Independent Retail Electric Provider (IREP), and Independent Generator Market Segments were not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November 9, TPTF endorsed ERCOT deleting metric CRR1 and moving forward with metrics CRR2, CRR3, CRR4, CRR5, and MO4 as modified by TPTF on November 9, 2007 in the Future Readiness Metric Inventory v1.03. The motion carried by roll-call vote, with 100% in favor and two abstentions (TNMP and Exelon). The Consumer, IREP, and Independent Generator Market Segments were not represented for the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6320" y="81000"/>
            <a:ext cx="89913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Readiness Metrics (continued)</a:t>
            </a:r>
            <a:endParaRPr b="0" lang="en-US" sz="1800" spc="-1" strike="noStrike">
              <a:solidFill>
                <a:srgbClr val="000000"/>
              </a:solidFill>
              <a:latin typeface="Arial"/>
            </a:endParaRPr>
          </a:p>
        </p:txBody>
      </p:sp>
      <p:sp>
        <p:nvSpPr>
          <p:cNvPr id="9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
          <p:cNvSpPr/>
          <p:nvPr/>
        </p:nvSpPr>
        <p:spPr>
          <a:xfrm>
            <a:off x="380880" y="914400"/>
            <a:ext cx="8458200" cy="5061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pproval for ERCOT to delete the metric:</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1, Develop CRR Test Pl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pproval for ERCOT to move forward with the metric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2, Develop TCR to CRR Transition Pla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3, Operation of Monthly CRR Auction and Allocatio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4, Implement TCR to CRR Transition Pla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5, Operation of Annual CRR Auction and Allocatio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O1, Network Security Analysis &amp; Transmission Constraint Managem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O2, Verify Voltage Support Functionality</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O5, Verify ACE Performanc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O6, QSE Response to Dispatch</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O7, Verify Load Forecast Accuracy</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O10, Network Operations Model and SE Performanc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O11, Operating Personnel and Facilities Readines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4, Verify SCED Execution Qu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a:t>
            </a:r>
            <a:endParaRPr b="0" lang="en-US" sz="1800" spc="-1" strike="noStrike">
              <a:solidFill>
                <a:srgbClr val="000000"/>
              </a:solidFill>
              <a:latin typeface="Arial"/>
            </a:endParaRPr>
          </a:p>
        </p:txBody>
      </p:sp>
      <p:sp>
        <p:nvSpPr>
          <p:cNvPr id="10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
          <p:cNvSpPr/>
          <p:nvPr/>
        </p:nvSpPr>
        <p:spPr>
          <a:xfrm>
            <a:off x="380880" y="781200"/>
            <a:ext cx="8458200" cy="3317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November 6, TPTF approved the CRR Requirements v3.2, as modified by TPTF on November 6.  The motion carried by roll-call vote, with 100% in favor and two abstentions (First Choice Power and Reliant). All Market Segments, except Independent Generators and Consumers, were represented for the vote.</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Transition Plan says: “Any declaration of the accomplishment of a major milestone (business requirements, conceptual design, and successful completion of Market Participant testing) or a decision to proceed is contingent on the approval of both ERCOT and TAC.”</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cknowledge TPTF completion of the following Milestone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Business Requirements v3.2 comple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mments on PRR727</a:t>
            </a:r>
            <a:endParaRPr b="0" lang="en-US" sz="1800" spc="-1" strike="noStrike">
              <a:solidFill>
                <a:srgbClr val="000000"/>
              </a:solidFill>
              <a:latin typeface="Arial"/>
            </a:endParaRPr>
          </a:p>
        </p:txBody>
      </p:sp>
      <p:sp>
        <p:nvSpPr>
          <p:cNvPr id="11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
          <p:cNvSpPr/>
          <p:nvPr/>
        </p:nvSpPr>
        <p:spPr>
          <a:xfrm>
            <a:off x="380880" y="750960"/>
            <a:ext cx="8458200" cy="4396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11/1/07, TAC referred PRR727, Process for Transition to Nodal Market Protocol Sections, to TPTF to consider the definition of the term “grave” as used in Section 21.12.4, Reinstatement of Zonal Protocol Provisions, and to refer two policy issues to TPTF: (1) consideration of a longer notice period in the event of a delay in nodal market implementation; and (2) consideration of how a reversion to zonal market systems should be limited by time and/or scop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PTF was asked to report on the definition of the term “grave” by the November 29 TAC Meeting.</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ubgroup of TPTF held a conference call on November 14 to discuss the issue and develop suggested changes to PRR727.</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PTF will address the suggested changes during the November 26-28 TPTF Meeting.  Due to the notice requirements for this report, this will serve as a placeholder for the results of the November 26-28 meeting. </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On 11/26/07, TPTF voted to forward TPTF comments on PRR727 to TAC as modified at TPTF 112607. The motion carried by roll-call vote, with 100% in favor and one abstention (Coral Power). The Consumer Market Segment was not represented for the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mments on PRR727 (continued)</a:t>
            </a:r>
            <a:endParaRPr b="0" lang="en-US" sz="1800" spc="-1" strike="noStrike">
              <a:solidFill>
                <a:srgbClr val="000000"/>
              </a:solidFill>
              <a:latin typeface="Arial"/>
            </a:endParaRPr>
          </a:p>
        </p:txBody>
      </p:sp>
      <p:sp>
        <p:nvSpPr>
          <p:cNvPr id="12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
          <p:cNvSpPr/>
          <p:nvPr/>
        </p:nvSpPr>
        <p:spPr>
          <a:xfrm>
            <a:off x="228600" y="762120"/>
            <a:ext cx="8458200" cy="645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New 21.12.2:</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 descr=""/>
          <p:cNvPicPr/>
          <p:nvPr/>
        </p:nvPicPr>
        <p:blipFill>
          <a:blip r:embed="rId1"/>
          <a:srcRect l="1110" t="24224" r="32779" b="19777"/>
          <a:stretch/>
        </p:blipFill>
        <p:spPr>
          <a:xfrm>
            <a:off x="76320" y="1219320"/>
            <a:ext cx="9067680" cy="480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mments on PRR727 (continued)</a:t>
            </a:r>
            <a:endParaRPr b="0" lang="en-US" sz="1800" spc="-1" strike="noStrike">
              <a:solidFill>
                <a:srgbClr val="000000"/>
              </a:solidFill>
              <a:latin typeface="Arial"/>
            </a:endParaRPr>
          </a:p>
        </p:txBody>
      </p:sp>
      <p:sp>
        <p:nvSpPr>
          <p:cNvPr id="13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
          <p:cNvSpPr/>
          <p:nvPr/>
        </p:nvSpPr>
        <p:spPr>
          <a:xfrm>
            <a:off x="228600" y="762120"/>
            <a:ext cx="8458200" cy="645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Revised 21.12.5:</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 descr=""/>
          <p:cNvPicPr/>
          <p:nvPr/>
        </p:nvPicPr>
        <p:blipFill>
          <a:blip r:embed="rId1"/>
          <a:srcRect l="1110" t="22444" r="32779" b="32223"/>
          <a:stretch/>
        </p:blipFill>
        <p:spPr>
          <a:xfrm>
            <a:off x="76320" y="1447920"/>
            <a:ext cx="906768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49" name=""/>
          <p:cNvGraphicFramePr/>
          <p:nvPr/>
        </p:nvGraphicFramePr>
        <p:xfrm>
          <a:off x="228600" y="762120"/>
          <a:ext cx="8763120" cy="5467320"/>
        </p:xfrm>
        <a:graphic>
          <a:graphicData uri="http://schemas.openxmlformats.org/drawingml/2006/table">
            <a:tbl>
              <a:tblPr/>
              <a:tblGrid>
                <a:gridCol w="2057400"/>
                <a:gridCol w="5562720"/>
                <a:gridCol w="1143000"/>
              </a:tblGrid>
              <a:tr h="276480">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261360">
                <a:tc>
                  <a:txBody>
                    <a:bodyPr lIns="90000" rIns="90000" tIns="46800" bIns="46800" anchor="ctr">
                      <a:noAutofit/>
                    </a:bodyPr>
                    <a:p>
                      <a:pPr marL="117360" indent="-11736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Meeting Summary</a:t>
                      </a:r>
                      <a:endParaRPr b="0" lang="en-US" sz="11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2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mmary of recent TPTF activities</a:t>
                      </a:r>
                      <a:endParaRPr b="0" lang="en-US" sz="11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or review</a:t>
                      </a:r>
                      <a:endParaRPr b="0" lang="en-US" sz="11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261360">
                <a:tc>
                  <a:txBody>
                    <a:bodyPr lIns="90000" rIns="90000" tIns="46800" bIns="46800" anchor="ctr">
                      <a:noAutofit/>
                    </a:bodyPr>
                    <a:p>
                      <a:pPr marL="225360" indent="-22536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Next Meetings</a:t>
                      </a:r>
                      <a:endParaRPr b="0" lang="en-US" sz="11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2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pcoming activities</a:t>
                      </a:r>
                      <a:endParaRPr b="0" lang="en-US" sz="11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or review</a:t>
                      </a:r>
                      <a:endParaRPr b="0" lang="en-US" sz="11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2674800">
                <a:tc>
                  <a:txBody>
                    <a:bodyPr lIns="90000" rIns="90000" tIns="46800" bIns="46800" anchor="t">
                      <a:noAutofit/>
                    </a:bodyPr>
                    <a:p>
                      <a:pPr marL="168120" indent="-1681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Approval of Readiness Metrics</a:t>
                      </a:r>
                      <a:endParaRPr b="0" lang="en-US" sz="11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5920" indent="-115920">
                        <a:spcBef>
                          <a:spcPts val="2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 November 9, TPTF endorsed ERCOT moving forward with metrics EMO1, EMO2, EMO5, EMO6, EMO7, EMO10, and EMO11 as modified by TPTF on November 9, 2007 in the Future Readiness Metric Inventory v1.03. The motion carried by roll-call vote with 100% in favor and one abstention (CPS San Antonio). The Consumer, Independent Retail Electric Provider (IREP), and Independent Generator Market Segments were not represented for the vote.</a:t>
                      </a:r>
                      <a:endParaRPr b="0" lang="en-US" sz="1100" spc="-1" strike="noStrike">
                        <a:solidFill>
                          <a:srgbClr val="000000"/>
                        </a:solidFill>
                        <a:latin typeface="Arial"/>
                      </a:endParaRPr>
                    </a:p>
                    <a:p>
                      <a:pPr marL="115920" indent="-115920">
                        <a:spcBef>
                          <a:spcPts val="2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 November 9, TPTF endorsed ERCOT deleting metric CRR1 and moving forward with metrics CRR2, CRR3, CRR4, CRR5, and MO4 as modified by TPTF on November 9, 2007 in the Future Readiness Metric Inventory v1.03. The motion carried by roll-call vote, with 100% in favor and two abstentions (TNMP and Exelon). The Consumer, IREP, and Independent Generator Market Segments were not represented for the vote.</a:t>
                      </a:r>
                      <a:endParaRPr b="0" lang="en-US" sz="1100" spc="-1" strike="noStrike">
                        <a:solidFill>
                          <a:srgbClr val="000000"/>
                        </a:solidFill>
                        <a:latin typeface="Arial"/>
                      </a:endParaRPr>
                    </a:p>
                    <a:p>
                      <a:pPr marL="115920" indent="-115920">
                        <a:spcBef>
                          <a:spcPts val="2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quest TAC Approval for ERCOT to move forward with deleting CRR1 and adding metrics CRR2, CRR3, CRR4, CRR5, EMO1, EMO2, EMO5, EMO6, EMO7, EMO10, EMO11, and MO4</a:t>
                      </a:r>
                      <a:endParaRPr b="0" lang="en-US" sz="11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or Vote</a:t>
                      </a:r>
                      <a:endParaRPr b="0" lang="en-US" sz="11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506880">
                <a:tc>
                  <a:txBody>
                    <a:bodyPr lIns="90000" rIns="90000" tIns="46800" bIns="46800" anchor="t">
                      <a:noAutofit/>
                    </a:bodyPr>
                    <a:p>
                      <a:pPr marL="225360" indent="-22536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 Approval of Milestones</a:t>
                      </a:r>
                      <a:endParaRPr b="0" lang="en-US" sz="11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2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quest TAC acknowledge TPTF completion of the following Milestone–</a:t>
                      </a:r>
                      <a:endParaRPr b="0" lang="en-US" sz="1100" spc="-1" strike="noStrike">
                        <a:solidFill>
                          <a:srgbClr val="000000"/>
                        </a:solidFill>
                        <a:latin typeface="Arial"/>
                      </a:endParaRPr>
                    </a:p>
                    <a:p>
                      <a:pPr lvl="1" marL="231840">
                        <a:spcBef>
                          <a:spcPts val="2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0" lang="en-US" sz="1100" spc="-1" strike="noStrike">
                          <a:solidFill>
                            <a:srgbClr val="000000"/>
                          </a:solidFill>
                          <a:latin typeface="Arial"/>
                        </a:rPr>
                        <a:t>CRR Business Requirements v3.2 complete</a:t>
                      </a:r>
                      <a:endParaRPr b="0" lang="en-US" sz="11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or Vote</a:t>
                      </a:r>
                      <a:endParaRPr b="0" lang="en-US" sz="11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1468080">
                <a:tc>
                  <a:txBody>
                    <a:bodyPr lIns="90000" rIns="90000" tIns="46800" bIns="46800" anchor="t">
                      <a:noAutofit/>
                    </a:bodyPr>
                    <a:p>
                      <a:pPr marL="225360" indent="-22536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 Comments on PRR727</a:t>
                      </a:r>
                      <a:endParaRPr b="0" lang="en-US" sz="11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2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 11/1/07, TAC referred PRR727, Process for Transition to Nodal Market Protocol Sections, to TPTF to </a:t>
                      </a:r>
                      <a:r>
                        <a:rPr b="0" lang="en-US" sz="1100" spc="-1" strike="noStrike">
                          <a:solidFill>
                            <a:srgbClr val="000000"/>
                          </a:solidFill>
                          <a:latin typeface="Arial"/>
                          <a:ea typeface="Times New Roman"/>
                        </a:rPr>
                        <a:t>consider the definition of the term “grave” as used in Section 21.12.4, Reinstatement of Zonal Protocol Provisions, and to refer two policy issues to TPTF: (1) consideration of a longer notice period in the event of a delay in nodal market implementation; and (2) consideration of how a reversion to zonal market systems should be limited by time and/or scope.</a:t>
                      </a:r>
                      <a:endParaRPr b="0" lang="en-US" sz="1100" spc="-1" strike="noStrike">
                        <a:solidFill>
                          <a:srgbClr val="000000"/>
                        </a:solidFill>
                        <a:latin typeface="Arial"/>
                      </a:endParaRPr>
                    </a:p>
                    <a:p>
                      <a:pPr marL="117360" indent="-117360">
                        <a:spcBef>
                          <a:spcPts val="2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Times New Roman"/>
                        </a:rPr>
                        <a:t>On 11/26/07, TPTF voted to forward TPTF comments on PRR727 to TAC as modified at TPTF 112607.</a:t>
                      </a:r>
                      <a:endParaRPr b="0" lang="en-US" sz="11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or </a:t>
                      </a:r>
                      <a:r>
                        <a:rPr b="0" i="1" lang="en-US" sz="1100" spc="-1" strike="noStrike">
                          <a:solidFill>
                            <a:srgbClr val="ff0000"/>
                          </a:solidFill>
                          <a:latin typeface="Arial"/>
                        </a:rPr>
                        <a:t>Vote</a:t>
                      </a:r>
                      <a:endParaRPr b="0" lang="en-US" sz="11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3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5</a:t>
            </a:r>
            <a:endParaRPr b="0" lang="en-US" sz="1800" spc="-1" strike="noStrike">
              <a:solidFill>
                <a:srgbClr val="000000"/>
              </a:solidFill>
              <a:latin typeface="Arial"/>
            </a:endParaRPr>
          </a:p>
        </p:txBody>
      </p:sp>
      <p:sp>
        <p:nvSpPr>
          <p:cNvPr id="51" name=""/>
          <p:cNvSpPr/>
          <p:nvPr/>
        </p:nvSpPr>
        <p:spPr>
          <a:xfrm>
            <a:off x="380880" y="770040"/>
            <a:ext cx="8077320" cy="272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Meetings November 5- 6 and November 9. (The November 26-28 meetings will be summarized during the January TAC Meeting). </a:t>
            </a: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November 5,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Program Update / Nodal Timeline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087, Market Monitor Terminology Chang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088, Revision to 16.11.5, Monitoring of a Counter-Party’s Creditworthiness and Credit Exposure by ERCOT</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ion of reasonability for Locational Marginal Prices (LMP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ket Information System (MIS)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Data Warehouse (EDW) Update</a:t>
            </a:r>
            <a:endParaRPr b="0" lang="en-US" sz="1600" spc="-1" strike="noStrike">
              <a:solidFill>
                <a:srgbClr val="000000"/>
              </a:solidFill>
              <a:latin typeface="Arial"/>
            </a:endParaRPr>
          </a:p>
        </p:txBody>
      </p:sp>
      <p:sp>
        <p:nvSpPr>
          <p:cNvPr id="5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6</a:t>
            </a:r>
            <a:endParaRPr b="0" lang="en-US" sz="1800" spc="-1" strike="noStrike">
              <a:solidFill>
                <a:srgbClr val="000000"/>
              </a:solidFill>
              <a:latin typeface="Arial"/>
            </a:endParaRPr>
          </a:p>
        </p:txBody>
      </p:sp>
      <p:sp>
        <p:nvSpPr>
          <p:cNvPr id="54" name=""/>
          <p:cNvSpPr/>
          <p:nvPr/>
        </p:nvSpPr>
        <p:spPr>
          <a:xfrm>
            <a:off x="380880" y="770040"/>
            <a:ext cx="8077320" cy="499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November 6,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Settlement of Power Imported via DC Ties (Back to Back Ties) and Block Load Transfer Under Emergency Conditions</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November 6, TPTF approved a motion to reject the draft NPRR for Settlement of Power Imported via DC Ties (Back to Back Ties) and Block Load Transfer Under Emergency Conditions.  The motion carried by roll-call vote, with 100% in favor and three abstentions (LCRA, Austin Energy, and TNMP). All Market Segments, except Consumers, were represented for the vo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position of comments for the Draft PRR, EDS LFC Test Settlement</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November 6, TPTF approved a motion to endorse the draft PRR for EDS LFC Test Settlement, as discussed on November 6, for submission to PRS. The motion carried by roll-call vote, with 100% in favor and four abstentions (Calpine, Coral Power, Exelon, and BP Energy). All Market Segments, except Consumers, were represented for the vo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ite Paper, Details on the Settlement of Combined Cycle Plant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lan to address TAC’s referral of PRR727, Process for Transition to Nodal Market Protocol Sections, to TPTF to consider the definition of the term “grave” as used in Section 21.12.4, Reinstatement of Zonal Protocol Provisions.</a:t>
            </a:r>
            <a:endParaRPr b="0" lang="en-US" sz="1600" spc="-1" strike="noStrike">
              <a:solidFill>
                <a:srgbClr val="000000"/>
              </a:solidFill>
              <a:latin typeface="Arial"/>
            </a:endParaRPr>
          </a:p>
        </p:txBody>
      </p:sp>
      <p:sp>
        <p:nvSpPr>
          <p:cNvPr id="5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6 (continued)</a:t>
            </a:r>
            <a:endParaRPr b="0" lang="en-US" sz="1800" spc="-1" strike="noStrike">
              <a:solidFill>
                <a:srgbClr val="000000"/>
              </a:solidFill>
              <a:latin typeface="Arial"/>
            </a:endParaRPr>
          </a:p>
        </p:txBody>
      </p:sp>
      <p:sp>
        <p:nvSpPr>
          <p:cNvPr id="57" name=""/>
          <p:cNvSpPr/>
          <p:nvPr/>
        </p:nvSpPr>
        <p:spPr>
          <a:xfrm>
            <a:off x="380880" y="770040"/>
            <a:ext cx="8077320" cy="5168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November 6,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 Projec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sed CRR Requirements</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November 6, TPTF approved the CRR Requirements v3.2, as modified by TPTF on November 6.  The motion carried by roll-call vote, with 100% in favor and two abstentions (First Choice Power and Reliant). All Market Segments, except Independent Generators and Consumers, were represented for the vo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planation of Market Submission/Retrieval Item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M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sions to Explanation of Market Participant Submission Item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ality Center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ality Center Dashboard</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ending of Test Data</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P Projec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November 6, TPTF approved the EIP External Interfaces Specification v1.06.  The motion carried by roll-call vote, with 100% in favor and one abstention (Reliant).  All Market Segments, except Independent Generators and Consumers,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r Interface Subgroup Update</a:t>
            </a:r>
            <a:endParaRPr b="0" lang="en-US" sz="1600" spc="-1" strike="noStrike">
              <a:solidFill>
                <a:srgbClr val="000000"/>
              </a:solidFill>
              <a:latin typeface="Arial"/>
            </a:endParaRPr>
          </a:p>
        </p:txBody>
      </p:sp>
      <p:sp>
        <p:nvSpPr>
          <p:cNvPr id="5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9</a:t>
            </a:r>
            <a:endParaRPr b="0" lang="en-US" sz="1800" spc="-1" strike="noStrike">
              <a:solidFill>
                <a:srgbClr val="000000"/>
              </a:solidFill>
              <a:latin typeface="Arial"/>
            </a:endParaRPr>
          </a:p>
        </p:txBody>
      </p:sp>
      <p:sp>
        <p:nvSpPr>
          <p:cNvPr id="60" name=""/>
          <p:cNvSpPr/>
          <p:nvPr/>
        </p:nvSpPr>
        <p:spPr>
          <a:xfrm>
            <a:off x="380880" y="770040"/>
            <a:ext cx="8458200" cy="4087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November 9,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of Readiness Metric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O1, Network Security Analysis &amp; Transmission Constraint Managemen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O2, Verify Voltage Support Functionality</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O5, Verify ACE Performanc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O6, QSE Response to Dispatch</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O7, Verify Load Forecast Accuracy</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O10, Network Operations Model and SE Performanc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O11, Operating Personnel and Facilities Readiness</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November 9, TPTF endorsed ERCOT moving forward with metrics EMO1, EMO2, EMO5, EMO6, EMO7, EMO10, and EMO11 as modified by TPTF on November 9, 2007 in the Future Readiness Metric Inventory v1.03. The motion carried by roll-call vote with 100% in favor and one abstention (CPS San Antonio). The Consumer, Independent Retail Electric Provider (IREP), and Independent Generator Market Segments were not represented for the vote.</a:t>
            </a:r>
            <a:endParaRPr b="0" lang="en-US" sz="1600" spc="-1" strike="noStrike">
              <a:solidFill>
                <a:srgbClr val="000000"/>
              </a:solidFill>
              <a:latin typeface="Arial"/>
            </a:endParaRPr>
          </a:p>
        </p:txBody>
      </p:sp>
      <p:sp>
        <p:nvSpPr>
          <p:cNvPr id="6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9 (continued)</a:t>
            </a:r>
            <a:endParaRPr b="0" lang="en-US" sz="1800" spc="-1" strike="noStrike">
              <a:solidFill>
                <a:srgbClr val="000000"/>
              </a:solidFill>
              <a:latin typeface="Arial"/>
            </a:endParaRPr>
          </a:p>
        </p:txBody>
      </p:sp>
      <p:sp>
        <p:nvSpPr>
          <p:cNvPr id="63" name=""/>
          <p:cNvSpPr/>
          <p:nvPr/>
        </p:nvSpPr>
        <p:spPr>
          <a:xfrm>
            <a:off x="380880" y="770040"/>
            <a:ext cx="8458200" cy="3880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November 9,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of Readiness Metrics (continued):</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1, Develop CRR Test Plan </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2, Develop Transmission Congestion Right (TCR) to CRR Transition Plan</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3, Trial Operation of Monthly CRR Auction </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4, Implement TCR to CRR Transition Plan</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5, Trial Operation of Annual CRR Auction during Trials </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4, Verify SCED Execution Quality </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November 9, TPTF endorsed ERCOT deleting metric CRR1 and moving forward with metrics CRR2, CRR3, CRR4, CRR5, and MO4 as modified by TPTF on November 9, 2007 in the Future Readiness Metric Inventory v1.03. The motion carried by roll-call vote, with 100% in favor and two abstentions (TNMP and Exelon). The Consumer, IREP, and Independent Generator Market Segments were not represented for the vo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9 (continued)</a:t>
            </a:r>
            <a:endParaRPr b="0" lang="en-US" sz="1800" spc="-1" strike="noStrike">
              <a:solidFill>
                <a:srgbClr val="000000"/>
              </a:solidFill>
              <a:latin typeface="Arial"/>
            </a:endParaRPr>
          </a:p>
        </p:txBody>
      </p:sp>
      <p:sp>
        <p:nvSpPr>
          <p:cNvPr id="66" name=""/>
          <p:cNvSpPr/>
          <p:nvPr/>
        </p:nvSpPr>
        <p:spPr>
          <a:xfrm>
            <a:off x="380880" y="770040"/>
            <a:ext cx="8458200" cy="4109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November 9,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of Readiness Metrics (continued):</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5, Nodal SAS 70 Preparedness   </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12, Market Information System (MIS) Compliance Tes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8, QSE, Adjustment Period &amp; Real-Time Market MIS and Web Service Transaction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9, QSE Ability to Submit Web Service Transaction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0, Mapping Resources to Resource Nodes and Resources to Revenue-Quality EPS Meters is Comple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3, MP Completes EDS-4 Related Training  </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5, MP EDS-3 Trials Participation  </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7, MP Qualification Activities. </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8, Mapping of Resources and Loads in Private Area Networks is Complete </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9, Load Serving Entitles Engagement and Readiness  </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20, Standard Form Agreements Executed – Old E13 </a:t>
            </a:r>
            <a:endParaRPr b="0" lang="en-US" sz="1600" spc="-1" strike="noStrike">
              <a:solidFill>
                <a:srgbClr val="000000"/>
              </a:solidFill>
              <a:latin typeface="Arial"/>
            </a:endParaRPr>
          </a:p>
        </p:txBody>
      </p:sp>
      <p:sp>
        <p:nvSpPr>
          <p:cNvPr id="6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69" name=""/>
          <p:cNvSpPr/>
          <p:nvPr/>
        </p:nvSpPr>
        <p:spPr>
          <a:xfrm>
            <a:off x="380880" y="792000"/>
            <a:ext cx="8610840" cy="1282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Next meetings</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November 26 through Wednesday November 28</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December 3 and Tuesday December 4</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December 17 through Wednesday December 19</a:t>
            </a:r>
            <a:endParaRPr b="0" lang="en-US" sz="1800" spc="-1" strike="noStrike">
              <a:solidFill>
                <a:srgbClr val="000000"/>
              </a:solidFill>
              <a:latin typeface="Arial"/>
            </a:endParaRPr>
          </a:p>
        </p:txBody>
      </p:sp>
      <p:sp>
        <p:nvSpPr>
          <p:cNvPr id="7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tdoggett</cp:lastModifiedBy>
  <dcterms:modified xsi:type="dcterms:W3CDTF">2007-11-27T22:29:23Z</dcterms:modified>
  <cp:revision>885</cp:revision>
  <dc:subject/>
  <dc:title>TAC Update</dc:title>
</cp:coreProperties>
</file>