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18.png" ContentType="image/png"/>
  <Override PartName="/ppt/media/image15.jpeg" ContentType="image/jpeg"/>
  <Override PartName="/ppt/media/image9.png" ContentType="image/png"/>
  <Override PartName="/ppt/media/image17.wmf" ContentType="image/x-wmf"/>
  <Override PartName="/ppt/media/image16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70C72F-64C3-453E-9F64-427D3F3BC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848E69-83E1-4956-B66B-5E5AB0E20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9DF868-F98A-43F2-8732-CA9C7E011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AF6F-DCA4-48CA-AD79-33E8DBF8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3CBF-8EAB-40E4-A104-460D8263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E54E-2DA7-41C8-8558-8262C4AE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293F-B295-476A-B699-C7C66BE2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943D-8650-449C-B7C6-8FFF14D5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19BF-C88E-4129-AA6E-D207B7EB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3021-C806-4F94-8A2B-4DFA185E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7D43-AF2A-4C58-82E9-A099BABF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23A2-47DD-4EFB-94DC-64C2948C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6F4D-2FDB-4608-ADCE-005C5BC6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9CC1-528A-4B2E-8F47-B639D356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3775-4EE0-4D4D-8EFB-6E4B719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D3A9-0183-4B76-A180-61850EC26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ember 29, 20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0AED-8954-4FB3-BF58-A7BE152AE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29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C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Nodal Program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erry Sullivan, Executive Directo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udget Update – Project Summa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996160" y="66600"/>
            <a:ext cx="3024000" cy="465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37200" y="38160"/>
            <a:ext cx="609840" cy="52380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119240" y="1101600"/>
            <a:ext cx="6711840" cy="48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F0F4-9E16-4F64-9339-F9DAAF2B90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lease Management Updat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HP Openview PPM implement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885600"/>
            <a:ext cx="82296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 Proposition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lized SDLC will allow us to manage release volume for across Nodal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s repeatable processes for ERCOT to carry 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blishes ‘immediate’ and future release management process control for internal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s identify redundancies and delays with visibility into release management process and decision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rifies distinction between enhancements, bug fixes, and integration issues (ie: transparency via version contr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s Migration Control Document 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s inbuilt scripting of ‘undo’ function for release management and application suppor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s required for rollout, training, and multiple queues is additional strain on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Steps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Management team to work with project managers to prioritize rollo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chard Howard and Christian Brennan teams to begin immediate screen capture of MCR related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996160" y="66600"/>
            <a:ext cx="3024000" cy="465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58080" y="47520"/>
            <a:ext cx="609480" cy="52416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2008-FC16-426D-87AE-B9DBD70C00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111560" y="20210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4A1A-7F34-4702-90EC-CFB45FFD5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2916360" y="2244600"/>
            <a:ext cx="2714400" cy="2036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4111560" y="20210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854800" y="1676520"/>
            <a:ext cx="28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Number-34c-ERCOT-Congestion"/>
          <p:cNvPicPr/>
          <p:nvPr/>
        </p:nvPicPr>
        <p:blipFill>
          <a:blip r:embed="rId3"/>
          <a:stretch/>
        </p:blipFill>
        <p:spPr>
          <a:xfrm>
            <a:off x="1295280" y="4192560"/>
            <a:ext cx="1603440" cy="1513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MCj04131380000[1]"/>
          <p:cNvPicPr/>
          <p:nvPr/>
        </p:nvPicPr>
        <p:blipFill>
          <a:blip r:embed="rId4"/>
          <a:stretch/>
        </p:blipFill>
        <p:spPr>
          <a:xfrm>
            <a:off x="3525840" y="4152960"/>
            <a:ext cx="2503440" cy="1752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173640" y="4152960"/>
            <a:ext cx="1827360" cy="17128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2"/>
          <p:cNvSpPr/>
          <p:nvPr/>
        </p:nvSpPr>
        <p:spPr>
          <a:xfrm>
            <a:off x="2355840" y="4213080"/>
            <a:ext cx="505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Nodal Market Tran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17CC-D09F-4208-ABA1-E894E6ED17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066680"/>
          <a:ext cx="8229600" cy="3583080"/>
        </p:xfrm>
        <a:graphic>
          <a:graphicData uri="http://schemas.openxmlformats.org/drawingml/2006/table">
            <a:tbl>
              <a:tblPr/>
              <a:tblGrid>
                <a:gridCol w="3814920"/>
                <a:gridCol w="1382400"/>
                <a:gridCol w="3032280"/>
              </a:tblGrid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Program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 Sull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Assurance 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 Sull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and Cost Discu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 Sull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hip and Metr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 Sull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Discu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 Sull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B19C-9498-431F-A510-B9C876AED3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378480" y="2324160"/>
            <a:ext cx="2705040" cy="3924360"/>
          </a:xfrm>
          <a:prstGeom prst="rect">
            <a:avLst/>
          </a:prstGeom>
          <a:solidFill>
            <a:srgbClr val="73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02120" y="2324160"/>
            <a:ext cx="2347920" cy="3924360"/>
          </a:xfrm>
          <a:prstGeom prst="rect">
            <a:avLst/>
          </a:prstGeom>
          <a:solidFill>
            <a:srgbClr val="73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2960" y="2324160"/>
            <a:ext cx="2970000" cy="3924360"/>
          </a:xfrm>
          <a:prstGeom prst="rect">
            <a:avLst/>
          </a:prstGeom>
          <a:solidFill>
            <a:srgbClr val="73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/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360" y="4957920"/>
            <a:ext cx="9007560" cy="1131840"/>
          </a:xfrm>
          <a:prstGeom prst="rect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960" y="5224320"/>
            <a:ext cx="8791560" cy="247680"/>
          </a:xfrm>
          <a:prstGeom prst="rect">
            <a:avLst/>
          </a:prstGeom>
          <a:solidFill>
            <a:srgbClr val="cc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6840" y="984240"/>
            <a:ext cx="3433680" cy="52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3080" y="3276720"/>
            <a:ext cx="9007560" cy="1681200"/>
          </a:xfrm>
          <a:prstGeom prst="rect">
            <a:avLst/>
          </a:prstGeom>
          <a:solidFill>
            <a:srgbClr val="a6c0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verall program status remains amber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004760" y="2846520"/>
            <a:ext cx="1140120" cy="353880"/>
          </a:xfrm>
          <a:prstGeom prst="rect">
            <a:avLst/>
          </a:prstGeom>
          <a:blipFill rotWithShape="0">
            <a:blip r:embed="rId2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8480" y="3533760"/>
            <a:ext cx="24433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st forecast (Oct 31) approximately $285.3M with continuing focus on finding efficiencies and savings without compromising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34040" y="2846520"/>
            <a:ext cx="1639800" cy="353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27840" y="2846520"/>
            <a:ext cx="1682640" cy="353880"/>
          </a:xfrm>
          <a:prstGeom prst="rect">
            <a:avLst/>
          </a:prstGeom>
          <a:blipFill rotWithShape="0">
            <a:blip r:embed="rId3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9960" y="3376440"/>
            <a:ext cx="12697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fully aligned with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960" y="5224320"/>
            <a:ext cx="555840" cy="247680"/>
          </a:xfrm>
          <a:prstGeom prst="rect">
            <a:avLst/>
          </a:prstGeom>
          <a:solidFill>
            <a:srgbClr val="cc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960" y="5494320"/>
            <a:ext cx="555840" cy="247680"/>
          </a:xfrm>
          <a:prstGeom prst="rect">
            <a:avLst/>
          </a:prstGeom>
          <a:solidFill>
            <a:srgbClr val="ff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960" y="5765760"/>
            <a:ext cx="555840" cy="22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" y="5765760"/>
            <a:ext cx="8423280" cy="247680"/>
          </a:xfrm>
          <a:prstGeom prst="rect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7280" y="5486400"/>
            <a:ext cx="8796240" cy="247680"/>
          </a:xfrm>
          <a:prstGeom prst="rect">
            <a:avLst/>
          </a:prstGeom>
          <a:solidFill>
            <a:srgbClr val="ff993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5280" y="5770440"/>
            <a:ext cx="24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e at Complete = &lt;$263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5280" y="5494320"/>
            <a:ext cx="24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imate at Complete = &lt; $263m + 1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56400" y="5218200"/>
            <a:ext cx="218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imate a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= &gt;$263m + 1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35440" y="5780160"/>
            <a:ext cx="21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-live =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/1/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36880" y="5504040"/>
            <a:ext cx="218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-live = &l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ay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8680" y="5227560"/>
            <a:ext cx="21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-live = &gt;30 days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9960" y="5722920"/>
            <a:ext cx="13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aligned with current protoc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3920" y="5454720"/>
            <a:ext cx="150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aligned to previous protocol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400" y="518004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not aligned to protoc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16240" y="3395520"/>
            <a:ext cx="151128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Release Management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s controls and traceability for releases across the progr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48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es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0240" y="1727280"/>
            <a:ext cx="3768840" cy="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0240" y="1427040"/>
            <a:ext cx="0" cy="3096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65200" y="2846520"/>
            <a:ext cx="1140120" cy="353880"/>
          </a:xfrm>
          <a:prstGeom prst="rect">
            <a:avLst/>
          </a:prstGeom>
          <a:blipFill rotWithShape="0">
            <a:blip r:embed="rId4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3268800"/>
            <a:ext cx="0" cy="289404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62160" y="5176800"/>
            <a:ext cx="151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rrent product quality is not sufficient for Nodal laun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01680" y="5450040"/>
            <a:ext cx="16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Nodal products currently achieve quality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01680" y="5722920"/>
            <a:ext cx="16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Nodal products currently achieve quality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24320" y="3422520"/>
            <a:ext cx="1725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being managed by Delivery Assuranc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9800" y="974880"/>
            <a:ext cx="609840" cy="52380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394160" y="731880"/>
            <a:ext cx="2616120" cy="1592280"/>
            <a:chOff x="4394160" y="731880"/>
            <a:chExt cx="2616120" cy="1592280"/>
          </a:xfrm>
        </p:grpSpPr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4429080" y="731880"/>
              <a:ext cx="235260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56280" y="1371600"/>
              <a:ext cx="861840" cy="6858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d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3480" y="746280"/>
              <a:ext cx="76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94160" y="190008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8520" y="1760400"/>
              <a:ext cx="76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628A-4E8A-43D4-B6E2-ABED84A6AA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elivery Assurance Group approved timelin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595440"/>
          <a:ext cx="8817120" cy="59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95440"/>
                    <a:ext cx="8817120" cy="59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996160" y="66600"/>
            <a:ext cx="3024000" cy="465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58080" y="47520"/>
            <a:ext cx="609480" cy="52416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160640" y="4286160"/>
            <a:ext cx="2792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 have concurrence / understanding of our detailed schedule with TPTF which we now discuss on a regular ba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cember 1 is achiev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DS 3 and 4 is a major foc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 still have issues with EDW and Real-Time Repo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0F49-9E19-401C-AB46-E9984509B3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chedule and Cos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000" y="1066680"/>
            <a:ext cx="8751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issu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we are still striving to make the Dec 1st Go Live d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we have some scheduling uncertainty, we are working to develop fully resourced plans to make our Go Live 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reviewing every project for possible staffing and vendor sav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negotiating with major vendors for schedule and cost certain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reviewing costs to ensure a quality delivery with no ‘boxed out’ protocols (i.e. to deliver full functionalit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1EE3-D8C9-42BE-909A-FB3BD9B936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996160" y="66600"/>
            <a:ext cx="3024000" cy="465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19840" y="47520"/>
            <a:ext cx="609840" cy="52416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48360" y="47520"/>
            <a:ext cx="609480" cy="52416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98440" y="766800"/>
          <a:ext cx="7042320" cy="544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8440" y="766800"/>
                    <a:ext cx="704232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COT Executive sponsorship of the Nodal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ogram is aligned to the projec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552E-CE8D-4731-A441-31E0DE71418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61960" y="708120"/>
            <a:ext cx="4745160" cy="497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42120" y="1693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022760" y="5626080"/>
            <a:ext cx="705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Results have been exposed via the Readiness Scorecard, transparent to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Metric measurements become more rigorous as iteration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996160" y="66600"/>
            <a:ext cx="302400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284880" y="884160"/>
            <a:ext cx="2678040" cy="32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round of self reporting for ERCOT leadership will be live November 27.  Will drill down to manager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cus will be on specific mobilization and eng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y negative responses will create 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 leadership will have view into all metrics, internal and external by mid-Dec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 Readiness Transition  team will continue working with groups not achieving  green stat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532560" y="4010040"/>
            <a:ext cx="2170080" cy="1731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1520" y="2520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RCOT Engagement and Readiness Status  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6819840" y="47520"/>
            <a:ext cx="609840" cy="52416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3C9B-2651-4E62-AAC4-F222498340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rket Readiness Update – Scorecard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67320" y="173160"/>
            <a:ext cx="2718000" cy="417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351480" y="825480"/>
            <a:ext cx="271800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stin Energy </a:t>
            </a: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GREE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ICCP Testing.  Two MPs still outstanding for ICCP Testing and will report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n next measure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t iteration of survey results are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for QSEs without resources based on non-engage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second iteration of Self-Reporting live November 16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nd is open through Decembe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les and questions in this round are more specific, including LSE-specific 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hieving </a:t>
            </a: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GREE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f-reporting status in the second round will require more activity than last metric measurement (ie: activity and not just a respon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Scorecard.erco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72400" y="127080"/>
            <a:ext cx="609480" cy="523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440400" y="4095720"/>
            <a:ext cx="2398680" cy="1914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314280" y="5802480"/>
            <a:ext cx="852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Clear path to Green status for all segments in the next few weeks via completed ICCP testing and updated Survey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638280"/>
            <a:ext cx="6046920" cy="5217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467320" y="4224240"/>
            <a:ext cx="193680" cy="18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72000" y="4505400"/>
            <a:ext cx="193680" cy="18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1960" y="1557360"/>
            <a:ext cx="193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18440" y="878040"/>
            <a:ext cx="193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5" idx="1"/>
            <a:endCxn id="174" idx="3"/>
          </p:cNvCxnSpPr>
          <p:nvPr/>
        </p:nvCxnSpPr>
        <p:spPr>
          <a:xfrm flipV="1" rot="10800000">
            <a:off x="5664960" y="1649160"/>
            <a:ext cx="747000" cy="2953440"/>
          </a:xfrm>
          <a:prstGeom prst="bentConnector3">
            <a:avLst>
              <a:gd name="adj1" fmla="val 2169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/>
          <p:nvPr/>
        </p:nvCxnSpPr>
        <p:spPr>
          <a:xfrm flipV="1" rot="10800000">
            <a:off x="5688720" y="973800"/>
            <a:ext cx="758160" cy="3346920"/>
          </a:xfrm>
          <a:prstGeom prst="bentConnector3">
            <a:avLst>
              <a:gd name="adj1" fmla="val 460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9F79-64A4-4C42-9158-3EAF46B932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udget Update - Cost Element Summa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996160" y="66600"/>
            <a:ext cx="3024000" cy="465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037200" y="38160"/>
            <a:ext cx="609840" cy="52380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79640" y="1197000"/>
            <a:ext cx="6829200" cy="411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6193-24A8-4594-ADC6-BBA48A34C2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ers Coln  / Tim Pare</dc:creator>
  <dc:description/>
  <dc:language>en-US</dc:language>
  <cp:lastModifiedBy>Cwilkinson</cp:lastModifiedBy>
  <dcterms:modified xsi:type="dcterms:W3CDTF">2007-11-21T13:49:25Z</dcterms:modified>
  <cp:revision>368</cp:revision>
  <dc:subject>TAC Update</dc:subject>
  <dc:title>Texas Nodal Market Implementation</dc:title>
</cp:coreProperties>
</file>