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4151-97D9-4427-B4DD-4DBAACFC1E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5233-D222-429F-BD4B-43B6FA1CA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B2623-A3BC-4D2A-AA64-A6552ED3CD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F8D18-7CE0-4DA8-BB83-42FCE3303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CA69B-B3B3-4876-9295-4465F26C87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D3F8D-22C0-4A19-930A-6A4074EED6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84EBA-5E4F-4DC1-BDE2-B17F5BF2FE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D6327-6ED7-4B84-86FD-59D81EEFDE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25115-70D9-4982-A614-B0F43C265E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CD16D-0546-47BF-A261-2D902AE2D6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3AAEE-470A-4F1A-A21F-A39364D134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A6F8C-539F-43D0-9447-DF9EA7E174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FF383-0A31-4B58-85F3-BB768BE1AA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9BC6F-8295-4F9A-B4AE-7D7DBD29F1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CC63-F39E-4779-9376-64B5D4CE3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mber 4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DFC3A776-505C-4943-BDEF-2E8951E19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jrasberry@ercot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9807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MO Projects Financial Overview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COP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December 05, 2007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Justin Rasberr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Market Operations Division Projects Organ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Line 3"/>
          <p:cNvSpPr/>
          <p:nvPr/>
        </p:nvSpPr>
        <p:spPr>
          <a:xfrm>
            <a:off x="990720" y="3352680"/>
            <a:ext cx="716256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7 MO PP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Rectangle 4143"/>
          <p:cNvSpPr/>
          <p:nvPr/>
        </p:nvSpPr>
        <p:spPr>
          <a:xfrm>
            <a:off x="762120" y="5486400"/>
            <a:ext cx="2286000" cy="609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planned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ry-over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reen Shaded Are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144"/>
          <p:cNvSpPr/>
          <p:nvPr/>
        </p:nvSpPr>
        <p:spPr>
          <a:xfrm>
            <a:off x="3200400" y="5486400"/>
            <a:ext cx="2286000" cy="609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BOV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rrent Capability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range Shaded Are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145"/>
          <p:cNvSpPr/>
          <p:nvPr/>
        </p:nvSpPr>
        <p:spPr>
          <a:xfrm>
            <a:off x="5638680" y="5486400"/>
            <a:ext cx="2286000" cy="609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ELOW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rrent Capability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Yellow Shaded Are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763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planned 2006 Carry-Over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Text Box 256"/>
          <p:cNvSpPr/>
          <p:nvPr/>
        </p:nvSpPr>
        <p:spPr>
          <a:xfrm>
            <a:off x="152280" y="2209680"/>
            <a:ext cx="82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status change on these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37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83944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BOV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he Capability Lin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42670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-70048_01 MV90xi System Upgrade Project moved to “Executio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763120" cy="3276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52280" y="3276720"/>
            <a:ext cx="8991720" cy="83808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ELO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he Capability Lin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9" name="Picture 27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39440" cy="16002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28"/>
          <p:cNvSpPr/>
          <p:nvPr/>
        </p:nvSpPr>
        <p:spPr>
          <a:xfrm>
            <a:off x="152280" y="2895480"/>
            <a:ext cx="82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status change on these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 Overview as of 10/23/2007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762120"/>
          <a:ext cx="8229600" cy="4668840"/>
        </p:xfrm>
        <a:graphic>
          <a:graphicData uri="http://schemas.openxmlformats.org/drawingml/2006/table">
            <a:tbl>
              <a:tblPr/>
              <a:tblGrid>
                <a:gridCol w="2468520"/>
                <a:gridCol w="973080"/>
                <a:gridCol w="4788000"/>
              </a:tblGrid>
              <a:tr h="451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PPL Budget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/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MO Capability Line Budget Fu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5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approved MO funding al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ates where the capability line fa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dated $1.33M to $1.5M to reflect project fu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48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current expectations and run rates for active and not started projects above the capability 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range of $0M – $1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752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 is difference between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Capability Line Budget Funding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66k due to carry-over amounts into 2008 for current proje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77k resulting from projects running under bu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39k due to budget corre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30k due to new project initiation (part of give bac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 will need to evaluate when to release the funds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971800" y="1981080"/>
          <a:ext cx="6029280" cy="335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981080"/>
                    <a:ext cx="602928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udget Variance Alloc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52280" y="838080"/>
            <a:ext cx="876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low is the updated view of under spend categories.  These categories will be monitored throughout the year to assess potential realloc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281400" y="1503360"/>
            <a:ext cx="2524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836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/RO Budget Vari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7; $ thous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57600" y="22860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25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5638680" y="4921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7543800" y="4921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5181480" y="3733920"/>
            <a:ext cx="1828800" cy="228600"/>
          </a:xfrm>
          <a:prstGeom prst="wedgeRectCallout">
            <a:avLst>
              <a:gd name="adj1" fmla="val -97398"/>
              <a:gd name="adj2" fmla="val 262500"/>
            </a:avLst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 Total = $7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3657600" y="5410080"/>
            <a:ext cx="121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Conce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5562720" y="5410080"/>
            <a:ext cx="12189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uld be monito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7391520" y="5410080"/>
            <a:ext cx="12189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uld not Re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228600" y="2286000"/>
            <a:ext cx="25146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T, COPS, and RMS have all reviewed the MO-RO portfolio and acknowledged the release of $2.5M from the overall portfolio budget variance of approx. $2.55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44956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228600" y="434340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 Release of $740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533520" y="1371600"/>
            <a:ext cx="82296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in Rasbe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, MO D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Operations Divisional Project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3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rasberry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jrasberry</cp:lastModifiedBy>
  <dcterms:modified xsi:type="dcterms:W3CDTF">2007-11-26T22:14:39Z</dcterms:modified>
  <cp:revision>403</cp:revision>
  <dc:subject/>
  <dc:title>Role of Account Management at ERCOT</dc:title>
</cp:coreProperties>
</file>