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2AC-A628-49E4-98D0-BB595F2D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EC0-FCDA-4FA3-884C-7534A0E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613-8693-44DF-A432-9FED3E82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D34-E86F-4700-9D7D-8912A460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ABB-B436-4A71-9DB0-B5AE1630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F89A-FB83-4AF0-9465-C5425A8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777-5804-41F4-B7DD-D445383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3C6-594C-4706-BA91-FAD0660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C45-158D-4F6C-BC81-4FEE4DE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AD0E-68DE-44A2-B3B0-6055E999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CDC4-F8AA-4578-8B03-C2B1A88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E1D-6B30-41A4-A574-BAC5CC5B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E2B-84EC-49AE-8208-9F16F11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FDE0-38EE-41CF-81DA-28814F5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550F-7163-4135-9B9A-6C9995A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61D-62C4-4661-BBD2-F7765CAE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222B-6BE9-43DD-9236-734006CB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792-EC49-4C40-838B-26EBC5A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358-978E-4FC0-B5BE-B14208BD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77C-D420-45EF-98C9-2D212E7A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B24-A874-462B-84EE-FFBE724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CAB-28BA-49B8-9676-53F68DAD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E88-AA1C-4CAE-A460-6F986FE9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17F-D641-46E8-9198-112888E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2368-E04C-472C-BCD7-18E749874D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5E88-8D49-4A3E-8228-F4B56DC9D9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9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X SET Procedures Guide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rak Phas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ion ID Updates Prior to Nod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 Cart Bud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X SET Procedures Guide Upd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proved” Texas SET Working Group Procedures documentation, changes includ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guidelines for implementing change control request received outside of version releases (RMS Action item from August RMS meet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ing Timeline for updates to TX SET Implementation Guides for a Version Releas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ing Texas SET Acceptable Extended Character SETs for Alphanumeric data fields in the Texas SET transactions and SEF File process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pdating website references,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-organizing the flow of the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rkeTrak Phase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Requirements Documents Def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ed off on by Task Force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ted to ERCOT for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 Testing Requirements Defined and Submitted to TX Test Plan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on ID Updates Prior to Nod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 million ESI ID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s naming nomencl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requested direction from 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directed to follow process used for Annual Valid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ication to Market Participants before end of Nov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 ID Updates to be coordinated through February and March at approximately 30K/day on weekdays and 50K on weekend days with no conflict to ERCOT maintenance or release wind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O Cart Budge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7.1M Budgeted fo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2.9M Allocated in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howed Allocation of $2.5M to IO, CO and 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1.6M Still to be alloc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Requested ERCOT to return to RMS to Provide Detail of Funding Allocation fo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balbracht</cp:lastModifiedBy>
  <dcterms:modified xsi:type="dcterms:W3CDTF">2007-11-26T19:20:27Z</dcterms:modified>
  <cp:revision>48</cp:revision>
  <dc:subject/>
  <dc:title>RMS Update to TAC</dc:title>
</cp:coreProperties>
</file>