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1520-A38D-4030-96AF-73A504D72D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C5BD-E87F-4747-BFF4-57E6FC55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087D-8668-4DCE-AF76-6F40E68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A34F-8C94-4B66-89BB-F81F36C84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186-B65F-49F6-A336-3E935EEBC9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6E2-21CC-494A-90FE-511EB5166C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06B-CF6F-419D-B7BF-17DEC00869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156-974E-4F43-B12E-00B6B95DC3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DFF-5D28-41DF-9B65-78599D7251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901-3A9F-4BFD-B584-13C08CAA85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3F3-7D3E-40E0-9D9F-F06BF39F0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F6A1-C9EF-461B-AA76-D7F14875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1DD-54B6-4663-9ABF-22C59890A4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994-F58C-4363-8E3B-077CCEF74A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AB6-13C7-451F-B5AF-0EF64C4B07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9CB-F8B6-47D5-8EB4-FBA6796761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F0E-86B9-47CD-8FE6-971FB598B9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08DE4-BCCE-409B-AD2F-93ACC46923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599C2-E52D-4A35-BF1C-F244598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80808-9C72-4D2B-8B61-F48593B6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2766E-72E7-429D-BF90-14A6F94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50E1D-3292-4A3B-A105-78CB105D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6AF0-8F97-4319-B55D-5BA9BC65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B0892-97A9-4B8B-BD90-843F3C5C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750C5-23CA-4FC0-BEB7-5892956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4A2EC-725C-42BB-8D09-51194F14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1E5AF-4CA2-4AAD-BEAF-DC89531F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8E5EC-5FD3-4130-BF26-54A0C180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2FF33-6CBB-4A78-9FD1-D5D1E2F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D8604-48B0-49DA-8666-494A6B8F64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1A99-FB87-4F74-9A83-A55F142A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9822-3571-4DE8-AB67-FFB38F8C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BEA5-CC06-4E48-A02D-40123CA4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CE46-B9F0-46D2-BD3A-86CDCC4D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127C-DC11-433E-A274-7CEB9811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7750-97E1-4510-9FF4-3B561A29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68B4-6F6B-4E48-BAE0-B3657FE5D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1C81-A24D-410A-A292-FAFD1D3A8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4A3D-CFB5-4555-984A-C131A1D059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cember 3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FC08-870D-4825-9386-EFF9A849BD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393920"/>
            <a:ext cx="8610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WG Long Term Strategy of Load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 exist as long as there are non-IDR metered load to sett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state is use of version 2 load profiles effective 5/15/2007 and use of BUSOGFLT profile effective 9/18/2007; 10 profiles in 8 weather z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Validation Migration is now about 4% of pop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load research meters being instal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mandatory IDR threshold with possible revision in 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 Response to use lagged dynamic profiles possibly in fall of 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ar panel shape for settlement due in 1/1/200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version of recalibrated load profiles possibly in fall of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meters expansion by 2011 with more settlement interval metered premi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meters expand flexibility of refreshing stat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428E-9F1B-485C-B9F1-58BB6185FA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393920"/>
            <a:ext cx="861048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R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 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COPS recommend to the TAC approval of PRR Draft after the PWG submits the draft with 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 key document, “PRR Draft IDR Installation.do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5B89-3204-4874-A8FD-D9C508A36F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4648320"/>
            <a:ext cx="8001000" cy="157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7 remaining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imate Meetings in 2008 shall be the fourth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6D0B-60C0-4A62-910F-1DE2FF438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5120" y="1265400"/>
            <a:ext cx="821376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A7E9-518A-43D9-AC38-EB4B90EF6E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2007 Major Accomplis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828800"/>
            <a:ext cx="79250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new Version 2 ERCOT Profi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LRS sample selection round tw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New Oil &amp; Gas Profile – BUSOGF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Annual Validation nearly comple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 2004, 2005, 2006 and 2007 preview UFE Analy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area on PWG web page for key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Language for Demand Response Implementation in LPGRR027 and PRR7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additional LPGRRs 19, 20, 21, 22, 23, 24, 25, 26 and 2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3BAD-24E5-4930-AB4B-5F9F940C1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828800"/>
            <a:ext cx="792504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9966"/>
                </a:solidFill>
                <a:latin typeface="Arial"/>
              </a:rPr>
              <a:t>Implement new Version 2 ERCOT Profiles. D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9966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339966"/>
                </a:solidFill>
                <a:latin typeface="Arial"/>
              </a:rPr>
              <a:t>LRS sample selection round two. D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339966"/>
                </a:solidFill>
                <a:latin typeface="Arial"/>
              </a:rPr>
              <a:t>New Oil &amp; Gas Profile – BUSOGFLT. Done.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4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2007 Annual Validation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Due 11/30 with two TDSPs outstanding.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"/>
              <a:buAutoNum type="arabicPlain" startAt="4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valuate the methodology for profile scaling factors (per UFETF Nov. 16) –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4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Review 2004, 2005 &amp; 2006 UFE Analysis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Done. 2006 report to be presented at PWG on Dec. 4, 2007.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amine ways to accommodate extreme events in Settlement process –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Establish Long Term Strategy of Load Profiles including refresh timeline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one. Slides to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8F53-59C3-41EF-8A29-116D3CB40C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95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752480"/>
            <a:ext cx="792504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DR Analysis – 2 issues outstanding from original analysis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view if having more weather stations adds accuracy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view if the weighting of weather stations is appropriate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view IDR installation procedure language to ensure compliance Pending PUCT new project on advanced metering implementation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Decimal changes on load profile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e.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PGRR026 passed TA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view LPG language on list based profiles and universality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Docket responses to demand response or AMR rule, etc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cision Tree pending COPS DR Task Force Recommend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AutoNum type="arabicPlain" startAt="16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Set up area on PWG web page for key document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e.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AutoNum type="arabicPlain" startAt="16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339966"/>
                </a:solidFill>
                <a:latin typeface="Arial"/>
              </a:rPr>
              <a:t>Annual Review of load profiles as specified in market language - 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DD6D-7FCC-4F0E-8C5D-BD2D67489A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830240"/>
            <a:ext cx="84582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Analysis to identify new profiles as specified in market language -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Update the TOU procedures on the Load Profiling web sit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nvestigate ways to improve Business Profile ID assignments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21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view analysis of DLC demonstration programs per Pilot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view Protocol and LPG language for appropriateness for large Opt-in Entity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view Protocol and LPG language for consistency with PUCT Load Research Rule.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ERCOT Staff to draft an LPGRR –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Moved to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 Requirement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PR Draft slides to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7BB3-10A8-4094-A197-F788AEDC6F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9920" y="1590840"/>
            <a:ext cx="6972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Trac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 New Install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6840" y="2438280"/>
            <a:ext cx="7124760" cy="38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DF40-2446-484F-B0A9-E5ED5A6509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9560" y="1423800"/>
            <a:ext cx="69454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Trac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 New Installations Plus Retained Sample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84240" y="2428920"/>
            <a:ext cx="7124760" cy="38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8DC4-D7EE-4BEF-9E80-70663C5DDE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393920"/>
            <a:ext cx="86104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Respons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R736 is on hold at PRS and LPGRR027 is on hold at PWG until a complete Impact Analysis can be comple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 language in LPGRR027 is being moved to a separate LPG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Rules and ERCOT Legal said the 150 day notice can not be waived based on current langu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s and ERCOT are asked to evaluate how much time is needed to implement system changes so an accurate timeline can be craf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 formed a Demand Response Task Force to build requirements for DR Programs by Feb. 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Staff is building a complete list of discussion items and questions for the DR Task Fo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5D1F-9B04-424A-8809-C380E706B7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7-11-26T17:38:17Z</dcterms:modified>
  <cp:revision>284</cp:revision>
  <dc:subject/>
  <dc:title>PowerPoint Presentation</dc:title>
</cp:coreProperties>
</file>