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DB9-A7D7-475A-82B2-C0A1EDBD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AC5-8113-4DB4-96A2-90B4AA84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B2F-E40E-4D77-B7FD-17E7D444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025-CA81-4285-BBA3-EA6BAEB8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393C-E677-437B-9E54-72B5D8AE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6A0A-8C28-44E4-8F1B-F9172A51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590A-2CFF-42ED-B473-21A3B006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0645-AE64-405E-83DF-44575F96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AFD7-49FA-4B56-A78D-6667E0AC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4CF4-B96F-4305-9EB8-80186903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7F13-8058-477F-A802-351174CB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6EE-770E-4DBE-9630-489513DF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2A46-A34A-40DD-AB66-F37B960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58B6-BE61-4683-8E0E-21995AA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1F6B-D676-4ADE-87C3-497A887C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09B9-57CE-40AA-A5B3-006D960F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F0C8-6276-45E8-B85F-DABCBBC3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315-D7FA-424D-8A58-8F5BDA67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7E2-E009-4250-9904-82B67E36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12A-71CC-4C67-8697-D1FAB845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74A-06F9-4C44-A299-5DD16767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17A-74D7-404A-ABF6-F7BBCBC8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EB8-F283-4EB0-BF93-72BACD3A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CD3-FAF9-497A-B9BB-FA32C3D6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B4D0-99B0-49B2-83BF-2DFFB305E5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6533-4F5F-4912-8D56-6EF96C659E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DEWG Meeting Summar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to COP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2/3/200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im Galvin- Luminant Ener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Updat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692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Staff updated DEWG on recent Data Extract issues and delays comprising 5-market no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to TML through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s on Extract Delays due to Batch Processing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SI ID extract pos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s missing 10/31 data due to batch run issues and re-run out of or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auses well defined in ERCOT’s presentation, posted on ercot.com from last DEWG meeting (11/27/200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COT Updat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692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provided the following additional upda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baseline of 72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Extract Changes centered around recent PUCT dec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ing update on search for Enterprise Information Systems Man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WG Discussions on Communica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827360"/>
            <a:ext cx="80773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G received numerous comments and complaints over these recent issues, many centering around Commun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G discussed Communications issues related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ommunication at ERCOT (Client to Client Rep to Help Des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tions- how are issues escalated at ERCOT, what can MPs do to escalate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G will forward discussion points to CCWG for additional discussion and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WG Discussions on Internal Organization Structu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G and ERCOT staff discussed questions on how the internal ERCOT organization and the responsibilities around Reports and Extr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G will provide a list of questions for ERCOT to present at next meeting related to gaining a better understanding of the Org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will focus on responsibilities, communications, escalation processes and follow-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WG Discussion on Extract Tim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827000"/>
            <a:ext cx="76928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G members discussed concerns over the timing of delivery of many Extr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-hour window as outlined in Protocol for key extracts is not accep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G will draft a NPRR to further define a more sound delivery requi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RR will allow ERCOT to investigate how they can improve timing of delive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RR will position MPs to get critical data more timely in the new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discussed that a PRR for current market would not be appropriate due to resource constraints, timing related to Nodal and c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complishm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692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G was reformed late in the year to address the concerns of current Extract and Reporting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a Service Level Agreement in progress to provide a better sense of expectations from the Extract/Report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ERCOT’s help, provided MPs an understanding of the process and issues around Extracts and Reports from System Architecture to more thorough description of challenges ERCOT 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a forum for MPs to discuss concerns related to Extracts and 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29718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41:07Z</dcterms:created>
  <dc:creator>Registered User</dc:creator>
  <dc:description/>
  <dc:language>en-US</dc:language>
  <cp:lastModifiedBy>Registered User</cp:lastModifiedBy>
  <dcterms:modified xsi:type="dcterms:W3CDTF">2007-11-30T20:54:24Z</dcterms:modified>
  <cp:revision>11</cp:revision>
  <dc:subject/>
  <dc:title>DEWG Meeting Summary</dc:title>
</cp:coreProperties>
</file>