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1DDB-F30E-4F8B-BEA6-B6128313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C213-C03D-4701-92A9-471EE2F6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44F8-1172-482D-A458-980B1BFF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6BD9-02D3-4849-9EC9-399DE63A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FAE1-DA07-492A-8CC7-1C1C0C77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27CC-EB9D-4F4D-8114-88362804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76A3-8780-4ABE-969A-E00D28D6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F7F6-1DF9-44F4-97E1-2CB43056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3C9E-C89D-4387-AFA7-8F815509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059C-41DE-40B2-8031-A69C6CA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FD95-345B-4435-A40E-1E96CE51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EB82-D3E3-4BBC-BADC-1C05B0E4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1271-67A3-4014-A8A0-4C6083203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09880" y="6475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3CF9-4894-452B-BB1E-ABAB05396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jrasberry@ercot.com" TargetMode="External"/><Relationship Id="rId2" Type="http://schemas.openxmlformats.org/officeDocument/2006/relationships/hyperlink" Target="mailto:bbarnes@ercot.com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dal Commercial Systems Project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Ps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ember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j Chudgar &amp; Bill Barne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42840"/>
          <a:ext cx="8229600" cy="2054520"/>
        </p:xfrm>
        <a:graphic>
          <a:graphicData uri="http://schemas.openxmlformats.org/drawingml/2006/table">
            <a:tbl>
              <a:tblPr/>
              <a:tblGrid>
                <a:gridCol w="3814920"/>
                <a:gridCol w="2311200"/>
                <a:gridCol w="210348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ables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Ba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Schedule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Rasber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and Jus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DF0C-D5F0-46DF-8546-6A8EF33AE1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Requirement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 around baseline 2 synchronization are continuing, all 23 requirements have been updated and submitted for TPTF appro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associated documentation (use cases, CSDs, test cases, etc) will be updated as Baselines appro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s personnel should stay abreast with COMS requirement 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5831-D955-41DE-82DE-3E19141D95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CSD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 COMS Conceptual System Design (CSDs) will be rolled into the  v3.0(thru baseline 2) and submitted to TPTF following approval of the requir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17A3-394C-4394-93C3-DBD0908743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Statements and Invoices – Presentation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777960"/>
            <a:ext cx="82296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ize Late Fee Invoice presentation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Option Preferred at Nov C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ow days where late fee is $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Invoice presentation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 COPs - Uplift In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2514-B67A-4D6B-A1E3-7AD1EE5AD9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velopmen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51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ed Design on ta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Draft 1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continue to update with “As-Built” information throughout development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destar version 4.7 continues to stabil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cted majority of major issues which impacted design and build 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ing remaining issues and enhancements to ensure we stay on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s a risk to overall S&amp;B coding delivery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probability reduced as major issues corr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destar metadata changes remain ongo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testing in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testing at the Modular level and will “build up” to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1 complete:  FAT in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C27F-04CF-4259-B732-950897E674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velopmen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5040" y="2925720"/>
            <a:ext cx="8229600" cy="3186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build packages consists of multiple mod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s aligned into business functional components (i.e. DAM Energy, DAM AS, CRR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FAT completion by late 4th quarter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SAT completion by late 1st quarter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, Lodestar S&amp;B slated for EDS 3 &amp;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ments and Invoice format for EDS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dow Settlements EDS 4 (requires Extra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s Go Live with 1st CRR auc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680" y="1325520"/>
            <a:ext cx="8367840" cy="11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683E-ADFF-4331-A33E-328653DB84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 ?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11120" y="93024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n Rasb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O D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rasberry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120" y="324648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 B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Settlements and B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barnes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B195-12F0-4BAB-A25E-83087A9B0F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7-11-27T15:10:20Z</dcterms:modified>
  <cp:revision>237</cp:revision>
  <dc:subject/>
  <dc:title>Electric Reliability and  Resource Adequacy Update</dc:title>
</cp:coreProperties>
</file>