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DCA-4F53-42F0-94A3-4CDF7A82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456-DC4B-4271-B6C4-EFC5E08D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AA2-094C-403D-8BE1-AE73840D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C40-955D-4527-96ED-960AB9D6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35A5-77FC-4F6A-82CF-6179F2C4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ECA2-980D-47CC-893F-F362E608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26ED-59FA-43E6-AF09-282F385F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014E-88E6-4A76-B53B-D626F3D4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1AF7-0093-4A09-A920-7EEBF5AD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138C-04C1-4868-B94B-8772EADD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4E6C-7E12-4F38-B84C-639259C8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7796-2839-44E8-BFA3-032695C7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CE2D-D04B-4FE8-B9A2-763B7794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2FE6-E7E6-4553-8190-B9017005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2152-5C0E-46B7-949E-DF038695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6C31-7A2F-41FD-8B8C-377FA47A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50B4-D7FB-488C-962C-DE35328F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DE2-5958-41C1-9E7A-6C19AE4E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55D-9F37-4A64-9444-A3A7B7AE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6476-0018-4DF0-B10E-3BB36873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9095-E233-4681-96DE-A390E080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85B-B828-4E4F-AB15-3934E770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D31C-FE23-4139-8263-03AE5836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BEB3-9825-4F1E-9B44-235A1FC0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B0B7-371D-4DAE-9658-632D67A4DE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F21D-8922-478B-A052-473B556B4D9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SDAWG Update to COP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Verifiable Cos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DAWG has reviewed the Verifiable cost manual on multiple occasions, providing specific input to ERCOT sta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PTF and WMS 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DAWG has reviewed a VC transition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DAWG will be examining the verifiable cost submission tool in detail at it’s meeting this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ext meetin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ifiable cost t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dal sett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DAWG accomplishm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d the working gro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mitted NPRR to alter nodal dispute process and repor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olved overlap with NPRR 7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mitted PRR for EILS disputes and resettl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d business requirements for nodal COMS extr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sted mini-market works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ed on Verifiable Cost Manual and associated docu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9:41:00Z</dcterms:created>
  <dc:creator>Eric Goff, comments</dc:creator>
  <dc:description/>
  <dc:language>en-US</dc:language>
  <cp:lastModifiedBy>Eric Goff, comments</cp:lastModifiedBy>
  <dcterms:modified xsi:type="dcterms:W3CDTF">2007-11-30T20:15:58Z</dcterms:modified>
  <cp:revision>3</cp:revision>
  <dc:subject/>
  <dc:title>SDAWG Update to COPS</dc:title>
</cp:coreProperties>
</file>