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16D-D67D-4A05-AE09-81D5C4DE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226-5F12-41A7-B43D-8472D53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D1B-0166-4B4E-9607-08A6C2DB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175-0DF8-48B9-A4B3-7A6BC0F0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3CD1-8153-4D14-97B5-020FD69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B6C-39D1-4B39-95CF-2E8EC9AF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1E8B-1BE4-463F-84F8-2021DE30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E654-2435-4230-8489-DC551DEA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B75-5451-48B8-A994-D8450A0A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EBE-F187-405F-B5FD-C8E1191F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A7C-7DB3-4C73-A2BA-C3FAC14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84B-1801-4BEB-93E7-54151A55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454-F25B-40B4-B10F-DF4B5C2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DBA-E2CC-4EB4-82A7-964C267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A83-77F9-496E-9629-CDE7B14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75C-8635-4DCA-84C8-C04721E8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F7A-5A95-46C5-9480-D7C575C1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F4D-29CC-41A9-BDE7-9DF7B3B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4F6-30CE-436B-9884-D2D9369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3BB-FDA7-4687-9C15-C4C0CF0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E2B-422C-4D38-A641-824C3DC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7F9-4F62-4DEE-BE60-7BAEFA0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C34-85BA-4F8E-9BD7-5C8C919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53B-858C-441E-9A66-4C56586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4096-A18E-4074-94B7-9022CB8CC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9C7-69D6-4B47-9BC2-53AA53C66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ERCOT; 10:00am – 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n COPMG Nodal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Nodal 101 Training Material into COP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Issues for 10/31 and 11/1 Resett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huck Moore</cp:lastModifiedBy>
  <dcterms:modified xsi:type="dcterms:W3CDTF">2007-11-19T21:38:06Z</dcterms:modified>
  <cp:revision>31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2229309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 December COPS Presentation</vt:lpwstr>
  </property>
  <property fmtid="{D5CDD505-2E9C-101B-9397-08002B2CF9AE}" pid="6" name="_NewReviewCycle">
    <vt:lpwstr/>
  </property>
</Properties>
</file>