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A6910-D59D-48EE-BF49-EBE0A29C0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249B9-2263-4C14-8214-45A8D22E2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715A7-BAA9-4887-83B5-98939C269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509CD-EA49-4E91-9163-E5F178DC8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872E6-0FB5-4303-B0E8-2F9175271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D2377-FF3F-4884-972B-24670266C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1230B-85D0-4291-87ED-564A06CA1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E6CF9-7918-4231-9BAF-58AFDDA20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C91ED-7E7D-447D-8C10-D89031DEA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EE76D-260C-4F45-9310-3E57642F1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A4266-3271-45F5-87A4-AC3679282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C4DCE-DF10-4B62-B43C-58043EF3C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8D136-B782-49AD-8771-188AFA1E8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DCB56-8C55-4880-A5A8-AD164FB72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8AE3C-D2BB-4AF7-AC12-AB6720A71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A25BD-844E-4204-B305-067DE8635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65153-0E9E-450D-9A9D-150EEBB80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93D41-E939-4FFA-8BB8-60B7A1ECF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05FA1-7D3D-458D-A181-8861DE134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C48E0-5E9C-482A-9A66-04E2CCD84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82631-7283-4ED9-BEA3-752E94BA1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324AC-197F-4F77-A80A-0D860035B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5351E-668E-4282-850A-B3578B5A5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09854-38C8-4358-A65C-83A9BCD22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35B4-4690-4FFB-B3AC-FE005610E8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9E40-6F13-44F8-B3B5-86FCF991E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Demand Response Task Force</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Update to COPS</a:t>
            </a:r>
            <a:endParaRPr b="0" lang="en-US" sz="3300" spc="-1" strike="noStrike">
              <a:solidFill>
                <a:srgbClr val="000000"/>
              </a:solidFill>
              <a:latin typeface="Arial"/>
            </a:endParaRPr>
          </a:p>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December 3, 2007</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eveloped Scope</a:t>
            </a:r>
            <a:endParaRPr b="0" lang="en-US" sz="33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mand Response Task Force (DRTF) was created jointly by COPS and RMS to build a solution that will allow for the settlement of retail Demand Response programs by the summer of 2008 that would support but not be limited to: </a:t>
            </a:r>
            <a:endParaRPr b="0" lang="en-US" sz="22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B 3693 Section 20.  Section 39.107, Utilities Code, is amended by adding Subsection (i) to read as follows:</a:t>
            </a:r>
            <a:endParaRPr b="0" lang="en-US" sz="2000" spc="-1" strike="noStrike">
              <a:solidFill>
                <a:srgbClr val="000000"/>
              </a:solidFill>
              <a:latin typeface="Arial"/>
            </a:endParaRPr>
          </a:p>
          <a:p>
            <a:pPr lvl="2" marL="1143000" indent="-228600">
              <a:lnSpc>
                <a:spcPct val="80000"/>
              </a:lnSpc>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ubject to the restrictions in Subsection (h), it is the intent of the legislature that net metering and advanced meter information networks be deployed as rapidly as possible to allow customers to better manage energy use and control costs, and to facilitate demand response initiatives. </a:t>
            </a:r>
            <a:endParaRPr b="0" lang="en-US" sz="18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adopting amendment to §25.507 as approved at the November 1, 2007 Open Meet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2" name=""/>
          <p:cNvGraphicFramePr/>
          <p:nvPr/>
        </p:nvGraphicFramePr>
        <p:xfrm>
          <a:off x="5486400" y="5562720"/>
          <a:ext cx="914400" cy="714240"/>
        </p:xfrm>
        <a:graphic>
          <a:graphicData uri="http://schemas.openxmlformats.org/presentationml/2006/ole">
            <p:oleObj progId="Word.Document.12" r:id="rId1" spid="">
              <p:embed/>
              <p:pic>
                <p:nvPicPr>
                  <p:cNvPr id="93" name="" descr=""/>
                  <p:cNvPicPr/>
                  <p:nvPr/>
                </p:nvPicPr>
                <p:blipFill>
                  <a:blip r:embed="rId2"/>
                  <a:stretch/>
                </p:blipFill>
                <p:spPr>
                  <a:xfrm>
                    <a:off x="5486400" y="55627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etermined Primary Issue</a:t>
            </a:r>
            <a:endParaRPr b="0" lang="en-US" sz="3300" spc="-1" strike="noStrike">
              <a:solidFill>
                <a:srgbClr val="336666"/>
              </a:solidFill>
              <a:latin typeface="Arial Black"/>
            </a:endParaRPr>
          </a:p>
        </p:txBody>
      </p:sp>
      <p:sp>
        <p:nvSpPr>
          <p:cNvPr id="9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termined that we would be building on the work already done by the Profile Working Group</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ume that lagged dynamic profiles will be used to settle demand response programs</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imary issue how to link participating ESIIDs to their specific demand response program</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nswering ERCOT’s Questions</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Load Profile ID the best method for identifying that an ESIID belongs to a DR program?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r are there other Texas SET fields that could be utilized?</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investigating if any such fields exis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nswering ERCOT’s Questions</a:t>
            </a:r>
            <a:endParaRPr b="0" lang="en-US" sz="3300" spc="-1" strike="noStrike">
              <a:solidFill>
                <a:srgbClr val="336666"/>
              </a:solidFill>
              <a:latin typeface="Arial Black"/>
            </a:endParaRPr>
          </a:p>
        </p:txBody>
      </p:sp>
      <p:sp>
        <p:nvSpPr>
          <p:cNvPr id="9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es this identifier and the load shape need to be private?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current Load Profile IDs and shapes are public</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conversations suggested the identifier could be public but the shape should be priv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nswering ERCOT’s Questions</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en should an ESIID stop being settled on a DR program?</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determined that an ESIID should no longer be settled on a DR program once a Switch, Move-In or Move-Out Request has been </a:t>
            </a:r>
            <a:r>
              <a:rPr b="0" i="1" lang="en-US" sz="2600" spc="-1" strike="noStrike" u="sng">
                <a:solidFill>
                  <a:srgbClr val="000000"/>
                </a:solidFill>
                <a:uFillTx/>
                <a:latin typeface="Arial"/>
              </a:rPr>
              <a:t>effectuated</a:t>
            </a:r>
            <a:r>
              <a:rPr b="0" lang="en-US" sz="2600" spc="-1" strike="noStrike">
                <a:solidFill>
                  <a:srgbClr val="000000"/>
                </a:solidFill>
                <a:latin typeface="Arial"/>
              </a:rPr>
              <a:t> in ERCOT’s systems</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should be true even if the CR submitting the request is already the REP of Recor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ext Steps</a:t>
            </a:r>
            <a:endParaRPr b="0" lang="en-US" sz="33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ext meeting will be on December 18 at ERCOT</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roup will continue answering questions posed by ERCOT</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RCOT will present process flows to facilitate discussion</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notices will be sent to RMS, COPS and PWG</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6:05:10Z</dcterms:created>
  <dc:creator>DRTF</dc:creator>
  <dc:description/>
  <dc:language>en-US</dc:language>
  <cp:lastModifiedBy>DRTF</cp:lastModifiedBy>
  <dcterms:modified xsi:type="dcterms:W3CDTF">2007-11-29T16:31:10Z</dcterms:modified>
  <cp:revision>4</cp:revision>
  <dc:subject/>
  <dc:title>Demand Response Task Force</dc:title>
</cp:coreProperties>
</file>