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656-E94F-42A8-B12A-FB0DB4A5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120-5B1C-4EF1-8FCE-2D5248C7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BC8-3699-4CCE-817F-4806B7EC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B1E-FED6-43EC-97B3-C51D24BF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610-275E-46C2-A26C-02E4A42E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410-0FF3-447C-BCC6-73A5A486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379-FAF9-40FB-940B-D7EDE7F6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886-8322-4421-B002-B93B4FC6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EF3-83B5-406F-BF2A-E73392AC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9DE-491A-4984-AA91-DB376879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13C-C802-4B19-A0D5-5D92BF9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62B-4684-48E7-AEAD-C570ADFE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B94E-D536-4520-ACE0-511CD717F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vember 29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77B-E07C-4D9C-AC9F-7ECF07D778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ata Extract Working Group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ttention is focused on recent extract issues occurring on 10/31 and 11/01 activity that has followed si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perienced another incident of missing data from key data extracts and a Re-settlement of an Initial 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cerns over basic controls that should identify major issues in extract completenes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WG Ch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ceived complaints on 48-hour timeliness and notification process; however, ERCOT was within the 48-hr timing window (DEWG will be reviewing market expectations and protocol/market guide references on timel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munications issues, the timing of market notices to the events, and the detail provided, are concerns being discu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quested ERCOT staff to clearly identify root cause of extract posting issues and advise of any corrective action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22E-02EA-4C1E-9641-21EF6485EE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dal Impac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with ERCOT Staff Verifiable Cost Manual and issues related to non-fuel startup resulting from a RUC deploy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has prepared a list of issues/questions for WMS to consi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884-5F77-4840-9A89-F362CD46B9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mand Response Update (COPS &amp; RM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PS &amp; RMS have jointly formed a DR Task Force to build requirements for DR Programs  &amp; Report to COPS &amp; RMS by Feb. 2008 or sooner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Jennifer Garcia, Direct Energy -Task For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athy Scott, CenterPoint Energy – Task Force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Staff to assemble a list of discussion items and questions for the Task Force on DR Program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rst meeting of the DRTF was held Tuesday, November 27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B35-E3FD-4F5E-B65E-9C74EBCFC7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ad Profiling Guide cleanup, Corrections and Up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25-049/028/index.htm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B0A-A4CB-44F0-BBFC-179446847C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129-6155-45F5-BD6B-372F83428F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11-19T19:35:51Z</dcterms:modified>
  <cp:revision>239</cp:revision>
  <dc:subject/>
  <dc:title>Point-to-Point</dc:title>
</cp:coreProperties>
</file>