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6B05-B8AD-4FF6-8F0A-398A2B3D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02635-DD07-42B9-9B9F-7ADC4367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234FD-BE30-4698-9921-F81384E0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8B45B-5C43-47D6-8109-6C773E47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BAD9-45C2-45FA-8767-540263D7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51E3-B6F7-4D1A-B059-FCEFC35E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4A6FE-60D6-4721-B63C-116BF4AF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2A7E3-DA56-468F-B7A0-50E334CA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E43F-E8DA-4383-A27C-40839345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40E6C-3FC2-435F-AEE4-EA936BD1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5D20-B65C-43A8-AB2C-C33D6A86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E06D7-6C7C-42F6-B4FF-87663BC0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0426-28C8-4781-B05C-7EC9868E5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A1EC-8733-46F0-BBBB-502A815E9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MO Update to PR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gram Management Offic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vember 15, 2007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 CART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ding Status by C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s Receiving F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nt Project Develop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that have been implemented – Octo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 Project Prioritization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FAE88-A9BF-4B2A-9A20-FCB677DA41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7 CART Funding Stat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09480" y="1523880"/>
          <a:ext cx="7848720" cy="4068720"/>
        </p:xfrm>
        <a:graphic>
          <a:graphicData uri="http://schemas.openxmlformats.org/drawingml/2006/table">
            <a:tbl>
              <a:tblPr/>
              <a:tblGrid>
                <a:gridCol w="990720"/>
                <a:gridCol w="2133720"/>
                <a:gridCol w="2361960"/>
                <a:gridCol w="2362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2007 Fu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2007 Fu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67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17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47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097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0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,22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8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794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06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B3CF2-7BA1-4975-B3B5-D88BBA93A6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s Receiving Released Funds - 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C2 Build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, $1,900k, additional fund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out remaining work areas in Taylor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PaperFree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, $250k, new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delivery of SCR745 – Retail Outage Evaluation &amp; Re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Servic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, $510k, additional fund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es functions of 4 ERCOT internal problem reporting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abs Digital Cross-Connect System Re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, $570k, reprioritized above the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s mission critical equipment enabling WAN connectivity, voice communications, and EMMS RTU communications in support of Grid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3 Microware System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, $350k, reprioritized above the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s more robust system capable of meeting increasing bandwidth de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1E5AA-9DCA-4C48-8E8A-C8C8D92802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s Receiving Released Funds - 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Room Projector Re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, $600k, acceleration from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s Sys Ops control room proj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-Term Load Forecast Phase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, $250k, additional fund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ERCOT the ability to compare more than one forecast and gives the flexibility to select from more than one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S ETL Tool Procurement and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, $490k, new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 software to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tract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sform an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ad data into data ware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 Storage – add capacity to data storag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, $750k, accelerated from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de Refresh – replace aging blades in support of apps across the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, $1,000k, accelerated from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, $40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702D-5766-4B26-BD35-D8E5BFC343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nt Project Implemen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 market-facing project implementations to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1253-F5DF-4479-BE75-DFC96325F7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Project Prioritization Discu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27E89-083A-49FA-939E-C18301A135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7-11-13T21:18:36Z</dcterms:modified>
  <cp:revision>127</cp:revision>
  <dc:subject/>
  <dc:title>Instructions</dc:title>
</cp:coreProperties>
</file>