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8FD6-DFD8-4250-ACE7-02A7EEDF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21A0-CB79-4746-AEA4-9E76B77A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C4BB-7E48-46B8-A47F-255745C6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19C6-62FE-4046-9D29-7055BC9C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091E-8A01-4F7B-9590-5EB4114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1AA2-CD6A-4410-B33C-8E109892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BC3B-2EE4-426F-9ACD-AE07E16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6BFA-9DCD-4BA8-A298-188BA2C0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EB37-1598-4FE1-8D9B-ED37EFD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20C2-A250-4FB9-B814-34F9E916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FEB3-1163-49F8-AFA8-342D661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759F-A296-4284-8605-12CAE0A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42FF-0CF9-4D4F-9A18-85D526792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S/PRS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14-15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C94-CE10-467D-9E5C-8F54D4219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160" y="2266560"/>
            <a:ext cx="60390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R 746 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visions to Emergency Interruptible Load Service Provisions to Conform to Amended P.U.C. Subst. R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5.507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mber 1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mber 1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ime Periods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, in each of the 7 instances, there are 2 otherwise identical equations, one each f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usiness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= Non-Business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46 eliminates the second equation and substitut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= Time Period, as defined in the ERCOT Request for Proposal for the Contrac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hanges look complex, but they simply modify the subscript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material chan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equ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7D67-4912-40E5-BFCA-DEC623275B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&amp;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86200" y="2562120"/>
            <a:ext cx="1619280" cy="2743200"/>
            <a:chOff x="3886200" y="2562120"/>
            <a:chExt cx="1619280" cy="27432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3886200" y="2562120"/>
              <a:ext cx="16192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489920" y="2946240"/>
              <a:ext cx="658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9920" y="4483440"/>
              <a:ext cx="658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8520"/>
            <a:ext cx="82296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10F6-5444-4587-B2C7-9E49955192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C Action &amp; PRR 746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antive Rule amending the Emergency Interruptible Load Service was proposed by PUC Staff in August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347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. 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5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ers on Nov. 1, 2007, adopted the Rule amendments on a 3-0 v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adopting the amendments is 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46 implementing the amended Rule needs to be in place for the next procurement cycle (Feb. thru May 200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tative date to issue the RFP is Dec. 12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previous RFP tim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oard meets on Dec. 11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ing WMS, PRS, TAC and BOD approval by that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BDD9-2C51-4273-AFC0-22A32C4D74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C Rule Amend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changes made by the amended EILS Ru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definitions of Prime and Non-Prime (a.k.a. Business and Non-Business) Hou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b)(4) and (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o establish Time Periods within a Contrac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ERCOT to restructure the Contract Periods (currently 4 months) to facilitate additional load particip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a)(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90 days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s the Cost Cap from $20M to $50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b)(3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ERCOT explicit authority to reject a bid it deems to be ‘unreasonable or outside the parameters of an acceptable bid’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a)(3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500 MW floor to run the Servi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a)(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500 kW peak demand floor for members of an aggregated EILS Resour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c)(1)(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long-term solution sunset provis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a)(6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AB9F-83BB-4D4E-8E59-836509E70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C Rule Amendments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hanges made by the amended EILS Ru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s language relating to meters and meter data from EILS Resources in NOIE service territories or Private Use Network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c)(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s that deployed EILS Resources may return to service only when released by ERCO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c)(4)(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s reporting requirements for ERCOT for each Contract Peri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f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 pro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projected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D8FE-59B2-4EA8-ADEA-32EA753435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C Rule Amendments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exceptions to universal IDR metering for members of EILS aggregations if a ‘statistically valid alternative…consistent with industry best practices can be developed and approved by ERCOT’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.507(c)(2)(B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have dialogue with MP’s (DSWG, etc.) before filing a future PRR to address this pro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B5F7-20DF-4D23-953F-3B10C2733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 74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s in the PRR are straightforward and consistent with Rule amend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the PRR looks more complex than it really is because of revisions to equ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hanges in equations are related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ime Peri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48DF-A2F4-44D8-AD10-D250592F1E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ime Perio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49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Rule and current Protocols explicitly define Time Periods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HOU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a.m.–8 p.m. M-F except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BUSINESS HOUR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intent was for Business Hours block to attract resources that may not have sufficient Load online overnight and on weeke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bids received, this has not worked as inte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t majority of bids received have been from the same resources for all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Time Periods don’t accommodate temperature-sensitive load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76E9-9DAF-4997-B554-A1CB7C50D9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ime Periods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nded PUC Rule gives ERCOT the ability to adjust and add Time Periods within a Contract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Periods:  Sets of hours designated by ERCOT within a Contract Period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5.507(b)(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46 will allow ERCOT to establish Time Periods specific to seasonal Contract Peri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7EB7-098D-4F92-B849-A4C9C9C189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ime Periods (cont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2080" y="10663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 provision is a simple short definition in the amended PUC Ru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5.507(b)(5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translating it into Protocol language requires revisions to numerous se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’ and ‘Non-Business’ hours are embedded as defined subscript terms in 7 different sets of equations in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Provision Option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12(3)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Provision Option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12(3)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Payments for E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.6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Obligation for E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.4.4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riteria (Default Baseline Availabilit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0.13.3(b)(3)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riteria (Alt. Baseline Availabilit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0.13.3(c)(3)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riteria (Availability adjust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0.13.3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451"/>
              </a:spcBef>
              <a:buNone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451"/>
              </a:spcBef>
              <a:buNone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451"/>
              </a:spcBef>
              <a:buNone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7B75-D538-49AE-B54F-EF0EF3D77B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 Staff</cp:lastModifiedBy>
  <dcterms:modified xsi:type="dcterms:W3CDTF">2007-11-08T16:23:48Z</dcterms:modified>
  <cp:revision>257</cp:revision>
  <dc:subject/>
  <dc:title>Instructions</dc:title>
</cp:coreProperties>
</file>