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AE14-5C35-4518-9D04-E1EEA03AC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E832-C7C4-44CE-80D7-7AC3203FD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4CF6-B66B-4EF8-9A25-ABB33FC3D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51DE-17D1-4950-8548-FEE6F33F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D6DD-9C0E-4D3A-A447-56375D96C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DF35-02CE-40C1-855C-4B1AB830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0530-1EC8-4D2E-9042-45E18A26A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2365-D53B-453E-B392-7B88BA464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37BF-1CD8-482C-A6C7-34C1DBB60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820F-3BB0-446D-8A21-3763AE6C0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2925-C741-451D-86AE-2883D66F0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AFFB-D9AA-4E68-A06C-B9C88BA84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6248520"/>
            <a:ext cx="4648320" cy="609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20D-7475-4DD2-8BCC-BB588C75D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904760"/>
            <a:ext cx="7362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ditional Responsive Reserv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914400"/>
          <a:ext cx="8229600" cy="5365800"/>
        </p:xfrm>
        <a:graphic>
          <a:graphicData uri="http://schemas.openxmlformats.org/drawingml/2006/table">
            <a:tbl>
              <a:tblPr/>
              <a:tblGrid>
                <a:gridCol w="811080"/>
                <a:gridCol w="1444680"/>
                <a:gridCol w="1990800"/>
                <a:gridCol w="1992240"/>
                <a:gridCol w="1990800"/>
              </a:tblGrid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lt; 8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gt;= 85, but &lt;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gt;=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4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3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7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1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5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5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9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7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8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3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percentages only include between hour ending 6 and hour ending 22 for each da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Included in the days for 2007 are January 1 thru October 2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lt; 8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gt;= 85, but &lt;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gt;=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9BA-4534-4B76-A298-E09703AD2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reli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that adequate reserve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Clearing Price of Energy is synchronized with reliabil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design will allow for price response before manual reliability actions 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A59E-805D-44D8-99F7-85A54542E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ditional 500 MW of Responsive Reser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ven percent discount is currently applied to the HOL of every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Responsive Reserve is approximately 1000 – 800 MW less than Responsive Rese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dditional 500 MW of responsive was deriv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ve Reserve Obligation equals 23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Up Obligation average equals 7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unadjusted Obligation equals 3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discount would equal approximately 2000 MW Adjusted Responsive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500 MW of responsive would result in approximately 2500 MW of Adjusted Responsive Reserve and thus allow the market time to work before the need to OOME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5293-A2CC-4611-A1E4-228D6CFA1D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4280" y="52578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38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3526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57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8672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2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59432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505320" y="533376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35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91440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19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2670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84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1430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68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04812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66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8098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9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05120" y="3809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057040" y="3352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3812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57600" y="1447920"/>
            <a:ext cx="76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240" y="32004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581280" y="38098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57FB-7C26-46EA-8DE4-AB8D39809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2520" y="5562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83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1240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13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8006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9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5053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952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4290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835B-F5A3-4F60-8E7F-A7AA9E79B0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4120" y="5791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1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54864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37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81952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1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00600" y="59436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6386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24080"/>
            <a:ext cx="2286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BE18-F8F1-444C-B945-FC57CD1FA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ECP 02-24-07 ADJ RRS WITH DIFFERENT DISCOUNT FACTOR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53352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9F24-ED74-4521-973C-610BF0596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implementing a temperature dependant discount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ly 100 MW of discount equals 1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purchase 500 MW of additional Responsive Reserve for the hours in which the next day temperature forecast is 95 degrees or higher in either North Central or Coast (7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300 MW of additional Responsive Reserve for the hours in which next day temperature forecast is between 85 and 95 degrees (5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200 MW of additional Responsive Reserve for the hours in which next day temperature forecast is less than 85 degrees (4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81D0-C33C-4C6F-B115-05D27F65B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38:59Z</dcterms:created>
  <dc:creator>shsien</dc:creator>
  <dc:description/>
  <dc:language>en-US</dc:language>
  <cp:lastModifiedBy>Bob Wittmeyer</cp:lastModifiedBy>
  <dcterms:modified xsi:type="dcterms:W3CDTF">2007-10-25T19:42:22Z</dcterms:modified>
  <cp:revision>84</cp:revision>
  <dc:subject/>
  <dc:title>Computer-Aid Power System Restoration  Operations Planning Group Operations Engineer: Shun-Hsien Huang</dc:title>
</cp:coreProperties>
</file>