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ance Report - 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0E45D8-F181-4993-9A90-0B644A28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4EB5F6-16F0-4AB4-A3B6-6071AEA8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647960"/>
            <a:ext cx="560700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3ADE76-D034-4427-A396-FB904026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647960"/>
            <a:ext cx="560700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72A604-8A59-4282-903F-D1C1D86CA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D90837-9A81-4776-85C1-3265AB20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4A6E8F-735F-4223-8421-FC0B636C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74EABA-8496-4467-A83F-FF2EB78C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AA317A-A2C4-441B-BCBF-000E7A60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EDEB57-2909-4E3A-891C-0D25924F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60DD3E-4B6C-4F6E-A752-91F509F1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84D5AF-80D3-43A2-AFAB-F5233EFC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E19F4B-791F-4C8E-BDA8-08758A99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FCB947-59B0-466D-98FB-0C254E25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Report to ERCOT TA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B7D936-429C-4331-9E8E-C1873BD8E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E68-CC80-4995-94FF-F0E792B9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834-95AE-4632-9394-CB65755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6D9-00F1-4649-AD95-ADCC79EE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6C4-A2A7-44F5-BF69-73843FAF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1CE-19C4-4A51-B0CE-9B5D84FE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3C1-57D7-40A8-9138-52450D76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53C-FFBE-41A4-941B-32399D94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EBB-4776-4661-945A-4ACEDED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84DF-663A-485D-B645-4690C7C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1F42-14FB-426B-AF0C-5283AFD8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FCEC-DE21-4626-ADB8-4E3769C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52E-05C8-45E8-8BE6-93A8B1A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0381-E9F9-4774-9F6A-D3AE6B0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ED0-DF54-409A-AFE3-A5BACD97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2B24-3452-4810-84F0-80E7B63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F56F-7557-40CE-9440-17416E9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8B7-9548-45DF-B110-E4FBD7E5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09B-0BE9-4B83-B7DE-7664921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4EB-9545-4AB1-98BF-88B90A4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F84-E1F6-40C6-A2F7-82F6CDB2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A11-D3EE-4EBB-99B5-8635A5B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A3B-6904-41D3-AE3B-9131101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4D5-5770-4742-A2B9-C57DCCB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AC2-B978-4E1A-8253-B63165A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E0AB-5102-4477-B25E-825748DA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286000" cy="63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6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Rectangle 17"/>
          <p:cNvSpPr/>
          <p:nvPr/>
        </p:nvSpPr>
        <p:spPr>
          <a:xfrm>
            <a:off x="-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8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286000" cy="638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9437-937D-4277-96C4-BBF36027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mktinfo/reports/sce_qse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rc.com/~filez/standards/Reliability_Standards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A17E-2634-4C6E-9FDB-1CF07ED344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493-1C8C-4020-8DDD-C8823BD880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A14F-AB5F-4023-A724-8AE039E90B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ptember 2007:  128.83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ptember 2006:  142.51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ctober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eptember 2007:  131.4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ctober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eptember 2006:  141.50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September indicate all 34 non-wind-only QSEs pass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BD0-C94D-409A-B73D-81D0055887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Comparis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19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193-C773-4E07-8365-594CE1B8E1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Sc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AE2-3D22-4017-B75F-45B9C339A7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’s CPS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thl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26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5D62-334D-4CD2-BEE5-1A5A947011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176-3537-4A21-960C-51C81D0A66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SE PRR 5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-Minute Interval Sco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0" descr=""/>
          <p:cNvPicPr/>
          <p:nvPr/>
        </p:nvPicPr>
        <p:blipFill>
          <a:blip r:embed="rId1"/>
          <a:stretch/>
        </p:blipFill>
        <p:spPr>
          <a:xfrm>
            <a:off x="604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6F48-BE4D-4A90-AFA1-5B2FD4933E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525 Passing 10-M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val Percentage Tr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17" descr=""/>
          <p:cNvPicPr/>
          <p:nvPr/>
        </p:nvPicPr>
        <p:blipFill>
          <a:blip r:embed="rId1"/>
          <a:stretch/>
        </p:blipFill>
        <p:spPr>
          <a:xfrm>
            <a:off x="604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F55-76D0-46A9-A4FB-6FEE8CB6C9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2007 Resource Pl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17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6E4-E170-493F-94D9-00B832532E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227 entities registered in the ERCOT Region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entities officially appealed their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Registered Entity appeals heard by NERC Board of Trustees Compliance Committee (BOT CC) – both appeals den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/Pl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remanded to TRE to attempt resolution between 2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ppeal remains pending and will go before the BOT CC for resolution of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tor Operator reg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A4A-8367-426C-B323-7C11C5A5C3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for September – 128.8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cores for September indicate all non-wind-only QSEs passed the PRR 525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the third straight month all non-wind-only QSEs have passed this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all control performance score using the PRR 525 measure (SCPS) for non-wind-only QSEs &gt;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4D9D-D56D-416D-8160-A3B70A0C10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ERCOT Protocols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ed by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9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660-8161-46A4-A292-5C1A97A88B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NERC Standard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ed by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925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2AC3-1CE2-443D-967B-C882935FB5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9B1-43B1-466D-9E63-BA7AE919C2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k Factor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DB5-7F15-432A-9260-1FAE5F1A98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Repor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 Categor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73A-71CF-4A24-A56D-4672D379F2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aR Deployment His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AB29-2702-4A53-98B9-7372D5DFA8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October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ral reported in Self-Certifications; now under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l on-site Compliance Audit completed for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registration appeals denied by NERC Board of Trustees Compliance Committe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 pending registration appe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 registration appeal remanded to Texas 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DF8-A8F2-4410-A578-950EB3A53B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 Interest” NERC Standard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ical Infrastructure Protection (CIP) – Applies to all Entities listed in the NERC Compliance Registry in accordance with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Implementation Pl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CIP Standar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ction and Control (PRC) – One or more PRC Standards apply to most Entities listed in the NERC Compliance Regist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-003:  Transmission Vegetation Management Program – Prevent and report vegetation-related outages.  Applies to all Transmission Owners with transmission lines that operate at 200 kV and above.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ero tolerance poli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CBB8-7004-4A90-907E-7EF6C79EA4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Delegation Agre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nded and Restated Regional Delegation Agreement (RDA) between Texas RE and NERC as approved by the Texas RE Board sent to NERC on Octobe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Staff seeking an extension for the FERC Filing of the R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RC Filing was to be made on October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the NERC Board of Trustees more time to review the 8 R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Board of Trustees to approve on October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will file NERC Board of Trustees approved RDAs at FERC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0EF5-2824-4BED-B1EF-96D7600962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Fall Worksh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Novemb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Austin Met 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d participants on the 2007 Compliance Monitoring &amp; Enforcement Program – provide a “sneak peek” at the 2008 Compliance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ed t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 Organization and Entity ro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RC Compliance Monitoring &amp; Enforcement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Protocol and Operating Guides compli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 Reg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s over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ing compli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forcement and san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akers included Texas RE and NERC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382-50C7-4C99-BF77-384E329F98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8 Annual ERC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 Training Seminar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ing of the 2008 seminar – cooperative effort between the Seminar Working Group and Nodal Training Team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minar will meet many training nee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to be on Nodal Basic Training (Basic Training Progra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Training Requirements – PER-002 (Mandatory requirement for BA &amp; TOP Operators – 5 day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Operating Guide Requirements – Section 1.8.2 ( 40 hours of System Emergency Training for ERCOT ISO, ERCOT Transmission, and QSE Operato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Continuous Education Hours (CEH’s) for RC, BA, TOP, &amp; IA Operators.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5E6-0F23-4636-B0EC-2725CA3E7D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8 Annual ERC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 Training Semin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ority given to target group of Operators – ERCOT ISO, TDSP, &amp; Q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 (6) sessions – March 2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rough May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urse length – 4 ½ days; Mondays, 9:00 am through Fridays, no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cation – Austin Met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ration fee still being reviewed - &lt;$200, possibly considerably 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ration will be through ERCOT’s Learning Management Sys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tendees are responsible for making their own hotel reserv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Mark</cp:lastModifiedBy>
  <dcterms:modified xsi:type="dcterms:W3CDTF">2007-11-03T18:31:58Z</dcterms:modified>
  <cp:revision>868</cp:revision>
  <dc:subject/>
  <dc:title>PRR 525 Compliance Analysis</dc:title>
</cp:coreProperties>
</file>