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871-D4DF-4062-A50A-62962EB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349-4C96-49FD-BF01-2826023A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15E-2420-46C2-B80F-BCDC6727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6AF-F33A-465D-856A-EF286BF6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A6A-2C0A-4510-AAC6-68F7253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6B4-CF27-47B2-AD6B-9D6B975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65B-9ADF-4EFC-BD70-09B4888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152-CD1C-46E3-A388-78F9A3E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C13-B841-49B2-AAC0-FFE0CC3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7EC-3A33-4A82-A7CD-4873BD1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419-5E39-4755-8A60-E2901B7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997-F3F5-48C1-8668-5D19951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2E57-D781-4092-A856-E00D937A3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ember 8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November 6 and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is in the process of completing an update to the Disturbance Performance Summary for the first half of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December 4 and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0120" y="228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7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37160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267080" y="317016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608040"/>
          <a:ext cx="9144000" cy="56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40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11-05T19:21:58Z</dcterms:modified>
  <cp:revision>27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65042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of October control performance</vt:lpwstr>
  </property>
</Properties>
</file>