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Meeting – 11/08/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9A274A0-2D61-4C4B-84FC-60C9AFC6E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- TPTF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tacy Bridges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11/08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EDS 3 SCED MP Handbook Section 6 R5.4, Six Month LMP 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Integration Project (EIP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External Interfaces Specification v1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S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revisions for Explanation of Market Participant Submission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Engagement and Readiness (MER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Training Course Curriculum v3.0 as updated to incorporate User Interface (UI)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Rs/NP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85, Revision of Digital Certificate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Draft NPRR - Corrections of Fuel Index Price (FIP)/Fuel Oil Price (FOP) in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Center Dash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ability for Locational Marginal Prices (LM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subgroup activity for the Nodal Startup Transition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Subgroup Activities for Section 8 Monitoring and Compli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October, TPTF Conven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10 – 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2 – 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5880" y="1076040"/>
            <a:ext cx="85928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Incremental Energy Cost Settlements Requirements (B2) v3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tart Services Real-Time Settlements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Revenue Rights (CRR) Auction Revenue Disbursement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Balancing Account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Market (DAM) CRR Settlements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ggregation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ute Management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Process for Settlements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Transfer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RR Settlements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Energy Settlements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Reliability Must Run (RMR) Services Settlements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5880" y="1076040"/>
            <a:ext cx="85928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S Project (continued)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Unit Commitment (RUC) Settlements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Invoice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Statement Requirements (B2)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Make Whole Settlement Requirements Specification (B2) v2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Energy Settlements Requirements (B2) v2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AS Settlements Requirements (B2) v2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Ancillary Services Settlements Requirements (B2) v2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Emergency Operations Settlements Requirements (B2) v2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Support Real-Time Settlements Requirements (B2) v2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able Costs Requirements (B2) v2.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5880" y="1076040"/>
            <a:ext cx="85928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S Project (continued)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Statement Paper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nagement System (M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RUC Requirements (B2) v1.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Constraint Competitiveness Test (CCT) Requirements (B2) v1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DAM and Supplemental Ancillary Service Market (SASM) Requirements (B2) v1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Conceptual System Design (CSD) v1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stion Revenue Rights (CRR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Congestion Right (TCR) annual auction methodology as described in Part 1 of the TCR to CRR Transition Plan v0.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 (INF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 Market Participant Identity Management CSD v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 Market Participant Identity Management Requirements v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elivery Systems (EDS) Project – Approval of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3 Security Constrained Economic Dispatch (SCED) Market Participant (MP) Handbook v2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5: R5.3, Integrated SCED Execution (Real-Time Inter-Control Center Communications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Load Frequency Control (LFC) Testing MP Handbook v0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 test structure described for LFC EDS Releases 6.1, 6.2, and 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28880"/>
            <a:ext cx="874548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RUC Capacity Shortfall Ratio Share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ice Level Agreement (SLA) for Nodal EDS Environments to become effective on November 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November, TPTF has met/will meet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5 –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6 – 2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market comment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- Settlement of Power Imported via DC Ties (Back to Back Ties) and Block Load Transfer Under Emergency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Paper - Details on the Settlement of Combined Cycle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PRR - EDS LFC Test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R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revisions for CRR Requirements v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raft NPRR for CRR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ERCOT Staff</cp:lastModifiedBy>
  <dcterms:modified xsi:type="dcterms:W3CDTF">2007-10-31T23:04:32Z</dcterms:modified>
  <cp:revision>156</cp:revision>
  <dc:subject/>
  <dc:title>Texas Nodal</dc:title>
</cp:coreProperties>
</file>