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A1C-B500-4C99-907B-8F51E67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DCA-6F63-4FFB-ACEC-3743887C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6ED-3CF4-418A-A605-79A0C90A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624-AF6B-445E-9916-35ADC74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B74-D0C8-45A6-8EC4-97A2727D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B66-0F80-4555-ACA3-E812F45B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72F-C45F-47FF-A2EF-DE237C9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270-B157-4759-AF42-90E9C31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9B6-80C7-4E40-81E7-DC413DC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519-367B-418F-BD29-4AE451D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0D5-FEF9-4949-B0B4-937D86D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B50-8140-409D-B2F3-3FEF770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5B98-6BAE-40BD-8DEF-F71DA8DA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561960"/>
            <a:ext cx="86868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3:41:23Z</dcterms:created>
  <dc:creator>dan</dc:creator>
  <dc:description/>
  <dc:language>en-US</dc:language>
  <cp:lastModifiedBy>Bob Wittmeyer</cp:lastModifiedBy>
  <dcterms:modified xsi:type="dcterms:W3CDTF">2007-10-25T19:42:39Z</dcterms:modified>
  <cp:revision>1</cp:revision>
  <dc:subject/>
  <dc:title>Slide 1</dc:title>
</cp:coreProperties>
</file>