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37960" y="687240"/>
            <a:ext cx="4592520" cy="344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A445704-566E-4DF2-A680-0D624F4DD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177F37C-BF4E-46A5-B9A9-E67AD285F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95335F4-1A99-475D-ACA8-DBBA0E780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EC3D431-AA11-4D28-A88F-E2A2A36B1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AEE8A4D-866A-409C-90A8-3FDD785E8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393A4EE-F20C-4DD7-B38F-9584320DD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CEBB076-F41C-4E71-8CB0-24D60F901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21167F0-6AA4-4337-94BB-775BF0C03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5B69085-1C93-4A2F-AEAC-2003B4D00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41D1-43C0-4C2C-997C-58A974FEE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C5A4-C408-45A0-9026-0458A124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B6F0-9E73-484D-8C05-33537ED64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10D4-8421-4B4F-ABFB-A60A14CBF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4319-79C6-47E8-97E6-890D5B9B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1149-0824-4846-9A6D-41FFDEDF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0DD3-332E-4F28-ADEF-6534DFD1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31E3-B866-4DAA-AC51-6608666D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9916-A948-4319-8C92-337E387A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085D-4ECE-4D56-B647-AD8F7B8A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1AFD-217C-4C66-9D10-ED1D79A1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CC10-D855-4F45-93CF-6B7E8953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F827-CAAA-4C1B-9F02-D23F1118B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Copy of Ercot Logo"/>
          <p:cNvPicPr/>
          <p:nvPr/>
        </p:nvPicPr>
        <p:blipFill>
          <a:blip r:embed="rId2"/>
          <a:stretch/>
        </p:blipFill>
        <p:spPr>
          <a:xfrm>
            <a:off x="708660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380880" y="1219320"/>
            <a:ext cx="8305920" cy="7596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000" bIns="360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WordArt 12"/>
          <p:cNvSpPr txBox="1"/>
          <p:nvPr/>
        </p:nvSpPr>
        <p:spPr>
          <a:xfrm>
            <a:off x="228600" y="380880"/>
            <a:ext cx="1285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DTWG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90B3-2D3F-467C-90B7-63B2D2102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DTW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pdate to 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105520" y="57895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nesday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vember 7, 2007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E3BE-96A8-4E91-BC73-3EA7A27E9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y Activities i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itor/Support Implementation of SCR74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ERCOT Certificate Policies and Certification Practice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ressing ERCOT System Outages and system fail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X Migration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Transport Failover Protocol Discus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993D-713E-4113-B5F8-A1586CD93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320" y="1447920"/>
            <a:ext cx="89913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DTWG continue working with ERCOT to support implementation of SCR745 including the new architectur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pdate provided on technical solution. Scheduled 11-12 testing date. Planned implementation to production on 12-8. This will complete ERCOT initiatives for SCR 74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509E-FA2A-4B56-A942-9FB241C99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447920"/>
            <a:ext cx="89913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ERCOT Certificate Policies and Certification Practice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ristian Brennan presented draft information related to Digital Certificat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C835-5EB4-46CB-A987-D5AD3BFF0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ontinue working with the ERCOT Manager of Operations to address each system incid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COT Operations Manager sent October’s incident report for email re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048120" y="44136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B29A-2705-4F8B-9BA2-4C1D6A693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ERCOT AIX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ristian Brennan presented status of AIX migration 10-20 to 10-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8312-1F5B-4888-B2FC-3311B0BDB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Data Transport Failover Protocol Discu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ical discussions have been tab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DTWG still feels this is an issue but, does not feel an additional protocol is the answ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1C46-72B6-4F22-A3E9-1D16CDACC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jcline</cp:lastModifiedBy>
  <cp:lastPrinted>2002-09-24T18:27:58Z</cp:lastPrinted>
  <dcterms:modified xsi:type="dcterms:W3CDTF">2007-10-31T20:04:41Z</dcterms:modified>
  <cp:revision>432</cp:revision>
  <dc:subject/>
  <dc:title>PowerPoint Presentation</dc:title>
</cp:coreProperties>
</file>