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F738-4326-4BFA-96F3-6EE77D12A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7E25-9CA7-40C5-B27A-4DF39C6A0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3006-1220-47A1-8CE1-252D26E7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CBA0-6DCA-44B7-AC0E-E1DF9CEA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82F9-759C-4812-87B1-ABA5E738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E661-7865-4DB8-B8FF-F2E9673D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E143-6375-4308-8A95-BB30EC5E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82FE-FABE-4FE4-9997-06DB8210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D1B4-61CF-45F2-8F44-BD06F03E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262F-4832-4C08-B01A-C01CBFCE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97B2-BF34-4AA0-BD0C-3D8B22C6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BA44-480D-43C6-9979-EDE563E6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FCEB-CD2D-48BB-BAD5-3CC3F78E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83A9-96CF-4AB3-87DF-321C8A49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6AEA-FDF3-4292-8472-608DC6FB4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1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13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/07/07 Test Day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 11/20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: 12/11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comp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tarted on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 Comp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 100% comp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tanding transactions for Week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tanding transactions for Week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Inbound/Outbound with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tanding transactions for Week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1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 Inbound/Outbound with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020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01/16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1/22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02/15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: 02/18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04/01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191120" cy="225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7-11-02T19:04:49Z</dcterms:modified>
  <cp:revision>93</cp:revision>
  <dc:subject/>
  <dc:title>Instructions</dc:title>
</cp:coreProperties>
</file>