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B15-ED59-4939-A4F2-734398B6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609-1298-4BF9-BDDB-4D84FE60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E3F-00F5-4729-8902-95665576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7B2-9290-4B04-BA2E-1112D443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1C81-703A-4787-9169-92D2FD87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CD51-5C40-4124-9183-3F67CDA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14BD-7B9D-4DE6-AA1A-E81BAF33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6C53-25B1-4777-AFD6-36C32270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BCA-BC85-4D42-8DA7-B3657B8D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CCA4-DEA1-4196-897A-87089898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8F6-BC1B-4999-BF67-0ADCD9B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027-70CE-4D27-AEA4-BB6D45D8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93B9-C4B7-413A-93CA-7957429E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9DD5-2AB1-418B-A63F-9789DE5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825-C5BF-499B-AA41-5962FEB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2756-BA3F-44F2-B049-534D774B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C75B-3716-4D6A-AA5B-71621C66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12E-07B0-46B9-B56D-93D9AFAF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7E5-BA9C-4032-A6FA-F3EEB56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688-698E-4818-A73D-24A29E9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63F-91B6-40F2-9460-1E97037E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8E8-EB33-40D4-8B32-8D9AF091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352-7A62-4188-81EE-5B1EC98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C9C-E460-4B3E-88C9-73B7927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94E6-80AA-4A6C-9A77-843B729348D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0FB0-BD7F-4066-B5EE-4321A3BF59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current/70007_01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keTrak Phase II Task Forc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date to R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vember 7, 200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vember 1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viewed Requirements and Use Cases presented by ERCO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ined the requirements that would be required for Market Testing – high leve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on Items for Market Participants and ERCO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plete a detailed review of the Requirements Document.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lease pay close attention to the requirement and how it impacts the GUI, API and Bulk Inser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view the high level testing requireme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ovember 1</a:t>
            </a:r>
            <a:r>
              <a:rPr b="0" lang="en-US" sz="40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cont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resentation given by Hope Parrish – MarkeTrak Project Manager - ERCO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Reviewed project Statu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-2239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Planning Phase –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Target Completion Dat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Requirements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11-21-07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Conceptual Design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01-16-0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Detail Design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03-21-0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High Level Test Plan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03-21-0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Define Execution Schedule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03-26-0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Planning Phase Complete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03-28-08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urrent Budget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-2239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2007 Actuals to Date = $100K (approximately) -  on target for 2007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008 Budget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-2239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Estimate for Execution Phase =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TBD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-22392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Any additional funds that may be needed for the Execution phase will be requested at Execution Gate ( expected March 200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resented an example of a multiple release execution timelin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iscussed Next Steps and meeting dat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ext Meeting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ovember 14</a:t>
            </a:r>
            <a:r>
              <a:rPr b="0" lang="en-US" sz="40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and 15t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ocation – Corpus Christi, TX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sted by AEP (Downtown)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 will review the Detailed Requirements document that was compiled from input by Market Participants and ERCOT.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Will obtain agreement by the Market Participants and ERCOT that we understand and agree to all of the proposed chang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  The Detailed Requirement Document will be Finaliz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Detailed Requirements document  is located on the ERCOT web site under project 70007 (link provided below).  All versions of the Use Cases are stored in the Archives f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ercot.com/services/projects/current/70007_01/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CenterPoint Energy</cp:lastModifiedBy>
  <dcterms:modified xsi:type="dcterms:W3CDTF">2007-11-05T20:15:43Z</dcterms:modified>
  <cp:revision>14</cp:revision>
  <dc:subject/>
  <dc:title>MarkeTrak Task Force</dc:title>
</cp:coreProperties>
</file>