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67F-66BA-40B4-8497-62FB6C94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61C-9C23-488B-AB95-88977D3E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548-D4DE-45FD-A6C2-EF701EDE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0C13-CBE7-4FC1-ABF9-D2F7F9E5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FF9-C55C-4A50-85C6-DBEC826D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F66-987A-4454-A49E-C8514B19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4D5-7134-43D1-B5E0-4BC92CA8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3EE-9B90-47C1-B335-9E57DEEA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028-FDED-488C-ACD8-C5F26B06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422-450E-4B51-89B6-DDD156AC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3036-57CB-4991-83E7-CCA15202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9DA-2D26-42FC-93AA-4342F2AB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3569-2F9D-4A91-8640-D2C974581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vember 1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DB7-3CED-4E92-BBA6-F761034A36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ABE-B31B-4480-9E31-BBC22294AA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ata Extract Working Group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DE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viewed staff response to extract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dentified root cause of extract posting issues and corrective actions implemented by ERCOT Sta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 has provided more detail into the Data Extract Architecture to identify the challenges they face in delivery and maintenance of extra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umber of incidents in delays or data extract errors are down from prior months.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(DEWG Chair very ple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tracts Service Level Agreement (S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ocus on adding more detail to the SLA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rts &amp; Extracts are ranked for critic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ocus is on metrics to achieve the goals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Timeliness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/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Completeness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/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Accuracy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Availability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C39-2B3E-4F9E-9F61-2557E9BDD7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and Data Acquisition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SDAWG)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Nodal Impac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ed with ERCOT Staff Verifiable Cost Manual and issues related to non-fuel startup the result of RUC de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77E-6AB0-4D35-B167-4F70F7AB78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14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90C-DA24-4D14-8B37-4A3720968A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81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nnual Validation Update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sidential is Comple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usiness is On schedule, completion due Dec.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ound 2 – Load research sample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stallations to be completed by 6/30/0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7D7-3BC2-4044-BFDE-D3E0B88D0F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757404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ound 2 Sample Point Installation Progress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ew Sample Points Installe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534520" cy="335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0C9-DC24-45F6-B03F-BC8328B7B6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5736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ound 2 Sample Point Installation Progress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otal Sample Points Installed</a:t>
            </a:r>
            <a:br>
              <a:rPr sz="2800"/>
            </a:b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(Including Retained Round 1 Points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610480" cy="350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69E-AB18-41E0-99FE-22B8798775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mand Response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bmitted PRR 736 to PRS (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RS tabled until implementation issues are resolve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Joint PWG / RMS Task Force will be formed to build requirements for DR Programs  &amp; report to COPS by Feb. 20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RCOT Staff to assemble a complete a list of discussion items and questions for the Task Force on DR Program implementatio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11D-BA1A-4D01-B385-5DF0A0DD85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Voting Item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WG submitted to COPS and COPS recommends to TAC approval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PGRR0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ad Profiles with Three Digits to the Right of the Decimal 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99"/>
                </a:solidFill>
                <a:uFillTx/>
                <a:latin typeface="Times New Roman"/>
              </a:rPr>
              <a:t>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ercot.com/mktrules/issues/lpgrr/025-049/026/index.html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665-7C74-4DEA-BAA4-221820541D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starr</cp:lastModifiedBy>
  <dcterms:modified xsi:type="dcterms:W3CDTF">2007-10-24T19:29:26Z</dcterms:modified>
  <cp:revision>232</cp:revision>
  <dc:subject/>
  <dc:title>Point-to-Point</dc:title>
</cp:coreProperties>
</file>