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16C0-B08F-4C63-ACD5-5284AFE65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A42F-CA94-4D54-BCBA-48879036D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43EE-5686-450F-A4F5-18F518177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803E-1A89-4E2E-8670-57A2898D4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BCDB-5B9E-4FA5-956C-9857AC0D8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2E9C-4A9E-4296-88D7-538CA183D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1E56-9EC3-4BB2-8F83-DE770FD78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6897-39DE-4DB6-B970-C3BB006FB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88E2-E025-49C3-ABD8-B9214562B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7E29-F61F-4359-BAB6-22953C6AD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F5EB-52CF-4D75-A51D-FF1330F22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2825-F3F8-4F3B-AF39-A7213C675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19D-79C2-453E-B421-AA8C816B5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O Report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7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T/Project Fund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CART funding determined during yearly project priori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project cost budgets based on Time &amp; Cost Estimates completed by ERCO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T funding is the sum of the project budgets above the cutline (rou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PL cutline determined by CART resource capability and overall ERCOT project budge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year, changes &lt;$100k can be approved by the 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pprovals at this level do not effect total CART funding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D37C-B922-4BA3-BCA0-0074233446C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T/Project Fund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changes &gt;=$100k must be brought to the Strategic Review Team (S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RCOT directors are SRT voting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ing request types brought to S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AutoNum type="arabicPeriod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 for Project Budget Increa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mulative change controls &gt;=$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can fund the increase with its curren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AutoNum type="arabicPeriod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 for Project Budget Increa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mulative change controls &gt;=$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needs additional funds to fund the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AutoNum type="arabicPeriod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 to Release Excess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does not need all its allocated funding for a specific project or their full projec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8FB2-3E18-4B04-A7F7-B5F2D8B74D83}" type="slidenum">
              <a:t>3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T/Project Fund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ased funds are tracked as the year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available funds for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667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cuments reallocations approve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RT considers requests from all CARTs on potential redistribution of funds being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049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ased funds are deducted from a CART’s total budget upon reallocation to another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D041-529C-4524-8F8A-9E9216F9091F}" type="slidenum">
              <a:t>4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T/Project Fund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55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would a CART not try to retain excess f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258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because resource constraints prevent them from taking on additional projects in the curren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55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benefits of releasing excess f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258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ERCOT to execute other importan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258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results in another CART accelerating a project from the next 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41240" indent="-2354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creates the potential to ease funding restrictions in the next year which could benefit the releasing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258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results in the execution of an infrastructure project that benefits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258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55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s Released (2007 YTD) = $3.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55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d Funds Allocated    = $2.7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4132-12F8-4385-A86E-86D978EB79A9}" type="slidenum">
              <a:t>5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8839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9000"/>
          </a:bodyPr>
          <a:p>
            <a:pPr marL="287280" indent="-2872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s Receiving Released Funds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O, $510k, additional fund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bines functions of 4 ERCOT internal problem report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llabs Digital Cross-Connect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O, $570k, reprioritized above the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ission critical equipment enabling WAN connectivity, voice communications, and EMMS RTU communications in support of Grid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3 Microware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O, $350k, reprioritized above the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s more robust system capable of meeting increasing bandwidth de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Room Projector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, $600k, acceleration from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control room proj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-Term Load Forecast Phase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$250k, additional fund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ERCOT the ability to compare more than one forecast and gives the flexibility to select from more than on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73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IS ETL Tool Procurement an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O, $490k, new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3000" indent="-1760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 software t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tract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sform an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d data into data ware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E18C-508F-4E51-8581-DBD15086124B}" type="slidenum">
              <a:t>6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6A84-F3AD-48EC-A9FD-93C338F4D65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10-31T21:36:09Z</dcterms:modified>
  <cp:revision>272</cp:revision>
  <dc:subject/>
  <dc:title>Slide 1</dc:title>
</cp:coreProperties>
</file>