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E8DB-D28B-40AB-A8E9-4794898D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199B-0856-4FE8-AC50-C100EE8A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7761-5476-4111-9BFF-945205D1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0A7A-C262-4EDC-B13B-8EFCA2CA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9715-381C-4DFA-9121-7589B000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EFA1-969E-45F9-8A72-4A673BB7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451B-06AD-4BA0-BAC0-7CA4363F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197E-3A53-468A-90FE-5CC9E375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B3F4B-3050-41B7-AA23-1A9B5679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B1A3-BB32-4341-9E9F-7F9DB5AD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2858-38F8-49AD-9CD3-70C03660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8CBB-917F-41D3-AAEE-942AB322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977E-2687-450E-8970-23397E85C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ctober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Object 10"/>
          <p:cNvGraphicFramePr/>
          <p:nvPr/>
        </p:nvGraphicFramePr>
        <p:xfrm>
          <a:off x="541440" y="1066680"/>
          <a:ext cx="80596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066680"/>
                    <a:ext cx="80596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ctober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Object 9"/>
          <p:cNvGraphicFramePr/>
          <p:nvPr/>
        </p:nvGraphicFramePr>
        <p:xfrm>
          <a:off x="457200" y="1073160"/>
          <a:ext cx="8229600" cy="47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73160"/>
                    <a:ext cx="822960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Object 9"/>
          <p:cNvGraphicFramePr/>
          <p:nvPr/>
        </p:nvGraphicFramePr>
        <p:xfrm>
          <a:off x="638280" y="1066680"/>
          <a:ext cx="78660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066680"/>
                    <a:ext cx="78660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Object 13"/>
          <p:cNvGraphicFramePr/>
          <p:nvPr/>
        </p:nvGraphicFramePr>
        <p:xfrm>
          <a:off x="228600" y="914400"/>
          <a:ext cx="8610480" cy="50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1048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Object 7"/>
          <p:cNvGraphicFramePr/>
          <p:nvPr/>
        </p:nvGraphicFramePr>
        <p:xfrm>
          <a:off x="933480" y="1066680"/>
          <a:ext cx="72756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066680"/>
                    <a:ext cx="7275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7-11-07T05:58:41Z</dcterms:modified>
  <cp:revision>75</cp:revision>
  <dc:subject/>
  <dc:title>Instructions</dc:title>
</cp:coreProperties>
</file>