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D14-C829-4082-BB01-202C3BAB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977-D58C-43EA-8345-A17F2BD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F02-27EE-45A0-8D49-68013D85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E73-2813-4C57-8051-FB3D148B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5CB-AE08-4F19-87A9-DF31BD9A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D83-ADD6-4FD7-AF62-50900F18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138-0C97-4500-8351-7298C889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F4A-14E7-499D-8FFB-7A0A384F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7AF-25B9-454F-9FB4-173936D3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844-5A0A-431F-B4B3-4C834C16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2B2-FD28-4613-90A1-ECCD932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37E-EBF8-4811-8C9F-F946C89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40C3-3078-48B4-AFFD-017DEFFF5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FDE-5D5C-4ADE-8DBC-AAA3029F17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8F1-7FA0-46C3-83FE-BD1A3AA5A8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26560" cy="29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014-4834-47D2-B189-161C5A6FE3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CE5-BFF7-40FD-82D5-718C8D5172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391600" cy="242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44F-2987-46C5-A62F-DC7A56E4BC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1AF-7612-41CD-8505-F0B768FFB9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35720" cy="319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F7F-B317-4DD0-BC85-3A643F5C0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098-BFA5-469F-868C-1025EF115E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6E2-455C-4A2B-B37D-89F85C838E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F99-3013-4A87-B038-92C18153B2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464320" cy="33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DF2-01D1-497D-9D2D-69752B8DC6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591-7B2E-4B72-8625-35A1D7EE5A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483400" cy="22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295-563C-4B03-8384-17D37598A1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87320" y="-1511280"/>
          <a:ext cx="7569360" cy="9882000"/>
        </p:xfrm>
        <a:graphic>
          <a:graphicData uri="http://schemas.openxmlformats.org/drawingml/2006/table">
            <a:tbl>
              <a:tblPr/>
              <a:tblGrid>
                <a:gridCol w="609480"/>
                <a:gridCol w="368280"/>
                <a:gridCol w="368280"/>
                <a:gridCol w="368640"/>
                <a:gridCol w="279360"/>
                <a:gridCol w="279360"/>
                <a:gridCol w="279360"/>
                <a:gridCol w="279360"/>
                <a:gridCol w="279360"/>
                <a:gridCol w="609480"/>
                <a:gridCol w="609840"/>
                <a:gridCol w="368280"/>
                <a:gridCol w="368280"/>
                <a:gridCol w="330120"/>
                <a:gridCol w="330120"/>
                <a:gridCol w="33048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87320" y="-1314360"/>
          <a:ext cx="7569360" cy="9486720"/>
        </p:xfrm>
        <a:graphic>
          <a:graphicData uri="http://schemas.openxmlformats.org/drawingml/2006/table">
            <a:tbl>
              <a:tblPr/>
              <a:tblGrid>
                <a:gridCol w="609840"/>
                <a:gridCol w="368280"/>
                <a:gridCol w="368280"/>
                <a:gridCol w="368280"/>
                <a:gridCol w="279360"/>
                <a:gridCol w="279360"/>
                <a:gridCol w="279360"/>
                <a:gridCol w="279360"/>
                <a:gridCol w="279360"/>
                <a:gridCol w="609840"/>
                <a:gridCol w="609480"/>
                <a:gridCol w="368280"/>
                <a:gridCol w="368280"/>
                <a:gridCol w="330120"/>
                <a:gridCol w="330480"/>
                <a:gridCol w="33012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77240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860-29A2-45C6-89BB-436E3215D2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445-507A-4998-8A41-0E1F6D3A1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61240" cy="32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D6B-9254-42ED-95AC-E5B96F5FDC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7-11-01T20:04:24Z</dcterms:modified>
  <cp:revision>717</cp:revision>
  <dc:subject/>
  <dc:title>PowerPoint Presentation</dc:title>
</cp:coreProperties>
</file>