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797-DDAE-4E88-B98E-A522DC6F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FD2-44CF-4AE0-AB44-B7520FB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496-F306-4C01-8C69-083C238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AFB-A80D-4B50-9D96-8529B999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9A6-44BD-4D56-9CEA-17DFFC7B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47D-BDB2-4FE9-A52F-FC0CEDA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4F2-5885-473C-8661-CBF06410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D86-7A6D-442B-8A2A-7982342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64A-4608-4537-998B-CE89E11E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1D2-D2C9-4410-A442-AEB7BF2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6CA-28DA-4F8A-A679-8753B42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7D8-821C-4786-9C84-8719750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5635-55A1-4066-AF7F-C4E68DDF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1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65D-EDDB-4131-8EB6-CD6305BFCD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727-4235-4BAD-9754-44F326098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dentified root cause of extract posting issues and corrective actions implemented by ERCOT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 has provided more detail into the Data Extract Architecture to identify the challenges they face in delivery and maintenance of extra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umber of incidents in delays or data extract errors are down from prior months.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(DEWG Chair very ple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tracts Service Level Agreement (S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on adding more detail to the SLA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rts &amp; Extracts are ranked for critic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cus is on metrics to achieve the goal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Timeli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163-C893-4356-926A-D012F2F1D0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the result of RUC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B1D-4692-4414-ABF1-A0F92A943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451-9851-4FE2-B2CC-D4A7747A39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nual Validation Update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idential is Comple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usiness is On schedule, completion due Dec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stallations to be completed by 6/30/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CFF-3758-4B3F-B615-42BFE5D9E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740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Sample Points Install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64D-622B-44FE-8AFA-0F0AB3934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5736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ound 2 Sample Point Installation Progres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tal Sample Points Installed</a:t>
            </a: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Including Retained Round 1 Points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35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823-5642-44F0-8D8E-61B6717975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bmitted PRR 736 to PRS (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RS tabled until implementation issues are resolv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oint PWG / RMS Task Force will be formed to build requirements for DR Programs  &amp; report to COPS by Feb.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RCOT Staff to assemble a complete a list of discussion items and questions for the Task Force on DR Program implementatio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7CA-5F30-4AD5-A4C9-EC8015C7E4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es with Three Digits to the Right of the Decim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6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E1D-BDE1-4F32-A334-55A2D5E08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0-24T19:29:26Z</dcterms:modified>
  <cp:revision>232</cp:revision>
  <dc:subject/>
  <dc:title>Point-to-Point</dc:title>
</cp:coreProperties>
</file>