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3495-6E19-4719-A739-18EB03E997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625-EA7D-4932-ADFA-3057BCF4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0F88-287D-429C-B9A6-74EA5E43F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CB14-9B80-412F-BACE-DD37254FD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5A73-F3A5-4823-B09C-C4A448A4A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DD5D-EE53-4B09-B1C3-821CA6BD0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AC9C-01C8-400D-B252-DA6DFDBD5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A9F9-0CCE-4EC6-A62E-966427EC3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BA01-779A-429D-8388-4B47289CF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139D-50D8-41BF-A4BA-376F69F92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AE07-90AA-44CE-BDAB-5F278A492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523E-9065-4179-AFAC-63DE68ED2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DCC4-F363-4F76-AD25-19571EE14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BAF1-7D09-4768-9757-39EED0431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6698-5A56-427A-8789-DAD641680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D938E9-8F4A-493E-AAAE-C5C799C4C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jrasberry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P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November 06, 2007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Justin Rasberr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MO PP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Rectangle 4143"/>
          <p:cNvSpPr/>
          <p:nvPr/>
        </p:nvSpPr>
        <p:spPr>
          <a:xfrm>
            <a:off x="762120" y="5486400"/>
            <a:ext cx="228600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lanned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y-over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n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144"/>
          <p:cNvSpPr/>
          <p:nvPr/>
        </p:nvSpPr>
        <p:spPr>
          <a:xfrm>
            <a:off x="3200400" y="5486400"/>
            <a:ext cx="228600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ange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45"/>
          <p:cNvSpPr/>
          <p:nvPr/>
        </p:nvSpPr>
        <p:spPr>
          <a:xfrm>
            <a:off x="5638680" y="5486400"/>
            <a:ext cx="22860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ellow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planned 2006 Carry-Over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Text Box 256"/>
          <p:cNvSpPr/>
          <p:nvPr/>
        </p:nvSpPr>
        <p:spPr>
          <a:xfrm>
            <a:off x="152280" y="22096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tatus change on thes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37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O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267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-40007_01 SCR 727 Phase II moved to “Closed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-70038_01 Collage Infrastructure Redesign Moved to “Executio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EL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Picture 27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8"/>
          <p:cNvSpPr/>
          <p:nvPr/>
        </p:nvSpPr>
        <p:spPr>
          <a:xfrm>
            <a:off x="152280" y="2895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tatus change on thes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0/23/2007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762120"/>
          <a:ext cx="8229600" cy="4668840"/>
        </p:xfrm>
        <a:graphic>
          <a:graphicData uri="http://schemas.openxmlformats.org/drawingml/2006/table">
            <a:tbl>
              <a:tblPr/>
              <a:tblGrid>
                <a:gridCol w="2468520"/>
                <a:gridCol w="973080"/>
                <a:gridCol w="4788000"/>
              </a:tblGrid>
              <a:tr h="45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$1.33M to $1.5M to reflect projec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8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ange of $0M – $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71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4k due to carry-over amounts into 2008 for current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3k resulting from projects running under 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9k due to budget cor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30k due to new project initiation (part of give ba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 will need to evaluate when to release the funds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124080" y="1981080"/>
          <a:ext cx="5639040" cy="33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81080"/>
                    <a:ext cx="563904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udget Variance Allo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52280" y="83808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ow is the updated view of under spend categories.  These categories will be monitored throughout the year to assess potential reallo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4648320"/>
            <a:ext cx="1828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  Rel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. $200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281400" y="1503360"/>
            <a:ext cx="252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836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/RO Budget Var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; $ thous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6040" y="3200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8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562720" y="2438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391520" y="2438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1447920" y="48769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105520" y="4876920"/>
            <a:ext cx="1828800" cy="228600"/>
          </a:xfrm>
          <a:prstGeom prst="wedgeRectCallout">
            <a:avLst>
              <a:gd name="adj1" fmla="val -99828"/>
              <a:gd name="adj2" fmla="val -83333"/>
            </a:avLst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 Total = $3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657600" y="5410080"/>
            <a:ext cx="121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nc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5562720" y="5410080"/>
            <a:ext cx="121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7391520" y="5410080"/>
            <a:ext cx="121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28600" y="2286000"/>
            <a:ext cx="2514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T, COPS, and RMS have all reviewed the MO-RO portfolio and acknowledged the release of $1.3M from the overall portfolio budget variance of approx. $2.7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5257800" y="3733920"/>
            <a:ext cx="1676520" cy="228600"/>
          </a:xfrm>
          <a:prstGeom prst="wedgeRectCallout">
            <a:avLst>
              <a:gd name="adj1" fmla="val -40245"/>
              <a:gd name="adj2" fmla="val -214583"/>
            </a:avLst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 Total = $3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7086600" y="3352680"/>
            <a:ext cx="1676520" cy="228600"/>
          </a:xfrm>
          <a:prstGeom prst="wedgeRectCallout">
            <a:avLst>
              <a:gd name="adj1" fmla="val 36648"/>
              <a:gd name="adj2" fmla="val -254861"/>
            </a:avLst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 Total = $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 Ras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O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rasberry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jrasberry</cp:lastModifiedBy>
  <dcterms:modified xsi:type="dcterms:W3CDTF">2007-10-31T14:34:29Z</dcterms:modified>
  <cp:revision>398</cp:revision>
  <dc:subject/>
  <dc:title>Role of Account Management at ERCOT</dc:title>
</cp:coreProperties>
</file>