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DB31-8308-4EA0-9A46-02109928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3CD7-0B98-49D0-BD06-2BD1A0A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C6E2-99E4-438A-BB8B-A5B6EEF2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5941-3A42-4D37-92B9-76FCC3FB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34AA-C81B-41F4-982B-07D588D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11A8-DB53-4BEE-AB63-C306F4C3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00C7-4124-40EB-B2F1-37B1D8A9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D9B8-43B3-44CF-B247-2AD3EF41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7157-86CA-4B61-AA75-28645A1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1181-06ED-4A45-B772-34E6DBA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668A-33B4-4B1E-9D7D-C0406719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1784-F4D8-48CF-8644-D977456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4430-1747-47BD-8D17-8EC57A19B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E9DE-5490-4315-8984-8AD13A857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jrasberry@ercot.com" TargetMode="External"/><Relationship Id="rId2" Type="http://schemas.openxmlformats.org/officeDocument/2006/relationships/hyperlink" Target="mailto:bbarnes@ercot.com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dal Commercial Systems Projec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stin Rasberry &amp; Bill Barn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42840"/>
          <a:ext cx="8229600" cy="2054520"/>
        </p:xfrm>
        <a:graphic>
          <a:graphicData uri="http://schemas.openxmlformats.org/drawingml/2006/table">
            <a:tbl>
              <a:tblPr/>
              <a:tblGrid>
                <a:gridCol w="3814920"/>
                <a:gridCol w="2311200"/>
                <a:gridCol w="210348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Rasber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and Ju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57AD-1A61-4A22-8826-9D68EE697A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around baseline 2 synchronization are continuing, all 23 requirements have been updated and submitted for TPTF appro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associated documentation (use cases, CSDs, test cases, etc) will be updated as Baselines appr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s personnel should stay abreast with COMS requirement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5A63-293C-4147-BFCF-79F2AE7F8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CSD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 COMS Conceptual System Design (CSDs) will be rolled into the  v3.0(thru baseline 2) and submitted to TPTF following approval of the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CDFE-67AB-4706-8DB9-E1856BD7F3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Statements and Invoices – Presentation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2296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ize CRR Invoice presentation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n publication of CRR auc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CRR Auction Invoic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Invoice presentation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 COPs - Late Fee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 COPs - Uplift In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4729-51DD-42B0-A71E-22B105D6DC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51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on ta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Draft 1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continue to update with “As-Built” information throughout development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destar version 4.7 continues to stabi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cted majority of major issues which impacted design and build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remaining issues and enhancements to ensure we stay o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s a risk to overall S&amp;B coding delivery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probability reduced as major issues corr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destar metadata changes remain ongo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testing in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testing at the Modular level and will “build up” to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1 complete:  FAT in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C27A-C139-466D-8C5B-7DEB2B8BD8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040" y="2925720"/>
            <a:ext cx="8229600" cy="318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build packages consists of multiple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 aligned into business functional components (i.e. DAM Energy, DAM AS, CRR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FAT completion by late 4th quarter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AT completion by late 1st quarte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Lodestar S&amp;B slated for EDS 3 &amp;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s and Invoice format for ED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dow Settlements EDS 4 (requires Extra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s Go Live with 1st CRR au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680" y="1325520"/>
            <a:ext cx="8367840" cy="11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6CD9-16D4-4EC4-A6AB-0B95600B76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 ?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11120" y="93024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 Ras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rasberr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120" y="324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B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Settlements and B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barnes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AA93-45A6-40D2-A375-A2B0ED9D6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10-31T14:49:27Z</dcterms:modified>
  <cp:revision>235</cp:revision>
  <dc:subject/>
  <dc:title>Electric Reliability and  Resource Adequacy Update</dc:title>
</cp:coreProperties>
</file>