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DE5C-9B45-4B6E-AFA0-87BD2B5E75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59BF-D15F-4DD3-A9A8-9BF8AA50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5486-0992-416D-9D2C-F27137EA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068A-1DBA-4CF2-B210-55B0780E8B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15A-7D79-42AA-AF3D-4180731FA3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DD8-8FEC-49B8-B6E1-81E89AE191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3DF-DE5C-4833-BAC6-8968EEE239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7C3-0F1A-4C64-8F6C-A42C4C9A09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F62-8642-47E5-A9B6-D113D2F00F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911-D93F-4136-B679-D54515EE34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AB1-6B44-40AD-B320-01B10EDD6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667A-2CA3-4947-85FE-C7E7BCB3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D3D-09AA-4087-8274-5D2DC5A314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E26-221F-455E-8442-64C78A7EA9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A66-7EE5-4BB4-B285-4D3CE739C5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922-5028-46BB-9732-1B756D257D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A01-2981-4D7C-8564-8BE834BD2D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37B4B-D9E7-4942-B0BF-BDB92A03BE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9A016-3B91-4CE0-9F6A-CD46587E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4001E-CDDF-4824-BD05-8B9DE6EB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30E7C-104E-482B-AB56-1BDA914C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F714B-B823-419D-B2E5-54377E73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1D277-1D90-434F-8C13-C12F5ECF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FCA12-FA7D-4205-9420-40F2DCB8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90A10-2D3E-43FD-B405-1BE9D61B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CF9EB-A1C5-4B3D-BE49-6EDFE00F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C8145-E90F-4EDD-B770-FA039EF0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5766B-5E78-4A38-851E-4246ACD5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98CDC-08EE-457E-B2CB-2837C5B5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5BB74-E35F-49B7-A5B9-9D35BA96A6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1A49A-E883-4D23-8836-53574782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CCCB-4DA7-4057-A74C-EC5EB782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79E2B-6B1F-470F-BCC1-3AB5EADA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264BA-ACD6-4752-AD28-A50B1555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02BC-DCA1-447C-A868-62A13B9C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CD0B-10EB-44E5-A23B-DBA7A59C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4ACC-2EAD-4D9A-A472-9C430F383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EEE9-7D8D-407B-906F-0623681BB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3916-4467-428C-B9CF-610055858D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 B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irro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Vice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vember 6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DEF3-6839-4BA9-9584-437F83C338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5600" y="1294920"/>
            <a:ext cx="8018280" cy="8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2 Sample Point Installation Progres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Sample Points Inst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8605800" cy="371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6C1A3-AD7B-4184-B40A-AD7ADB4A6B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1393920"/>
            <a:ext cx="8610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 Residential Profile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new ESII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mplementation date was 11/1/20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2A80-5E6D-44A2-A49D-CFBED2B947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1393920"/>
            <a:ext cx="8610480" cy="47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 Respons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Oct. 23, 2007 PWG issued these action item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LPGRR027 until a complete Impact Analysis can be estim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Staff shall build as complete a list of discussion items and questions for the Task Force on DR Program imple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as Set on Oct. 24 shall discuss as part of the RMS update the DR imple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Rules and ERCOT Legal shall review Protocols and the Load Profiling Guide to see if the 150 day notice can be wa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articipants and ERCOT are asked to evaluate how much time is needed to implement system changes so an accurate timeline can be craf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PWG shall recommend to COPS with RMS that a Task Force be formed to build requirements for DR Programs by Feb. 200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AEF77-73D3-4DAC-851B-60C608A6AA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1393920"/>
            <a:ext cx="861048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ad Profiling Guide cleanup, Corrections and Upd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Verdana"/>
              </a:rPr>
              <a:t>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WG requests the following mo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at COPS recommend to the TAC approval of LPGRR0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ttp://www.ercot.com/mktrules/issues/lpgrr/025-049/028/index.ht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3493-03A8-48AB-B9D9-CA40383CF8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876920" cy="259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9480" y="4648320"/>
            <a:ext cx="8001000" cy="157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07 remaining meeting da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. 15 and Dec.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imate Meetings in 2008 shall be the fourth Tu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C3A9-1CC8-4080-B681-D95D022C99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1040" y="1360440"/>
            <a:ext cx="7983360" cy="496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6AA6-278C-4CB0-B004-5EC2FABDDC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2007 Major Accomplis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828800"/>
            <a:ext cx="792504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lain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new Version 2 ERCOT Profi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lain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LRS sample selection round tw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lain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New Oil &amp; Gas Profile – BUSOGF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lain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 Annual Validation nearly comple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lain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d 2004, 2005, 2006 and 2007 preview UFE Analys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lain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p area on PWG web page for key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lain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d Language for Demand Response Implementation in LPGRR027 and PRR73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lain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d additional LPGRRs 19, 20, 21, 22, 23, 24, 25, 26 and 2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11BC9-26EB-4B72-9250-1BA3462070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828800"/>
            <a:ext cx="792504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Implement new Version 2 ERCOT Profiles. D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Font typeface="Arial"/>
              <a:buAutoNum type="arabicPlain" startAt="2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LRS sample selection round two. Done.</a:t>
            </a:r>
            <a:r>
              <a:rPr b="0" lang="en-US" sz="1800" spc="-1" strike="noStrike">
                <a:solidFill>
                  <a:srgbClr val="3399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9966"/>
              </a:buClr>
              <a:buFont typeface="Arial"/>
              <a:buAutoNum type="arabicPlain" startAt="2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New Oil &amp; Gas Profile – BUSOGFLT. </a:t>
            </a:r>
            <a:r>
              <a:rPr b="0" lang="en-US" sz="1800" spc="-1" strike="noStrike">
                <a:solidFill>
                  <a:srgbClr val="339966"/>
                </a:solidFill>
                <a:latin typeface="Verdana"/>
              </a:rPr>
              <a:t>D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Annual Validation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 schedule. Additional slides to fol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the methodology for profile scaling factors (per UFETF Nov. 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2004, 2005 &amp; 2006 UFE Analysis.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Initial 2006 analysi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complete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5 report was presented to PWG in October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7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ways to accommodate extreme events in Settlement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7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Long Term Strategy of Load Profiles including refresh timelin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nding PUCT new project on advanced metering imple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6D3A-EB0E-4DA7-9558-64E66F7A6A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95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75248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 Analysis – 2 issues outstanding from origina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if having more weather stations adds accurac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if the weighting of weather stations is appropr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DR installation procedure language to ensure complianc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nding PUCT new project on advanced metering imple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Does having 2 decimals on load profiles significantly affect settlement. D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LPG language on list based profiles and univers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CT Docket responses to demand response or AMR rule, etc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cision Tree pending COPS Task Force Recommend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Arial"/>
              <a:buAutoNum type="arabicPlain" startAt="16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Set up area on PWG web page for key documents. D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Arial"/>
              <a:buAutoNum type="arabicPlain" startAt="16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Review of load profiles as specified in market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1E1E7-073E-41BD-A39F-B55CE99F3A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9051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830240"/>
            <a:ext cx="845820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to identify new profiles as specified in market language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Primary Voltage possibility currently not available from TN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the TOU procedures on the Load Profiling web sit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nding PGRR0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igate ways to improve Business Profile ID assign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analysis of DLC demonstration programs per Pilot.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ilot project now planned for summer 08 analy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Protocol and LPG language for appropriateness for large Opt-in Ent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Protocol and LPG language for consistency with PUCT Load Research Ru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Metering Implementation for IDR Requirement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RCOT Staff to draft an LPG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7F053-2F85-464D-8354-A3DFBACF0B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139392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Validation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Residential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Business 814_20s to flow in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03283-DAD6-4858-BA2B-97CC22D2D5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1393920"/>
            <a:ext cx="861048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 2 Load Research Sample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used site data being processed as u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ew meter procurement i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stallation completion due end of Jun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About 37% Comple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0699-47EC-4226-912A-D5F5C3338D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1290600"/>
            <a:ext cx="8526240" cy="9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2 Sample Point Installation Progres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ample Points Instal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cluding Retained Round 1 Poi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8682120" cy="35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CF7E-260A-4A76-94C7-907FC6AF8A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7-10-29T21:03:57Z</dcterms:modified>
  <cp:revision>280</cp:revision>
  <dc:subject/>
  <dc:title>PowerPoint Presentation</dc:title>
</cp:coreProperties>
</file>