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FC1-C832-44DF-A678-560EA21C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048-962E-4207-B244-DBE4E418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767-0EBB-43C9-B4C6-A76ECF83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2E9-03ED-4230-A658-402BD27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837-C1FD-4C13-BE6E-B931B98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4AE-BE80-4B77-B4C9-8FCD296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243-CFA3-4004-BF68-80A5292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17A-B8BF-4791-AA04-AB4B048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4D5-60BC-425E-A308-3825715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276-8133-46E2-8C95-E862894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52F-CD3C-438B-979A-405E801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379-B813-4BA9-88AA-43BC16D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192-117C-4F0A-91CE-481A6184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1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C6A-ED68-4DA9-B783-8E5F97B4FE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B4-9F43-4E63-82D5-921CBBCC54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dentified root cause of extract posting issues and corrective actions implemented by ERCOT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 has provided more detail into the Data Extract Architecture to identify the challenges they face in delivery and maintenance of extra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umber of incidents in delays or data extract errors are down from prior months.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(DEWG Chair very ple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racts Service Level Agreement (S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on adding more detail to the SLA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rts &amp; Extracts are ranked for critic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is on metrics to achieve the goal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Timeli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977-9C59-4C45-BC75-9CEECA5B48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the result of RUC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14A-66D9-420A-9856-EA4494887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027-3660-4A5F-AE83-80183C498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nual Validation Update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idential is Comple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usiness is On schedule, completion due Dec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stallations to be completed by 6/30/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78F-19E3-489A-A8A6-885A34018E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740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Sample Points Install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0BD-AEBC-481C-92FA-13200E979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5736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tal Sample Points Installed</a:t>
            </a: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Including Retained Round 1 Points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35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8FB-F239-4E66-86A4-7F29D09CA1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bmitted PRR 736 to PRS (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RS tabled until implementation issues are resolv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oint PWG / RMS Task Force will be formed to build requirements for DR Programs  &amp; report to COPS by Feb.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RCOT Staff to assemble a complete a list of discussion items and questions for the Task Force on DR Program implement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DD3-1696-451E-AB09-D95EC3B65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es with Three Digits to the Right of the Decim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6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ADF-59EE-4523-8F5B-9DB6E2DBB2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0-24T19:29:26Z</dcterms:modified>
  <cp:revision>232</cp:revision>
  <dc:subject/>
  <dc:title>Point-to-Point</dc:title>
</cp:coreProperties>
</file>