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72B60-D889-451D-903F-09E4296DB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6927-611E-412C-A1D0-8FAACBD64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ECB42-2B90-4146-94F0-BE6D1113F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FDFAC-2913-4D9A-B595-C97C57726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4F3AD-6EF0-43AE-8B55-5902E2CD1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BB496-BC8A-45A8-8262-81A66D15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34432-7A82-44BB-8178-1ED18DE40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8151F-93CE-45A7-BB5A-CF8692320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79AF1-3C24-4432-AF31-1122DF8A8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32F79-F036-4C00-AA30-02B67D95C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21E0-5F2C-4D18-9978-819059372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B91C-D653-43A7-A758-54DB2F0C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638E3-DC67-4F3E-A646-955FD10D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0AEC5-4D66-4BC6-B513-869C723B5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33BD2-BE91-4465-ABD7-02E47FE5D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4267D-D9EC-4AA0-977C-7770A7FB0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E4B3A-095B-4EA3-AB74-1532B0EFA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7A95E-6517-466D-9B83-FCFC3A493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8EB48-825D-4314-BAEA-A9FB8192D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4DAF-C8BD-465F-BDA2-512F7037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A22D1-A13E-40A2-B236-1659F3D68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60D4-5880-4058-9809-59C0FFF0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620A-38C8-4D77-AC61-514E40BF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359F-5C7D-4D75-9DC2-67A6ED65E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1992-8AA9-4A16-BD83-951CA064200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F9BF-8E68-436A-9074-3E25ADB6DDE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7, Competitive Metering Working Group Name Change (VO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on RMS Working Group and Task Force Activ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GRR057, Competitive Metering Working Group Name Change (VOTE)</a:t>
            </a:r>
            <a:r>
              <a:rPr b="0"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1" name="PlaceHolder 1"/>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action updates the Retail Market Guide to reflect the renaming of the group and to document the role and responsibility of the Retail Metering Working Group.</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6.5 </a:t>
            </a:r>
            <a:r>
              <a:rPr b="1" lang="en-US" sz="2100" spc="-1" strike="noStrike">
                <a:solidFill>
                  <a:srgbClr val="000000"/>
                </a:solidFill>
                <a:latin typeface="Arial"/>
              </a:rPr>
              <a:t>	</a:t>
            </a:r>
            <a:r>
              <a:rPr b="1" lang="en-US" sz="2100" spc="-1" strike="noStrike">
                <a:solidFill>
                  <a:srgbClr val="000000"/>
                </a:solidFill>
                <a:latin typeface="Arial"/>
              </a:rPr>
              <a:t>Retail Metering Working Group (RMWG)</a:t>
            </a:r>
            <a:endParaRPr b="0" lang="en-US" sz="21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tail Metering Working Group (RMWG), reporting to the Retail Market Subcommittee (RMS), is involved in policy issues and operational aspects of retail metering. RMWG provides a forum in which Market Participants (MPs) and others may participate to facilitate changes in standards, specifications, procedures and practices associated with retail metering as reflected in the ERCOT Protocols and the Competitive Metering Guide (CMG). In addition, the RMWG will provide a forum for discussing other retail metering guides required for the implementation of advanced metering and future PUCT rulemak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WG also helps develop business requirements for any changes necessary to implement Public Utility Commission of Texas rules related to retail metering and deliver these requirements to the appropriate subcommittee and/or working gro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GRR057, Competitive Metering Working Group Name Change (VOTE)</a:t>
            </a:r>
            <a:endParaRPr b="0" lang="en-US" sz="36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recommended approval on August 1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COT presented Impact Analysis to RMS on October 10.  No impacts were identifi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unanimously approved on October 10</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requests TAC approv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X SE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ing SET Procedure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 up of RMG and Protocols Section 18 relating to Mandatory IDR Installation</a:t>
            </a:r>
            <a:endParaRPr b="0" lang="en-US" sz="22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 to be made to PWG on Section 18</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al transition issue relating to substation identifier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Distributed Generation TF and the proposed Demand Response TF activity for potential changes in data communication in meter values and profile assignment.</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Meter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PUCT Project 34890 stemming from HB3693 and as it relates Distributed Generation and metering; and, Project 34610 for Advanced Metering Implement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et Metrics Working Grou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t CR-TDSP Collaboration Supporting PUCT Staff rulemaking process.  Anticipate rule will be published November 8 and addressed at Open Meeting on November 15.</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Steps will include development of reporting template to support quarterly reporting requirement by ERCOT, CR’s and TDS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X Data Transport Working Group (TDTWG)</a:t>
            </a:r>
            <a:endParaRPr b="0" lang="en-US" sz="30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R748 website enhancements to support ERCOT Outage Notifications</a:t>
            </a:r>
            <a:endParaRPr b="0" lang="en-US" sz="27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ll on schedule to complete testing and deploy by the end of this quarte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745 Retail Market Outage Evaluation and Resolution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ject initiated to cluster Paperfree file server. Cluster set up and extensive testing started.  Working to procure licensing through PR-60006_01.  Coordination effort with AIX conversion. Project in “Closing” status on PP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rak Ph 2 Task Forc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ly 30 2007 initiated task to define requirements for enhancements to market issue resolution tool.  MT2 is used to resolve various issues including out-of sync conditions, data mismatches and inadvertent gain.  User guides and extensive requirements definitions are in final stages. Recommendation for RMS approval 12/5/2007.</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advertent Gain Task Forc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ed in early summer with objective to revise guidelines, educate MP’s, and establish consistency of understanding and process.  Final recommendation due at 12/5 R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00200" y="1143000"/>
            <a:ext cx="5486400" cy="4952880"/>
          </a:xfrm>
          <a:prstGeom prst="rect">
            <a:avLst/>
          </a:prstGeom>
          <a:ln w="0">
            <a:noFill/>
          </a:ln>
        </p:spPr>
      </p:pic>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04"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AEP</cp:lastModifiedBy>
  <dcterms:modified xsi:type="dcterms:W3CDTF">2007-10-26T20:43:15Z</dcterms:modified>
  <cp:revision>42</cp:revision>
  <dc:subject/>
  <dc:title>RMS Update to TAC</dc:title>
</cp:coreProperties>
</file>