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EB9-3F03-4D98-98D2-88503723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9AE-7853-4F97-B8B8-5912841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BFA-EBCC-45DA-97FA-7214F4B1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A54-2DC6-4922-910B-0DAF1C6D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947-DFCD-4938-A282-C1797F83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2042-A22B-4901-988D-2F03706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EFA-6D4F-42F5-8F91-354BF80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507C-451F-4681-A919-24EF20A4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AD6-BF6D-4999-875E-1649E54A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052-143A-40C1-9F0B-0D6D7D2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EEA4-C853-4BFC-ACAD-3FC5BCE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837-2423-43FD-AB4B-987F66F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BCF5-1C9A-4FB8-B7D5-944A8FE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7857-AC17-452D-ABF7-9B02D86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37A4-FCE6-4C32-864E-E83F6384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7E91-0D21-478A-934B-343D33A0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25BC-61AC-4B37-AE54-6CD12EA1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5BB-FC83-4490-8222-53093DE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1CB-376B-42E7-A485-176AEA6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F85-B7CC-401B-B671-8D9A5FC9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9D4-FA4F-4037-AE07-D31FB6A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8B7-D942-4871-A2A5-08B7911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3D5-25B7-441A-ADC0-948219F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C69-0A1B-4726-9924-6AD00B6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5F58-3877-4C8A-A622-707F5E4B1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352A-2C36-4930-B8FF-7077E384A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ovember 1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System Changes – IA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NPRR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27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Process for Transition to Nodal Market Protocol Provi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4038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horizes transition from zonal to nodal protocols; provides transparent mechanism for nodal implementation and zonal retirement; provides advance notice requirements for market particip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s a transparent and orderly transition from the zonal to nodal mark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27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Process for Transition to Nodal Market Protocol Provi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3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Incorporating the ERCOT Internal Audit Dept. &amp; Other Clarificat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ludes ERCOT Internal Audit Department in Protocols, clarifies audits to be performed, and the treatment of audit res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curately reflects ERCOT organizational responsibil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3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Incorporating the ERCOT Internal Audit Dept. &amp; Other Clarificat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240" y="20574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45080" y="1981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3600" y="19335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4600" y="51814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600" y="26146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040" y="31478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920" y="36702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6960" y="42148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6960" y="47480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8000" y="19335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77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Incorporating the ERCOT Internal Audit Dept. &amp; Other Clarificat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828800"/>
          <a:ext cx="8229600" cy="43308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ludes ERCOT Internal Audit Department in Protocols, clarifies audits to be performed, and the treatment of audit res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curately reflects ERCOT organizational responsibil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/N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72840"/>
            <a:ext cx="792468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27 – Process for Transition to Nodal Market Protocol S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5 – Incorporating the ERCOT Internal Audit Department and Other Clarif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 077 – Incorporating the ERCOT Internal Audit Department and Other Clarif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10-30T21:20:44Z</dcterms:modified>
  <cp:revision>173</cp:revision>
  <dc:subject/>
  <dc:title>Protocol Revision Subcommittee</dc:title>
</cp:coreProperties>
</file>