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CAB-502B-4902-AAF9-E33C0152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F94-3FD1-4994-98B5-6A4AECB1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4F8-8AD6-48D2-B481-0FE9EBC2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552-48CB-49F2-A8EF-02582F0D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FB5-831C-467D-BC51-16F29221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922-1D52-40B4-919E-E78DFC4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96CB-C829-4916-8639-6EB2BC7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0C3-8C9D-4969-9605-86D36A5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ED6-A45D-46DC-BF85-7B44B67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835-1FB0-4C55-BF65-1DF07F2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D6A7-D107-4694-87F2-07265CA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1F8-BF47-4FD8-AE98-DAC410A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2FA-A587-4514-9DD3-23B9163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3C4-74EE-4C67-93A0-A5862AD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378-2A4E-41B1-96E8-C67832D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2E17-C62D-435D-839C-1D8A3A1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4DE1-F27F-403E-952A-5B673CA9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9CD-E3C7-40C1-91B7-C3D3FD3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93B-9FFB-4C69-9179-14650DC9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A5E-304C-485C-85FA-69BFCF5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601-C9A1-40B4-9240-2F3676E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079-2B5C-46F3-A177-5EF93F8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CC4-3A07-48B5-A433-DBFBD57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544-0E72-401B-B5BD-68F3AA6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716-2C1D-4DA6-9B7D-36E1E955E0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638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251-5412-4B87-88F8-372C5724B3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6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erc.com/~filez/standards/Reliability_Standards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22E-7DDB-41AF-AF52-677161069C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C704-4643-4FB9-B989-C8442AD71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ember 2007:  128.83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ptember 2006:  142.51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ctober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eptember 2007:  131.4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ctober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eptember 2006:  141.50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September indicate all 34 non-wind-only QSEs pass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EDE-5DBC-448F-B697-BF60412DF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Comparis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645-FC6F-470F-8172-26901EF91C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Sc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FEC-2702-4F4E-841E-7B7EC24183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29C-C6E2-4A5B-9343-271DF1070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A25-27E3-4683-AB65-47403AE49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4800" y="17524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EFD-6606-482D-A3FF-54A109F80F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10-M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al Percentage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4800" y="17524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7F1-EA3F-4780-AF1B-691D825BBF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007 Resource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DBA-5AF9-466D-9305-E6AEA22244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RC DCS Ev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s of transmission facilities caused by wea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84 MW of generation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dipped to 59.739 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 acting as a Resource (LaaR) manually deplo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CP Step 1 declared due to low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reportable disturb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recovered in 6 minutes – No violation of NERC BAL-002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1,150 MW LaaR deployed across ERCOT Region within 10 min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QSE with LaaR did not meet 10-minute require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 time deployment for that LaaR (3 MW Oblig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 Investigation and Compliance Review under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F0A-8B7D-40F6-98ED-7AA5FBF9A5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for September – 128.8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cores for September indicate all non-wind-only QSEs passed the PRR 525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the third straight month all non-wind-only QSEs have passed this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control performance score using the PRR 525 measure (SCPS) for non-wind-only QSEs &gt;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108-4411-46B6-87C1-B7881D86C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aR Deployment – September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ificant Improvement in LaaR Deployment Performance on September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eded 1,150 MW Obl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169 MW Deployed Within 10-Min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714 effective Augus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aR qualification testing – actual load interru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periodic LaaR testing at least once in every 365 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qualification for 2 failures within any rolling one-year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disqualified, LaaR can reapply after 6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CFA-2A7E-489F-9F69-76A2FC243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227 entities registered in the ERCOT Region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entities officially appealed their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Registered Entity appeals heard by NERC Board of Trustees Compliance Committee (BOT CC) – both appeals den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/Pl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peals pending and will go before the BOT CC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entities appealing their registration as a Generator Op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A57-D0FA-4DEF-A287-5A71DE6F47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762-6D81-4D4B-ABA4-E2365C2909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60A-C23F-4F9E-9C2B-4EEA1CBC42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Revie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by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924680" cy="440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D40-3E3E-42C3-927E-C78374D000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ERCOT Protocols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ed by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7732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C06-6514-40F7-97A0-07AE0331DB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NERC Standard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ed by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E1A-9D98-4B50-BB7B-40D55998E6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Reliability Standard Violation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 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uly – Alleged violations of PRC-008 R1 &amp; R2 discovered during aud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ation and Documentation of Under Frequency Load Shedding (UFLS) Equipment Maintenanc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cumentation of the maintenance and testing program was not provid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ation Severity:  Level 4 (Seve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ation Risk Factor:  Medi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tential Impact:  Low (incomplete documentation of work perform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an 1% of total UFLS in 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tegory – Administrativ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FFD-C5BE-47D5-AC84-155D0021B4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Reliability Standard Violation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 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ptember – Alleged violation of PRC-005 R2 discovered through Self-Certif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mission and Generation Protection System Maintenance and Tes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intenance &amp; Testing did not occur within the identified interv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ation Severity:  Level 2 (Modera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olation Risk Factor:  Low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tential Impact:  Low  (small non-345 KV system; limited number of devices late on maintenanc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tegory – Technic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460-352F-4C1D-9A67-C3F4A38168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001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BB7-290F-42E7-B2A2-7950C2D62F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aR Deployment Hi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7B1-E5FB-496E-80CE-4F2B57141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k Factor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2DA-C0E8-44C5-9C52-DE412E2B97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Repor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 Categor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92468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5CA-0EAF-444D-9649-A4E1B763A3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eptember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new alleg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 new events repor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Compliance Reviews in pro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l on-site Compliance Audit completed for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registration appeals denied by NERC Board of Trustees Compliance Committe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pending registration appe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CFB-0C22-4D3E-826B-802BB78A4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Standards Compli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ical Infrastructure Protection (CIP) – Applies to all Entities listed in the NERC Compliance Registry in accordance with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mplementation Plan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for CIP Standar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ion and Control (PRC) – One or more PRC Standards apply to most Entities listed in the NERC Compliance Reg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-003:  Transmission Vegetation Management Program – Prevent and report vegetation-related outages.  Applies to all Transmission Owners with transmission lines that operate at 200 kV and above.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ero tolerance poli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52F-2089-4217-B5B6-5ABFBE183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8 Annual ERC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Training Seminar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 of the 2008 seminar – cooperative effort between the Seminar Working Group and Nodal Training Team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minar will meet many training nee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to be on Nodal Basic Training (Basic Training Progra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Training Requirements – PER-002 (Mandatory requirement for BA &amp; TOP Operators – 5 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Operating Guide Requirements – Section 1.8.2 ( 40 hours of System Emergency Training for ERCOT ISO, ERCOT Transmission, and QSE Operato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Continuous Education Hours (CEH’s) for RC, BA, TOP, &amp; IA Operators.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27D-6FE4-42C3-A167-1DF0EA506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8 Annual ERC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 Training Semin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y given to target group of Operators – ERCOT ISO, TDSP, &amp; Q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 (6) sessions – March 2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rough May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urse length – 4 ½ days; Mondays, 9:00 am through Fridays, n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cation – Austin Met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ation fee still being reviewed - &lt;$200, possibly considerably 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ation will be through ERCOT’s Learning Management Sys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endees are responsible for making their own hotel reserv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D22-D709-46DA-BC51-72AAB2ED7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Delegation Agre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nded and Restated Regional Delegation Agreement (RDA) between Texas RE and NERC as approved by the Texas RE Board sent to NERC on Octobe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Staff seeking an extension for the FERC Filing of the R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Filing was to be made on October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the NERC Board of Trustees more time to review the 8 R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Board of Trustees to approve on Octo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C will file NERC Board of Trustees approved RDAs at FERC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038-EA78-4974-A0F5-A20E830113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Fall Worksh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ed for Novemb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Austin Met 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participants on the 2007 Compliance Monitoring &amp; Enforcement Program – provide a “sneak peek” at the 2008 Compliance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ed t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 Organization and Entity r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RC Compliance Monitoring &amp; Enforcement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Protocol and Operating Guides compli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s over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ing compli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forcement and san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to include Texas RE and NERC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ECA-32DB-42D7-8C95-10870437E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10-24T20:01:24Z</dcterms:modified>
  <cp:revision>863</cp:revision>
  <dc:subject/>
  <dc:title>PRR 525 Compliance Analysis</dc:title>
</cp:coreProperties>
</file>