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AB48310-5E18-4C8D-9758-9B8CCC9ED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Section 8 Monitoring Program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18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for TAC October 5, 2007</a:t>
            </a:r>
            <a:br>
              <a:rPr sz="24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Presented by: John Adams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ction 8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826920"/>
            <a:ext cx="8534520" cy="62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Protocol Section 8.1 requires ERCOT to develop a “TAC approved QSE/Resource monitoring Program to be included in the Operating Guid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Protocol Section 8.1.2 requires ERCOT develop a “TAC-approved Ancillary Services monitoring program to evaluate the performance of QSEs and Resources providing Ancillary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Protocol Section 8.3 Requires ERCOT to develop a “TAC-approved Monitoring Program” to be included in the Operating Guides for TSP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presents the document “Nodal Monitoring Program draft” pursuant to thes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staff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826920"/>
            <a:ext cx="853452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does NOT recommend adopting this document for inclusion into the operating guides at this time for the following rea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32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is currently engaged in a revision of Section 8 of the Nodal protocols which may require some revision of this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324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requests acknowledgement of receipt of the deliverables required by Section 8, and recommends that this document be remanded to ERCOT staff for re-evaluation following completion of the current rev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recommends that TAC instruct ERCOT to continue implementation of Nodal reporting based upon this document until such revision is complete; recognizing that changes will not be achievable before Nodal start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ther Releva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826920"/>
            <a:ext cx="853452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does not expect that the revisions being contemplated by TPTF will have significant impact upon this reporting; being primarily devoted to clarifying the relationship between ERCOT ISO reporting functions as distinct from TRE compliance fun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ons to Section 8 currently under consideration probably will not see Board approval until the March-April timeframe at earli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Trip Doggett</dc:creator>
  <dc:description/>
  <dc:language>en-US</dc:language>
  <cp:lastModifiedBy>ERCOT</cp:lastModifiedBy>
  <dcterms:modified xsi:type="dcterms:W3CDTF">2007-10-29T21:20:39Z</dcterms:modified>
  <cp:revision>809</cp:revision>
  <dc:subject/>
  <dc:title>TAC Update</dc:title>
</cp:coreProperties>
</file>