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EBA-94CA-4BCE-B874-71A72D9B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675-C9A0-4A8A-93AD-86CD9394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BA80-5AB3-4460-B77E-E838919F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166-2846-4581-891D-5E8017D7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FBF-A504-4E70-8926-D66007AD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F10-5B23-4323-A610-97ED878A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E75-BD06-4A78-AB91-71CF494E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289-57EB-4A37-859A-D97E7309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76176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83C-A4D8-4FCC-96F4-4B4E9EEC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534-8246-41A6-8575-021DE179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413-0893-4014-BEF8-38A66CCC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86D-E1C6-4912-B1B2-BA768A67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C3E3-916A-4A1F-83F4-F8CEECA92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28127" t="0" r="45313" b="0"/>
          <a:stretch/>
        </p:blipFill>
        <p:spPr>
          <a:xfrm>
            <a:off x="0" y="0"/>
            <a:ext cx="15127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7772400" cy="9907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OS Report to TA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096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1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art Ne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Hoc Tas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GR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8, 2007 RO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delegated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SL/CURL and PSS Ad Hoc Task Fo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SL/CURL and PSS group will deal with reactive cap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November 2, 2007 in Tay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HSL/CURL modeling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PSS guidelines and update NOGR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need for PSS study and test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GR00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sking for TAC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ed that TAC remand NOGR002 back to ROS to address ERCOT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 E-Mail vote to re-insert Zonal PSS language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 over perceived PSS in-service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S issue will be dealt with by Ad Hoc Tas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8, 2007 ROS Me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meeting for November 8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questions for adding 500MW of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n Telemetry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what it takes to solve state estim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any long term equipm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SWG is working on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needs to provide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schedule critical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C TOP Delegated Fun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 with ERCOT Operations staff and exchanged list of proposed delegate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d on process to vet differences in  ERCOT and Transmission Owner proposed delegate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to complete agreement by end of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nd transmission owners met with PUC commissioner to discuss disposition of 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5:53:54Z</dcterms:created>
  <dc:creator>sschneid</dc:creator>
  <dc:description/>
  <dc:language>en-US</dc:language>
  <cp:lastModifiedBy>LCRA Employee</cp:lastModifiedBy>
  <dcterms:modified xsi:type="dcterms:W3CDTF">2007-10-30T19:43:53Z</dcterms:modified>
  <cp:revision>42</cp:revision>
  <dc:subject/>
  <dc:title>Slide 1</dc:title>
</cp:coreProperties>
</file>