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EFEC3-C568-4B20-B019-8551856AA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E0070-DE3F-40E2-82D0-685755025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1DFE4-4A37-4066-AF9D-F22435AAC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A46AB-9507-41A3-BD8A-6495B312E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B29E9-4EBE-4F9B-9FFA-4CEB8CEA7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28D75-7ADF-4FD3-89EC-3C42D51D9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FD8C7-763F-44E3-9267-D3311FE70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BCF2B-768C-4416-8533-134ED46DE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46026-834D-4CD4-9E27-BDB7ECE84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FCFA6-36DA-46F4-926A-15536B984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FB4DC-4512-435F-B62C-515ECFD53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CEB59-5488-4137-BE89-0D7A2ECE7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45E8-EBAF-45BD-BA65-388A2B0C7D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legis.state.tx.us/billlookup/Text.aspx?LegSess=80R&amp;Bill=HB3693"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tributed Generation</a:t>
            </a:r>
            <a:br>
              <a:rPr sz="4400"/>
            </a:br>
            <a:r>
              <a:rPr b="1" lang="en-US" sz="4400" spc="-1" strike="noStrike">
                <a:solidFill>
                  <a:srgbClr val="000000"/>
                </a:solidFill>
                <a:latin typeface="Arial"/>
              </a:rPr>
              <a:t>Task Forc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vember 1, 2007</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C Re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Generation Task Force Charge</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tributed Generation Task Force (DGTF), reporting to the Technical Advisory Committee (TAC), will review and recommend resolution of ERCOT market design and commercial issues such as power ownership, scheduling and settlement arising from the distributed generation and net metering provisions of HB 3693</a:t>
            </a:r>
            <a:r>
              <a:rPr b="0" lang="en-US" sz="2000" spc="-1" strike="noStrike" u="sng">
                <a:solidFill>
                  <a:srgbClr val="009999"/>
                </a:solidFill>
                <a:uFillTx/>
                <a:latin typeface="Arial"/>
                <a:hlinkClick r:id="rId1"/>
              </a:rPr>
              <a:t> </a:t>
            </a:r>
            <a:r>
              <a:rPr b="0" lang="en-US" sz="2000" spc="-1" strike="noStrike">
                <a:solidFill>
                  <a:srgbClr val="000000"/>
                </a:solidFill>
                <a:latin typeface="Arial"/>
              </a:rPr>
              <a:t> passed by the 80th Regular Session of the Texas Legislature. TAC has requested that the DGTF report on recommendations or a range of alternatives no later than January 200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GTF seeks the participation of members of the Wholesale Market Subcommittee (WMS), the Commercial Operations Subcommittee (COPS), and the Retail Market Subcommittee (RMS). The expertise that resides in all of the subcommittees will be necessary to successfully address the distributed generation issues arising from HB 369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person(s): Liz Jon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GTF Focu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B 3693 Section 24:  </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A § 39.914 Credit for Surplus Solar Generation by Public Schools</a:t>
            </a:r>
            <a:endParaRPr b="0" lang="en-US" sz="2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B 3693 Section 26:  </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A § 39.916 Interconnection of Distributed Renewable Generation</a:t>
            </a:r>
            <a:endParaRPr b="0" lang="en-US" sz="2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C Project No. 34890:  </a:t>
            </a:r>
            <a:r>
              <a:rPr b="0" i="1" lang="en-US" sz="2800" spc="-1" strike="noStrike">
                <a:solidFill>
                  <a:srgbClr val="000000"/>
                </a:solidFill>
                <a:latin typeface="Arial"/>
              </a:rPr>
              <a:t>Rulemaking Relating to Net Metering and Interconnection of Distributed Generation</a:t>
            </a:r>
            <a:r>
              <a:rPr b="0" lang="en-US" sz="2800" spc="-1" strike="noStrike">
                <a:solidFill>
                  <a:srgbClr val="000000"/>
                </a:solidFill>
                <a:latin typeface="Arial"/>
              </a:rPr>
              <a:t> also will address these provisions</a:t>
            </a: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COT’s Statutory Responsibility for Distributed Renewable Generation</a:t>
            </a:r>
            <a:endParaRPr b="0" lang="en-US" sz="36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shall develop procedures so that the amount of electricity purchased for a district … is accounted for in settling the total load served by the provider that serves the district’s load.  A district … must have metering devices capable of providing measurements consistent with [ERCOT’s] settlement requirements.  PURA § 39.914(c).</a:t>
            </a:r>
            <a:endParaRPr b="0" lang="en-US" sz="2000" spc="-1" strike="noStrike">
              <a:solidFill>
                <a:srgbClr val="00000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shall develop procedures so that the amount of electricity purchased from a distributed renewable generation owner under … is accounted for in settling the total load served by the [distributed renewable generation owner’s retail provider] by January 1, 2009.  A distributed renewable generation owner requesting net metering services … must have metering devices capable of providing measurements consistent with [ERCOT’s] settlement requirements.  PURA § 39.916(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GTF Issu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 the status of the renewable DG owner under existing protocols and whether any protocol modification is necessary</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at meter standards are necessary to account for and settle excess generation produced by the renewable DG owner</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settlement methodology (actual meter reads, profiling, or some combination) for the renewable DG when acquired by the REP</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GTF Schedul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Force Meeting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2 (approximately 30 attende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19</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ember 4</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ember 17</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Report to TA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uary 3</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0T15:21:55Z</dcterms:created>
  <dc:creator>GP2K</dc:creator>
  <dc:description/>
  <dc:language>en-US</dc:language>
  <cp:lastModifiedBy>GP2K</cp:lastModifiedBy>
  <dcterms:modified xsi:type="dcterms:W3CDTF">2007-10-30T19:02:06Z</dcterms:modified>
  <cp:revision>4</cp:revision>
  <dc:subject/>
  <dc:title>Distributed Generation Task Force</dc:title>
</cp:coreProperties>
</file>