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4CF25D-17C6-4504-BEA2-8DB609A116D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November 1,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2</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685800"/>
            <a:ext cx="8077320" cy="3807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Part On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on EDS 3 SCED MP Handbook</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2, TPTF approved the EDS 3 SCED MP Handbook v2.03 as modified by TPTF on October 22, 2007. The motion carried by roll-call vote, with 100% in favor and two abstentions (City of Allen and City of Eastland). All Market Segment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Testing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ERCOT Nodal Hardware Plan</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2 (continued)</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685800"/>
            <a:ext cx="8077320" cy="3550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Load Frequency Control (LFC) Tes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LFC Testing MP Handbook</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2, TPTF approved the conceptual test structure for LFC EDS Releases 6.1, 6.2, 6.3, as described during the TPTF October 10, 2007 Workshop and as documented in the EDS 3 LFC Handbook version 0.91 as modified by TPTF on October 22, 2007.  The motion carried by roll-call vote, with 100% in favor and three abstentions (TNMP, City of Allen, and City of Eastland). All Market Segment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LFC Test Settlement PR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proposals for Implementing Nodal Startup Transition Rules</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3</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685800"/>
            <a:ext cx="8077320" cy="4653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MMS CSD v1.03 as modified by TPTF on October 23, 2007. The motion carried by roll-call vote, with 100% in favor and one abstention (GEUS). All Market Segments, except Consumer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Explanation of Market Submission Items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Service Level Agreement for Nodal EDS Environ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updated Service Level Agreement for Nodal EDS Environments v1.01 to supersede the existing SLA and to become effective as indicated on November 1, 2007. The motion carried by roll-call vote, with 100% in favor and no abstentions. All Market Segments, except Consumer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Part Two)</a:t>
            </a:r>
            <a:endParaRPr b="0" lang="en-US" sz="18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3 (continued)</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685800"/>
            <a:ext cx="8077320" cy="497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 Market Participant Identity Management CSD </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Infrastructure (INF) MP Identity Management CSD v0.03 as modified by TPTF on October 23, 2007. The motion carried by roll-call vote, with 100% in favor and one abstention (Brazos). All Market Segments, except Consumer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 Market Participant Identity Management Requirements </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INF MP IM Requirements v1.3 as modified by TPTF on October 23, 2007.  The motion carried by roll-call vote, with 100% in favor and two abstentions (Brazos and TNMP). All Market Segments, except Consumer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y-Ahead Market (DAM) Issu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M Issues and draft NPRR for Fuel-Index Price (FIP) and Fuel-Oil price (FOP) percentages</a:t>
            </a: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5 and Tuesday November 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26 through Wednesday November 28</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December 3 and Tuesday December 4</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December 17 through Wednesday December 19</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765000"/>
            <a:ext cx="8610840" cy="4934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November 5 and 6,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rly Delivery Systems (ED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EDS 3 SCED MP Handbook Section 6 R5.4, Six Month LMP Posting</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reasonability for LMP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ettlement of Power Imported via DC Ties (Back to Back Ties) and Block Load Transfer Under Emergency Condi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White Pape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ails on the Settlement of Combined Cycle Pla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implementing Nodal Startup Transition Rul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 Interface subgroup activity</a:t>
            </a:r>
            <a:endParaRPr b="0" lang="en-US" sz="1800" spc="-1" strike="noStrike">
              <a:solidFill>
                <a:srgbClr val="000000"/>
              </a:solidFill>
              <a:latin typeface="Arial"/>
            </a:endParaRPr>
          </a:p>
        </p:txBody>
      </p:sp>
      <p:sp>
        <p:nvSpPr>
          <p:cNvPr id="14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0880" y="765000"/>
            <a:ext cx="8610840" cy="1919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November 5 and 6,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 on Explanation of Market Participant Submission Item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ment for the Training Course Curriculum v3.0</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P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the External Interfaces Specification v1.04</a:t>
            </a:r>
            <a:endParaRPr b="0" lang="en-US" sz="1800" spc="-1" strike="noStrike">
              <a:solidFill>
                <a:srgbClr val="000000"/>
              </a:solidFill>
              <a:latin typeface="Arial"/>
            </a:endParaRPr>
          </a:p>
        </p:txBody>
      </p:sp>
      <p:sp>
        <p:nvSpPr>
          <p:cNvPr id="14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5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
          <p:cNvSpPr/>
          <p:nvPr/>
        </p:nvSpPr>
        <p:spPr>
          <a:xfrm>
            <a:off x="380880" y="781200"/>
            <a:ext cx="8458200" cy="5402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sixteen COMS Requirements Specifications updated through Baseline 2 as being in compliance with applicable Nodal Protocols.  The motion carried by roll-call vote, with 100% in favor and two abstentions (City of Allen and City of Eastland). All Market Segments were represented for the vote.</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verage Incremental Energy Cost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lack Start Services Real-Time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gestion Revenue Rights (CRR) Auction Revenue Disbursement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R Balancing Account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y-Ahead Market (DAM) CRR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Aggregation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pute Management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igibility Process for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nancial Transfer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l-Time CRR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l-Time Energy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l-Time Reliability Must Run (RMR) Services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gistration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liability Unit Commitment (RUC) Settlements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ettlement Invoice Requirements (B2)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ettlement Statement Requirements (B2) v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6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p:nvPr/>
        </p:nvSpPr>
        <p:spPr>
          <a:xfrm>
            <a:off x="380880" y="781200"/>
            <a:ext cx="8458200" cy="5492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for DAM updated through Baseline 2 as being in compliance with applicable Nodal Protocols.  The motion carried by roll-call vote, with 100% in favor and four abstentions (CPS, City of Allen, City of Eastland, and CitiGroup Energy). All Market Segments were represented for the vote.</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AM Make Whole Settlement Requirements Specification (B2) v2.03</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M Energy Settlements Requirements (B2) v2.03</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M AS Settlements Requirements (B2) v2.02</a:t>
            </a:r>
            <a:endParaRPr b="0" lang="en-US" sz="14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for Real-Time updated through Baseline 2 as being in compliance with applicable Nodal Protocols. The motion carried by roll-call vote, with 100% in favor and two abstentions (Calpine and CitiGroup Energy). All Market Segments, except Consumers, were represented for the vote.</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eal-Time Ancillary Services Settlements Requirements (B2) v2.03</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l-Time Emergency Operations Settlements Requirements (B2) v2.02</a:t>
            </a:r>
            <a:endParaRPr b="0" lang="en-US" sz="14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updated through Baseline 2 as being in compliance with applicable Nodal Protocols.  The motion carried by roll-call vote, with 100% in favor and two abstentions (Calpine and CitiGroup Energy). All Market Segments, except Consumers, were represented for the vote.</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oltage Support Real-Time Settlements Requirements (B2) v2.03</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ifiable Costs Requirements (B2) v2.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6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
          <p:cNvSpPr/>
          <p:nvPr/>
        </p:nvSpPr>
        <p:spPr>
          <a:xfrm>
            <a:off x="380880" y="781200"/>
            <a:ext cx="8458200" cy="5413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a:t>
            </a:r>
            <a:r>
              <a:rPr b="1" lang="en-US" sz="1800" spc="-1" strike="noStrike">
                <a:solidFill>
                  <a:srgbClr val="000000"/>
                </a:solidFill>
                <a:latin typeface="Arial"/>
              </a:rPr>
              <a:t>MMS RUC Requirements (B2) v1.01</a:t>
            </a:r>
            <a:r>
              <a:rPr b="0" lang="en-US" sz="1800" spc="-1" strike="noStrike">
                <a:solidFill>
                  <a:srgbClr val="000000"/>
                </a:solidFill>
                <a:latin typeface="Arial"/>
              </a:rPr>
              <a:t> updated through Baseline 2 as being in compliance with applicable Nodal Protocols.  The motion carried by roll-call vote, with 100% in favor and one abstention (City of Garland). All Market Segments, except Consumer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a:t>
            </a:r>
            <a:r>
              <a:rPr b="1" lang="en-US" sz="1800" spc="-1" strike="noStrike">
                <a:solidFill>
                  <a:srgbClr val="000000"/>
                </a:solidFill>
                <a:latin typeface="Arial"/>
              </a:rPr>
              <a:t>MMS CCT Requirements (B2) v1.03</a:t>
            </a:r>
            <a:r>
              <a:rPr b="0" lang="en-US" sz="1800" spc="-1" strike="noStrike">
                <a:solidFill>
                  <a:srgbClr val="000000"/>
                </a:solidFill>
                <a:latin typeface="Arial"/>
              </a:rPr>
              <a:t>, as updated through Baseline 2 and modified by TPTF on October 9, 2007, as being in compliance with applicable Nodal Protocols. The motion carried by roll-call vote, with 100% in favor and four abstentions (CenterPoint, Coral Power, Exelon, and CitiGroup Energy). All Market Segments, except Consumer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a:t>
            </a:r>
            <a:r>
              <a:rPr b="1" lang="en-US" sz="1800" spc="-1" strike="noStrike">
                <a:solidFill>
                  <a:srgbClr val="000000"/>
                </a:solidFill>
                <a:latin typeface="Arial"/>
              </a:rPr>
              <a:t>MMS DAM and SASM Requirements (B2) v1.03</a:t>
            </a:r>
            <a:r>
              <a:rPr b="0" lang="en-US" sz="1800" spc="-1" strike="noStrike">
                <a:solidFill>
                  <a:srgbClr val="000000"/>
                </a:solidFill>
                <a:latin typeface="Arial"/>
              </a:rPr>
              <a:t> as modified by TPTF on October 9, 2007. The motion carried by roll-call vote, with 100% in favor and no abstentions. All Market Segments, except Consumer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a:t>
            </a:r>
            <a:r>
              <a:rPr b="1" lang="en-US" sz="1800" spc="-1" strike="noStrike">
                <a:solidFill>
                  <a:srgbClr val="000000"/>
                </a:solidFill>
                <a:latin typeface="Arial"/>
              </a:rPr>
              <a:t>MMS CSD v1.03</a:t>
            </a:r>
            <a:r>
              <a:rPr b="0" lang="en-US" sz="1800" spc="-1" strike="noStrike">
                <a:solidFill>
                  <a:srgbClr val="000000"/>
                </a:solidFill>
                <a:latin typeface="Arial"/>
              </a:rPr>
              <a:t> as modified by TPTF on October 23, 2007. The motion carried by roll-call vote, with 100% in favor and one abstention (GEUS). All Market Segments, except Consumers, were represented for the vote.</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228600" y="793800"/>
          <a:ext cx="8763120" cy="262584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7648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7648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82124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lvl="1" marL="231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3 COMS</a:t>
                      </a:r>
                      <a:r>
                        <a:rPr b="0" lang="en-US" sz="1200" spc="-1" strike="noStrike">
                          <a:solidFill>
                            <a:srgbClr val="000000"/>
                          </a:solidFill>
                          <a:latin typeface="Arial"/>
                        </a:rPr>
                        <a:t> </a:t>
                      </a:r>
                      <a:r>
                        <a:rPr b="1" lang="en-US" sz="1200" spc="-1" strike="noStrike">
                          <a:solidFill>
                            <a:srgbClr val="000000"/>
                          </a:solidFill>
                          <a:latin typeface="Arial"/>
                        </a:rPr>
                        <a:t>Business Requirements complete</a:t>
                      </a:r>
                      <a:endParaRPr b="0" lang="en-US" sz="1200" spc="-1" strike="noStrike">
                        <a:solidFill>
                          <a:srgbClr val="000000"/>
                        </a:solidFill>
                        <a:latin typeface="Arial"/>
                      </a:endParaRPr>
                    </a:p>
                    <a:p>
                      <a:pPr lvl="1" marL="231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MMS</a:t>
                      </a:r>
                      <a:r>
                        <a:rPr b="0" lang="en-US" sz="1200" spc="-1" strike="noStrike">
                          <a:solidFill>
                            <a:srgbClr val="000000"/>
                          </a:solidFill>
                          <a:latin typeface="Arial"/>
                        </a:rPr>
                        <a:t> </a:t>
                      </a:r>
                      <a:r>
                        <a:rPr b="1" lang="en-US" sz="1200" spc="-1" strike="noStrike">
                          <a:solidFill>
                            <a:srgbClr val="000000"/>
                          </a:solidFill>
                          <a:latin typeface="Arial"/>
                        </a:rPr>
                        <a:t>Business Requirements complete</a:t>
                      </a:r>
                      <a:endParaRPr b="0" lang="en-US" sz="1200" spc="-1" strike="noStrike">
                        <a:solidFill>
                          <a:srgbClr val="000000"/>
                        </a:solidFill>
                        <a:latin typeface="Arial"/>
                      </a:endParaRPr>
                    </a:p>
                    <a:p>
                      <a:pPr lvl="1" marL="231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MMS Conceptual System Design complete</a:t>
                      </a:r>
                      <a:endParaRPr b="0" lang="en-US" sz="1200" spc="-1" strike="noStrike">
                        <a:solidFill>
                          <a:srgbClr val="000000"/>
                        </a:solidFill>
                        <a:latin typeface="Arial"/>
                      </a:endParaRPr>
                    </a:p>
                    <a:p>
                      <a:pPr lvl="1" marL="231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INF Business Requirements complete</a:t>
                      </a:r>
                      <a:endParaRPr b="0" lang="en-US" sz="1200" spc="-1" strike="noStrike">
                        <a:solidFill>
                          <a:srgbClr val="000000"/>
                        </a:solidFill>
                        <a:latin typeface="Arial"/>
                      </a:endParaRPr>
                    </a:p>
                    <a:p>
                      <a:pPr lvl="1" marL="231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INF Conceptual System Design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7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380880" y="781200"/>
            <a:ext cx="8458200" cy="2680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a:t>
            </a:r>
            <a:r>
              <a:rPr b="1" lang="en-US" sz="1800" spc="-1" strike="noStrike">
                <a:solidFill>
                  <a:srgbClr val="000000"/>
                </a:solidFill>
                <a:latin typeface="Arial"/>
              </a:rPr>
              <a:t>INF MP Identity Management CSD v0.03</a:t>
            </a:r>
            <a:r>
              <a:rPr b="0" lang="en-US" sz="1800" spc="-1" strike="noStrike">
                <a:solidFill>
                  <a:srgbClr val="000000"/>
                </a:solidFill>
                <a:latin typeface="Arial"/>
              </a:rPr>
              <a:t> as modified by TPTF on October 23, 2007. The motion carried by roll-call vote, with 100% in favor and one abstention (Brazos). All Market Segments, except Consumer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23, TPTF approved the </a:t>
            </a:r>
            <a:r>
              <a:rPr b="1" lang="en-US" sz="1800" spc="-1" strike="noStrike">
                <a:solidFill>
                  <a:srgbClr val="000000"/>
                </a:solidFill>
                <a:latin typeface="Arial"/>
              </a:rPr>
              <a:t>INF MP IM Requirements v1.3</a:t>
            </a:r>
            <a:r>
              <a:rPr b="0" lang="en-US" sz="1800" spc="-1" strike="noStrike">
                <a:solidFill>
                  <a:srgbClr val="000000"/>
                </a:solidFill>
                <a:latin typeface="Arial"/>
              </a:rPr>
              <a:t> as modified by TPTF on October 23, 2007.  The motion carried by roll-call vote, with 100% in favor and two abstentions (Brazos and TNMP). All Market Segments, except Consumer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
          <p:cNvSpPr/>
          <p:nvPr/>
        </p:nvSpPr>
        <p:spPr>
          <a:xfrm>
            <a:off x="380880" y="685800"/>
            <a:ext cx="8458200" cy="5554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verage Incremental Energy Cost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 Start Services Real-Time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R Auction Revenue Disbursement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R Balancing Account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Ahead Market (DAM) CRR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Aggregation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pute Management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igibility Process for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ncial Transfer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CRR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Energy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Reliability Must Run (RMR) Services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stration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iability Unit Commitment (RUC)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tlement Invoice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tlement Statement Requirements (B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9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p:nvPr/>
        </p:nvSpPr>
        <p:spPr>
          <a:xfrm>
            <a:off x="380880" y="685800"/>
            <a:ext cx="8458200" cy="503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continued)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DAM Make Whole Settlement Requirements Specification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Energy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AS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Ancillary Services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Emergency Operations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oltage Support Real-Time Settlements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iable Costs Requirements (B2) </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 Management System (M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MS RUC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MS CCT Requirements (B2)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MS DAM and SASM Requirements (B2) </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MS Conceptual System Design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MS MMS CSD (B2)</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Infrastructure (INF) 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 MP IM Requirements </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 Conceptual System Design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NF MP Identity Management CSD</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2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685800"/>
            <a:ext cx="8077320" cy="5539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October 8-9 and October 22-23</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October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COMS Requirements Updated through Baseline 2</a:t>
            </a:r>
            <a:endParaRPr b="0" lang="en-US" sz="1600" spc="-1" strike="noStrike">
              <a:solidFill>
                <a:srgbClr val="000000"/>
              </a:solidFill>
              <a:latin typeface="Arial"/>
            </a:endParaRPr>
          </a:p>
          <a:p>
            <a:pPr lvl="3" marL="13716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On October 8, TPTF approved the following sixteen COMS Requirements Specifications updated through Baseline 2 as being in compliance with applicable Nodal Protocols:</a:t>
            </a:r>
            <a:endParaRPr b="0" lang="en-US" sz="14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Average Incremental Energy Cost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ack Start Services Real-Time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gestion Revenue Rights (CRR) Auction Revenue Disbursement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Balancing Account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Ahead Market (DAM) CRR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Aggregation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ute Management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igibility Process for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ncial Transfer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Time CRR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Time Energy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Time Reliability Must Run (RMR) Services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istration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ability Unit Commitment (RUC) Settlements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Invoice Requirements (B2) v3.0</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Statement Requirements (B2) v3.0</a:t>
            </a:r>
            <a:endParaRPr b="0" lang="en-US" sz="12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8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685800"/>
            <a:ext cx="8077320" cy="4759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 (continu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S Requirements Updated through Baseline 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sixteen COMS Requirements Specifications updated through Baseline 2 as being in compliance with applicable Nodal Protocols.  The motion carried by roll-call vote, with 100% in favor and two abstentions (City of Allen and City of Eastland). All Market Segment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for DAM updated through Baseline 2 as being in compliance with applicable Nodal Protocols:</a:t>
            </a:r>
            <a:endParaRPr b="0" lang="en-US" sz="18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Make Whole Settlement Requirements Specification (B2) v2.03</a:t>
            </a:r>
            <a:endParaRPr b="0" lang="en-US" sz="14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Energy Settlements Requirements (B2) v2.03</a:t>
            </a:r>
            <a:endParaRPr b="0" lang="en-US" sz="14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AS Settlements Requirements (B2) v2.02</a:t>
            </a:r>
            <a:endParaRPr b="0" lang="en-US" sz="14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tion carried by roll-call vote, with 100% in favor and four abstentions (CPS, City of Allen, City of Eastland, and CitiGroup Energy). All Market Segments were represented for the vote.</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8 (continued)</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685800"/>
            <a:ext cx="8077320" cy="5411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 (continu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S Requirements Updated through Baseline 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for Real-Time updated through Baseline 2 as being in compliance with applicable Nodal Protocols:</a:t>
            </a:r>
            <a:endParaRPr b="0" lang="en-US" sz="18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Ancillary Services Settlements Requirements (B2) v2.03</a:t>
            </a:r>
            <a:endParaRPr b="0" lang="en-US" sz="14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Emergency Operations Settlements Requirements (B2) v2.02</a:t>
            </a:r>
            <a:endParaRPr b="0" lang="en-US" sz="14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tion carried by roll-call vote, with 100% in favor and two abstentions (Calpine and CitiGroup Energy). All Market Segments, except Consumer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8, TPTF approved the following COMS Requirements updated through Baseline 2 as being in compliance with applicable Nodal Protocols:</a:t>
            </a:r>
            <a:endParaRPr b="0" lang="en-US" sz="18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oltage Support Real-Time Settlements Requirements (B2) v2.03</a:t>
            </a:r>
            <a:endParaRPr b="0" lang="en-US" sz="1400" spc="-1" strike="noStrike">
              <a:solidFill>
                <a:srgbClr val="000000"/>
              </a:solidFill>
              <a:latin typeface="Arial"/>
            </a:endParaRPr>
          </a:p>
          <a:p>
            <a:pPr lvl="4" marL="1828800">
              <a:lnSpc>
                <a:spcPct val="85000"/>
              </a:lnSpc>
              <a:spcBef>
                <a:spcPts val="524"/>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ifiable Costs Requirements (B2) v2.02</a:t>
            </a:r>
            <a:endParaRPr b="0" lang="en-US" sz="14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tion carried by roll-call vote, with 100% in favor and two abstentions (Calpine and CitiGroup Energy). All Market Segments, except Consumer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8 (continued)</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685800"/>
            <a:ext cx="8077320" cy="524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On October 8, TPTF discussed the following:</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MS Update (continued)</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ettlement Statement Paper Prototype</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October 8, TPTF approved the Settlement Statement Paper Prototype as being in compliance with current Nodal Protocols. The motion carried by roll-call vote, with 100% in favor and one abstention (CitiGroup Energy). All Market Segments, except Consumers, were represented for the vote.</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raft Nodal Protocol Revision Request (NPRR) for Reliability Unit Commitment (RUC) Capacity Shortfall Ratio Share Formula</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October 8, TPTF moved to endorse submitting the Draft NPRR for RUC Capacity Shortfall Ratio Share Formula to the Protocol Revision Subcommittee (PRS) as modified by TPTF on October 8, 2007. The motion carried by roll-call vote, with 100% in favor and one abstention (First Choice Power). All Market Segments, except the Independent Generators, were represented for the vote.</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MS Development Updates</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ion of Vendor Definition of DAM Commitment</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ion of Draft NPRR for Resource Entity Electrical Bus</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Nodal Program Update</a:t>
            </a:r>
            <a:endParaRPr b="0" lang="en-US" sz="17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685800"/>
            <a:ext cx="8077320" cy="5119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RUC</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MMS RUC Requirements (B2) v1.01 updated through Baseline 2 as being in compliance with applicable Nodal Protocols.  The motion carried by roll-call vote, with 100% in favor and one abstention (City of Garland). All Market Segments, except Consumer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Constraint Competitive Test (CC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MMS CCT Requirements (B2) v1.03, as updated through Baseline 2 and modified by TPTF on October 9, 2007, as being in compliance with applicable Nodal Protocols. The motion carried by roll-call vote, with 100% in favor and four abstentions (CenterPoint, Coral Power, Exelon, and CitiGroup Energy). All Market Segments, except Consumer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 (continued)</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685800"/>
            <a:ext cx="8077320" cy="5119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 (continu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DAM and Supplemental Ancillary Service Market (SASM)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MMS DAM and SASM Requirements (B2) v1.03 as modified by TPTF on October 9, 2007. The motion carried by roll-call vote, with 100% in favor and no abstentions. All Market Segments, except Consumer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Comments for the Transmission Congestion Rights to CRR Transition Plan </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proposed, WMS-approved TCR annual auction methodology as described in Part 1 of the TCR to CRR Transition Plan v0.07.  The motion carried by roll-call vote, with 100% in favor and one abstention (Reliant).  All Market Segments, except Consumers and Independent Generator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9 (continued)</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685800"/>
            <a:ext cx="8077320" cy="2214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Comments for the MP Identity Management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9, TPTF approved the INF MP IM Requirements v0.93 as modified by TPTF on October 9, 2007. The motion carried by roll-call vote, with 100% in favor and two abstentions (Coral Power and Exelon). All Market Segments, except Consumers and Independent Generators, were represented for the vote.</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10-24T21:24:32Z</dcterms:modified>
  <cp:revision>847</cp:revision>
  <dc:subject/>
  <dc:title>TAC Update</dc:title>
</cp:coreProperties>
</file>