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F22DF-B07C-4DE6-BD2A-932C9285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EC173E-DD9F-45C6-B972-84698E51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E3B12-9330-4552-AFF3-E107A31F4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6E556-F2F6-4C81-9BA1-16195822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EDF34-715E-4D1E-A98C-321087CE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05148-4117-4662-A992-3B57D3B0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E08E1-41DE-4DD7-AE9B-7A96781D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2BCCF-A384-41CF-9D2B-2A353759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F912A4-91AF-456C-9238-399EF6DF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753-DA70-474C-A573-35035655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9BE-83A4-4EAB-B8C3-E0EAD88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9F5-37AA-4DD6-80C0-F3DF6B4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435-E60D-42ED-8606-AED8549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F82-502C-4E0B-BEF0-99328FB0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DF9-BB58-4BB7-BFDA-D6D4C94E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C6E-203B-4D9E-B27C-5783FD1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354-6C45-438B-8F37-3DD0B230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229-9461-4313-B364-4ED73A42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97E-2C55-4437-BB53-064D7C82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9F8-79BE-461D-BE92-65B5FF91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968-B434-4E3B-80AF-4D98677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9068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4600" y="127584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676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4600" y="3753720"/>
            <a:ext cx="2784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24000"/>
            <a:ext cx="864720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7640" y="375372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7640" y="1275840"/>
            <a:ext cx="42195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3753720"/>
            <a:ext cx="864720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6024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4133880" y="6235560"/>
            <a:ext cx="4781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F89C46-9BA8-4C25-9A58-C5516FF446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Oct 22, 2007 TPTF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F38-E9E5-4485-B948-69527F638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155600" y="6432480"/>
            <a:ext cx="20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solidFill>
            <a:srgbClr val="6d7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1440" y="94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791320" y="6445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se Ti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3543480" y="6432480"/>
            <a:ext cx="207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A51EB96-D4C9-405A-AEE3-EB4856E9C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logo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3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9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809720" y="2028960"/>
            <a:ext cx="617220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Educati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Course Ti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Nam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Presenter Titl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y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0" y="22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der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9.gi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locations/index.html#a121309" TargetMode="External"/><Relationship Id="rId2" Type="http://schemas.openxmlformats.org/officeDocument/2006/relationships/hyperlink" Target="http://nodal.ercot.com/training/locations/index.html#a121309" TargetMode="External"/><Relationship Id="rId3" Type="http://schemas.openxmlformats.org/officeDocument/2006/relationships/hyperlink" Target="http://nodal.ercot.com/training/locations/index.html" TargetMode="External"/><Relationship Id="rId4" Type="http://schemas.openxmlformats.org/officeDocument/2006/relationships/hyperlink" Target="http://nodal.ercot.com/training/locations/index.html#a128720" TargetMode="External"/><Relationship Id="rId5" Type="http://schemas.openxmlformats.org/officeDocument/2006/relationships/hyperlink" Target="http://nodal.ercot.com/training/locations/index.html#a128720" TargetMode="External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1" name="Picture 7" descr="logo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8e9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0" y="101916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57360" y="2028960"/>
            <a:ext cx="79311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Engagement and Readiness (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T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ober 2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2"/>
          <a:stretch/>
        </p:blipFill>
        <p:spPr>
          <a:xfrm>
            <a:off x="1952640" y="0"/>
            <a:ext cx="212076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4076640" y="0"/>
            <a:ext cx="5067360" cy="990720"/>
          </a:xfrm>
          <a:prstGeom prst="rect">
            <a:avLst/>
          </a:prstGeom>
          <a:solidFill>
            <a:srgbClr val="666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5362560" y="2952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Curriculum – Proposed add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66760" y="1009800"/>
            <a:ext cx="86472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23402" t="19555" r="15278" b="6332"/>
          <a:stretch/>
        </p:blipFill>
        <p:spPr>
          <a:xfrm>
            <a:off x="1190520" y="1020600"/>
            <a:ext cx="69343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Readiness Repo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66760" y="1009800"/>
            <a:ext cx="86472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Readines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provide reports to Accountable Execu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le Executives will report on read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ourses and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ports coming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updates or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65240" y="2828880"/>
            <a:ext cx="42483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2916360" y="250344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4111560" y="2279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854800" y="193500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2"/>
          <p:cNvGrpSpPr/>
          <p:nvPr/>
        </p:nvGrpSpPr>
        <p:grpSpPr>
          <a:xfrm>
            <a:off x="2311560" y="4684680"/>
            <a:ext cx="4500360" cy="1176120"/>
            <a:chOff x="2311560" y="4684680"/>
            <a:chExt cx="4500360" cy="1176120"/>
          </a:xfrm>
        </p:grpSpPr>
        <p:grpSp>
          <p:nvGrpSpPr>
            <p:cNvPr id="285" name="Group 21"/>
            <p:cNvGrpSpPr/>
            <p:nvPr/>
          </p:nvGrpSpPr>
          <p:grpSpPr>
            <a:xfrm>
              <a:off x="2311560" y="4684680"/>
              <a:ext cx="4500360" cy="1176120"/>
              <a:chOff x="2311560" y="4684680"/>
              <a:chExt cx="4500360" cy="1176120"/>
            </a:xfrm>
          </p:grpSpPr>
          <p:pic>
            <p:nvPicPr>
              <p:cNvPr id="286" name="Picture 9" descr="Number-48-Texas-Map-Nodes"/>
              <p:cNvPicPr/>
              <p:nvPr/>
            </p:nvPicPr>
            <p:blipFill>
              <a:blip r:embed="rId2"/>
              <a:stretch/>
            </p:blipFill>
            <p:spPr>
              <a:xfrm>
                <a:off x="5738760" y="471960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0" descr="Number-34c-ERCOT-Congestion"/>
              <p:cNvPicPr/>
              <p:nvPr/>
            </p:nvPicPr>
            <p:blipFill>
              <a:blip r:embed="rId3"/>
              <a:stretch/>
            </p:blipFill>
            <p:spPr>
              <a:xfrm>
                <a:off x="2311560" y="471168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" descr="MCj04131380000[1]"/>
              <p:cNvPicPr/>
              <p:nvPr/>
            </p:nvPicPr>
            <p:blipFill>
              <a:blip r:embed="rId4"/>
              <a:stretch/>
            </p:blipFill>
            <p:spPr>
              <a:xfrm>
                <a:off x="3805200" y="468468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Text Box 17"/>
              <p:cNvSpPr/>
              <p:nvPr/>
            </p:nvSpPr>
            <p:spPr>
              <a:xfrm>
                <a:off x="3573360" y="545616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12"/>
            <p:cNvSpPr/>
            <p:nvPr/>
          </p:nvSpPr>
          <p:spPr>
            <a:xfrm>
              <a:off x="3019320" y="472428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6760" y="1275840"/>
            <a:ext cx="86472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new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readines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2"/>
          <p:cNvGrpSpPr/>
          <p:nvPr/>
        </p:nvGrpSpPr>
        <p:grpSpPr>
          <a:xfrm>
            <a:off x="4471920" y="3427560"/>
            <a:ext cx="4500360" cy="1176120"/>
            <a:chOff x="4471920" y="3427560"/>
            <a:chExt cx="4500360" cy="1176120"/>
          </a:xfrm>
        </p:grpSpPr>
        <p:grpSp>
          <p:nvGrpSpPr>
            <p:cNvPr id="201" name="Group 21"/>
            <p:cNvGrpSpPr/>
            <p:nvPr/>
          </p:nvGrpSpPr>
          <p:grpSpPr>
            <a:xfrm>
              <a:off x="4471920" y="3427560"/>
              <a:ext cx="4500360" cy="1176120"/>
              <a:chOff x="4471920" y="3427560"/>
              <a:chExt cx="4500360" cy="1176120"/>
            </a:xfrm>
          </p:grpSpPr>
          <p:pic>
            <p:nvPicPr>
              <p:cNvPr id="202" name="Picture 9" descr="Number-48-Texas-Map-Nodes"/>
              <p:cNvPicPr/>
              <p:nvPr/>
            </p:nvPicPr>
            <p:blipFill>
              <a:blip r:embed="rId1"/>
              <a:stretch/>
            </p:blipFill>
            <p:spPr>
              <a:xfrm>
                <a:off x="7899120" y="346248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10" descr="Number-34c-ERCOT-Congestion"/>
              <p:cNvPicPr/>
              <p:nvPr/>
            </p:nvPicPr>
            <p:blipFill>
              <a:blip r:embed="rId2"/>
              <a:stretch/>
            </p:blipFill>
            <p:spPr>
              <a:xfrm>
                <a:off x="4471920" y="345456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Picture 11" descr="MCj04131380000[1]"/>
              <p:cNvPicPr/>
              <p:nvPr/>
            </p:nvPicPr>
            <p:blipFill>
              <a:blip r:embed="rId3"/>
              <a:stretch/>
            </p:blipFill>
            <p:spPr>
              <a:xfrm>
                <a:off x="5965560" y="342756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 Box 17"/>
              <p:cNvSpPr/>
              <p:nvPr/>
            </p:nvSpPr>
            <p:spPr>
              <a:xfrm>
                <a:off x="5733720" y="419904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12"/>
            <p:cNvSpPr/>
            <p:nvPr/>
          </p:nvSpPr>
          <p:spPr>
            <a:xfrm>
              <a:off x="5179680" y="346680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Completed Cour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6760" y="1185840"/>
          <a:ext cx="8675640" cy="260208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365760"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ub-Group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Room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– 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288" descr="MCj04039650000[1]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3857760" y="19303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8" descr="MCj04039650000[1]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3857760" y="23590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8" descr="MCj04039650000[1]"/>
          <p:cNvPicPr/>
          <p:nvPr/>
        </p:nvPicPr>
        <p:blipFill>
          <a:blip r:embed="rId3">
            <a:lum contrast="-60000"/>
          </a:blip>
          <a:stretch/>
        </p:blipFill>
        <p:spPr>
          <a:xfrm>
            <a:off x="3852720" y="284652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8" descr="MCj04039650000[1]"/>
          <p:cNvPicPr/>
          <p:nvPr/>
        </p:nvPicPr>
        <p:blipFill>
          <a:blip r:embed="rId4">
            <a:lum contrast="-60000"/>
          </a:blip>
          <a:stretch/>
        </p:blipFill>
        <p:spPr>
          <a:xfrm>
            <a:off x="3852720" y="33498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88" descr="MCj04039650000[1]"/>
          <p:cNvPicPr/>
          <p:nvPr/>
        </p:nvPicPr>
        <p:blipFill>
          <a:blip r:embed="rId5">
            <a:lum contrast="-60000"/>
          </a:blip>
          <a:stretch/>
        </p:blipFill>
        <p:spPr>
          <a:xfrm>
            <a:off x="4767120" y="33735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8" descr="MCj04039650000[1]"/>
          <p:cNvPicPr/>
          <p:nvPr/>
        </p:nvPicPr>
        <p:blipFill>
          <a:blip r:embed="rId6">
            <a:lum contrast="-60000"/>
          </a:blip>
          <a:stretch/>
        </p:blipFill>
        <p:spPr>
          <a:xfrm>
            <a:off x="3049560" y="33591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88" descr="MCj04039650000[1]"/>
          <p:cNvPicPr/>
          <p:nvPr/>
        </p:nvPicPr>
        <p:blipFill>
          <a:blip r:embed="rId7">
            <a:lum contrast="-60000"/>
          </a:blip>
          <a:stretch/>
        </p:blipFill>
        <p:spPr>
          <a:xfrm>
            <a:off x="3049560" y="286056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8" descr="MCj04039650000[1]"/>
          <p:cNvPicPr/>
          <p:nvPr/>
        </p:nvPicPr>
        <p:blipFill>
          <a:blip r:embed="rId8">
            <a:lum contrast="-60000"/>
          </a:blip>
          <a:stretch/>
        </p:blipFill>
        <p:spPr>
          <a:xfrm>
            <a:off x="3054240" y="23702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8" descr="MCj04039650000[1]"/>
          <p:cNvPicPr/>
          <p:nvPr/>
        </p:nvPicPr>
        <p:blipFill>
          <a:blip r:embed="rId9">
            <a:lum contrast="-60000"/>
          </a:blip>
          <a:stretch/>
        </p:blipFill>
        <p:spPr>
          <a:xfrm>
            <a:off x="3054240" y="193824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8" descr="MCj04039650000[1]"/>
          <p:cNvPicPr/>
          <p:nvPr/>
        </p:nvPicPr>
        <p:blipFill>
          <a:blip r:embed="rId10">
            <a:lum contrast="-60000"/>
          </a:blip>
          <a:stretch/>
        </p:blipFill>
        <p:spPr>
          <a:xfrm>
            <a:off x="4749840" y="192240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8" descr="MCj04039650000[1]"/>
          <p:cNvPicPr/>
          <p:nvPr/>
        </p:nvPicPr>
        <p:blipFill>
          <a:blip r:embed="rId11">
            <a:lum contrast="-60000"/>
          </a:blip>
          <a:stretch/>
        </p:blipFill>
        <p:spPr>
          <a:xfrm>
            <a:off x="4749840" y="237960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88" descr="MCj04039650000[1]"/>
          <p:cNvPicPr/>
          <p:nvPr/>
        </p:nvPicPr>
        <p:blipFill>
          <a:blip r:embed="rId12">
            <a:lum contrast="-60000"/>
          </a:blip>
          <a:stretch/>
        </p:blipFill>
        <p:spPr>
          <a:xfrm>
            <a:off x="6686640" y="19335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88" descr="MCj04039650000[1]"/>
          <p:cNvPicPr/>
          <p:nvPr/>
        </p:nvPicPr>
        <p:blipFill>
          <a:blip r:embed="rId13">
            <a:lum contrast="-60000"/>
          </a:blip>
          <a:stretch/>
        </p:blipFill>
        <p:spPr>
          <a:xfrm>
            <a:off x="6694560" y="23814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8" descr="MCj04039650000[1]"/>
          <p:cNvPicPr/>
          <p:nvPr/>
        </p:nvPicPr>
        <p:blipFill>
          <a:blip r:embed="rId14">
            <a:lum contrast="-60000"/>
          </a:blip>
          <a:stretch/>
        </p:blipFill>
        <p:spPr>
          <a:xfrm>
            <a:off x="8325000" y="19242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8" descr="MCj04039650000[1]"/>
          <p:cNvPicPr/>
          <p:nvPr/>
        </p:nvPicPr>
        <p:blipFill>
          <a:blip r:embed="rId15">
            <a:lum contrast="-60000"/>
          </a:blip>
          <a:stretch/>
        </p:blipFill>
        <p:spPr>
          <a:xfrm>
            <a:off x="8313840" y="28288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8" descr="MCj04039650000[1]"/>
          <p:cNvPicPr/>
          <p:nvPr/>
        </p:nvPicPr>
        <p:blipFill>
          <a:blip r:embed="rId16">
            <a:lum contrast="-60000"/>
          </a:blip>
          <a:stretch/>
        </p:blipFill>
        <p:spPr>
          <a:xfrm>
            <a:off x="6723000" y="33526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86" descr="MCj04039650000[1]"/>
          <p:cNvPicPr/>
          <p:nvPr/>
        </p:nvPicPr>
        <p:blipFill>
          <a:blip r:embed="rId17"/>
          <a:stretch/>
        </p:blipFill>
        <p:spPr>
          <a:xfrm>
            <a:off x="8325000" y="338148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3538440" y="4160880"/>
            <a:ext cx="18147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In Develop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66760" y="1042920"/>
          <a:ext cx="8675640" cy="297648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365760"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ub-Group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Room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4089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ettlement 3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288" descr="MCj04039650000[1]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3887640" y="178740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8" descr="MCj04039650000[1]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3092400" y="22352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8" descr="MCj04039650000[1]"/>
          <p:cNvPicPr/>
          <p:nvPr/>
        </p:nvPicPr>
        <p:blipFill>
          <a:blip r:embed="rId3">
            <a:lum contrast="-60000"/>
          </a:blip>
          <a:stretch/>
        </p:blipFill>
        <p:spPr>
          <a:xfrm>
            <a:off x="3095640" y="178740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88" descr="MCj04039650000[1]"/>
          <p:cNvPicPr/>
          <p:nvPr/>
        </p:nvPicPr>
        <p:blipFill>
          <a:blip r:embed="rId4">
            <a:lum contrast="-60000"/>
          </a:blip>
          <a:stretch/>
        </p:blipFill>
        <p:spPr>
          <a:xfrm>
            <a:off x="3884760" y="225756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8" descr="MCj04039650000[1]"/>
          <p:cNvPicPr/>
          <p:nvPr/>
        </p:nvPicPr>
        <p:blipFill>
          <a:blip r:embed="rId5">
            <a:lum contrast="-60000"/>
          </a:blip>
          <a:stretch/>
        </p:blipFill>
        <p:spPr>
          <a:xfrm>
            <a:off x="3094200" y="26766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8" descr="MCj04039650000[1]"/>
          <p:cNvPicPr/>
          <p:nvPr/>
        </p:nvPicPr>
        <p:blipFill>
          <a:blip r:embed="rId6">
            <a:lum contrast="-60000"/>
          </a:blip>
          <a:stretch/>
        </p:blipFill>
        <p:spPr>
          <a:xfrm>
            <a:off x="3094200" y="35812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8" descr="MCj04039650000[1]"/>
          <p:cNvPicPr/>
          <p:nvPr/>
        </p:nvPicPr>
        <p:blipFill>
          <a:blip r:embed="rId7">
            <a:lum contrast="-60000"/>
          </a:blip>
          <a:stretch/>
        </p:blipFill>
        <p:spPr>
          <a:xfrm>
            <a:off x="3884760" y="268596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88" descr="MCj04039650000[1]"/>
          <p:cNvPicPr/>
          <p:nvPr/>
        </p:nvPicPr>
        <p:blipFill>
          <a:blip r:embed="rId8">
            <a:lum contrast="-60000"/>
          </a:blip>
          <a:stretch/>
        </p:blipFill>
        <p:spPr>
          <a:xfrm>
            <a:off x="3884760" y="31338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8" descr="MCj04039650000[1]"/>
          <p:cNvPicPr/>
          <p:nvPr/>
        </p:nvPicPr>
        <p:blipFill>
          <a:blip r:embed="rId9">
            <a:lum contrast="-60000"/>
          </a:blip>
          <a:stretch/>
        </p:blipFill>
        <p:spPr>
          <a:xfrm>
            <a:off x="3884760" y="358128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8" descr="MCj04039650000[1]"/>
          <p:cNvPicPr/>
          <p:nvPr/>
        </p:nvPicPr>
        <p:blipFill>
          <a:blip r:embed="rId10">
            <a:lum contrast="-60000"/>
          </a:blip>
          <a:stretch/>
        </p:blipFill>
        <p:spPr>
          <a:xfrm>
            <a:off x="3094200" y="31338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86" descr="MCj04039650000[1]"/>
          <p:cNvPicPr/>
          <p:nvPr/>
        </p:nvPicPr>
        <p:blipFill>
          <a:blip r:embed="rId11"/>
          <a:stretch/>
        </p:blipFill>
        <p:spPr>
          <a:xfrm>
            <a:off x="6772320" y="1809720"/>
            <a:ext cx="374760" cy="376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86" descr="MCj04039650000[1]"/>
          <p:cNvPicPr/>
          <p:nvPr/>
        </p:nvPicPr>
        <p:blipFill>
          <a:blip r:embed="rId12"/>
          <a:stretch/>
        </p:blipFill>
        <p:spPr>
          <a:xfrm>
            <a:off x="4819680" y="1800360"/>
            <a:ext cx="374760" cy="376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3745080" y="5808600"/>
            <a:ext cx="1628640" cy="86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266760" y="4024440"/>
          <a:ext cx="8675640" cy="177624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428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-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/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86" descr="MCj04039650000[1]"/>
          <p:cNvPicPr/>
          <p:nvPr/>
        </p:nvPicPr>
        <p:blipFill>
          <a:blip r:embed="rId14"/>
          <a:stretch/>
        </p:blipFill>
        <p:spPr>
          <a:xfrm>
            <a:off x="3898800" y="4057560"/>
            <a:ext cx="374760" cy="376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88" descr="MCj04039650000[1]"/>
          <p:cNvPicPr/>
          <p:nvPr/>
        </p:nvPicPr>
        <p:blipFill>
          <a:blip r:embed="rId15">
            <a:lum contrast="-60000"/>
          </a:blip>
          <a:stretch/>
        </p:blipFill>
        <p:spPr>
          <a:xfrm>
            <a:off x="3094200" y="40482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8" descr="MCj04039650000[1]"/>
          <p:cNvPicPr/>
          <p:nvPr/>
        </p:nvPicPr>
        <p:blipFill>
          <a:blip r:embed="rId16">
            <a:lum contrast="-60000"/>
          </a:blip>
          <a:stretch/>
        </p:blipFill>
        <p:spPr>
          <a:xfrm>
            <a:off x="3094200" y="448632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88" descr="MCj04039650000[1]"/>
          <p:cNvPicPr/>
          <p:nvPr/>
        </p:nvPicPr>
        <p:blipFill>
          <a:blip r:embed="rId17">
            <a:lum contrast="-60000"/>
          </a:blip>
          <a:stretch/>
        </p:blipFill>
        <p:spPr>
          <a:xfrm>
            <a:off x="3094200" y="49244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8" descr="MCj04039650000[1]"/>
          <p:cNvPicPr/>
          <p:nvPr/>
        </p:nvPicPr>
        <p:blipFill>
          <a:blip r:embed="rId18">
            <a:lum contrast="-60000"/>
          </a:blip>
          <a:stretch/>
        </p:blipFill>
        <p:spPr>
          <a:xfrm>
            <a:off x="3094200" y="5381640"/>
            <a:ext cx="3873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velopment – Upcoming Cour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1517760"/>
          <a:ext cx="8561160" cy="1131840"/>
        </p:xfrm>
        <a:graphic>
          <a:graphicData uri="http://schemas.openxmlformats.org/drawingml/2006/table">
            <a:tbl>
              <a:tblPr/>
              <a:tblGrid>
                <a:gridCol w="3111480"/>
                <a:gridCol w="2922480"/>
                <a:gridCol w="2527200"/>
              </a:tblGrid>
              <a:tr h="40212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½ –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-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-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" descr="Coming Attractions"/>
          <p:cNvPicPr/>
          <p:nvPr/>
        </p:nvPicPr>
        <p:blipFill>
          <a:blip r:embed="rId1"/>
          <a:stretch/>
        </p:blipFill>
        <p:spPr>
          <a:xfrm>
            <a:off x="3257640" y="2863800"/>
            <a:ext cx="399096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76120" y="3800520"/>
          <a:ext cx="8561520" cy="2227320"/>
        </p:xfrm>
        <a:graphic>
          <a:graphicData uri="http://schemas.openxmlformats.org/drawingml/2006/table">
            <a:tbl>
              <a:tblPr/>
              <a:tblGrid>
                <a:gridCol w="3111480"/>
                <a:gridCol w="2922840"/>
                <a:gridCol w="2527200"/>
              </a:tblGrid>
              <a:tr h="40212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548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raining - System Dynam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month within the first 12 months of full Texas Nodal Market Operation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QSEs with Generation 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Load Serving Ent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TSPs and DS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18000" y="1184400"/>
            <a:ext cx="206748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iver in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" y="3463920"/>
            <a:ext cx="252792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iver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New Relea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276200"/>
            <a:ext cx="4744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RC continuing education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ourse – 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month (Austin, Dallas, Hous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host in the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will be delivered as the 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ual ERCOT Operations Training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weeks (March 2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ay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700 attendee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day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1 – (Course Introduction, Fundamentals of the Nodal Market, Day-Ahead Mark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2 – (Day-Ahead Market , Transmission Security Analysis &amp; RUC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3 – (Transmission Security Analysis &amp; RUC, Adjustment Perio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4 – (Adjustment Period , Operating Peri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5 – (Operating Period, Abnormal Emergency Op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25960" y="1521000"/>
            <a:ext cx="4081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Progress Re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99960" y="1231920"/>
          <a:ext cx="8272440" cy="4254480"/>
        </p:xfrm>
        <a:graphic>
          <a:graphicData uri="http://schemas.openxmlformats.org/drawingml/2006/table">
            <a:tbl>
              <a:tblPr/>
              <a:tblGrid>
                <a:gridCol w="1960560"/>
                <a:gridCol w="1255680"/>
                <a:gridCol w="1295640"/>
                <a:gridCol w="1261800"/>
                <a:gridCol w="1165320"/>
                <a:gridCol w="1333440"/>
              </a:tblGrid>
              <a:tr h="413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o. of Instructor Led s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assed / Attem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 Nodal 101: The Ba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Web 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Test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318/1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85/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804/2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conomics of L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68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itions to Nodal 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eb 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3/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6/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89/33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SE 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tructor 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Web 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7/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/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54/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3019320" y="5695920"/>
            <a:ext cx="3753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ILT only - No ex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 WBT – No exam – Completed reviewing 75% or more of the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Delivery – Scheduled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12760" y="1011240"/>
          <a:ext cx="8539200" cy="4508640"/>
        </p:xfrm>
        <a:graphic>
          <a:graphicData uri="http://schemas.openxmlformats.org/drawingml/2006/table">
            <a:tbl>
              <a:tblPr/>
              <a:tblGrid>
                <a:gridCol w="2828880"/>
                <a:gridCol w="5710320"/>
              </a:tblGrid>
              <a:tr h="34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CenterPoint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Energ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Housto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conomics of L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Stream Energ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Dall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4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5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Suez Energy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Housto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TBD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(Aust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2-26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of Texas (MCC Auditorium) (Austi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2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6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Point Tower (Houston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4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ant Energy (Dalla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1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 (Austin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1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2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G Energy (Houst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4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May 2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 consecutive sess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108" descr="j0355427[1]"/>
          <p:cNvPicPr/>
          <p:nvPr/>
        </p:nvPicPr>
        <p:blipFill>
          <a:blip r:embed="rId6"/>
          <a:stretch/>
        </p:blipFill>
        <p:spPr>
          <a:xfrm>
            <a:off x="4933800" y="1844640"/>
            <a:ext cx="18147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6760" y="324000"/>
            <a:ext cx="86472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aining Curriculum – Proposed add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5160" y="898560"/>
            <a:ext cx="34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160" y="4621320"/>
            <a:ext cx="347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66760" y="1009800"/>
            <a:ext cx="86472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, Outage Scheduler, 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/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 driven and task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aid after go-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spcBef>
                <a:spcPts val="499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– To be developed by 12/3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Schedule and MMS – Awaiting desig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dded to training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409" t="0" r="0" b="0"/>
          <a:stretch/>
        </p:blipFill>
        <p:spPr>
          <a:xfrm>
            <a:off x="6554880" y="1863720"/>
            <a:ext cx="16016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Nodal Training Group</dc:creator>
  <dc:description/>
  <dc:language>en-US</dc:language>
  <cp:lastModifiedBy>thailu</cp:lastModifiedBy>
  <dcterms:modified xsi:type="dcterms:W3CDTF">2007-10-22T01:30:33Z</dcterms:modified>
  <cp:revision>855</cp:revision>
  <dc:subject/>
  <dc:title>Nodal Training Template</dc:title>
</cp:coreProperties>
</file>