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F5850F7-1C55-4FF8-B65D-1D88C2BE8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B1A460-B858-4EC0-BDB7-C2B88277A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F0C8F21-1D51-4473-9216-98B182BA97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5536D87-E0FF-4DE6-9B71-9E941A98B4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3B53427-1D12-423C-90D2-DC2FD8893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8E8441-A4C6-457C-A3B5-C7B2BC87D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B2AFEB-8C05-4F4C-B421-AD52B8310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0A9667-C192-4915-BE0B-FF3A2A3BD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940D9C9-97F9-4251-962F-32812057E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D5DBDE-9D96-4849-BAF0-E72BF54F7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9996C1-8D01-4D8D-A157-044286022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FD828F-D78D-4F3D-86AE-D7C8816A6D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9A14-E586-4A21-A35B-975B5CE57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TF – Cleanup NPRR Section 7 (CRR)</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3,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50A4-EDB5-460E-B1A2-6E2B7E9A3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eanup NPRR – Section 7 (CRR)</a:t>
            </a:r>
            <a:br>
              <a:rPr sz="2800"/>
            </a:br>
            <a:r>
              <a:rPr b="0" lang="en-US" sz="2800" spc="-1" strike="noStrike">
                <a:solidFill>
                  <a:srgbClr val="ffffff"/>
                </a:solidFill>
                <a:latin typeface="Arial Black"/>
              </a:rPr>
              <a:t>Discussion</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1609200" y="3323880"/>
            <a:ext cx="6572520" cy="2771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 July 23, 2007</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sented by Beth Garza</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GP&amp;L comments on slides 4, 5, 6, 7, 9, 10</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base of first owners of CRRs </a:t>
            </a: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nitially populate a database of CRR Owners with the annual and monthly first-buyers of CRRs and first-recipients of PCRRs and MCFRI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is really needed? </a:t>
            </a:r>
            <a:r>
              <a:rPr b="1" lang="en-US" sz="2000" spc="-1" strike="noStrike">
                <a:solidFill>
                  <a:srgbClr val="ff0000"/>
                </a:solidFill>
                <a:latin typeface="Arial"/>
              </a:rPr>
              <a:t>GP&amp;L Comment: YE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8AE4842-C593-4695-BBB4-AD951AB3D1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reas Addressed with Proposed Protocol Revision</a:t>
            </a: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timeline for:</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ination (PCRRs and MCFRIs) reques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ions (PCRRs and MCFRIs) awarde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R Network Model post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ction Notice posting</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d concept of PCRR ‘release’</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d CRR Naming Convention</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ied which topology changes to include in CRR Network Models for annual and monthly auctions</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dynamic ratings language to be more general**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d several MCFRI references to FGR</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credit limit description to reflect Counter-Party **</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d dispute language for CRR auction settlement</a:t>
            </a:r>
            <a:endParaRPr b="1" lang="en-US" sz="2000" spc="-1" strike="noStrike">
              <a:solidFill>
                <a:srgbClr val="000000"/>
              </a:solidFill>
              <a:latin typeface="Arial"/>
            </a:endParaRPr>
          </a:p>
        </p:txBody>
      </p:sp>
      <p:sp>
        <p:nvSpPr>
          <p:cNvPr id="111" name=""/>
          <p:cNvSpPr/>
          <p:nvPr/>
        </p:nvSpPr>
        <p:spPr>
          <a:xfrm>
            <a:off x="7161120" y="586728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More work needed</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CD9218-5767-4C25-899B-F02687CE3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Annual Auction</a:t>
            </a:r>
            <a:endParaRPr b="0" lang="en-US" sz="2000" spc="-1" strike="noStrike">
              <a:solidFill>
                <a:srgbClr val="ffffff"/>
              </a:solidFill>
              <a:latin typeface="Arial Black"/>
            </a:endParaRPr>
          </a:p>
        </p:txBody>
      </p:sp>
      <p:pic>
        <p:nvPicPr>
          <p:cNvPr id="113" name="" descr=""/>
          <p:cNvPicPr/>
          <p:nvPr/>
        </p:nvPicPr>
        <p:blipFill>
          <a:blip r:embed="rId1"/>
          <a:stretch/>
        </p:blipFill>
        <p:spPr>
          <a:xfrm>
            <a:off x="152280" y="990720"/>
            <a:ext cx="8763120" cy="3921120"/>
          </a:xfrm>
          <a:prstGeom prst="rect">
            <a:avLst/>
          </a:prstGeom>
          <a:ln w="0">
            <a:noFill/>
          </a:ln>
        </p:spPr>
      </p:pic>
      <p:sp>
        <p:nvSpPr>
          <p:cNvPr id="3" name="PlaceHolder 2"/>
          <p:cNvSpPr>
            <a:spLocks noGrp="1"/>
          </p:cNvSpPr>
          <p:nvPr>
            <p:ph type="sldNum" idx="1"/>
          </p:nvPr>
        </p:nvSpPr>
        <p:spPr/>
        <p:txBody>
          <a:bodyPr/>
          <a:p>
            <a:fld id="{149FE27D-4755-45D5-AF7A-50BE90E17B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Annual Auction</a:t>
            </a:r>
            <a:endParaRPr b="0" lang="en-US" sz="2000" spc="-1" strike="noStrike">
              <a:solidFill>
                <a:srgbClr val="ffffff"/>
              </a:solidFill>
              <a:latin typeface="Arial Black"/>
            </a:endParaRPr>
          </a:p>
        </p:txBody>
      </p:sp>
      <p:pic>
        <p:nvPicPr>
          <p:cNvPr id="115" name="" descr=""/>
          <p:cNvPicPr/>
          <p:nvPr/>
        </p:nvPicPr>
        <p:blipFill>
          <a:blip r:embed="rId1"/>
          <a:stretch/>
        </p:blipFill>
        <p:spPr>
          <a:xfrm>
            <a:off x="152280" y="990720"/>
            <a:ext cx="8763120" cy="3978000"/>
          </a:xfrm>
          <a:prstGeom prst="rect">
            <a:avLst/>
          </a:prstGeom>
          <a:ln w="0">
            <a:noFill/>
          </a:ln>
        </p:spPr>
      </p:pic>
      <p:sp>
        <p:nvSpPr>
          <p:cNvPr id="3" name="PlaceHolder 2"/>
          <p:cNvSpPr>
            <a:spLocks noGrp="1"/>
          </p:cNvSpPr>
          <p:nvPr>
            <p:ph type="sldNum" idx="1"/>
          </p:nvPr>
        </p:nvSpPr>
        <p:spPr/>
        <p:txBody>
          <a:bodyPr/>
          <a:p>
            <a:fld id="{8241A156-D479-41BE-BDB8-B6C744AF99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Monthly Auction</a:t>
            </a:r>
            <a:endParaRPr b="0" lang="en-US" sz="2000" spc="-1" strike="noStrike">
              <a:solidFill>
                <a:srgbClr val="ffffff"/>
              </a:solidFill>
              <a:latin typeface="Arial Black"/>
            </a:endParaRPr>
          </a:p>
        </p:txBody>
      </p:sp>
      <p:pic>
        <p:nvPicPr>
          <p:cNvPr id="117" name="" descr=""/>
          <p:cNvPicPr/>
          <p:nvPr/>
        </p:nvPicPr>
        <p:blipFill>
          <a:blip r:embed="rId1"/>
          <a:stretch/>
        </p:blipFill>
        <p:spPr>
          <a:xfrm>
            <a:off x="228600" y="990720"/>
            <a:ext cx="8778960" cy="3914640"/>
          </a:xfrm>
          <a:prstGeom prst="rect">
            <a:avLst/>
          </a:prstGeom>
          <a:ln w="0">
            <a:noFill/>
          </a:ln>
        </p:spPr>
      </p:pic>
      <p:sp>
        <p:nvSpPr>
          <p:cNvPr id="3" name="PlaceHolder 2"/>
          <p:cNvSpPr>
            <a:spLocks noGrp="1"/>
          </p:cNvSpPr>
          <p:nvPr>
            <p:ph type="sldNum" idx="1"/>
          </p:nvPr>
        </p:nvSpPr>
        <p:spPr/>
        <p:txBody>
          <a:bodyPr/>
          <a:p>
            <a:fld id="{D4304140-2EB7-4053-8358-8BD610BE1C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 Monthly Auction</a:t>
            </a:r>
            <a:endParaRPr b="0" lang="en-US" sz="2000" spc="-1" strike="noStrike">
              <a:solidFill>
                <a:srgbClr val="ffffff"/>
              </a:solidFill>
              <a:latin typeface="Arial Black"/>
            </a:endParaRPr>
          </a:p>
        </p:txBody>
      </p:sp>
      <p:pic>
        <p:nvPicPr>
          <p:cNvPr id="119" name="" descr=""/>
          <p:cNvPicPr/>
          <p:nvPr/>
        </p:nvPicPr>
        <p:blipFill>
          <a:blip r:embed="rId1"/>
          <a:stretch/>
        </p:blipFill>
        <p:spPr>
          <a:xfrm>
            <a:off x="152280" y="990720"/>
            <a:ext cx="8763120" cy="3906720"/>
          </a:xfrm>
          <a:prstGeom prst="rect">
            <a:avLst/>
          </a:prstGeom>
          <a:ln w="0">
            <a:noFill/>
          </a:ln>
        </p:spPr>
      </p:pic>
      <p:sp>
        <p:nvSpPr>
          <p:cNvPr id="3" name="PlaceHolder 2"/>
          <p:cNvSpPr>
            <a:spLocks noGrp="1"/>
          </p:cNvSpPr>
          <p:nvPr>
            <p:ph type="sldNum" idx="1"/>
          </p:nvPr>
        </p:nvSpPr>
        <p:spPr/>
        <p:txBody>
          <a:bodyPr/>
          <a:p>
            <a:fld id="{74890615-8404-48BD-A8F0-45B130E3C02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for TPTF input</a:t>
            </a:r>
            <a:endParaRPr b="0" lang="en-US" sz="2000" spc="-1" strike="noStrike">
              <a:solidFill>
                <a:srgbClr val="ffffff"/>
              </a:solidFill>
              <a:latin typeface="Arial Black"/>
            </a:endParaRPr>
          </a:p>
        </p:txBody>
      </p:sp>
      <p:sp>
        <p:nvSpPr>
          <p:cNvPr id="92" name="PlaceHolder 2"/>
          <p:cNvSpPr>
            <a:spLocks noGrp="1"/>
          </p:cNvSpPr>
          <p:nvPr>
            <p:ph/>
          </p:nvPr>
        </p:nvSpPr>
        <p:spPr>
          <a:xfrm>
            <a:off x="456840" y="837720"/>
            <a:ext cx="8458200" cy="541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getting MCFRIs – WGRs or QS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ensure the 40% capacity factor limit is met by Capacity Option PCRRs in first six monthly auc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IEs are represented by another entity serving as their QSE, will they be able to offer their PCRRs into the DAM?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Net Unit Capacity for PCRR eligibilit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Operating Guides the best place to document the methodology for determining what outages to include in CRR Network Mode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of PTP Oblig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Load Zone weightings always be based on On-peak?</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s there a need for a database of first owners of CRR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D2B7E45-73AE-4493-AE86-0AE17821CB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 is getting MCFRIs – WGRs or QSEs?</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procedures for determining McCamey Flowgate Rights (MCFRIs) and allocating them to QSEs representing wind-powered Generation Resources (WGR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CFRIs are a type of FGR that must be allocated only to WGRs in the McCamey Area,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shall identify WGRs eligible for MCFRI allocation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 may allocate MCFRIs only to WGRs in the McCamey Area.</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Rs, including MCFRIs, will be awarded to CRR Account Hold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s and WGRs may each have an associated CRR Account Holde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7D7CC7B-F7CA-4199-B764-2A089CF053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apacity Option PCRRs in first six monthly auctions</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pacity option – The eligible NOIE may nominate up to 100% of the lesser of the net unit capacity or contractual amount for those Resources at a capacity factor no greater than 40% over each calendar year.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R team not clear how to enforce an annual capacity factor limit when there will be at least six monthly CRR markets.</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1</a:t>
            </a:r>
            <a:r>
              <a:rPr b="1" lang="en-US" sz="2000" spc="-1" strike="noStrike">
                <a:solidFill>
                  <a:srgbClr val="000000"/>
                </a:solidFill>
                <a:latin typeface="Arial"/>
              </a:rPr>
              <a:t>:  Configure the system to enforce a 40% capacity factor limit in each monthly market</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2</a:t>
            </a:r>
            <a:r>
              <a:rPr b="1" lang="en-US" sz="2000" spc="-1" strike="noStrike">
                <a:solidFill>
                  <a:srgbClr val="000000"/>
                </a:solidFill>
                <a:latin typeface="Arial"/>
              </a:rPr>
              <a:t>:  Track nominations manually and work with NOIEs on a case by case basis to limit their nominations so they don’t exceed 40% capacity factor for the period prior to the first annual nomination process. </a:t>
            </a:r>
            <a:r>
              <a:rPr b="1" lang="en-US" sz="2000" spc="-1" strike="noStrike">
                <a:solidFill>
                  <a:srgbClr val="ff0000"/>
                </a:solidFill>
                <a:latin typeface="Arial"/>
              </a:rPr>
              <a:t>GP&amp;L Comment: Option 2 is the proper option to selec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63F4DC7-DE26-40CD-8149-8C8F790642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PCRR offers into DAM</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NOIEs to receive PCRRs they will have to register as CRR Account Holder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IEs also have the ability to offer their PCRRs into the DAM and be settled at Real Time pric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in the DAM are required to be QS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IEs are represented by another entity serving as their QSE, will they be able to offer their PCRRs into the DAM? </a:t>
            </a:r>
            <a:r>
              <a:rPr b="1" lang="en-US" sz="2000" spc="-1" strike="noStrike">
                <a:solidFill>
                  <a:srgbClr val="ff0000"/>
                </a:solidFill>
                <a:latin typeface="Arial"/>
              </a:rPr>
              <a:t>GP&amp;L Comment: The answer is YES as long as the “they” referred to in this bullet is an entity that is a QSE and is serving as the NOIE’s QSE</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5CAE550-690F-4466-9C2D-40E35346FA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finition of Net Unit Capacity for PCRR eligibility</a:t>
            </a:r>
            <a:endParaRPr b="0" lang="en-US" sz="20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ch eligible NOIE may nominate and ERCOT shall allocate to that NOIE as so nominated, subject to the limitation of paragraph (a) above, PCRRs up to 100% of the </a:t>
            </a:r>
            <a:r>
              <a:rPr b="1" i="1" lang="en-US" sz="2000" spc="-1" strike="noStrike">
                <a:solidFill>
                  <a:srgbClr val="ff0000"/>
                </a:solidFill>
                <a:latin typeface="Arial"/>
              </a:rPr>
              <a:t>net unit capacity</a:t>
            </a:r>
            <a:r>
              <a:rPr b="1" i="1" lang="en-US" sz="2000" spc="-1" strike="noStrike">
                <a:solidFill>
                  <a:srgbClr val="000000"/>
                </a:solidFill>
                <a:latin typeface="Arial"/>
              </a:rPr>
              <a:t> (or contractual amount) for each eligible Resourc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R team not clear what source to use for net unit capacity</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1</a:t>
            </a:r>
            <a:r>
              <a:rPr b="1" lang="en-US" sz="2000" spc="-1" strike="noStrike">
                <a:solidFill>
                  <a:srgbClr val="000000"/>
                </a:solidFill>
                <a:latin typeface="Arial"/>
              </a:rPr>
              <a:t>: NOIE provides the net unit capacity value at the time they submit their proof of PCRR eligibility.   These values would be checked against available net dependable capacity info on file.</a:t>
            </a:r>
            <a:r>
              <a:rPr b="1" lang="en-US" sz="2000" spc="-1" strike="noStrike">
                <a:solidFill>
                  <a:srgbClr val="ff0000"/>
                </a:solidFill>
                <a:latin typeface="Arial"/>
              </a:rPr>
              <a:t>GP&amp;L comment: This is the proper option to select.</a:t>
            </a:r>
            <a:endParaRPr b="1"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tion 2</a:t>
            </a:r>
            <a:r>
              <a:rPr b="1" lang="en-US" sz="2000" spc="-1" strike="noStrike">
                <a:solidFill>
                  <a:srgbClr val="000000"/>
                </a:solidFill>
                <a:latin typeface="Arial"/>
              </a:rPr>
              <a:t>: If net unit capacity means Net Dependable Capability, should PCRR eligibility be updated with every performance tes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23F20EB-3ED3-4A3E-81E8-99925DFB1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ages to include in CRR Network Model</a:t>
            </a: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COT’s criteria for determining if an Outage should be in the CRR Network Model shall be in accordance with these Protocols and described in the ERCOT Operating Guid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he process really belong in the Operating Guides or could it be shared via a procedure document? </a:t>
            </a:r>
            <a:r>
              <a:rPr b="1" lang="en-US" sz="2000" spc="-1" strike="noStrike">
                <a:solidFill>
                  <a:srgbClr val="ff0000"/>
                </a:solidFill>
                <a:latin typeface="Arial"/>
              </a:rPr>
              <a:t>GP&amp;L comment: Recommend that there be a separate procedure document that is referenced from the Operating Guide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C6E52D8-BFE1-43FF-96C6-83A5AFD6E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vailability of PTP Obligation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TP Obligations in one-month strips for one-month terms until the ERCOT Board approves the offering of PTP Obligations for specified source Settlement Points and sink Settlement Points for terms longer than one month; and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his language clearly convey that PTP Obligations will be available ONLY for the first month of an Annual auction?</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BB5C92C-CAA5-44E3-9375-609E067F30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ould Load Zone weightings always be based on On-peak?</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distribute injections and withdrawals to Electrical Buses in Load Zones,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planning cases (for the same period) for monthly CRR Auctions (or for the monthly models used in an annual CRR Auction).  If monthly planning cases do not exist, ERCOT shall use the Load-weighted distribution factors for </a:t>
            </a:r>
            <a:r>
              <a:rPr b="1" i="1" lang="en-US" sz="2000" spc="-1" strike="noStrike">
                <a:solidFill>
                  <a:srgbClr val="ff0000"/>
                </a:solidFill>
                <a:latin typeface="Arial"/>
              </a:rPr>
              <a:t>On-Peak Hours</a:t>
            </a:r>
            <a:r>
              <a:rPr b="1" i="1" lang="en-US" sz="2000" spc="-1" strike="noStrike">
                <a:solidFill>
                  <a:srgbClr val="000000"/>
                </a:solidFill>
                <a:latin typeface="Arial"/>
              </a:rPr>
              <a:t> in each Load Zone from the appropriate seasonal planning case.</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we use the same on-peak distribution even if data might be available for weekends and off-peak from other sources?</a:t>
            </a:r>
            <a:r>
              <a:rPr b="1" lang="en-US" sz="2000" spc="-1" strike="noStrike">
                <a:solidFill>
                  <a:srgbClr val="ff0000"/>
                </a:solidFill>
                <a:latin typeface="Arial"/>
              </a:rPr>
              <a:t> GP&amp;L Comment: Should use as accurate data as possible so if accurate data is available for weekends and off-peak, then use that set of data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AEACF5A-1D0A-415A-A456-7437FB6AF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09:42Z</dcterms:created>
  <dc:creator/>
  <dc:description/>
  <dc:language>en-US</dc:language>
  <cp:lastModifiedBy/>
  <dcterms:modified xsi:type="dcterms:W3CDTF">2007-08-06T22:48:28Z</dcterms:modified>
  <cp:revision>15</cp:revision>
  <dc:subject/>
  <dc:title>Cleanup NPRR – Section 7 (CRR) Discussion Issues</dc:title>
</cp:coreProperties>
</file>