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D2EE-4124-4273-9BBF-8BD8AACF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E6D3-6BE7-4DE3-BF12-A187D56D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1853-9CC6-4B7E-B687-F3C8D382F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1BA4B-D210-4DD2-A944-33F247E63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321B3-311A-47E8-998A-557253F2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AFE09-1F11-444F-9C15-9E177CB4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7367-2632-46AA-9135-483369D8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DCE7-24E1-4C6C-9BE6-506D4A7B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B64F4-32AE-45BE-9378-C475FAA6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C678-A11C-45E3-B019-B9C62BA1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F35F2-3DAF-414F-82A0-2089F3C9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5EFC-7B8D-474C-A3AE-1D4A8D02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C3AF-9CE4-4278-A4FD-EC21BD66F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A520-CBA7-407D-BF84-A83B24D5E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2333160" y="5466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28958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MO Update to P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343240" y="358092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oy Anderson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gram Management Offic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ctober 18, 2007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8 Project Prioritization and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val Status and Funding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Project Develop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that have been implemented – Sept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Benefit Analysis Review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ing Principles” up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B6E7-364B-4E17-A6BF-479773209D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3520" y="4214880"/>
            <a:ext cx="8076960" cy="121896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Prioritization Approval Stat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PRS on 6/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TAC on 6/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ved by the Board of Directors on 9/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300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 Project Funding Stat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2008 project budget submis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27.5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Z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  5.3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d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32.8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 on 7/1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ion of projects to 200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$5.3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2008 project budg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$27.5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vised To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03920" y="5156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3224160"/>
            <a:ext cx="8076960" cy="990720"/>
          </a:xfrm>
          <a:prstGeom prst="rect">
            <a:avLst/>
          </a:prstGeom>
          <a:solidFill>
            <a:srgbClr val="ffff99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9614-7265-4527-B764-D212E89960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MO Update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 Project Implemen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g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 market-facing project implementations to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BA Review Bo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eting held on 10/4/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bjective: Review/revise “Guidelines for Project Prioritiz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vised document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114300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5732-A275-4904-9E91-32F38CC0BE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Troy Anderson</cp:lastModifiedBy>
  <dcterms:modified xsi:type="dcterms:W3CDTF">2007-10-15T21:59:42Z</dcterms:modified>
  <cp:revision>118</cp:revision>
  <dc:subject/>
  <dc:title>Instructions</dc:title>
</cp:coreProperties>
</file>