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9BAE-F783-494A-B71C-884888E75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tail Electric Market in Texas is facing a period of enormou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ment of Advanced Metering is one of those changes, but is also the facilitator for many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rojects and pilots are currently under way and are at various stages:</a:t>
            </a:r>
            <a:endParaRPr b="0" lang="en-US" sz="12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vanced Metering Deployment</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mand Response</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of Use</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all Renewable Generation</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filing</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92F0C-1334-4CDA-BD30-6DDDC9F4B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403FA-E24D-4527-8B79-3ECE2EA33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6915E-2900-4B04-BAB8-E09F885F5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1C8A3-52B6-4B92-B618-F0C5F4670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ED286-BD22-4E70-AB27-3B84A417A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3F506-3191-47A8-9FD7-9D8272C88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5D42B-4E59-49AD-899B-43171DE47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87C2B-2CCF-42EB-92AD-97F606ADD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824E3-A6F3-4743-AA7B-767EB0B83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F5E14-55E0-4C12-BDAE-84CCF0A16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8BF13-D0D0-4D28-AE34-7884C618B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8022F-2743-4C5D-A609-6C49952B3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71988-060F-4B1D-95D6-8AACD3BE4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47935-4D24-47CB-8960-707846571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33D28-2C92-42D0-8F32-4A334D2E6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5A55F-94AC-49F1-A46C-1A305CB86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F8AF6-3513-48EB-8253-73DF0AEEB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BF7DF-CFF1-4974-9549-3C67492FD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351A6-404E-4390-BBED-459271D5A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E540E-4DE7-412D-B537-1D9BA8A02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00658-769D-40D4-8633-59B7F43C2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BAC2-37AE-4FBE-BE10-ED1159BD7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877C-C354-4362-9EA8-EC009286E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29840-D70B-4026-B2B1-3AD3C72E6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9DAA-04CE-46E9-AC2E-25AA58E3BEA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2A66-82A0-4329-A0E9-8F75C17501A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MS Update to TAC</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5,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sue #1: Scope Options</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roject scope as 50kW and less for this task.</a:t>
            </a:r>
            <a:endParaRPr b="0" lang="en-US" sz="2600" spc="-1" strike="noStrike">
              <a:solidFill>
                <a:srgbClr val="000000"/>
              </a:solidFill>
              <a:latin typeface="Arial"/>
            </a:endParaRPr>
          </a:p>
          <a:p>
            <a:pPr lvl="1" marL="839880" indent="-4953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s:</a:t>
            </a:r>
            <a:endParaRPr b="0" lang="en-US" sz="2200" spc="-1" strike="noStrike">
              <a:solidFill>
                <a:srgbClr val="000000"/>
              </a:solidFill>
              <a:latin typeface="Arial"/>
            </a:endParaRPr>
          </a:p>
          <a:p>
            <a:pPr lvl="2" marL="1090440" indent="-41904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scope to the activity that initiated discussion, the demonstration of a significant increase in installations of solar panel arrays on residential and small commercial</a:t>
            </a:r>
            <a:endParaRPr b="0" lang="en-US" sz="2000" spc="-1" strike="noStrike">
              <a:solidFill>
                <a:srgbClr val="000000"/>
              </a:solidFill>
              <a:latin typeface="Arial"/>
            </a:endParaRPr>
          </a:p>
          <a:p>
            <a:pPr lvl="2" marL="1090440" indent="-41904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s require TDSP to provide data for onsite generation in excess of 50kW. Processes in place.</a:t>
            </a:r>
            <a:endParaRPr b="0" lang="en-US" sz="2000" spc="-1" strike="noStrike">
              <a:solidFill>
                <a:srgbClr val="000000"/>
              </a:solidFill>
              <a:latin typeface="Arial"/>
            </a:endParaRPr>
          </a:p>
          <a:p>
            <a:pPr lvl="2" marL="1090440" indent="-41904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processes to support less than 50kW would support communication for less than 2000kW</a:t>
            </a:r>
            <a:endParaRPr b="0" lang="en-US" sz="2000" spc="-1" strike="noStrike">
              <a:solidFill>
                <a:srgbClr val="000000"/>
              </a:solidFill>
              <a:latin typeface="Arial"/>
            </a:endParaRPr>
          </a:p>
          <a:p>
            <a:pPr lvl="1" marL="839880" indent="-4953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 None</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sue #2: Wholesale Settlement Requirement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B 3693 has requirements for wholesale settlement related to surplus energy from school buildings solar electric generation panel (Sec. 39.914) and distributed renewable generation  (Sec. 39.916)</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long term, HB 3693 requires ERCOT to develop procedures to account for this energ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oup feels that generation above 50kW would currently follow the existing market processes for inclusion in settlements and have focused discussions on &lt;50kW</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MW requested review by COP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152" name=""/>
          <p:cNvGraphicFramePr/>
          <p:nvPr/>
        </p:nvGraphicFramePr>
        <p:xfrm>
          <a:off x="1143000" y="5562720"/>
          <a:ext cx="914400" cy="714240"/>
        </p:xfrm>
        <a:graphic>
          <a:graphicData uri="http://schemas.openxmlformats.org/presentationml/2006/ole">
            <p:oleObj progId="Word.Document.12" r:id="rId1" spid="">
              <p:embed/>
              <p:pic>
                <p:nvPicPr>
                  <p:cNvPr id="153" name="" descr=""/>
                  <p:cNvPicPr/>
                  <p:nvPr/>
                </p:nvPicPr>
                <p:blipFill>
                  <a:blip r:embed="rId2"/>
                  <a:stretch/>
                </p:blipFill>
                <p:spPr>
                  <a:xfrm>
                    <a:off x="1143000" y="55627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55"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 3: TDSP Communication of Data for Small Renewable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MW requested TX SET to provide short term and long term options and recommendations on how to facilitate sending in generation value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was consideration of short-term process (what is available today) to support delivery of inflow and outflow values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XSET short term recommendation was to use the following:</a:t>
            </a:r>
            <a:endParaRPr b="0" lang="en-US" sz="20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7_03 Monthly Usage Transaction</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JH (Meter Role) Segment </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Ignore Flag</a:t>
            </a:r>
            <a:endParaRPr b="0" lang="en-US" sz="18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a:t>
            </a:r>
            <a:endParaRPr b="0" lang="en-US" sz="20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mmodated information delivery without impact to ERCOT</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established, but optional, process defined by transaction guide</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meters used to gather readings not an impact</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sumption did not contribute to the summarized tot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DSP Communication of Meter Data (cont.)</a:t>
            </a:r>
            <a:endParaRPr b="0" lang="en-US" sz="25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 to Short term</a:t>
            </a:r>
            <a:endParaRPr b="0" lang="en-US" sz="2100" spc="-1" strike="noStrike">
              <a:solidFill>
                <a:srgbClr val="000000"/>
              </a:solidFill>
              <a:latin typeface="Arial"/>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ce the process was not a requirement for all MP processes, only one TDSP and one CR were prepared for the “Ignore Flag”</a:t>
            </a:r>
            <a:endParaRPr b="0" lang="en-US" sz="1900" spc="-1" strike="noStrike">
              <a:solidFill>
                <a:srgbClr val="000000"/>
              </a:solidFill>
              <a:latin typeface="Arial"/>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d system changes for other MP’s</a:t>
            </a:r>
            <a:endParaRPr b="0" lang="en-US" sz="19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effort is being made by a TDSP and a CR to exercise short term option.  </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ternative option is to use email</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MW submitted to RMS for Consideration </a:t>
            </a:r>
            <a:endParaRPr b="0" lang="en-US" sz="21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s determined by PUC Staff that even though HB 3693 was effective September 1, 2007, the TDSP had no obligation to provide separate values until rulemaking had been accomplished to support law</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762120" indent="-76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4: TDSP Tariff Questions</a:t>
            </a:r>
            <a:endParaRPr b="0" lang="en-US" sz="3000" spc="-1" strike="noStrike">
              <a:solidFill>
                <a:srgbClr val="000000"/>
              </a:solidFill>
              <a:latin typeface="Arial"/>
            </a:endParaRPr>
          </a:p>
          <a:p>
            <a:pPr lvl="1" marL="1004760" indent="-660240">
              <a:spcBef>
                <a:spcPts val="649"/>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uld there be penalties if grid connected renewable generation is installed at a location and the TDSP has not been notified?  </a:t>
            </a:r>
            <a:endParaRPr b="0" lang="en-US" sz="2600" spc="-1" strike="noStrike">
              <a:solidFill>
                <a:srgbClr val="000000"/>
              </a:solidFill>
              <a:latin typeface="Arial"/>
            </a:endParaRPr>
          </a:p>
          <a:p>
            <a:pPr lvl="2" marL="1230480" indent="-55908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he only recourse for the TDSP to disconnect due to safety concerns and the fact there is no interconnection agreement?</a:t>
            </a:r>
            <a:endParaRPr b="0" lang="en-US" sz="2200" spc="-1" strike="noStrike">
              <a:solidFill>
                <a:srgbClr val="000000"/>
              </a:solidFill>
              <a:latin typeface="Arial"/>
            </a:endParaRPr>
          </a:p>
          <a:p>
            <a:pPr lvl="1" marL="1004760" indent="-660240">
              <a:spcBef>
                <a:spcPts val="624"/>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ter Value that Wires Charges Based On</a:t>
            </a:r>
            <a:endParaRPr b="0" lang="en-US" sz="2500" spc="-1" strike="noStrike">
              <a:solidFill>
                <a:srgbClr val="000000"/>
              </a:solidFill>
              <a:latin typeface="Arial"/>
            </a:endParaRPr>
          </a:p>
          <a:p>
            <a:pPr lvl="2" marL="1230480" indent="-55908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uld the TDSP bill for all power delivered or on the net flow for the billing period?</a:t>
            </a:r>
            <a:endParaRPr b="0" lang="en-US" sz="2200" spc="-1" strike="noStrike">
              <a:solidFill>
                <a:srgbClr val="000000"/>
              </a:solidFill>
              <a:latin typeface="Arial"/>
            </a:endParaRPr>
          </a:p>
          <a:p>
            <a:pPr lvl="1" marL="10047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0047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0047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2304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ons to Issue #4 TDSP Tariff Questions</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 TDSP meter to roll backward</a:t>
            </a:r>
            <a:endParaRPr b="0" lang="en-US" sz="2600" spc="-1" strike="noStrike">
              <a:solidFill>
                <a:srgbClr val="000000"/>
              </a:solidFill>
              <a:latin typeface="Arial"/>
            </a:endParaRPr>
          </a:p>
          <a:p>
            <a:pPr lvl="2" marL="10904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812f"/>
                </a:solidFill>
                <a:latin typeface="Arial"/>
              </a:rPr>
              <a:t>Limits TDSP recovery but requires no change to market processes (unless the meter records negative usage). </a:t>
            </a:r>
            <a:endParaRPr b="0" lang="en-US" sz="18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ll on energy delivered and provide data on generation to CR/End-use Customer</a:t>
            </a:r>
            <a:endParaRPr b="0" lang="en-US" sz="2600" spc="-1" strike="noStrike">
              <a:solidFill>
                <a:srgbClr val="000000"/>
              </a:solidFill>
              <a:latin typeface="Arial"/>
            </a:endParaRPr>
          </a:p>
          <a:p>
            <a:pPr lvl="2" marL="10904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812f"/>
                </a:solidFill>
                <a:latin typeface="Arial"/>
              </a:rPr>
              <a:t>Requires MP system changes and seems to align with intent of HB3693.  Significant cost to support.</a:t>
            </a:r>
            <a:endParaRPr b="0" lang="en-US" sz="18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generator registered with ERCOT, the law allows MCPE pricing option</a:t>
            </a:r>
            <a:endParaRPr b="0" lang="en-US" sz="2600" spc="-1" strike="noStrike">
              <a:solidFill>
                <a:srgbClr val="000000"/>
              </a:solidFill>
              <a:latin typeface="Arial"/>
            </a:endParaRPr>
          </a:p>
          <a:p>
            <a:pPr lvl="1" marL="839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4 TDSP Tariff Questions (co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consensus in interpretation of HB 3693 as it relates to communication of data or interpretation of “net meter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incremental metering costs associated with onsite genera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5: </a:t>
            </a:r>
            <a:r>
              <a:rPr b="0" lang="en-US" sz="2900" spc="-1" strike="noStrike">
                <a:solidFill>
                  <a:srgbClr val="000000"/>
                </a:solidFill>
                <a:latin typeface="Arial"/>
              </a:rPr>
              <a:t>Consistency of 25.211; 25.212; 25.242 with HB3693</a:t>
            </a:r>
            <a:endParaRPr b="0" lang="en-US" sz="29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W review HB 3693 and make recommendations for change to Staff.</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est Staff to review Substantive Rules as they relate to HB 3693</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 that Staff would be performing review and await their deci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6: Does the </a:t>
            </a:r>
            <a:r>
              <a:rPr b="0" lang="en-US" sz="2900" spc="-1" strike="noStrike">
                <a:solidFill>
                  <a:srgbClr val="000000"/>
                </a:solidFill>
                <a:latin typeface="Arial"/>
              </a:rPr>
              <a:t>Output Value of Generation need to be measured for evaluation of energy efficiency programs for the PUCT?  If so, who would be responsible for measuring and reporting the information?</a:t>
            </a:r>
            <a:endParaRPr b="0" lang="en-US" sz="29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lated to issues #4 and #5 and whether HB3693 requires the TDSP to stop “netting” the load and generation over the “monthly interval”?</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consensus among Market Participant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sue #7: Does the deployment of small renewable generation on distribution feeders raise any concerns from a grid reliability or operations perspectiv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there concerns about voltage support service responsibilities of the DSP? (Nodal Protocols Sec.3)</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there concerns when the aggregate generation on a distribution feeder affects the circuit flows for a TDSP?</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to ROS on 9/13. ROS recommended DSP to review processes to ensure T &amp; D systems integr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MS Activity Summary</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8 Test Flight Schedul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on TAC directive relating to identifying issues with net metering and small renewable gener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COT Service Level Agreement Upd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8: Is there a </a:t>
            </a:r>
            <a:r>
              <a:rPr b="0" lang="en-US" sz="2900" spc="-1" strike="noStrike">
                <a:solidFill>
                  <a:srgbClr val="000000"/>
                </a:solidFill>
                <a:latin typeface="Arial"/>
              </a:rPr>
              <a:t>Wholesale Component for Purchase of Small Renewable Energy?</a:t>
            </a:r>
            <a:endParaRPr b="0" lang="en-US" sz="29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should the market relationships for settlements of Small Renewable Generation be?</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what threshold should a QSE be scheduling generations?  </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re there other relationships that need to be defined?</a:t>
            </a:r>
            <a:endParaRPr b="0" lang="en-US" sz="2500" spc="-1" strike="noStrike">
              <a:solidFill>
                <a:srgbClr val="000000"/>
              </a:solidFill>
              <a:latin typeface="Arial"/>
            </a:endParaRPr>
          </a:p>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MW: Issue fits within scope of WMS but could be determined by settlement process defini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 9: Settlement/Metering Options-What are REP’s looking fo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endency on issues 2, 4 and 5 relating to settlement, TDSP tariff understanding and metering data requirem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 10 : </a:t>
            </a:r>
            <a:r>
              <a:rPr b="0" lang="en-US" sz="2800" spc="-1" strike="noStrike">
                <a:solidFill>
                  <a:srgbClr val="000000"/>
                </a:solidFill>
                <a:latin typeface="Arial"/>
              </a:rPr>
              <a:t>Protocols 16.5 Registration of Generation Resources; 10.2.2 TDSP Metered Entities; and, Operating Guides Sec. 3.1.4 Power Generation Review</a:t>
            </a:r>
            <a:endParaRPr b="0" lang="en-US" sz="28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pendent upon resolution to issue #2 defining settlement process</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s the impact from small renewable generation contemplated when developing the Protocols and Operating Guid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11: Review of TDSP guidelines for interconnection of distributed generation.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DSP’s have interconnection processes defined in tariffs. TDSP’s were asked to review and return to next RM Workshop to discuss and inform other Market Participants of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 12: How is REP notified when Customer is connecting generatio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shop has not fully vetted REP question and documented the agreed upon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600200" y="1143000"/>
            <a:ext cx="5486400" cy="4952880"/>
          </a:xfrm>
          <a:prstGeom prst="rect">
            <a:avLst/>
          </a:prstGeom>
          <a:ln w="0">
            <a:noFill/>
          </a:ln>
        </p:spPr>
      </p:pic>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Questions?</a:t>
            </a:r>
            <a:endParaRPr b="0" lang="en-US" sz="4200" spc="-1" strike="noStrike">
              <a:solidFill>
                <a:srgbClr val="006633"/>
              </a:solidFill>
              <a:latin typeface="Garamond"/>
            </a:endParaRPr>
          </a:p>
        </p:txBody>
      </p:sp>
      <p:pic>
        <p:nvPicPr>
          <p:cNvPr id="182" name="" descr=""/>
          <p:cNvPicPr/>
          <p:nvPr/>
        </p:nvPicPr>
        <p:blipFill>
          <a:blip r:embed="rId2"/>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tail Market 2008 Test Flight Schedule</a:t>
            </a:r>
            <a:br>
              <a:rPr sz="3800"/>
            </a:br>
            <a:endParaRPr b="0" lang="en-US" sz="3800" spc="-1" strike="noStrike">
              <a:solidFill>
                <a:srgbClr val="006633"/>
              </a:solidFill>
              <a:latin typeface="Garamond"/>
            </a:endParaRPr>
          </a:p>
        </p:txBody>
      </p:sp>
      <p:sp>
        <p:nvSpPr>
          <p:cNvPr id="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S unanimous approval to schedule 3 Test Flights for 2008 versus the 4 Test Flights per year the market and ERCOT have supported for last 5 years.  Does not inhibit ad hoc testing between MP’s. (</a:t>
            </a:r>
            <a:r>
              <a:rPr b="0" lang="en-US" sz="2000" spc="-1" strike="noStrike">
                <a:solidFill>
                  <a:srgbClr val="000000"/>
                </a:solidFill>
                <a:latin typeface="Arial"/>
              </a:rPr>
              <a:t>e.g. when CR changes Bank</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8 Test Flight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bruar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n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tober</a:t>
            </a:r>
            <a:endParaRPr b="0" lang="en-US" sz="22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ff0000"/>
                </a:solidFill>
                <a:latin typeface="Arial"/>
              </a:rPr>
              <a:t>The testing schedule may change if there are TX SET changes or version upgra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Update on TAC directive relating to identifying issues with net metering and small renewable generation</a:t>
            </a:r>
            <a:endParaRPr b="0" lang="en-US" sz="3200" spc="-1" strike="noStrike">
              <a:solidFill>
                <a:srgbClr val="006633"/>
              </a:solidFill>
              <a:latin typeface="Garamond"/>
            </a:endParaRPr>
          </a:p>
        </p:txBody>
      </p:sp>
      <p:sp>
        <p:nvSpPr>
          <p:cNvPr id="1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ch 30, 2007 RMS reported to TAC that a broad range of issues were surfacing related to renewable generation. At the May 3, 2007 TAC Leadership meeting, the action t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812f"/>
                </a:solidFill>
                <a:latin typeface="Arial"/>
              </a:rPr>
              <a:t>Identify and Elevate the issues related to net metering and small renewable distributed gener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Update on TAC directive relating to identifying issues with net metering and small renewable generation</a:t>
            </a:r>
            <a:endParaRPr b="0" lang="en-US" sz="3200" spc="-1" strike="noStrike">
              <a:solidFill>
                <a:srgbClr val="006633"/>
              </a:solidFill>
              <a:latin typeface="Garamond"/>
            </a:endParaRPr>
          </a:p>
        </p:txBody>
      </p:sp>
      <p:sp>
        <p:nvSpPr>
          <p:cNvPr id="102"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Transformation</a:t>
            </a:r>
            <a:endParaRPr b="0" lang="en-US" sz="2800" spc="-1" strike="noStrike">
              <a:solidFill>
                <a:srgbClr val="000000"/>
              </a:solidFill>
              <a:latin typeface="Arial"/>
            </a:endParaRPr>
          </a:p>
          <a:p>
            <a:pPr lvl="1" marL="743040" indent="-285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tail Electric Market in Texas is facing a period of enormous change.</a:t>
            </a:r>
            <a:endParaRPr b="0" lang="en-US" sz="2400" spc="-1" strike="noStrike">
              <a:solidFill>
                <a:srgbClr val="000000"/>
              </a:solidFill>
              <a:latin typeface="Arial"/>
            </a:endParaRPr>
          </a:p>
          <a:p>
            <a:pPr lvl="1" marL="743040" indent="-285840">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rojects and pilots are currently under way and are at various stages</a:t>
            </a:r>
            <a:r>
              <a:rPr b="0" lang="en-US" sz="2100" spc="-1" strike="noStrike">
                <a:solidFill>
                  <a:srgbClr val="000000"/>
                </a:solidFill>
                <a:latin typeface="Arial"/>
              </a:rPr>
              <a:t>:</a:t>
            </a:r>
            <a:endParaRPr b="0" lang="en-US" sz="21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Metering Deployment</a:t>
            </a:r>
            <a:endParaRPr b="0" lang="en-US" sz="20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Response/Profiling</a:t>
            </a:r>
            <a:endParaRPr b="0" lang="en-US" sz="20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of Use</a:t>
            </a:r>
            <a:endParaRPr b="0" lang="en-US" sz="20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enewable Generation</a:t>
            </a:r>
            <a:endParaRPr b="0" lang="en-US" sz="20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Update on TAC directive relating to identifying issues with net metering and small renewable generation</a:t>
            </a:r>
            <a:endParaRPr b="0" lang="en-US" sz="3200" spc="-1" strike="noStrike">
              <a:solidFill>
                <a:srgbClr val="006633"/>
              </a:solidFill>
              <a:latin typeface="Garamond"/>
            </a:endParaRPr>
          </a:p>
        </p:txBody>
      </p:sp>
      <p:sp>
        <p:nvSpPr>
          <p:cNvPr id="104" name="PlaceHolder 2"/>
          <p:cNvSpPr>
            <a:spLocks noGrp="1"/>
          </p:cNvSpPr>
          <p:nvPr>
            <p:ph/>
          </p:nvPr>
        </p:nvSpPr>
        <p:spPr>
          <a:xfrm>
            <a:off x="457200" y="1980720"/>
            <a:ext cx="8229600" cy="4149720"/>
          </a:xfrm>
          <a:prstGeom prst="rect">
            <a:avLst/>
          </a:prstGeom>
          <a:noFill/>
          <a:ln w="0">
            <a:noFill/>
          </a:ln>
        </p:spPr>
        <p:txBody>
          <a:bodyPr lIns="90000" rIns="90000" tIns="46800" bIns="46800" anchor="t">
            <a:normAutofit fontScale="99000"/>
          </a:bodyPr>
          <a:p>
            <a:pPr marL="339480" indent="-3394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will Market Transformation require?</a:t>
            </a:r>
            <a:endParaRPr b="0" lang="en-US" sz="21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tive Rule Change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rotocol / Market Guide Revision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ystem Change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U and REP System Change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Transactions / Modified Transaction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Business Processes</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ata Transport Mechanisms</a:t>
            </a:r>
            <a:endParaRPr b="0" lang="en-US" sz="18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will Market Transformation be managed?</a:t>
            </a:r>
            <a:endParaRPr b="0" lang="en-US" sz="21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Metering Working Group tasked as umbrella for Advanced Metering</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among ERCOT Subcommittees and Working Groups will be essential</a:t>
            </a:r>
            <a:endParaRPr b="0" lang="en-US" sz="1800" spc="-1" strike="noStrike">
              <a:solidFill>
                <a:srgbClr val="000000"/>
              </a:solidFill>
              <a:latin typeface="Arial"/>
            </a:endParaRPr>
          </a:p>
          <a:p>
            <a:pPr lvl="2" marL="1011960" indent="-3474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 Leadership will be key</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895480" y="1523880"/>
            <a:ext cx="3353040" cy="10670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anced Metering Deploy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895480" y="2743200"/>
            <a:ext cx="990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rtal</a:t>
            </a:r>
            <a:endParaRPr b="0" lang="en-US" sz="1400" spc="-1" strike="noStrike">
              <a:solidFill>
                <a:srgbClr val="000000"/>
              </a:solidFill>
              <a:latin typeface="Arial"/>
            </a:endParaRPr>
          </a:p>
        </p:txBody>
      </p:sp>
      <p:sp>
        <p:nvSpPr>
          <p:cNvPr id="107" name=""/>
          <p:cNvSpPr/>
          <p:nvPr/>
        </p:nvSpPr>
        <p:spPr>
          <a:xfrm>
            <a:off x="4114800" y="2743200"/>
            <a:ext cx="91440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to CI/CO</a:t>
            </a:r>
            <a:endParaRPr b="0" lang="en-US" sz="1400" spc="-1" strike="noStrike">
              <a:solidFill>
                <a:srgbClr val="000000"/>
              </a:solidFill>
              <a:latin typeface="Arial"/>
            </a:endParaRPr>
          </a:p>
        </p:txBody>
      </p:sp>
      <p:sp>
        <p:nvSpPr>
          <p:cNvPr id="108" name=""/>
          <p:cNvSpPr/>
          <p:nvPr/>
        </p:nvSpPr>
        <p:spPr>
          <a:xfrm>
            <a:off x="5334120" y="2743200"/>
            <a:ext cx="91440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ter Data</a:t>
            </a:r>
            <a:endParaRPr b="0" lang="en-US" sz="1400" spc="-1" strike="noStrike">
              <a:solidFill>
                <a:srgbClr val="000000"/>
              </a:solidFill>
              <a:latin typeface="Arial"/>
            </a:endParaRPr>
          </a:p>
        </p:txBody>
      </p:sp>
      <p:sp>
        <p:nvSpPr>
          <p:cNvPr id="109" name=""/>
          <p:cNvSpPr/>
          <p:nvPr/>
        </p:nvSpPr>
        <p:spPr>
          <a:xfrm>
            <a:off x="342900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49568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9132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267080" y="3429000"/>
            <a:ext cx="1828800" cy="685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Min Settl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Requirement</a:t>
            </a:r>
            <a:endParaRPr b="0" lang="en-US" sz="1400" spc="-1" strike="noStrike">
              <a:solidFill>
                <a:srgbClr val="000000"/>
              </a:solidFill>
              <a:latin typeface="Arial"/>
            </a:endParaRPr>
          </a:p>
        </p:txBody>
      </p:sp>
      <p:sp>
        <p:nvSpPr>
          <p:cNvPr id="113" name=""/>
          <p:cNvSpPr/>
          <p:nvPr/>
        </p:nvSpPr>
        <p:spPr>
          <a:xfrm>
            <a:off x="6553080" y="3352680"/>
            <a:ext cx="1371600" cy="685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port</a:t>
            </a:r>
            <a:endParaRPr b="0" lang="en-US" sz="1400" spc="-1" strike="noStrike">
              <a:solidFill>
                <a:srgbClr val="000000"/>
              </a:solidFill>
              <a:latin typeface="Arial"/>
            </a:endParaRPr>
          </a:p>
        </p:txBody>
      </p:sp>
      <p:sp>
        <p:nvSpPr>
          <p:cNvPr id="114" name=""/>
          <p:cNvSpPr/>
          <p:nvPr/>
        </p:nvSpPr>
        <p:spPr>
          <a:xfrm flipH="1">
            <a:off x="5562360" y="30481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095880" y="304812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095880" y="3733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09880" y="3048120"/>
            <a:ext cx="2819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33520" y="3048120"/>
            <a:ext cx="2819160" cy="1218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 Processes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roll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witch, MVI, MVO, DNP, RC)</a:t>
            </a:r>
            <a:endParaRPr b="0" lang="en-US" sz="1400" spc="-1" strike="noStrike">
              <a:solidFill>
                <a:srgbClr val="000000"/>
              </a:solidFill>
              <a:latin typeface="Arial"/>
            </a:endParaRPr>
          </a:p>
        </p:txBody>
      </p:sp>
      <p:sp>
        <p:nvSpPr>
          <p:cNvPr id="119" name=""/>
          <p:cNvSpPr/>
          <p:nvPr/>
        </p:nvSpPr>
        <p:spPr>
          <a:xfrm flipV="1">
            <a:off x="3048120" y="30477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52680" y="3047760"/>
            <a:ext cx="106704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352680" y="3047760"/>
            <a:ext cx="21337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29400" y="1523880"/>
            <a:ext cx="2057400" cy="7621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mall Renewables</a:t>
            </a:r>
            <a:endParaRPr b="0" lang="en-US" sz="1800" spc="-1" strike="noStrike">
              <a:solidFill>
                <a:srgbClr val="000000"/>
              </a:solidFill>
              <a:latin typeface="Arial"/>
            </a:endParaRPr>
          </a:p>
        </p:txBody>
      </p:sp>
      <p:sp>
        <p:nvSpPr>
          <p:cNvPr id="123" name=""/>
          <p:cNvSpPr/>
          <p:nvPr/>
        </p:nvSpPr>
        <p:spPr>
          <a:xfrm flipH="1">
            <a:off x="6248160" y="220968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5867280" y="2286000"/>
            <a:ext cx="152424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486400" y="4419720"/>
            <a:ext cx="2209680" cy="7617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ponse</a:t>
            </a:r>
            <a:endParaRPr b="0" lang="en-US" sz="1800" spc="-1" strike="noStrike">
              <a:solidFill>
                <a:srgbClr val="000000"/>
              </a:solidFill>
              <a:latin typeface="Arial"/>
            </a:endParaRPr>
          </a:p>
        </p:txBody>
      </p:sp>
      <p:sp>
        <p:nvSpPr>
          <p:cNvPr id="126" name=""/>
          <p:cNvSpPr/>
          <p:nvPr/>
        </p:nvSpPr>
        <p:spPr>
          <a:xfrm>
            <a:off x="3886200" y="2895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02920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5943240" y="304812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flipV="1">
            <a:off x="5638320" y="4038480"/>
            <a:ext cx="3812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6934320" y="4038120"/>
            <a:ext cx="1522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3276720" y="3809880"/>
            <a:ext cx="22096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971800" y="4648320"/>
            <a:ext cx="2133720" cy="8380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Arial"/>
              </a:rPr>
              <a:t> </a:t>
            </a:r>
            <a:r>
              <a:rPr b="0" lang="en-US" sz="1800" spc="-1" strike="noStrike">
                <a:solidFill>
                  <a:srgbClr val="000000"/>
                </a:solidFill>
                <a:latin typeface="Arial"/>
              </a:rPr>
              <a:t>Time of Use </a:t>
            </a:r>
            <a:endParaRPr b="0" lang="en-US" sz="1800" spc="-1" strike="noStrike">
              <a:solidFill>
                <a:srgbClr val="000000"/>
              </a:solidFill>
              <a:latin typeface="Arial"/>
            </a:endParaRPr>
          </a:p>
        </p:txBody>
      </p:sp>
      <p:sp>
        <p:nvSpPr>
          <p:cNvPr id="133" name=""/>
          <p:cNvSpPr/>
          <p:nvPr/>
        </p:nvSpPr>
        <p:spPr>
          <a:xfrm>
            <a:off x="380880" y="4648320"/>
            <a:ext cx="2286000" cy="990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a:t>
            </a:r>
            <a:r>
              <a:rPr b="0" lang="en-US" sz="1800" spc="-1" strike="noStrike">
                <a:solidFill>
                  <a:srgbClr val="000000"/>
                </a:solidFill>
                <a:latin typeface="Arial"/>
                <a:ea typeface="Arial"/>
              </a:rPr>
              <a:t>iling</a:t>
            </a:r>
            <a:endParaRPr b="0" lang="en-US" sz="1800" spc="-1" strike="noStrike">
              <a:solidFill>
                <a:srgbClr val="000000"/>
              </a:solidFill>
              <a:latin typeface="Arial"/>
            </a:endParaRPr>
          </a:p>
        </p:txBody>
      </p:sp>
      <p:sp>
        <p:nvSpPr>
          <p:cNvPr id="134" name=""/>
          <p:cNvSpPr/>
          <p:nvPr/>
        </p:nvSpPr>
        <p:spPr>
          <a:xfrm>
            <a:off x="2666880" y="4952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1981080" y="4266720"/>
            <a:ext cx="152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590920" y="3962520"/>
            <a:ext cx="18288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4495680" y="4114800"/>
            <a:ext cx="457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2133720" y="3047760"/>
            <a:ext cx="3581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Market Transformation</a:t>
            </a:r>
            <a:endParaRPr b="0" lang="en-US" sz="2900" spc="-1" strike="noStrike">
              <a:solidFill>
                <a:srgbClr val="006633"/>
              </a:solidFill>
              <a:latin typeface="Garamond"/>
            </a:endParaRPr>
          </a:p>
        </p:txBody>
      </p:sp>
      <p:sp>
        <p:nvSpPr>
          <p:cNvPr id="140" name=""/>
          <p:cNvSpPr/>
          <p:nvPr/>
        </p:nvSpPr>
        <p:spPr>
          <a:xfrm flipV="1">
            <a:off x="4952880" y="3886200"/>
            <a:ext cx="17528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52680" y="3733920"/>
            <a:ext cx="9144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 name=""/>
          <p:cNvSpPr/>
          <p:nvPr/>
        </p:nvSpPr>
        <p:spPr>
          <a:xfrm flipV="1">
            <a:off x="7315200" y="2285640"/>
            <a:ext cx="3808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124080" y="3352680"/>
            <a:ext cx="3581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Update on TAC directive relating to identifying issues with net metering and small renewable generation</a:t>
            </a:r>
            <a:br>
              <a:rPr sz="3200"/>
            </a:br>
            <a:endParaRPr b="0" lang="en-US" sz="2800" spc="-1" strike="noStrike">
              <a:solidFill>
                <a:srgbClr val="006633"/>
              </a:solidFill>
              <a:latin typeface="Garamond"/>
            </a:endParaRPr>
          </a:p>
        </p:txBody>
      </p:sp>
      <p:sp>
        <p:nvSpPr>
          <p:cNvPr id="145"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571680" indent="-5716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Metering Workshop identified and documented  Requests for Information.</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Scope</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 Settlement Requirements</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 Communication of Meter Data</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for Connecting to Grid Without Interconnection Agreement; Meter Value that Wires Charges Based On</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cy of 25.211; 25.212; 25.242 with HB3693</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Value of Generation Reporting</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d Reliability</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 Component for Purchase of Small Renewable Energy</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Metering Options-What are REP’s looking for?</a:t>
            </a:r>
            <a:endParaRPr b="0" lang="en-US" sz="18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16.5 and 10.2.2 and Operating Guides Sec. 3.1.4 Review</a:t>
            </a:r>
            <a:endParaRPr b="0" lang="en-US" sz="1800" spc="-1" strike="noStrike">
              <a:solidFill>
                <a:srgbClr val="000000"/>
              </a:solidFill>
              <a:latin typeface="Arial"/>
            </a:endParaRPr>
          </a:p>
          <a:p>
            <a:pPr marL="571680" indent="-571680">
              <a:lnSpc>
                <a:spcPct val="8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TDSP guidelines for interconnection of distributed generation.</a:t>
            </a:r>
            <a:r>
              <a:rPr b="0" lang="en-US" sz="2600" spc="-1" strike="noStrike">
                <a:solidFill>
                  <a:srgbClr val="000000"/>
                </a:solidFill>
                <a:latin typeface="Arial"/>
              </a:rPr>
              <a:t> </a:t>
            </a:r>
            <a:endParaRPr b="0" lang="en-US" sz="2600" spc="-1" strike="noStrike">
              <a:solidFill>
                <a:srgbClr val="000000"/>
              </a:solidFill>
              <a:latin typeface="Arial"/>
            </a:endParaRPr>
          </a:p>
          <a:p>
            <a:pPr marL="571680" indent="-571680">
              <a:lnSpc>
                <a:spcPct val="8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REP is notified when Customer Connecting generation.</a:t>
            </a:r>
            <a:endParaRPr b="0" lang="en-US" sz="1800" spc="-1" strike="noStrike">
              <a:solidFill>
                <a:srgbClr val="000000"/>
              </a:solidFill>
              <a:latin typeface="Arial"/>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904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Issues With Net Metering and Small Renewable Generation</a:t>
            </a:r>
            <a:endParaRPr b="0" lang="en-US" sz="3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sue # 1:Definition of Scope</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ocols and commission rules may not be in sync on this definition. Definitions seem to be context specific in different document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kW-Protocols section 10 exempt this generation for renewable from being sent to ERCOT for settlement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W-HB3693 uses this value to define Distributed Renewable Generation</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MW-EPS metering required at this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13:47:10Z</dcterms:created>
  <dc:creator>AEP</dc:creator>
  <dc:description/>
  <dc:language>en-US</dc:language>
  <cp:lastModifiedBy>balbracht</cp:lastModifiedBy>
  <dcterms:modified xsi:type="dcterms:W3CDTF">2007-10-03T18:06:11Z</dcterms:modified>
  <cp:revision>53</cp:revision>
  <dc:subject/>
  <dc:title>RMS Update to TAC</dc:title>
</cp:coreProperties>
</file>