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2C9-4A33-4B3C-89DF-0A9BC61A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DF1-D1FA-4175-B193-E2CF33A6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711-7D3F-4A8B-8100-8A06B1EC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3AE-880A-4435-A263-3450DBFE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6F9-10D1-4E3D-A942-66FBB1A8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A36-340A-45D6-9164-22BDFA05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CC4-B41D-4D39-AC14-9880DAC8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969-C06E-476E-8B65-E776E0DF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E63-D090-4C50-80B2-67FA4EF7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5DBF-9537-4DC0-A0A6-9CF32FA8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D3D-F0B8-486D-94AA-59FC07CA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888-6FB4-460F-B387-C413A434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A48B-5DBD-4478-A4F3-24A181077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ctober 5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910-9C67-4229-8AD6-3DA785C26E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Voting Ite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WG submitted to COPS and COPS recommends to TAC approval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PGRR0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moval of Gray-Highlighte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99"/>
                </a:solidFill>
                <a:uFillTx/>
                <a:latin typeface="Times New Roman"/>
              </a:rPr>
              <a:t>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</a:rPr>
              <a:t>http://www.ercot.com/mktrules/issues/lpgrr/000-024/023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5BC-71A9-452F-99F2-D2076A1490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R720 TRE Fee Methodolo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llowing Discussion and review, COPS set up an Ad Hoc Committee to work with Staff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mplify the calculation of TREF and bi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ve personnel other than Settlements perform the billing and segregate TRE activity from ISP Protoc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mplement the change in process with the least intrusion to existing proce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velop a process for reconciling TRE costs vs TREF coll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Legal, ISO, and TRE Staff, are involved in the discussions with COPS Ad Hoc members – Process is proceeding as we resolve and clarify iss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3ED-71E3-4A1E-BDFC-921AC82F4E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R720 TRE Fee Methodolo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llowing Discussion and review, COPS set up an Ad Hoc Committee to work with Staff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mplify the calculation of TREF and bi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ve personnel other than Settlements perform the billing and segregate TRE activity from ISP Protoc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mplement the change in process with the least intrusion to existing proce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velop a process for reconciling TRE costs vs TREF coll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Legal, ISO, and TRE Staff, are involved in the discussions with COPS Ad Hoc members – Process is proceeding as we resolve and clarify iss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B43-031C-4CF8-808A-96805F5E75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573-1885-450A-AB90-51EA4AAEA0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ata Extract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DE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EWG Met on 7/30; 8/27; &amp; 9/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viewed staff response to extrac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dentified root cause of extract posting issues and corrective actions implemented by ERCOT Sta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tracts Service Level Agreement (S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cus on developing a SLA document to add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Timelines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 /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Completeness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/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ccuracy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/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vai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stablished 3 priority levels for reports/ex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xtract &amp; Report Information Gu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atrix Identifying Extract or Report; Definition; Purpose; SLA Priority;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7F5D-DF5D-4FBB-8EC0-6DBA3142BF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WG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CR 727 ESIID Service History &amp; Usage Extract              Re-Baseline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50024_01 SCR727 Phase II (SCR 740) is in “Closing” st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nce the Re-Baseline web service is in production, the current SCR 727 Historical Data Request process will be discontinued (Data files back to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hat is the minimal amount of service history and usage data for ESIIDs owned by MP needed?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(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Today MPs have service history and usage for ESIIDs they own from 7/31/2001 to current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nsensus of DEWG was to have staff provide an analysis of feasibility and cost to maintain 24 months Service History and Usage Extr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D24-8DED-4B1E-8F48-3836BCD289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and Data Acquisition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SDAWG)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dal Impac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ing Commercial Operations Data Extract Changes (DAM; CRR; RT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 Calend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oad, Generation, and Settlements and Billing Ex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mall Generation – Settlement Issues (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B 3693 – Sections 24 &amp;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A5A-16F8-48A1-9019-5EB68CD20C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PS Communication Working Group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C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ew of Notific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orking as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No need for changes at this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mpleted final review of COPMGRR005, creating “Section 11, Extracts and Repor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mpact Analysis – No System 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1F4-1426-48EB-86C2-B4E1456674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Voting Item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CWG submitted to COPS and COPS recommends to TAC approval of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PMGRR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guide revision Creating Section 11, Extracts and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00cc99"/>
                </a:solidFill>
                <a:uFillTx/>
                <a:latin typeface="Times New Roman"/>
              </a:rPr>
              <a:t>VO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5CA-A279-4CC5-8DEC-DE940DE786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91540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80D-A43B-4BE9-8459-9B676ADCB5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nual Validation Update – On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ound 2 – Load research sample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stallations to be completed by 6/30/0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5 % of Round 2 sample have IDRs inst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LC and Demand Respons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bmitted PRR 736 to PRS (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S tabled until implementation issues are resolved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WG to work directly with “Texas Set” to resolve implementation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084-466E-4127-9417-1ABE6EA65E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Voting Item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228960" y="152388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WG submitted to COPS and COPS recommends to TAC approval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PGRR0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del Spreadsheets for Flat Load Profil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cc99"/>
                </a:solidFill>
                <a:uFillTx/>
                <a:latin typeface="Times New Roman"/>
              </a:rPr>
              <a:t>VO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</a:rPr>
              <a:t>http://www.ercot.com/mktrules/issues/lpgrr/025-049/025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733-DCAF-4A65-8278-62D0545A89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starr</cp:lastModifiedBy>
  <dcterms:modified xsi:type="dcterms:W3CDTF">2007-09-27T21:10:41Z</dcterms:modified>
  <cp:revision>227</cp:revision>
  <dc:subject/>
  <dc:title>Point-to-Point</dc:title>
</cp:coreProperties>
</file>