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713A-A0BF-4313-929B-B399CF7A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4ED1-8B8E-4C11-8E20-76F03A05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531B6-AE3F-4459-80D8-51B29E88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842A-3E58-43BE-AE7B-450E92C1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05B9-674C-4FF2-9190-50262373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0E64-6973-428E-B429-23492EB4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60CC-11CB-463A-B94A-B7F0C302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87FB-5EF5-4AE4-9F68-D80AD537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B000-1BA4-41AF-B1A1-0A454639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2D4B-9537-476F-BA91-9C36849E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9BAB-7496-4D63-B79F-E557670E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A812-ED87-4019-B4F7-1E34FDBE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CE11-852D-47B5-BB14-7901BF009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ptember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Net Service Availability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8600" y="914400"/>
          <a:ext cx="853452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53452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ptember 2007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280" y="838080"/>
          <a:ext cx="8686800" cy="49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686800" cy="49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38280" y="1066680"/>
          <a:ext cx="78660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1066680"/>
                    <a:ext cx="78660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353960" y="1066680"/>
          <a:ext cx="64360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066680"/>
                    <a:ext cx="64360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46080" y="1066680"/>
          <a:ext cx="72518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6080" y="1066680"/>
                    <a:ext cx="72518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7-10-04T23:03:02Z</dcterms:modified>
  <cp:revision>64</cp:revision>
  <dc:subject/>
  <dc:title>Instructions</dc:title>
</cp:coreProperties>
</file>