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15D4-B2F7-413E-9386-FBF3A685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DFE-8B76-4B2B-BBDD-7725E098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2EEB-AAAF-4F34-A0D2-F002AC25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E061-3D0F-494C-8CC3-204C879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41D9-E513-40C4-8D10-689F2290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A9C2-477D-4EFC-B48C-BEE05D9D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D4C7-0B5B-4780-912D-61D4F76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D2D5-10A1-4C51-807C-2FD160E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7BD-0ACE-497B-BDCF-B631C4C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AF7C-CAD3-4652-AD78-09425D6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7F0A-C50F-443B-87D7-B9B5D249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5BA3-34BD-4E50-8B25-3188A7D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784F-243F-4DC9-A20B-0BD4E06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BA5-C841-4B22-96BA-C8BF4BA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E77-4C6C-4752-ADBE-E343C2124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0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0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9/2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an with Day 1 transactions flowing: 10/08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7 scheduled to conclude: 11/20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12/1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New REPs – 57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116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10/09/0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.XX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.XX% by end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809880" cy="20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7-09-24T12:44:39Z</dcterms:modified>
  <cp:revision>84</cp:revision>
  <dc:subject/>
  <dc:title>Instructions</dc:title>
</cp:coreProperties>
</file>