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4BDB-3EDB-4292-9B4B-A8402941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510D-7381-444F-AA6B-A6DF76D2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9629-5E46-43C2-B4FB-5C61E99B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18FC-817B-441F-ACBD-722864F4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4EA7-376C-4633-B0BE-C5D8C1EC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E7BA-D1DF-49FA-92B8-EFC47738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BA30-4A80-446C-9C39-BC368627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D1C8-90F1-46AF-9ACF-75EA85CA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E1DC-EC1E-44A9-A60F-D1D45AC1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8136-292A-4835-900F-409E032A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557B-9925-4BA1-A46D-7B4FF33B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F7A8-104E-4BEF-9D9C-6E54261E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AB6C-352E-442B-AF05-AB44CD1B7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hyperlink" Target="https://marketrak.ercot.com:8443/tmtrack.dll" TargetMode="External"/><Relationship Id="rId3" Type="http://schemas.openxmlformats.org/officeDocument/2006/relationships/hyperlink" Target="https://tcr.ercot.com/" TargetMode="External"/><Relationship Id="rId4" Type="http://schemas.openxmlformats.org/officeDocument/2006/relationships/hyperlink" Target="https://tcr.ercot.com/" TargetMode="External"/><Relationship Id="rId5" Type="http://schemas.openxmlformats.org/officeDocument/2006/relationships/hyperlink" Target="http://www.texasrenewables.com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LA Exception Reque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ctob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ristian Brenn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0/09/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CAP – Sept schedule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8, 2007 12:00PM through September 10, 2007 12:00A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ormal release weeke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15, 2007 12:00PM through September 17, 2007 12:00A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LA exception approved Sept R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22, 2007 12:00PM through September 24, 2007 12:00A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LA exception approved Sept R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ober schedule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requesting two exceptions to the SLA for the following migration activities for October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day October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5:30pm through Monday, October 2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12:00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of databases (settlements and b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day October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5:30pm through Monday, October 2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07 12:00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gency weekend for migration of databases (settlements and b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will services be impacted?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ing these outages, the following functions will be affected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Participants utilizing NAESB to send/receive transactions to/from ERCO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l be 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nd/receive transactions to/from ERCOT during the outage.  This includes all retail trans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4_20s received by ERCOT will be held and processed once the outage is comple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7 Transaction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 forwarded during the out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7 Functional Acknowledgements WILL be sent during the out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nents of the TML and Commercial API WILL be available including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SI 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rans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 Trans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Function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Explorer, inclu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Stat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ices Data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Internet Services WILL be available, including but not limited to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.com –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rak -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marketrak.ercot.com:8443/tmtrack.d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R -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cr.erc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newables –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texasrenewables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, Scheduling API, MOSTML, MOSPUBLIC, and Outage Scheduler will not be affected as there will be a DNS failover from Taylor to Austi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10-09T22:24:29Z</dcterms:modified>
  <cp:revision>74</cp:revision>
  <dc:subject/>
  <dc:title>Instructions</dc:title>
</cp:coreProperties>
</file>