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8C64-A905-48F9-9D43-E0DC8DAB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438E-6FCE-4B2D-A80A-3A3E935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2264-EE63-40D4-8F63-4EC01B39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A36E-7FB4-4274-8E15-76D4A5C6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72B-5488-485B-8B70-C396F49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4019-980A-49BE-9949-29D5F4B2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E8D7-F31A-42F7-9EA8-A7E429C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C442-50E9-4D7E-B8E4-A5F4BD10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BEA8-25BC-4C30-A231-BCC6CF5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2ABD-1B14-4BD6-8CB6-DFE5D4E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CBBB-9C13-4640-B874-76D5737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BC7F-2C16-4EB8-81B7-E52C094F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E05-A051-4FF9-A0DB-5E0BF4BF0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A84-0ECC-4271-B1A9-965920618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__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AAC4-2250-424D-BACC-8C105406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C22-AE1C-403F-97D1-BC46D4CF5994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mand Respon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tus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vin Ophe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ober 9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WG Recommend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Working Group (PWG) will be providing a recommendation for a long-term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changes to the swit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Set team to meet with representatives from the PWG and ERCOT to define th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will also recommend a short-term solution to enable the Wholesale settlement of 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ort-term solution is available as an option to bridge the gap until the Texas Set changes ar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A975-4A1E-4901-99D9-83F6F4D325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ESI-ids on Demand Response Programs to be identified in the Profile I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ssociated with the corresponding Demand Response Load Profile for settlement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ing of Demand Response ESI-ids, Move In, and Drop to POL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emand Response Load Profiles Private or Public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all load profiles are publ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ssues which have not been ident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F8D0-A5DE-4325-933E-E70254049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file ID Review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SI-ids are assigned a Profile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ID identifies which load profile is to be used in sett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A806-C8C9-45FD-8FDD-F9BD5C88B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ID consis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Group Code (BUS, RES, or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gment Code (HILF, LOLF, MEDLF, NODEM, FLAT, LIGHT, HIWR, LOWR, or IDRR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Zone Code (COAST, EAST, FWEST, NCENT, NORTH, SCENT, SOUTH, or W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 Data Type Code (IDR or NI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Sensitivity Code (NWS or 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 Schedule Code (NOTOU, TOU01, TOU02, …, TOU12, TOU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9E69-A8BE-40DB-8D07-A7DF942513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 - Examp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HIWR_COAS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LOWR_SCEN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AAB7-0746-4026-ACFB-45A15E93CD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WR_COAS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R_SCEN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ofile Group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8260-5040-48E7-958F-475F263A7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IW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COAS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OW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CEN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ofile Segment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6DCB-0E14-447F-82F2-7B643E320A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HIWR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LOWR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C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eather Zon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513D-A344-4640-A409-033CDD8CF6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HIWR_COAST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LOWR_SCENT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eter Data Typ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A1E2-ED10-4190-8D47-2B41E2C234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Option for Wholesale Settlement of Dem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for Wholesale Settlement of Dem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of Protocol Changes (PRR-7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of Operating Guide Changes (LPGRR-0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E83E-8C02-412E-87B4-3CA223130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HIWR_COAST_NIDR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W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LOWR_SCENT_NIDR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W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eather Sensitivity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4FF8-2451-41AE-B36D-7E05022F1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file 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valid Profile I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HIWR_COAST_NIDR_NWS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LOWR_SCENT_NIDR_NWS_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OU Schedul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BA6D-8E11-45D1-A567-6F82C6C2F5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dentify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mand Response ESI-id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dentifying Demand Response ESI-i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he Profile Group and Profile Segment Co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H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nn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COAS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L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nn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CENT_NIDR_NWS_NOT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ofile Group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file Segment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nnnn represents the ERCOT assigned Dem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ID and the first four characters represent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mand Response Load Profi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BBB3-256D-42ED-A2C7-A131F7923B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as Set Transaction Consideration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Set Transa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ID is used in the following Texas Set transa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-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to PO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ption the market decides to implement for the identification of Demand Response ESI-ids could have system impacts to support these trans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y be to Market Participant systems, ERCOT systems 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to all REPS whether they offer a Demand Response program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DC77-8060-4CC0-829D-5EBA002D31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5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Set Transa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Long-Term Solution:  Modify the business logic in the 814_04 (Premise Information) so th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SI-ids that are on a Demand Response program that switch have their profile ID that is passed to the gaining CR changed to a non-demand response load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minimize any required system changes to CRs who don’t offer Demand Respons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139B-688C-4958-8EA5-8230309A19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Set Transa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-id 123 is currently on a Demand Response Program for CR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file ID for ESI-123 is RESH0001_COAST_NIDR_NWS_NOT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-id switches to CR 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DSP receives the 814_03 (Switch CR Not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814_04 (Premise Information) contains the Profile ID (RESH0001_COAST_NIDR_NWS_NOTOU) from the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4670-95D8-4FD6-A7F7-130EAFA261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Set Transa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continu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iness logic for the 814_04 and/or 814_05 would need to be modified such that the profile ID for ESI-123 would be changed to the non-demand response profile ID (RESHIWR_COAST_NIDR_NWS_NOT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ining CR would receive RESHIWR_COAST_NIDR_NWS_NOTOU as the profile ID on the 814_05 (Premise Infor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to begin work on defining thes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612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8706-F876-42E8-9646-78F5DC458F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5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re Demand Response Load Profiles Public or Private Information?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Option for Wholesale Settlement of Demand Respons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 Wholesale Settlement of Demand Response requires the installation of an IDR 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ttlement system can support up to 50,000 IDR meters before system performance starts deg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ttlement system can not handle more than 200,000 IDR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 available option for today, not a very robu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st prohib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9FA-EA5A-4054-B994-F8A70B0F4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e Demand Response Load Profiles Public or Priv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Market Open, all load profiles have been classified as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emand Response Load Profiles are classified as Priv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the data that is currently provided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ill receive the private data?  REPs and Q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ystem changes for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ystem changes for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448A-92CD-48C5-AEF5-2B4262F609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CET Pilo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CET Pil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participating in the CCET Demand Response Pil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the market by identifying possible issues well in advance of the desired settlement implement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Demand Response to be implemented sooner than by not participating in the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C8E8-9CE2-44B4-8520-5D8502D93F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Demand Response Projec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Demand Response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PRR-736 and LPGRR-027 are approved, ERCOT will initiate a project to implement the wholesale settlement of Demand Response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funding (approx 500k) for this effort has been approved and the project has been added to the 2008 Project Priority List (PP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is implement required functionality to support wholesale settlement of Demand Response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s energy only settlements (i.e., Nodal Protocols currently do not include capacity payments for load for Real-Time settleme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361E-E52D-4807-A9AD-DA199E224C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market discussions under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Market Input at these 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will be reached through the ERCOT governanc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changes will be required for Market Participants and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change will depend on the selec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resource constraints need to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0B6A-09EE-4098-AA2D-B9A2C96DEB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5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505320" y="2286000"/>
            <a:ext cx="1484280" cy="2514600"/>
            <a:chOff x="3505320" y="2286000"/>
            <a:chExt cx="1484280" cy="25146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3505320" y="2286000"/>
              <a:ext cx="14842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059720" y="263808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59720" y="404604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D3E6-FE06-4306-B7DF-D8A149CF36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ture for Wholesale Settlement of Demand Respon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ot of work has been performed by Market Participants and ERCOT creating language that supports Demand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Revision Request (PRR) 7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Profiling Guide Revision Request (LPGRR) 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is to implement Demand Response in wholesale settlements by the summer of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ncludes energy settlements (Real-Time Energy Imbal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include capacity payments (currently not included in Nodal Protoc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F33D-253C-4767-8F71-56A9C5D1F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-736 and LPGRR-02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 more timely approach for creating Demand Response load profiles than using load profi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all load profiles are based on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determin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pproximately 2+ years worth of data to calibrat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ake years before the model is ready to use in Wholesale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3406-77BC-419F-B40B-F790D4902B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-736 and LPGRR-02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the RLDP (Representative Lagged Dynamic Profile)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ged Dynamic Samp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determin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rom the sample is used directly to create Demand Response profiles (i.e. no model is cre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data is collected and validated can be used to create Demand Response load profiles for use in Wholesale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quicker option for implementing new loa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0F85-134B-4103-BCB4-5D721704A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R-736 and LPGRR-02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Demand Response Profile for each REP Demand Respons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s may have more than one Demand Response load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ment on the Demand Response load profile year round (not limited to when a Demand Response event occ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Metering Infrastructure (AM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ruck roll required to install sample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easy to refresh the sample period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sample aging / bia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8FB2-FACE-4B44-8329-7F31B7FE2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tocol Revision Request (PRR) 73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Protocol language has been developed through the market stakehold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was drafted by the Profile Working Group (PW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was endorsed by Commercial Operations Subcommittee (COPS) in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 reviewed by Protocol Revision Subcommittee (PRS) in Octo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pproved by PRS the next steps are determining the Cost Benefit Analysis (CBA) and the Impact Analysis (IA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AC3E-8216-49DF-B31D-36B10F1750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ad Profile Guide Revision Request (LPGRR) 02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Profiling Guide language is being developed through the market stakehold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 reviewed by Commercial Operations Subcommittee (COPS) in Octo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FAA3-8EF5-4A83-81C1-FC7B527AA7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Opheim</cp:lastModifiedBy>
  <dcterms:modified xsi:type="dcterms:W3CDTF">2007-09-28T13:36:40Z</dcterms:modified>
  <cp:revision>217</cp:revision>
  <dc:subject/>
  <dc:title>Instructions</dc:title>
</cp:coreProperties>
</file>