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B0B-CFD3-4BE1-86BD-92739D48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90B-A8D7-4C00-9BA3-36ABB93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D00-D632-4C87-9251-1BE04F69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0D8-29E7-4357-8D2B-D77D797B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C76A-CCA7-4266-9B21-28E76A7E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A1AD-E79C-4A06-8901-194581AF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94C-A4CF-47E9-99AC-1E3EDC0A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5DF7-8F90-4C9A-A47B-D6837374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595D-201D-42AB-8DBB-1E245F76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A2F5-D5D0-48EE-B103-9FC103B0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1EEF-AD01-47C4-9564-EC9BEA8B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6DE-BAB9-40F3-A22B-C1041AE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E95F-8A46-4CBB-A8D4-BADCA78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DF30-A8C5-4392-BD78-6748DDE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C2C5-66D2-49FD-88AD-D82B0E22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CCEA-F8D7-46AC-A1B4-DCB76694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5AB6-93E3-4180-A59F-8AAD350A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8D2-5CC5-4524-9583-0869076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6A8-C48A-4C8E-BF24-CD90C8F9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0E7-7ABE-4488-B24D-4922FF41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A53-C606-46D3-BEC9-4C17FA08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699-F584-4D1E-8705-1317F2FC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ED7-F0D3-4E88-996A-E7097B8A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36B-6F8F-4891-9939-D1BB2A18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B73-5205-403F-BFA5-D789E42D87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0D6B-D2DB-4FB7-8A63-0044C5BEFD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066320"/>
            <a:ext cx="6553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Arial Rounded MT Bold"/>
              </a:rPr>
              <a:t>ERCOT Update to RMS on IDR Requirement Report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80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Carl Ra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RCOT Load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ctober 10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Mandatory IDR Install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8800" y="5199120"/>
          <a:ext cx="8374320" cy="120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5199120"/>
                    <a:ext cx="837432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14400" y="4343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Section 18.6.1, Interval Data Recorder (IDR) Installation and Use in Settl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600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key excerpts from Protocols and the Retail Market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193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Section 10.2.2, TDSP Metered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19160" y="2687760"/>
          <a:ext cx="7391520" cy="1589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9160" y="2687760"/>
                    <a:ext cx="73915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Mandatory IDR Install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28880" y="4005360"/>
          <a:ext cx="7315200" cy="163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4005360"/>
                    <a:ext cx="7315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914400" y="220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G Section 7.13.2.2, Mandatory IDR Installation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600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excerpts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19160" y="2743200"/>
          <a:ext cx="7772400" cy="1114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9160" y="2743200"/>
                    <a:ext cx="77724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7920" y="1576440"/>
            <a:ext cx="723888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76520" y="1577880"/>
            <a:ext cx="56386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9711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971120" cy="462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124920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ntinued from previou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953480" cy="2093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124920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ntinued from previou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981080"/>
            <a:ext cx="7010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 Protocols Section 18.6.1 mandates installation of an IDR for specific ESI IDs, there are some gaps in the processes spelled out to get these installations comp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ction be taken to modify Protocols and/or the RMG to require TDSP installation of an IDR after some amount of time in the absence of a CR request, unless there is a new customer move-i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08:05Z</dcterms:created>
  <dc:creator> </dc:creator>
  <dc:description/>
  <dc:language>en-US</dc:language>
  <cp:lastModifiedBy>AMarquez</cp:lastModifiedBy>
  <dcterms:modified xsi:type="dcterms:W3CDTF">2007-09-28T18:48:02Z</dcterms:modified>
  <cp:revision>126</cp:revision>
  <dc:subject/>
  <dc:title>IDR Taskforce Report to RMS</dc:title>
</cp:coreProperties>
</file>