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3D1-5D0C-40DB-8068-37ED7B37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56B-7631-4203-8254-FAEBC86B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2DF-2D14-419B-B482-BD6AF06B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CCB-54C8-4B42-8062-65D4145D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BAB-C782-4F94-90B9-70F5ADC6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C5F-C1F1-40F5-9A31-2AE94887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9A9-0AE3-40F4-9D54-2EF43CAA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200-E6BF-40C7-B3ED-26E87650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5C1-F011-4BE7-9F48-B8D6A2F3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969-EBBA-4F5D-B95D-B9F3349F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0F4-29A0-463C-93A9-D10CCD85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A41-2F24-4003-A3C9-063AB3F4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7E65-47F7-4039-946E-3FAC46367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992-E26B-4571-BF53-54AB3FC03D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BF2-B7B7-4ADB-BBBC-7D424FE7C7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200" y="1535040"/>
            <a:ext cx="8666280" cy="32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597-FDA6-4BB1-8DE1-F7D6E4A212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96E-5948-4005-8FB8-1AA1A279F8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1833480"/>
            <a:ext cx="8839440" cy="25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9BA-D6BF-4696-9C68-9779001ED4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F73-EC49-4175-8087-3135AB1FC9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9920" y="1482840"/>
            <a:ext cx="8802720" cy="34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914-502A-44BD-8A33-7CF2DFE3D1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9FA-E0F9-40B9-81BF-42E86B0A9E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B6E-9A3C-48DE-8157-ADD71C282E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06F-C579-4608-B782-876F9C6818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778960" cy="38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BF8-47E5-495A-AD09-75F2A40FF2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F6B-C864-411E-98B9-930FA7B128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510000"/>
            <a:ext cx="8474040" cy="21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B09-3DAD-454B-9DB7-96BB987608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87320" y="-1511280"/>
          <a:ext cx="7569360" cy="9882000"/>
        </p:xfrm>
        <a:graphic>
          <a:graphicData uri="http://schemas.openxmlformats.org/drawingml/2006/table">
            <a:tbl>
              <a:tblPr/>
              <a:tblGrid>
                <a:gridCol w="609480"/>
                <a:gridCol w="368280"/>
                <a:gridCol w="368280"/>
                <a:gridCol w="368640"/>
                <a:gridCol w="279360"/>
                <a:gridCol w="279360"/>
                <a:gridCol w="279360"/>
                <a:gridCol w="279360"/>
                <a:gridCol w="279360"/>
                <a:gridCol w="609480"/>
                <a:gridCol w="609840"/>
                <a:gridCol w="368280"/>
                <a:gridCol w="368280"/>
                <a:gridCol w="330120"/>
                <a:gridCol w="330120"/>
                <a:gridCol w="33048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87320" y="-1314360"/>
          <a:ext cx="7569360" cy="9486720"/>
        </p:xfrm>
        <a:graphic>
          <a:graphicData uri="http://schemas.openxmlformats.org/drawingml/2006/table">
            <a:tbl>
              <a:tblPr/>
              <a:tblGrid>
                <a:gridCol w="609840"/>
                <a:gridCol w="368280"/>
                <a:gridCol w="368280"/>
                <a:gridCol w="368280"/>
                <a:gridCol w="279360"/>
                <a:gridCol w="279360"/>
                <a:gridCol w="279360"/>
                <a:gridCol w="279360"/>
                <a:gridCol w="279360"/>
                <a:gridCol w="609840"/>
                <a:gridCol w="609480"/>
                <a:gridCol w="368280"/>
                <a:gridCol w="368280"/>
                <a:gridCol w="330120"/>
                <a:gridCol w="330480"/>
                <a:gridCol w="33012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682640"/>
            <a:ext cx="733104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155-2C2B-4604-AB71-09859EB905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701-16E9-4C7C-BB90-A8D2EDCC4B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7800" y="1523880"/>
            <a:ext cx="8683920" cy="35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93D-BC61-465E-A6F7-3972E87113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palacios</cp:lastModifiedBy>
  <cp:lastPrinted>2002-09-24T18:27:58Z</cp:lastPrinted>
  <dcterms:modified xsi:type="dcterms:W3CDTF">2007-10-04T14:25:39Z</dcterms:modified>
  <cp:revision>709</cp:revision>
  <dc:subject/>
  <dc:title>PowerPoint Presentation</dc:title>
</cp:coreProperties>
</file>