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932822B-6954-4F6C-8D70-9166A467F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E10788B-C412-4368-8DEC-EEC5ED60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CEF574F-4962-4649-8014-F5CBB6EE7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B0BD91-059A-4D0D-8AC6-3FAB9735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FB77A2E-798E-478A-8013-5223917E7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95893A-78E4-488E-9669-6B6389BE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BCC66CF-937B-47FA-818D-2BDAB2E0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103D5F-97CC-48C6-A4BC-0261447E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D1CF466-E4D1-4D26-B1A4-628E0E22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86A-8D0F-4A2D-B7D9-B975FE88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242-3DD5-4969-875F-F3641A6E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F4C-475B-47AA-9C29-29C9B0E1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0E9-BB0D-4051-8DA5-E3C87C10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B05-1C09-4327-A7C4-6B7474D5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54D-FD51-4247-BBE6-08D79349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569-56A3-4A3E-855B-D575047A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AF0-28CA-47BC-B341-647B3C6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72D-45A1-4BC4-9D9F-AAA937BA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2A5-C310-421D-90BE-F1F43B5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C40-0729-4622-A3BB-83D5061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891-179D-4A66-8A21-92BC3D6F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4FBA-C2BF-46C5-BB88-5263B9241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9416-B856-4A75-93FD-E04CCCA85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10, 200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E723-6196-4190-A6CE-737C7305E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 7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ERCOT request for extended Outage contingency window for 3rd weekend of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Transport Failover Protocol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16C-CBBE-4D21-AC65-3C8060AAC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 working with ERCOT to support implementation of SCR745 including the new architectur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ed new solution. ERCOT working on procuring licensing through PR-60006_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E32-C32C-4C49-99A7-1E268749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 working with ERCOT to support implementation of SCR7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vin Tanner presented status of PR-70006_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AB6-42EF-42BD-9F85-FAE5587D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ntinue working with the ERCOT Manager of Operations to address each system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he 9-26 TDTWG meeting, system incidents for September were revie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148B-8B7D-418F-81FB-96195A082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iscuss ERCOT request for extended Outage window on 3rd weekend of October (contingenc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presented information in support of the HP to AIX server conversion pro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ED42-7621-41A8-8066-7EE1DB39F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Data Transport Failover Protocol Discu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provided comments not recommending a secondary failover protocol at this time. TDTWG will continue to discuss the business issues with Market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4E3B-9C3B-4907-A795-152937BD0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cline</cp:lastModifiedBy>
  <cp:lastPrinted>2002-09-24T18:27:58Z</cp:lastPrinted>
  <dcterms:modified xsi:type="dcterms:W3CDTF">2007-09-26T17:38:26Z</dcterms:modified>
  <cp:revision>430</cp:revision>
  <dc:subject/>
  <dc:title>PowerPoint Presentation</dc:title>
</cp:coreProperties>
</file>