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D17E-A97A-44CE-94A9-09FE154C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3D5E-BE5C-4725-8F27-E3AC751E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B750-6518-4519-B595-33660FB2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92A4-1ED4-416B-BD40-26CCAEE6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ED77-C1B2-4FA0-85CD-B926C563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5197-3EFB-4EBA-8444-BA0566E5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DAE-924D-4FAF-B322-CDA62D70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653E-464E-4483-A8C6-2D947580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C11-F2B3-47F7-B58B-F81E70C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2E68-C4AA-4A0D-A05F-2CBA376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C45A-693B-4600-BB61-CF5595EE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64B3-F650-4584-A08E-9E92158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5837-5439-4A61-B6F6-D9E58D3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3D81-B44E-408B-B855-3F20B33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63EC-D4C9-4117-B131-F0BB003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102E-2E5B-4747-BEF7-88B663A0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260-91BC-441C-959A-D997E0B5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FD67-712E-4B31-8F9D-B66B5FDE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0FE4-A7FB-4FFA-A160-CC5E8200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17486-51A1-44B8-9CC2-9C62C607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7379-63C5-437B-90D7-36C550D7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2B8C7-2E49-4022-9B70-DBD73B4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600E4-B16B-4A38-842C-9773C1E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4603B-1C16-4C9E-9CE0-35820EA4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BD536-5322-4D61-BA4F-4487093E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AA1D2-E1B7-4519-9545-B7AC5E5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3EFFF-E8A9-4E94-8367-F670995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27D3C-4352-46E7-8670-371D718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3C928-1406-4609-AC11-A6C8AC5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3B60A-0FDC-4F7C-A07B-F8C9D1F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8C804-4CAA-4F13-9111-C39C9C5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3EC2-16D2-4ACF-B695-246B580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ED869-5AEE-4239-9258-91F8F689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D299-C116-4E03-B2B2-776996B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68D0-A5A6-4F3B-AF5C-318834E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4D18-E67A-4E7E-B026-03F7292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B59-9494-4831-AD20-DC38B0AC8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987-BCC7-4CDC-AFAA-F467D5F8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E88-805E-4246-BC54-C8B313ABD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OLK77/MCT_Update_to_RMS_081507.ppt" TargetMode="External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3200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0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Susan Muns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Retail Market Liaison/MODPO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34290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as SET 3.0 Lessons Lear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ons Learn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3 – MCT Lessons Learned brainstorm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ed follow-up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 -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rket Survey s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MPs returned completed surveys (3 TDSPs, 3 CRs, 1 service provi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4 – ERCOT Internal 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9 – MCT Lessons Learned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9 – Delivered Fi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Docu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T Page of ERCOT.com Key Documen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rms/mct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3.0 Lessons Learned Consolidated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Survey results as a basis for the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we as a market do righ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uld we improve on in the futu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Action Items taken from the meeting?  To whom will they be assign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ssons Learned Session Re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urvey and Discussion Item for RM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rvey Ques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lear were Implementation Guide, RMGRRs, PRRs redlined in regards to the Market Require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CT Discussion Poi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with having so many RMGRRs and with filing them so earl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sson Lear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File RMGRRs after Requirements are comple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eedback needed from RMS on PRRs/RMGRRs. Comment period isn’t beneficial if MPs do not review and provide com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nvolve market participants in reviewing and providing comments on PRRs/RMGR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smunson</cp:lastModifiedBy>
  <dcterms:modified xsi:type="dcterms:W3CDTF">2007-09-24T20:42:31Z</dcterms:modified>
  <cp:revision>241</cp:revision>
  <dc:subject/>
  <dc:title>Slide 1</dc:title>
</cp:coreProperties>
</file>