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2ECF84F-F184-4D58-9E36-3074259C0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9211D9-B660-4C32-BED1-D234A1A77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AA350E-CEBB-43B6-868E-D5723CEF4F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5AA5D51-6983-4393-93C8-E0D9F0345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FF76B7-FB1E-4913-BE4B-49D67AA03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09240B-2717-4A12-AE40-FC97AECD1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F53236-7933-4349-8F77-AD9C24C3D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B51C0C-528D-4454-9177-04B7D6CB9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1A23D7-8A80-432B-ACCB-1A524D57C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21F259-DCE0-4B14-B1DA-A9E8746C1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99F63F-1209-44E4-8C94-DC4BEF1B6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A93E1B-FDF7-40E4-A34B-082E2EF748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ABE4-0E90-442A-B093-B111E0E7D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 – Cleanup NPRR Section 7 (CRR)</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3,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6A2E-898B-4C0C-81B7-5309EC18B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eanup NPRR – Section 7 (CRR)</a:t>
            </a:r>
            <a:br>
              <a:rPr sz="2800"/>
            </a:br>
            <a:r>
              <a:rPr b="0" lang="en-US" sz="2800" spc="-1" strike="noStrike">
                <a:solidFill>
                  <a:srgbClr val="ffffff"/>
                </a:solidFill>
                <a:latin typeface="Arial Black"/>
              </a:rPr>
              <a:t>Discussio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533160" y="2819160"/>
            <a:ext cx="8305560" cy="32763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 July 23,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sented by 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iant Comments: We oppose changes to the protocols that reflect a ‘retrofit’ of the protocols to match the system, and oppose elimination of business processes contemplated in the protocols. We believe that ERCOT should be asking questions about how to implement the protocols as written, not to change the protocols to match the processes that ERCOT seems to be advocating.  We appreciate and believe that the time is right for business process discussions.  Our initial comments on the issues set forth by ERCOT in this presentation are included here in red text.</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vailability of PTP Obligations</a:t>
            </a: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TP Obligations in one-month strips for one-month terms until the ERCOT Board approves the offering of PTP Obligations for specified source Settlement Points and sink Settlement Points for terms longer than one month; and </a:t>
            </a:r>
            <a:endParaRPr b="1"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es this language clearly convey that PTP Obligations will be available ONLY for the first month of an Annual auction? </a:t>
            </a:r>
            <a:r>
              <a:rPr b="1" lang="en-US" sz="1500" spc="-1" strike="noStrike">
                <a:solidFill>
                  <a:srgbClr val="ff0000"/>
                </a:solidFill>
                <a:latin typeface="Arial"/>
              </a:rPr>
              <a:t>Reliant: yes until the BOD approves a longer period.  Protocols 7.5.1(4) contemplates a 6 month transition period as follows:</a:t>
            </a:r>
            <a:endParaRPr b="1"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14" name="" descr=""/>
          <p:cNvPicPr/>
          <p:nvPr/>
        </p:nvPicPr>
        <p:blipFill>
          <a:blip r:embed="rId1"/>
          <a:stretch/>
        </p:blipFill>
        <p:spPr>
          <a:xfrm>
            <a:off x="2286000" y="3048120"/>
            <a:ext cx="4632480" cy="2765160"/>
          </a:xfrm>
          <a:prstGeom prst="rect">
            <a:avLst/>
          </a:prstGeom>
          <a:ln w="0">
            <a:noFill/>
          </a:ln>
        </p:spPr>
      </p:pic>
      <p:sp>
        <p:nvSpPr>
          <p:cNvPr id="4" name="PlaceHolder 3"/>
          <p:cNvSpPr>
            <a:spLocks noGrp="1"/>
          </p:cNvSpPr>
          <p:nvPr>
            <p:ph type="sldNum" idx="1"/>
          </p:nvPr>
        </p:nvSpPr>
        <p:spPr/>
        <p:txBody>
          <a:bodyPr/>
          <a:p>
            <a:fld id="{00D8F0A2-9E58-4C58-828D-877CDE7D3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ould Load Zone weightings always be based on On-peak?</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distribute injections and withdrawals to Electrical Buses in Load Zones,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planning cases (for the same period) for monthly CRR Auctions (or for the monthly models used in an annual CRR Auction).  If monthly planning cases do not exist,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appropriate seasonal planning cas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we use the same on-peak distribution even if data might be available for weekends and off-peak from other sources?</a:t>
            </a:r>
            <a:r>
              <a:rPr b="1" lang="en-US" sz="2000" spc="-1" strike="noStrike">
                <a:solidFill>
                  <a:srgbClr val="ff0000"/>
                </a:solidFill>
                <a:latin typeface="Arial"/>
              </a:rPr>
              <a:t> Reliant:  Protocols state on-peak. Changing this would require an NPR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DC5FACB-526E-442C-B17E-1831F5915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base of first owners of CRRs </a:t>
            </a: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nitially populate a database of CRR Owners with the annual and monthly first-buyers of CRRs and first-recipients of PCRRs and MCFRI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is really needed? </a:t>
            </a:r>
            <a:r>
              <a:rPr b="1" lang="en-US" sz="2000" spc="-1" strike="noStrike">
                <a:solidFill>
                  <a:srgbClr val="ff0000"/>
                </a:solidFill>
                <a:latin typeface="Arial"/>
              </a:rPr>
              <a:t>Reliant: Yes.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78291FD-5ED3-404C-963E-221E57887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reas Addressed with Proposed Protocol Revision</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with the exception of the naming convention which is basically already ‘coded’ into the system, it is too late in the process to be making these other changes.  Moreover, if these changes are implemented, then the reduced scope and system capability should  free up funds for other system develop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timeline for:</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PCRRs and MCFRIs) request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s (PCRRs and MCFRIs) awarded</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Network Model posting</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ction Notice post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d concept of PCRR ‘releas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d CRR Naming Convention</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d which topology changes to include in CRR Network Models for annual and monthly auction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ynamic ratings language to be more general**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several MCFRI references to FGR</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credit limit description to reflect Counter-Party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d dispute language for CRR auction settlement</a:t>
            </a:r>
            <a:endParaRPr b="1" lang="en-US" sz="1800" spc="-1" strike="noStrike">
              <a:solidFill>
                <a:srgbClr val="000000"/>
              </a:solidFill>
              <a:latin typeface="Arial"/>
            </a:endParaRPr>
          </a:p>
        </p:txBody>
      </p:sp>
      <p:sp>
        <p:nvSpPr>
          <p:cNvPr id="121" name=""/>
          <p:cNvSpPr/>
          <p:nvPr/>
        </p:nvSpPr>
        <p:spPr>
          <a:xfrm>
            <a:off x="7161120" y="586728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More work need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4FDBD4-1100-41F9-B894-EDA7BAF46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Annual Auction</a:t>
            </a:r>
            <a:endParaRPr b="0" lang="en-US" sz="2000" spc="-1" strike="noStrike">
              <a:solidFill>
                <a:srgbClr val="ffffff"/>
              </a:solidFill>
              <a:latin typeface="Arial Black"/>
            </a:endParaRPr>
          </a:p>
        </p:txBody>
      </p:sp>
      <p:pic>
        <p:nvPicPr>
          <p:cNvPr id="123" name="" descr=""/>
          <p:cNvPicPr/>
          <p:nvPr/>
        </p:nvPicPr>
        <p:blipFill>
          <a:blip r:embed="rId1"/>
          <a:stretch/>
        </p:blipFill>
        <p:spPr>
          <a:xfrm>
            <a:off x="152280" y="990720"/>
            <a:ext cx="8763120" cy="3921120"/>
          </a:xfrm>
          <a:prstGeom prst="rect">
            <a:avLst/>
          </a:prstGeom>
          <a:ln w="0">
            <a:noFill/>
          </a:ln>
        </p:spPr>
      </p:pic>
      <p:sp>
        <p:nvSpPr>
          <p:cNvPr id="3" name="PlaceHolder 2"/>
          <p:cNvSpPr>
            <a:spLocks noGrp="1"/>
          </p:cNvSpPr>
          <p:nvPr>
            <p:ph type="sldNum" idx="1"/>
          </p:nvPr>
        </p:nvSpPr>
        <p:spPr/>
        <p:txBody>
          <a:bodyPr/>
          <a:p>
            <a:fld id="{9EBFAC6A-AF91-4DBE-A15E-8C2085AF2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Annual Auction</a:t>
            </a:r>
            <a:endParaRPr b="0" lang="en-US" sz="2000" spc="-1" strike="noStrike">
              <a:solidFill>
                <a:srgbClr val="ffffff"/>
              </a:solidFill>
              <a:latin typeface="Arial Black"/>
            </a:endParaRPr>
          </a:p>
        </p:txBody>
      </p:sp>
      <p:pic>
        <p:nvPicPr>
          <p:cNvPr id="125" name="" descr=""/>
          <p:cNvPicPr/>
          <p:nvPr/>
        </p:nvPicPr>
        <p:blipFill>
          <a:blip r:embed="rId1"/>
          <a:stretch/>
        </p:blipFill>
        <p:spPr>
          <a:xfrm>
            <a:off x="152280" y="990720"/>
            <a:ext cx="8763120" cy="3978000"/>
          </a:xfrm>
          <a:prstGeom prst="rect">
            <a:avLst/>
          </a:prstGeom>
          <a:ln w="0">
            <a:noFill/>
          </a:ln>
        </p:spPr>
      </p:pic>
      <p:sp>
        <p:nvSpPr>
          <p:cNvPr id="3" name="PlaceHolder 2"/>
          <p:cNvSpPr>
            <a:spLocks noGrp="1"/>
          </p:cNvSpPr>
          <p:nvPr>
            <p:ph type="sldNum" idx="1"/>
          </p:nvPr>
        </p:nvSpPr>
        <p:spPr/>
        <p:txBody>
          <a:bodyPr/>
          <a:p>
            <a:fld id="{5D0B2E18-D75E-43A6-81CA-65CC1A744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Monthly Auction</a:t>
            </a:r>
            <a:endParaRPr b="0" lang="en-US" sz="2000" spc="-1" strike="noStrike">
              <a:solidFill>
                <a:srgbClr val="ffffff"/>
              </a:solidFill>
              <a:latin typeface="Arial Black"/>
            </a:endParaRPr>
          </a:p>
        </p:txBody>
      </p:sp>
      <p:pic>
        <p:nvPicPr>
          <p:cNvPr id="127" name="" descr=""/>
          <p:cNvPicPr/>
          <p:nvPr/>
        </p:nvPicPr>
        <p:blipFill>
          <a:blip r:embed="rId1"/>
          <a:stretch/>
        </p:blipFill>
        <p:spPr>
          <a:xfrm>
            <a:off x="228600" y="990720"/>
            <a:ext cx="8778960" cy="3914640"/>
          </a:xfrm>
          <a:prstGeom prst="rect">
            <a:avLst/>
          </a:prstGeom>
          <a:ln w="0">
            <a:noFill/>
          </a:ln>
        </p:spPr>
      </p:pic>
      <p:sp>
        <p:nvSpPr>
          <p:cNvPr id="3" name="PlaceHolder 2"/>
          <p:cNvSpPr>
            <a:spLocks noGrp="1"/>
          </p:cNvSpPr>
          <p:nvPr>
            <p:ph type="sldNum" idx="1"/>
          </p:nvPr>
        </p:nvSpPr>
        <p:spPr/>
        <p:txBody>
          <a:bodyPr/>
          <a:p>
            <a:fld id="{2C7A554E-B541-4F46-B598-5D69F529B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Monthly Auction</a:t>
            </a:r>
            <a:endParaRPr b="0" lang="en-US" sz="2000" spc="-1" strike="noStrike">
              <a:solidFill>
                <a:srgbClr val="ffffff"/>
              </a:solidFill>
              <a:latin typeface="Arial Black"/>
            </a:endParaRPr>
          </a:p>
        </p:txBody>
      </p:sp>
      <p:pic>
        <p:nvPicPr>
          <p:cNvPr id="129" name="" descr=""/>
          <p:cNvPicPr/>
          <p:nvPr/>
        </p:nvPicPr>
        <p:blipFill>
          <a:blip r:embed="rId1"/>
          <a:stretch/>
        </p:blipFill>
        <p:spPr>
          <a:xfrm>
            <a:off x="152280" y="990720"/>
            <a:ext cx="8763120" cy="3906720"/>
          </a:xfrm>
          <a:prstGeom prst="rect">
            <a:avLst/>
          </a:prstGeom>
          <a:ln w="0">
            <a:noFill/>
          </a:ln>
        </p:spPr>
      </p:pic>
      <p:sp>
        <p:nvSpPr>
          <p:cNvPr id="3" name="PlaceHolder 2"/>
          <p:cNvSpPr>
            <a:spLocks noGrp="1"/>
          </p:cNvSpPr>
          <p:nvPr>
            <p:ph type="sldNum" idx="1"/>
          </p:nvPr>
        </p:nvSpPr>
        <p:spPr/>
        <p:txBody>
          <a:bodyPr/>
          <a:p>
            <a:fld id="{A744321F-ED40-4F5E-B4DA-B9D9600FE2D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for TPTF input</a:t>
            </a:r>
            <a:endParaRPr b="0" lang="en-US" sz="2000" spc="-1" strike="noStrike">
              <a:solidFill>
                <a:srgbClr val="ffffff"/>
              </a:solidFill>
              <a:latin typeface="Arial Black"/>
            </a:endParaRPr>
          </a:p>
        </p:txBody>
      </p:sp>
      <p:sp>
        <p:nvSpPr>
          <p:cNvPr id="92" name="PlaceHolder 2"/>
          <p:cNvSpPr>
            <a:spLocks noGrp="1"/>
          </p:cNvSpPr>
          <p:nvPr>
            <p:ph/>
          </p:nvPr>
        </p:nvSpPr>
        <p:spPr>
          <a:xfrm>
            <a:off x="456840" y="837720"/>
            <a:ext cx="8458200" cy="541044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o is getting MCFRIs – WGRs or QSEs?</a:t>
            </a:r>
            <a:endParaRPr b="1" lang="en-US" sz="1700" spc="-1" strike="noStrike">
              <a:solidFill>
                <a:srgbClr val="000000"/>
              </a:solidFill>
              <a:latin typeface="Arial"/>
            </a:endParaRPr>
          </a:p>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Reliant: Protocol references are:</a:t>
            </a:r>
            <a:endParaRPr b="1" lang="en-US" sz="17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93" name="" descr=""/>
          <p:cNvPicPr/>
          <p:nvPr/>
        </p:nvPicPr>
        <p:blipFill>
          <a:blip r:embed="rId1"/>
          <a:stretch/>
        </p:blipFill>
        <p:spPr>
          <a:xfrm>
            <a:off x="380880" y="1447920"/>
            <a:ext cx="5356440" cy="1365120"/>
          </a:xfrm>
          <a:prstGeom prst="rect">
            <a:avLst/>
          </a:prstGeom>
          <a:ln w="0">
            <a:noFill/>
          </a:ln>
        </p:spPr>
      </p:pic>
      <p:pic>
        <p:nvPicPr>
          <p:cNvPr id="94" name="" descr=""/>
          <p:cNvPicPr/>
          <p:nvPr/>
        </p:nvPicPr>
        <p:blipFill>
          <a:blip r:embed="rId2"/>
          <a:stretch/>
        </p:blipFill>
        <p:spPr>
          <a:xfrm>
            <a:off x="1728720" y="2819520"/>
            <a:ext cx="5686560" cy="1217520"/>
          </a:xfrm>
          <a:prstGeom prst="rect">
            <a:avLst/>
          </a:prstGeom>
          <a:ln w="0">
            <a:noFill/>
          </a:ln>
        </p:spPr>
      </p:pic>
      <p:sp>
        <p:nvSpPr>
          <p:cNvPr id="95" name=""/>
          <p:cNvSpPr/>
          <p:nvPr/>
        </p:nvSpPr>
        <p:spPr>
          <a:xfrm>
            <a:off x="685800" y="4038480"/>
            <a:ext cx="7238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liant: MCFRIs should be allocated to WGRs that are CRR account holders.  This is</a:t>
            </a:r>
            <a:r>
              <a:rPr b="0" lang="en-US" sz="1800" spc="-1" strike="noStrike">
                <a:solidFill>
                  <a:srgbClr val="ffff00"/>
                </a:solidFill>
                <a:latin typeface="Arial"/>
              </a:rPr>
              <a:t> </a:t>
            </a:r>
            <a:r>
              <a:rPr b="0" lang="en-US" sz="1800" spc="-1" strike="noStrike">
                <a:solidFill>
                  <a:srgbClr val="ff0000"/>
                </a:solidFill>
                <a:latin typeface="Arial"/>
              </a:rPr>
              <a:t>consistent with later protocols that</a:t>
            </a:r>
            <a:r>
              <a:rPr b="0" lang="en-US" sz="1800" spc="-1" strike="noStrike">
                <a:solidFill>
                  <a:srgbClr val="ffff00"/>
                </a:solidFill>
                <a:latin typeface="Arial"/>
              </a:rPr>
              <a:t> </a:t>
            </a:r>
            <a:r>
              <a:rPr b="0" lang="en-US" sz="1800" spc="-1" strike="noStrike">
                <a:solidFill>
                  <a:srgbClr val="ff0000"/>
                </a:solidFill>
                <a:latin typeface="Arial"/>
              </a:rPr>
              <a:t>state:  “ERCOT shall allocate MCFRIs only to WGRs in the McCamey Area.” How would this be done if the MCFRIs went to the QSEs? The WGRs will have QSEs because otherwise they can’t be settled for energy. Once allocated the WGRs would then transfer the MCFRIs to the CRR account of their Q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7F83C-C690-4884-97D9-10B807F1BE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7" name="PlaceHolder 2"/>
          <p:cNvSpPr>
            <a:spLocks noGrp="1"/>
          </p:cNvSpPr>
          <p:nvPr>
            <p:ph/>
          </p:nvPr>
        </p:nvSpPr>
        <p:spPr>
          <a:xfrm>
            <a:off x="457200" y="837720"/>
            <a:ext cx="8229600" cy="495324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w to ensure the 40% capacity factor limit is met by Capacity Option PCRRs in first six monthly auctions?</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This should be built into the system.</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f NOIEs are represented by another entity serving as their QSE, will they be able to offer their PCRRs into the DAM? </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yes, but ERCOT will need to keep track of the PCRRs as they are not tradeable AND for the scheduling, the PCRRs that are to go to RT have to be compared to 110% of NOIE peak forecast---so a process will need to be developed for this validation.</a:t>
            </a: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finition of Net Unit Capacity for PCRR eligibility</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this should be based on the seasonal testing that ERCOT is to conduct under Section 8 and should be limited by the contracted amount if such contracts are in place.</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98" name="" descr=""/>
          <p:cNvPicPr/>
          <p:nvPr/>
        </p:nvPicPr>
        <p:blipFill>
          <a:blip r:embed="rId1"/>
          <a:stretch/>
        </p:blipFill>
        <p:spPr>
          <a:xfrm>
            <a:off x="1905120" y="4267080"/>
            <a:ext cx="5454360" cy="1605240"/>
          </a:xfrm>
          <a:prstGeom prst="rect">
            <a:avLst/>
          </a:prstGeom>
          <a:ln w="0">
            <a:noFill/>
          </a:ln>
        </p:spPr>
      </p:pic>
      <p:sp>
        <p:nvSpPr>
          <p:cNvPr id="4" name="PlaceHolder 3"/>
          <p:cNvSpPr>
            <a:spLocks noGrp="1"/>
          </p:cNvSpPr>
          <p:nvPr>
            <p:ph type="sldNum" idx="1"/>
          </p:nvPr>
        </p:nvSpPr>
        <p:spPr/>
        <p:txBody>
          <a:bodyPr/>
          <a:p>
            <a:fld id="{6FA8DA73-165C-4E89-90EB-83EF3C7538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
          <p:cNvSpPr/>
          <p:nvPr/>
        </p:nvSpPr>
        <p:spPr>
          <a:xfrm>
            <a:off x="304920" y="762120"/>
            <a:ext cx="82296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Operating Guides the best place to document the methodology for determining what outages to include in CRR Network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Protocols state that it should be in the Operating Guides. Old versions of the protocols contemplated a “handbook”—but we removed the language with the agreement that ERCOT would include the information in the Operating Guides. 7.5.1(2)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of PTP Oblig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Load Zone weightings always be based on On-p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Protocols 7.5.1(3) state that on-peak is to be used. Recommend making this attribute of the system a varia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 there a need for a database of first owners of CR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this is a protocol requirement.  See 7.5.3.1.</a:t>
            </a:r>
            <a:endParaRPr b="0" lang="en-US" sz="1800" spc="-1" strike="noStrike">
              <a:solidFill>
                <a:srgbClr val="000000"/>
              </a:solidFill>
              <a:latin typeface="Arial"/>
            </a:endParaRPr>
          </a:p>
        </p:txBody>
      </p:sp>
      <p:pic>
        <p:nvPicPr>
          <p:cNvPr id="101" name="" descr=""/>
          <p:cNvPicPr/>
          <p:nvPr/>
        </p:nvPicPr>
        <p:blipFill>
          <a:blip r:embed="rId1"/>
          <a:stretch/>
        </p:blipFill>
        <p:spPr>
          <a:xfrm>
            <a:off x="533520" y="2743200"/>
            <a:ext cx="6173640" cy="762120"/>
          </a:xfrm>
          <a:prstGeom prst="rect">
            <a:avLst/>
          </a:prstGeom>
          <a:ln w="0">
            <a:noFill/>
          </a:ln>
        </p:spPr>
      </p:pic>
      <p:sp>
        <p:nvSpPr>
          <p:cNvPr id="3" name="PlaceHolder 2"/>
          <p:cNvSpPr>
            <a:spLocks noGrp="1"/>
          </p:cNvSpPr>
          <p:nvPr>
            <p:ph type="sldNum" idx="1"/>
          </p:nvPr>
        </p:nvSpPr>
        <p:spPr/>
        <p:txBody>
          <a:bodyPr/>
          <a:p>
            <a:fld id="{A025DAA1-529A-4E58-8F97-C278F06C0F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 is getting MCFRIs – WGRs or QSEs?</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procedures for determining McCamey Flowgate Rights (MCFRIs) and allocating them to QSEs representing wind-powered Generation Resources (WGR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CFRIs are a type of FGR that must be allocated only to WGRs in the McCamey Area,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dentify WGRs eligible for MCFRI allocation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may allocate MCFRIs only to WGRs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Rs, including MCFRIs, will be awarded to CRR Account Hol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s and WGRs may each have an associated CRR Account Holde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FB94621-834C-431A-9AC8-A99E278D7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apacity Option PCRRs in first six monthly auctions</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acity option – The eligible NOIE may nominate up to 100% of the lesser of the net unit capacity or contractual amount for those Resources at a capacity factor no greater than 40% over each calendar year.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team not clear how to enforce an annual capacity factor limit when there will be at least six monthly CRR markets.</a:t>
            </a:r>
            <a:endParaRPr b="1"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tion 1</a:t>
            </a:r>
            <a:r>
              <a:rPr b="1" lang="en-US" sz="1800" spc="-1" strike="noStrike">
                <a:solidFill>
                  <a:srgbClr val="000000"/>
                </a:solidFill>
                <a:latin typeface="Arial"/>
              </a:rPr>
              <a:t>:  Configure the system to enforce a 40% capacity factor limit in each monthly market </a:t>
            </a:r>
            <a:r>
              <a:rPr b="1" lang="en-US" sz="1800" spc="-1" strike="noStrike">
                <a:solidFill>
                  <a:srgbClr val="ff0000"/>
                </a:solidFill>
                <a:latin typeface="Arial"/>
              </a:rPr>
              <a:t>Reliant: Agree with this approach. </a:t>
            </a:r>
            <a:endParaRPr b="1"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tion 2</a:t>
            </a:r>
            <a:r>
              <a:rPr b="1" lang="en-US" sz="1800" spc="-1" strike="noStrike">
                <a:solidFill>
                  <a:srgbClr val="000000"/>
                </a:solidFill>
                <a:latin typeface="Arial"/>
              </a:rPr>
              <a:t>:  Track nominations manually and work with NOIEs on a case by case basis to limit their nominations so they don’t exceed 40% capacity factor for the period prior to the first annual nomination process. </a:t>
            </a:r>
            <a:r>
              <a:rPr b="1" lang="en-US" sz="1800" spc="-1" strike="noStrike">
                <a:solidFill>
                  <a:srgbClr val="ff0000"/>
                </a:solidFill>
                <a:latin typeface="Arial"/>
              </a:rPr>
              <a:t>Reliant: How would this be enforced as the allocation process is running? This approach appears to be  unworkable.</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7C821E6-187A-4988-8465-3B1F5889DF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PCRR offers into DAM</a:t>
            </a:r>
            <a:endParaRPr b="0" lang="en-US" sz="2000" spc="-1" strike="noStrike">
              <a:solidFill>
                <a:srgbClr val="ffffff"/>
              </a:solidFill>
              <a:latin typeface="Arial Black"/>
            </a:endParaRPr>
          </a:p>
        </p:txBody>
      </p:sp>
      <p:sp>
        <p:nvSpPr>
          <p:cNvPr id="10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OIEs to receive PCRRs they will have to register as CRR Account Holders.  </a:t>
            </a:r>
            <a:r>
              <a:rPr b="1" lang="en-US" sz="1800" spc="-1" strike="noStrike">
                <a:solidFill>
                  <a:srgbClr val="ff0000"/>
                </a:solidFill>
                <a:latin typeface="Arial"/>
              </a:rPr>
              <a:t>Reliant: yes—we agree. Further, all business processes regarding the data that ERCOT will require from NOIEs to determine the awards should be developed and presented to TPTF. (Note that this is only a discussion regarding the types of documentation—not the documentation itself.  Such discussion will provide ERCOT and Market Participants assurance that ERCOT will be able to confirm that the information required from NOIEs will be specific enough to appropriately consider requests for PCRRs that must be resource/contract/NOIE load specific.)</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IEs also have the ability to offer their PCRRs into the DAM and be settled at Real Time prices.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ipants in the DAM are required to be QSEs.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IEs are represented by another entity serving as their QSE, will they be able to offer their PCRRs into the DAM? </a:t>
            </a:r>
            <a:r>
              <a:rPr b="1" lang="en-US" sz="1800" spc="-1" strike="noStrike">
                <a:solidFill>
                  <a:srgbClr val="ff0000"/>
                </a:solidFill>
                <a:latin typeface="Arial"/>
              </a:rPr>
              <a:t>Reliant: yes---but again ERCOT will need to be enforcing applicable provisions—like the default offer value and the limitation on what can be carried to RT.</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73980FC-E883-4FF4-8966-D1E26282D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finition of Net Unit Capacity for PCRR eligibility</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ch eligible NOIE may nominate and ERCOT shall allocate to that NOIE as so nominated, subject to the limitation of paragraph (a) above, PCRRs up to 100% of the </a:t>
            </a:r>
            <a:r>
              <a:rPr b="1" i="1" lang="en-US" sz="2000" spc="-1" strike="noStrike">
                <a:solidFill>
                  <a:srgbClr val="ff0000"/>
                </a:solidFill>
                <a:latin typeface="Arial"/>
              </a:rPr>
              <a:t>net unit capacity</a:t>
            </a:r>
            <a:r>
              <a:rPr b="1" i="1" lang="en-US" sz="2000" spc="-1" strike="noStrike">
                <a:solidFill>
                  <a:srgbClr val="000000"/>
                </a:solidFill>
                <a:latin typeface="Arial"/>
              </a:rPr>
              <a:t> (or contractual amount) for each eligible Resour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what source to use for net unit capacity</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NOIE provides the net unit capacity value at the time they submit their proof of PCRR eligibility.   These values would be checked against available net dependable capacity info on file.</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If net unit capacity means Net Dependable Capability, should PCRR eligibility be updated with every performance test? </a:t>
            </a:r>
            <a:r>
              <a:rPr b="1" lang="en-US" sz="2000" spc="-1" strike="noStrike">
                <a:solidFill>
                  <a:srgbClr val="ff0000"/>
                </a:solidFill>
                <a:latin typeface="Arial"/>
              </a:rPr>
              <a:t>Reliant:  yes. See comments on slide 3.</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89612F8-EB4D-4811-9F47-A32008240C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ages to include in CRR Network Model</a:t>
            </a:r>
            <a:endParaRPr b="0" lang="en-US" sz="2000" spc="-1" strike="noStrike">
              <a:solidFill>
                <a:srgbClr val="ffffff"/>
              </a:solidFill>
              <a:latin typeface="Arial Black"/>
            </a:endParaRPr>
          </a:p>
        </p:txBody>
      </p:sp>
      <p:sp>
        <p:nvSpPr>
          <p:cNvPr id="1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s criteria for determining if an Outage should be in the CRR Network Model shall be in accordance with these Protocols and described in the ERCOT Operating Guid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e process really belong in the Operating Guides or could it be shared via a procedure document? </a:t>
            </a:r>
            <a:r>
              <a:rPr b="1" lang="en-US" sz="2000" spc="-1" strike="noStrike">
                <a:solidFill>
                  <a:srgbClr val="ff0000"/>
                </a:solidFill>
                <a:latin typeface="Arial"/>
              </a:rPr>
              <a:t>Reliant: Right now the Protocols say the Operating Guides---changing this would require an NPR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EAA25FA-37C9-4778-9F4F-86EC1A333D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09:42Z</dcterms:created>
  <dc:creator/>
  <dc:description/>
  <dc:language>en-US</dc:language>
  <cp:lastModifiedBy/>
  <dcterms:modified xsi:type="dcterms:W3CDTF">2007-08-07T18:30:24Z</dcterms:modified>
  <cp:revision>23</cp:revision>
  <dc:subject/>
  <dc:title>Cleanup NPRR – Section 7 (CRR) Discussion Issues</dc:title>
</cp:coreProperties>
</file>