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763A1-B482-491D-BC0D-BC77AEACF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C3869-7B73-436F-9F46-1CB0F0F98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99348-12A3-4C67-B1C0-CB5A00710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93580-9691-4B29-A9DA-7B4AD3893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25E2B-3972-46F5-AAB1-0581A94E6A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63015-F0E8-49BC-A04C-AA7177B6B7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CF7E0-A338-4C54-A278-570D44A50E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6C099-6102-4ACC-AE2D-116B2398AC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5BF32-D9CC-4148-B5B3-DED845F70B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20E02-B73A-4A06-8267-6CA9FAD743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F838B-960A-4E42-BE9C-D47FAD8583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98402-5542-4E3A-B525-3A7EDF008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D0584-7FCC-4D7D-9D25-76500A5E55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15189-C82A-44F1-ADEA-A277C56337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516AD-FC42-4D5B-9DC7-67CEF6987A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9F8B2-8FC4-466B-9D3B-D449303731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718E0-91C3-4E81-A946-13F6326910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384B5-259A-4178-8DFA-3B963494B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6783B-142F-4492-A379-69AC062BE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1F07-0B1C-4B46-9ED8-621E86B69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0F0FE-0A44-488B-9013-C4886E2E8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85E12-A494-4CEB-B137-B87E0C589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A9A1-B696-4D51-88A1-03D63AD9E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B4EB-A22B-4B42-AADD-008CA9A2C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7083-BB7B-4310-97BC-EFAF8D287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2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90360" cy="42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533160" y="61722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009920" y="6243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2A0A-99D5-4592-8E5B-5769A74D609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SC Utilization Report</a:t>
            </a:r>
            <a:br>
              <a:rPr sz="5000"/>
            </a:br>
            <a:r>
              <a:rPr b="1" lang="en-US" sz="4000" spc="-1" strike="noStrike">
                <a:solidFill>
                  <a:srgbClr val="000066"/>
                </a:solidFill>
                <a:latin typeface="Arial Narrow"/>
              </a:rPr>
              <a:t>2007 January - August</a:t>
            </a:r>
            <a:endParaRPr b="1" lang="en-US" sz="4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403812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September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N_W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Aug 2007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508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ptember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B6082-8A53-4FA9-B767-F8E90371C7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Available CSC capacity for every interval: N_H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54864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rted from least unused capacity to m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57150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vals marked with </a:t>
            </a:r>
            <a:r>
              <a:rPr b="1" lang="en-US" sz="1600" spc="-1" strike="noStrike">
                <a:solidFill>
                  <a:srgbClr val="00ffff"/>
                </a:solidFill>
                <a:latin typeface="Arial Narrow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were bi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81080" y="3809880"/>
            <a:ext cx="464832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267440" cy="2666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495680" y="990720"/>
            <a:ext cx="446400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ptember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762A-501F-47B1-80DF-DAA58AE329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Available CSC capacity for every interval: S_N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5486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rted from least unused capacity to m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5715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vals marked with </a:t>
            </a:r>
            <a:r>
              <a:rPr b="1" lang="en-US" sz="1600" spc="-1" strike="noStrike">
                <a:solidFill>
                  <a:srgbClr val="00ffff"/>
                </a:solidFill>
                <a:latin typeface="Arial Narrow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were bi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4343400" cy="2747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4267440" cy="2494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724280" y="914400"/>
            <a:ext cx="4272120" cy="249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ptember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8659-45D7-4A46-A2EC-1402C5CC13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Available CSC capacity for every interval: S_H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486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rted from least unused capacity to m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5715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vals marked with </a:t>
            </a:r>
            <a:r>
              <a:rPr b="1" lang="en-US" sz="1600" spc="-1" strike="noStrike">
                <a:solidFill>
                  <a:srgbClr val="00ffff"/>
                </a:solidFill>
                <a:latin typeface="Arial Narrow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were bi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62320" y="3733920"/>
            <a:ext cx="4114800" cy="2590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450360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52280" y="990720"/>
            <a:ext cx="4191120" cy="266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ptember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0D9BC-3685-4DFC-8B65-5059385EC0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Available CSC capacity for every interval: N_W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5486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rted from least unused capacity to m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5715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vals marked with </a:t>
            </a:r>
            <a:r>
              <a:rPr b="1" lang="en-US" sz="1600" spc="-1" strike="noStrike">
                <a:solidFill>
                  <a:srgbClr val="00ffff"/>
                </a:solidFill>
                <a:latin typeface="Arial Narrow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were bi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62320" y="3733920"/>
            <a:ext cx="4190760" cy="2590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95680" y="990720"/>
            <a:ext cx="4419720" cy="2590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52280" y="990720"/>
            <a:ext cx="4114800" cy="26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ptember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2F62-6F60-4490-A000-79F316182C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Shadow Prices for Unused CSC capacity: </a:t>
            </a:r>
            <a:br>
              <a:rPr sz="2800"/>
            </a:br>
            <a:r>
              <a:rPr b="1" lang="en-US" sz="1700" spc="-1" strike="noStrike">
                <a:solidFill>
                  <a:srgbClr val="000066"/>
                </a:solidFill>
                <a:latin typeface="Arial Narrow"/>
              </a:rPr>
              <a:t>Jan – Aug 2007</a:t>
            </a:r>
            <a:endParaRPr b="1" lang="en-US" sz="17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555480" y="90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34290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 Narrow"/>
              </a:rPr>
              <a:t>Max SP =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34290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 Narrow"/>
              </a:rPr>
              <a:t>Max SP =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61722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 Narrow"/>
              </a:rPr>
              <a:t>Max SP =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61722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 Narrow"/>
              </a:rPr>
              <a:t>Max SP =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4419720" cy="2514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267080" cy="2514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52280" y="3657600"/>
            <a:ext cx="4419720" cy="2514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648320" y="3657600"/>
            <a:ext cx="426708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ptember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2150D-1D9B-4C35-BFC1-FEB28EC963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Outline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nal congestion – costs and qua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e and binding interv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ual CSC flows vs lim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ptember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187C-D5DB-4C6F-90B8-5E2687807D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CSC Congestion Charges collected from QSEs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3520" y="5181480"/>
          <a:ext cx="7804080" cy="1212840"/>
        </p:xfrm>
        <a:graphic>
          <a:graphicData uri="http://schemas.openxmlformats.org/drawingml/2006/table">
            <a:tbl>
              <a:tblPr/>
              <a:tblGrid>
                <a:gridCol w="1143000"/>
                <a:gridCol w="780840"/>
                <a:gridCol w="878040"/>
                <a:gridCol w="770040"/>
                <a:gridCol w="846000"/>
                <a:gridCol w="923760"/>
                <a:gridCol w="1154160"/>
                <a:gridCol w="1308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6:  Q1-2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304920" y="4876920"/>
            <a:ext cx="3504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 quality data available through Augu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ptember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70A7B-078C-45CF-9207-69656BD578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Number of Intervals Constraints were Binding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76520" y="5105520"/>
          <a:ext cx="5823000" cy="1212840"/>
        </p:xfrm>
        <a:graphic>
          <a:graphicData uri="http://schemas.openxmlformats.org/drawingml/2006/table">
            <a:tbl>
              <a:tblPr/>
              <a:tblGrid>
                <a:gridCol w="1044360"/>
                <a:gridCol w="781200"/>
                <a:gridCol w="780840"/>
                <a:gridCol w="825480"/>
                <a:gridCol w="989280"/>
                <a:gridCol w="742680"/>
                <a:gridCol w="659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7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6: Q1-2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10480" cy="419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ptember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38E7F-A005-4E07-A037-E611D06F48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Summary of Zonal Congestion Occurrences - Intervals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143000"/>
          <a:ext cx="7543800" cy="5076720"/>
        </p:xfrm>
        <a:graphic>
          <a:graphicData uri="http://schemas.openxmlformats.org/drawingml/2006/table">
            <a:tbl>
              <a:tblPr/>
              <a:tblGrid>
                <a:gridCol w="1066680"/>
                <a:gridCol w="609840"/>
                <a:gridCol w="685800"/>
                <a:gridCol w="609480"/>
                <a:gridCol w="685800"/>
                <a:gridCol w="581040"/>
                <a:gridCol w="714240"/>
                <a:gridCol w="581040"/>
                <a:gridCol w="714600"/>
                <a:gridCol w="609480"/>
                <a:gridCol w="685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6: Q1-2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1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ptember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1457-D96C-42BF-9500-DE6DC46620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Summary of Zonal Congestion Occurrences - Days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990720"/>
          <a:ext cx="7543800" cy="4952880"/>
        </p:xfrm>
        <a:graphic>
          <a:graphicData uri="http://schemas.openxmlformats.org/drawingml/2006/table">
            <a:tbl>
              <a:tblPr/>
              <a:tblGrid>
                <a:gridCol w="1066680"/>
                <a:gridCol w="609840"/>
                <a:gridCol w="685800"/>
                <a:gridCol w="609480"/>
                <a:gridCol w="685800"/>
                <a:gridCol w="609480"/>
                <a:gridCol w="685800"/>
                <a:gridCol w="609840"/>
                <a:gridCol w="685800"/>
                <a:gridCol w="609480"/>
                <a:gridCol w="685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6: Q1-2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ptember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F0B4F-7171-4154-A693-27A9921AD8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N_H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Aug 2007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6312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ptember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950D5-C230-4C1C-9FB5-7EB76CDC1A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S_H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Aug 2007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68680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ptember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BEB64-29F7-4571-9A5E-F7B633B643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S_N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Aug 2007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63120" cy="49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ptember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4BF58-6539-4AC2-B58A-8A0D5419AA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9:22:49Z</dcterms:created>
  <dc:creator>Beth Garza</dc:creator>
  <dc:description/>
  <dc:language>en-US</dc:language>
  <cp:lastModifiedBy>ercot/if</cp:lastModifiedBy>
  <dcterms:modified xsi:type="dcterms:W3CDTF">2007-09-14T22:25:34Z</dcterms:modified>
  <cp:revision>1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