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15A0-8A58-4925-B970-FC2486E9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C7DC-2B7E-47A6-B38A-5BAD04F5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9CCE-FE8E-472F-B2FA-057F956E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AC16-3738-4B57-900D-462B2EDC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5C67-9C54-4021-88B0-01DD47D5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A948-AAB4-4522-8709-33EBCF29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1F7A-45C7-4D18-8711-77781217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59DF-A4CF-412C-BE7A-D3431A40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1AE1-6DB2-46D0-966D-FE2CBC7E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21F8-14EB-494B-A849-5237A5DE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2847-3410-4FB7-9BDB-7688EF9D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21CF-18F5-4591-8502-E4318895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2076-96E0-42D9-9C22-A2D7FB4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D492-9C6B-4555-B244-109A2082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5D45-941E-4EFD-8B46-59F6E699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4927-2183-463F-BA3F-3BAAA923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DBE8-7866-4015-B2D9-6725062A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98C1-41DF-43CB-9882-1D3F3116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5801-55D0-4AEB-BED8-34F72510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A681-98D1-41F4-AD59-49B1E2CC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3ED5-2E22-47E2-BDCC-C12546EA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F81C-49A6-48B4-9FC5-B58C62D9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3C34-9743-4C16-91E8-916EBA5D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FAC1-9881-4709-B1D2-C607A1B0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7DF9-CDE1-49C4-B648-66C04258E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C35B-AB6E-4BEE-AE5E-7C8F576A0F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SE Managers Working Group Report to WM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ptember 19, 200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ability vs Scarcity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find a solution that will address the Reliability vs Scarcity Pricing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included in LTSTF white paper to be presented by Bob Witt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ability vs Scarcity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5% of intervals have OOM for AR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of days over-forecast in Day-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mparison of Day-Ahead resource plan capacity commitment vs actual – significant reduction.  RPRS engine making firm commitments on units when the rest of the resource plan is non-bi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ability vs Scarcity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financial incentive to take units off-line in the middle of an Alert because prices dr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OOM instructions seem to last much longer than necessary – therefore depressing prices longer than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some way to reach the top of the balancing stack when reserves get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ability vs Scarcity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ystem makes 500-1000 MW of balancing stack unusable due to discount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 initia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discount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nnounced testing on HSL to account for weather differ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ability vs Scarcity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oad some units that are at the top, creating RRS.  Redispatch of existing gen can give needed capacity instead of bringing on additional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730 – no consensus, but need to continue discu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ability vs Scarcity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amount of RRS procured by 5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current 2300 &amp; 2500 MW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ex-ante Administrative Price Adjustments per flow chart presented by Dan J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engineering study needed for additional RRS and LA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59200" y="895320"/>
            <a:ext cx="990720" cy="99072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ges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9880" y="1874880"/>
            <a:ext cx="9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62440" y="2182680"/>
            <a:ext cx="990720" cy="99072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ECP &gt; Step 1 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p 1 &gt; 30 mi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1360" y="267660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5080" y="1116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26160" y="241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26120" y="186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63920" y="3174840"/>
            <a:ext cx="9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0520" y="3164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97360" y="4792680"/>
            <a:ext cx="990720" cy="99072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SRS Deployed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6280" y="528624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61080" y="502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98840" y="5784840"/>
            <a:ext cx="9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75440" y="5773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78280" y="3495600"/>
            <a:ext cx="990720" cy="99072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OM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Suppl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200" y="398952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42000" y="3730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79760" y="4487760"/>
            <a:ext cx="9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360" y="4476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68880" y="2438280"/>
            <a:ext cx="1063800" cy="51120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PE = C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95560" y="6080040"/>
            <a:ext cx="1020960" cy="55260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PE = SPD MC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3280" y="3728880"/>
            <a:ext cx="1063440" cy="51120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PE =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 (SPD MCP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50 to $25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08480" y="5029200"/>
            <a:ext cx="1063800" cy="51120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PE =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D MCPE + $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17760" y="1393920"/>
            <a:ext cx="540000" cy="4964040"/>
          </a:xfrm>
          <a:custGeom>
            <a:avLst/>
            <a:gdLst/>
            <a:ahLst/>
            <a:rect l="l" t="t" r="r" b="b"/>
            <a:pathLst>
              <a:path w="1201" h="3127">
                <a:moveTo>
                  <a:pt x="1201" y="0"/>
                </a:moveTo>
                <a:lnTo>
                  <a:pt x="0" y="0"/>
                </a:lnTo>
                <a:lnTo>
                  <a:pt x="0" y="3127"/>
                </a:lnTo>
                <a:lnTo>
                  <a:pt x="1201" y="31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59200" y="895320"/>
            <a:ext cx="990720" cy="99072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gestio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1874880"/>
            <a:ext cx="9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62440" y="2182680"/>
            <a:ext cx="990720" cy="99072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ECP &gt; Step 1 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p 1 &gt; 30 min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1360" y="267660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75080" y="1116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26160" y="2417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26120" y="186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3920" y="3174840"/>
            <a:ext cx="9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0520" y="3164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78280" y="3495600"/>
            <a:ext cx="990720" cy="99072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OM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Supply 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ployed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67200" y="398952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42000" y="3730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79760" y="4487760"/>
            <a:ext cx="9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6360" y="4476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68880" y="2438280"/>
            <a:ext cx="1063800" cy="51120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PE = C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95560" y="4824360"/>
            <a:ext cx="1020960" cy="55260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PE = SPD MC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3280" y="3728880"/>
            <a:ext cx="1063440" cy="51120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CPE =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 (SPD MCP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50 to $25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17760" y="1393920"/>
            <a:ext cx="540000" cy="3747960"/>
          </a:xfrm>
          <a:custGeom>
            <a:avLst/>
            <a:gdLst/>
            <a:ahLst/>
            <a:rect l="l" t="t" r="r" b="b"/>
            <a:pathLst>
              <a:path w="1201" h="3127">
                <a:moveTo>
                  <a:pt x="1201" y="0"/>
                </a:moveTo>
                <a:lnTo>
                  <a:pt x="0" y="0"/>
                </a:lnTo>
                <a:lnTo>
                  <a:pt x="0" y="3127"/>
                </a:lnTo>
                <a:lnTo>
                  <a:pt x="1201" y="31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4:31:46Z</dcterms:created>
  <dc:creator>Larry Gurley</dc:creator>
  <dc:description/>
  <dc:language>en-US</dc:language>
  <cp:lastModifiedBy>Gary D. Miller</cp:lastModifiedBy>
  <dcterms:modified xsi:type="dcterms:W3CDTF">2007-09-18T13:59:01Z</dcterms:modified>
  <cp:revision>19</cp:revision>
  <dc:subject/>
  <dc:title>QSE Managers Working Group Report to WMS February 22, 2006</dc:title>
</cp:coreProperties>
</file>