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C09A-EDF8-4E7C-930E-8DBF99B5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6CC0-5536-470C-9E37-A66E10E4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0097-CD8E-4138-9CEE-6F689FB8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44CF-E018-48E0-944C-C0C046AF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E8B0-9E58-4A95-A529-88238BF0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8837-4874-4650-B5B1-7336FEA4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75AD-8772-4409-B485-0CF9B5A5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CC2E-5344-4479-9C2C-C6907A06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5588-98D9-4DE6-865F-73EC40B5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EBBE-1DD2-41E6-85F2-545F76F8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5F36-992A-40BF-B8E3-71EB005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07E4-1A45-4253-A02A-B896562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7D4A-B49E-4601-B246-D60F150AC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060E-56F7-4A2E-8456-F328FB6F0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ptember 20, 200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Project Prioritization and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Status and Funding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Project 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that have been implemented – 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 Review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16B6-195E-466C-9C24-AFECD97E46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4214880"/>
            <a:ext cx="8076960" cy="121896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Prioritization Approval Stat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PRS on 6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TAC on 6/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dered for approval by the Board on 9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Funding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2008 project budget submi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7.5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  5.3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d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2.8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on 7/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ion of projects to 20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$5.3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s to be accelerated sti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ing determ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2008 project 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27.5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vised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07160" y="5746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224160"/>
            <a:ext cx="8076960" cy="990720"/>
          </a:xfrm>
          <a:prstGeom prst="rect">
            <a:avLst/>
          </a:prstGeom>
          <a:solidFill>
            <a:srgbClr val="ffff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83D4-02C7-4343-8197-2040ACA17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market-facing project implementations 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BA Review 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xt meeting – 10/4/2007, 1pm-2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jective: Review/revise “Guidelines for Project Prioritiz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9B8C-61B4-44CF-B2F6-791091B1A8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 Stat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s 1 and 2 approved by Board of Directors on 7/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Baseline (known as “Post-Baseline 2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NOGRRs -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All approved by ROS on 9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with No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RRs 3, 4, 6, 7, 8a, 8b, 8c, 8d, 8e, 8f, 8g, 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with Impacts that will be absorbed in current budget and schedul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ommended for grey-box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RRs 1, 2,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Items in this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dal projects are now well into Delivery mo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important that we address only essential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put both schedule and budget at r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31A1-D8E9-4CE1-9B3F-1FA6401B16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7-09-14T20:59:07Z</dcterms:modified>
  <cp:revision>114</cp:revision>
  <dc:subject/>
  <dc:title>Instructions</dc:title>
</cp:coreProperties>
</file>