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DA07-5104-4EA7-B62C-C9C0B2E6E6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CT Chapter 25 §25.36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Protocol 3.10.4 ERCOT Responsib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Protocol 3.10.5 TSP Responsib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Protocol 3.10.6 Resource Entity Responsibilit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Protocol 3.10.7.2 Modeling of Resources and Transmission Lo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Protocol 3.10.7.5 Telemetry Cri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al Protocol 3.10.7.5.2 Continuous Telemetry of the Real-Time Measurements of Bus Load, Voltages, Tap Position, and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C Reliability Coordination — Fac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O 002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2, R5,R6,R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C Reliability Coordination — Wide-Are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O-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C Reliability Coordination — Current Day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RO-0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27BF-8A13-41DD-BC93-8ABA1C2C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F063-D416-4FCD-9CFA-A87E0ED0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F535D-C658-4C7F-8C1F-0FE92D733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9231E-EF67-41DD-B854-2F41DBF6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6D4E-09D3-4C9B-9B7A-7C20458C3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0666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5348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93EE5-FA4B-4D01-B22F-705826C7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228A-88DC-42AF-B571-A6A0ECB9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9F7DA-9AE4-454C-B9CA-92E22B65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280" y="-360"/>
            <a:ext cx="86868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909DD-7EA7-4315-816C-5F2E5CEC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F4778-8B81-4C83-B83E-3D02A54C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5348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43729-523B-415E-9503-1B0E3FF6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0666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5348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4852-A949-41CF-8E93-9506E09E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980C-14E2-46C2-BD24-8311C81DD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235560"/>
            <a:ext cx="9144000" cy="622440"/>
          </a:xfrm>
          <a:prstGeom prst="rect">
            <a:avLst/>
          </a:prstGeom>
          <a:solidFill>
            <a:srgbClr val="ecec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3360" y="6289560"/>
            <a:ext cx="854280" cy="4795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248160" y="6458040"/>
            <a:ext cx="2514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9920" y="6458040"/>
            <a:ext cx="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114264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732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3429000" y="6477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13C0-2DCA-4984-A019-022B41C32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1295280" cy="5191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5469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33520" y="1905120"/>
            <a:ext cx="6477120" cy="12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2333520" y="5466960"/>
            <a:ext cx="627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2333520" y="5067360"/>
            <a:ext cx="6276960" cy="41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elemetry and State Estimator  Standard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ll Blevi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lemtry and State Estimator Standard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9-17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lemetry Standard proposed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at changed to align with NERC standards forma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intro and removed required Telemetry as this is specified by Protoc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 no significant ch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quirements for TSP telemetry have been separated into their own se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the ICCP handbook as source of specific TSP tele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d prior wording on observ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orporated prior wording on Redunda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 what criteria is used to obtain new customer own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mtry and State Estimator Standard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9-17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lemetry Standard proposed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3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quirements for QSE telemetry have been separated into their own sec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CCP handbook for SCAN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5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y ICCP handbook for Data Qu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or standard Quality codes were not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6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ed the existing TSP minimum telemetry criteria from General Performance Criteria to it’s own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7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ed the existing Availability requirements from General Performance Criteria to it’s own Requi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vised Availability requirements from 98% of all points achieving 80% availability, to all points achieving 99% availability. The 99% availability is the total availability of all points, not the availability of each poi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mtry and State Estimator Standard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9-17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lemetry Standard proposed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8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ed language to direct actions when ERCOT must locally replace a point for a QSE/TS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9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critically important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a footnote of the meaning of critical telemetry as any point that leaves the network unobservable if unavail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0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availability of critical points from 95% of points having 98% availability to all points having 99.9% availabilit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1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2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mtry and State Estimator Standard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9-17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Telemetry Standard proposed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3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CP link availability has been changed to 99.9% from 85% to be consistent with the availability requirement for critical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4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the time for a plan for additional telemetry from 18 months to 3 months or provide an alternate plan that will solve the issue within 3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15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ed the time for a plan for redundant telemetry from 18 months to 6 months or provide an alternate plan that will solve the issue within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mtry and State Estimator Standard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9-17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33520" y="1904760"/>
            <a:ext cx="601992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State Estimator Proposed Change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342880" y="358092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Bill Blevin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Telemtry and State Estimator Standard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09-17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tate Estimator Standard proposed chang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at changed to align with NERC standards format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d SE convergence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2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d the monthly trial and made the requirement month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3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d the monthly trial and made the requirement month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4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Chan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5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de the requirement month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asur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d QS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d reference to section in the old TAC standard and pointed to the Telemetry Stand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d reference to Nodal section relating to monthly SE reporting for compl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moved reference to protocol and inserted reference to section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sure 5 referred to the quality codes from the ICCP handbook (Manual is not an ICCP cod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elemtry and State Estimator Standards Worksho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09-17-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7:01:19Z</dcterms:created>
  <dc:creator>Bill Blevins</dc:creator>
  <dc:description/>
  <dc:language>en-US</dc:language>
  <cp:lastModifiedBy>ERCOT</cp:lastModifiedBy>
  <dcterms:modified xsi:type="dcterms:W3CDTF">2007-09-13T17:42:30Z</dcterms:modified>
  <cp:revision>6</cp:revision>
  <dc:subject/>
  <dc:title>Instructions</dc:title>
</cp:coreProperties>
</file>