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C9A2AD-3E24-4484-8838-43814E9F76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C19C692-0349-4A23-9E25-8824981AD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8E89FD0-691B-41D7-9F3A-6E4D9EA92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DD47BEF-2D5B-47AE-83E7-F3D040822BD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FE5AFB0-B910-4E6E-8561-E5AB7EA1A2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884296-4708-48AD-8DFC-D26F65764D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8A985F-B54B-4E46-AC29-B512865022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5CEEC61-E7A5-4FBC-A6F5-004DD1C6BD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A389DED-9C99-4244-A2FC-E3377CB21C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9390F36-1689-4F3B-AE0C-0AB44B21C6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B13A268-54EC-4AC7-AB60-B462A7585A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EF476E-F319-477C-B74A-5E972344C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AB983B6-428A-4688-8733-16B998D81C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2AD842C-43D2-4F4D-A415-6609F60F15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1E32C64-62D3-4C7D-98ED-B80319E646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49731EB-3ECB-4B2A-A269-607282A757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945A002-9776-42F9-BA48-CEEA827DAF1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A5E9C41-4B42-4767-97AC-B968E124AC1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07AE7BB-F9D0-4E92-9265-5F1E6621F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DC0A192-5D3E-4419-B86A-D552A501E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8019E401-0D92-4535-A7F7-3714F63A4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586936FB-7516-4DCF-A066-E8A2B6E32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B1A6B8-CD8F-42BD-9C48-747C088A7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86A48E20-9054-4E91-82ED-96991411B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C2E6DC6-DF68-4D91-976D-59875CDEC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BCFB30D-B34D-4E62-988D-7E2C95E6C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EA3AB23-CD24-4A41-8D0D-99973517C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209F02FC-981B-43F2-A426-0C6688590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3773320F-D1EF-46BB-B17B-362950FF2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8AE85C9A-3203-4F77-9FCC-37B5B11D728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A5EDF30-AF87-41E6-B49A-8F0DF2935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0A65D87-A041-469C-85DB-19EC738DA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FD05F9E-5C75-4419-92CA-2C15F2090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D164E1E-C343-49D5-B313-D4D4A31CA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056B601-780E-4BE8-A401-F40EAB9E3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1193C37-624A-49C5-BEE1-AB5F3BB964E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2487-9706-4473-BA45-E9577ECC6F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3238560" y="0"/>
            <a:ext cx="11925360" cy="3809880"/>
            <a:chOff x="-3238560" y="0"/>
            <a:chExt cx="11925360" cy="3809880"/>
          </a:xfrm>
        </p:grpSpPr>
        <p:sp>
          <p:nvSpPr>
            <p:cNvPr id="4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9" name="" descr=""/>
          <p:cNvPicPr/>
          <p:nvPr/>
        </p:nvPicPr>
        <p:blipFill>
          <a:blip r:embed="rId2"/>
          <a:stretch/>
        </p:blipFill>
        <p:spPr>
          <a:xfrm>
            <a:off x="7620120" y="228600"/>
            <a:ext cx="1295280" cy="696960"/>
          </a:xfrm>
          <a:prstGeom prst="rect">
            <a:avLst/>
          </a:prstGeom>
          <a:ln w="0">
            <a:noFill/>
          </a:ln>
        </p:spPr>
      </p:pic>
      <p:sp>
        <p:nvSpPr>
          <p:cNvPr id="50"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358C-4A47-4E52-8639-EA51E7BEC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222720" y="304920"/>
            <a:ext cx="11909520" cy="4724280"/>
            <a:chOff x="-3222720" y="304920"/>
            <a:chExt cx="11909520" cy="4724280"/>
          </a:xfrm>
        </p:grpSpPr>
        <p:sp>
          <p:nvSpPr>
            <p:cNvPr id="8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9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A734-13DD-4209-830D-B433CA6366C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4" name="" descr=""/>
          <p:cNvPicPr/>
          <p:nvPr/>
        </p:nvPicPr>
        <p:blipFill>
          <a:blip r:embed="rId2"/>
          <a:stretch/>
        </p:blipFill>
        <p:spPr>
          <a:xfrm>
            <a:off x="7620120" y="228600"/>
            <a:ext cx="129528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rcot.com/mktrules/issues/prr/725-49/736/index.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Direc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R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eptember 20, 2007</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1710533-7366-4BD2-81E1-C831D861714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28600" y="1393920"/>
            <a:ext cx="8610480" cy="4850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and Response Update</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T Project No. 31418 on Advance Metering facilitates Demand Response.</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 Budget for 2008 approved.</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736 written by the PWG and endorsed and submitted by the COP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027 final language review scheduled for the PWG meeting on 9/25 with associated Decision Tree changes pending and currently being discussed at the PWG.</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target is summer of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of PRR736 is to meet minimal cost, system impacts and the target implementation date.</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ot Project by three Competitive Representatives and two TDSPs is ongoing. Pilot is outside of ERCOT settlement system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4A35E73A-F3CC-4D56-85F8-E8BA4BB478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 y="1393920"/>
            <a:ext cx="8610480" cy="1587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and Response Implementation Timeline</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21, 2008</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ed implementation with 150 day notice after Board Approval</a:t>
            </a:r>
            <a:endParaRPr b="0" lang="en-US" sz="1800" spc="-1" strike="noStrike">
              <a:solidFill>
                <a:srgbClr val="000000"/>
              </a:solidFill>
              <a:latin typeface="Times New Roman"/>
            </a:endParaRPr>
          </a:p>
        </p:txBody>
      </p:sp>
      <p:pic>
        <p:nvPicPr>
          <p:cNvPr id="134" name="" descr=""/>
          <p:cNvPicPr/>
          <p:nvPr/>
        </p:nvPicPr>
        <p:blipFill>
          <a:blip r:embed="rId1"/>
          <a:stretch/>
        </p:blipFill>
        <p:spPr>
          <a:xfrm>
            <a:off x="838080" y="3170160"/>
            <a:ext cx="7620120" cy="2925720"/>
          </a:xfrm>
          <a:prstGeom prst="rect">
            <a:avLst/>
          </a:prstGeom>
          <a:ln w="0">
            <a:noFill/>
          </a:ln>
        </p:spPr>
      </p:pic>
      <p:sp>
        <p:nvSpPr>
          <p:cNvPr id="2" name="PlaceHolder 1"/>
          <p:cNvSpPr>
            <a:spLocks noGrp="1"/>
          </p:cNvSpPr>
          <p:nvPr>
            <p:ph type="sldNum" idx="2"/>
          </p:nvPr>
        </p:nvSpPr>
        <p:spPr/>
        <p:txBody>
          <a:bodyPr/>
          <a:p>
            <a:fld id="{8999A3D7-2844-4B7A-9D5B-C5B2C01089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28600" y="1393920"/>
            <a:ext cx="8610480" cy="511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R736 Bullet Point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the Demand Response (DR) Definition and Acronym.</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DR references to generic “Settlement Interval”.</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DLC references to DR.</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y dynamic profile language.</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the RLDP (Representative Lagged Dynamic Profile) language.</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when to use Adjusted Static Load Profiles instead of RLDP when sample data is insufficient or unavailable.</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Market Rules language clean up is also embedded.</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DSP and CR responsibilities are clarified.</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y boxed DLC language was condensed and clarified.</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design language was clarified and location anonymity is specified.</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s are responsible for any CR specific incremental research sample metering installation, maintenance and data processing for DR programs unless the cost recovery is otherwise specified by any PUCT Substantive Rule.</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SP issue 814_20 Profile Iid assignment changes per ERCOT Staff instructions.</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ff maintains controls for ESIID Profile Id assignment to DR programs.</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s communicate to ERCOT Staff the ESIIDs in the DR programs.</a:t>
            </a:r>
            <a:endParaRPr b="0" lang="en-US" sz="16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582DD625-2387-403A-AFFB-3CEC098E1B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28600" y="1393920"/>
            <a:ext cx="8610480" cy="4065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R736</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mand Response Revisions</a:t>
            </a:r>
            <a:endParaRPr b="0" lang="en-US" sz="2000" spc="-1" strike="noStrike">
              <a:solidFill>
                <a:srgbClr val="000000"/>
              </a:solidFill>
              <a:latin typeface="Times New Roman"/>
            </a:endParaRPr>
          </a:p>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Verdana"/>
              </a:rPr>
              <a:t>VOTE</a:t>
            </a:r>
            <a:endParaRPr b="0" lang="en-US" sz="3200" spc="-1" strike="noStrike">
              <a:solidFill>
                <a:srgbClr val="000000"/>
              </a:solidFill>
              <a:latin typeface="Times New Roman"/>
            </a:endParaRPr>
          </a:p>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PS requests the following motion:</a:t>
            </a:r>
            <a:endParaRPr b="0" lang="en-US" sz="20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at the PRS recommend approval of PRR736 </a:t>
            </a:r>
            <a:endParaRPr b="0" lang="en-US" sz="20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 submitted by the COPS</a:t>
            </a:r>
            <a:endParaRPr b="0" lang="en-US" sz="2000" spc="-1" strike="noStrike">
              <a:solidFill>
                <a:srgbClr val="000000"/>
              </a:solidFill>
              <a:latin typeface="Times New Roman"/>
            </a:endParaRPr>
          </a:p>
          <a:p>
            <a:pPr marL="457200" indent="-4572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Verdana"/>
                <a:hlinkClick r:id="rId1"/>
              </a:rPr>
              <a:t>http://www.ercot.com/mktrules/issues/prr/725-49/736/index.html</a:t>
            </a:r>
            <a:r>
              <a:rPr b="1"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6D5E855-1D24-45E8-9596-395FFE43AD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1981080" y="1981080"/>
            <a:ext cx="4876920" cy="2590920"/>
          </a:xfrm>
          <a:prstGeom prst="rect">
            <a:avLst/>
          </a:prstGeom>
          <a:ln w="0">
            <a:noFill/>
          </a:ln>
        </p:spPr>
      </p:pic>
      <p:sp>
        <p:nvSpPr>
          <p:cNvPr id="140" name=""/>
          <p:cNvSpPr/>
          <p:nvPr/>
        </p:nvSpPr>
        <p:spPr>
          <a:xfrm>
            <a:off x="609480" y="4648320"/>
            <a:ext cx="8001000" cy="110844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meets on the fourth Tuesday of the Month thru Oct.</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25</a:t>
            </a:r>
            <a:r>
              <a:rPr b="1" lang="en-US" sz="2800" spc="-1" strike="noStrike" baseline="30000">
                <a:solidFill>
                  <a:srgbClr val="000000"/>
                </a:solidFill>
                <a:latin typeface="Arial"/>
              </a:rPr>
              <a:t>th</a:t>
            </a:r>
            <a:r>
              <a:rPr b="1" lang="en-US" sz="2800" spc="-1" strike="noStrike">
                <a:solidFill>
                  <a:srgbClr val="000000"/>
                </a:solidFill>
                <a:latin typeface="Arial"/>
              </a:rPr>
              <a:t> PWG meeting.</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9C68EFEE-5427-4491-9875-110DE3957C03}"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07-09-12T21:25:55Z</dcterms:modified>
  <cp:revision>269</cp:revision>
  <dc:subject/>
  <dc:title>PowerPoint Presentation</dc:title>
</cp:coreProperties>
</file>