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6115-8BBC-49A9-B707-125CA55FA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286C-E489-4EC0-9C3A-D01C86516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EAAB0-BA7C-44FB-9A70-B9CA76088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EC3B2-DFB5-49D3-84A6-F009D98AE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76B26-8C87-4E53-B85C-A50B76894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99368-B07F-4CD6-B3AF-DB248BA6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900A8-4EF9-40EA-BFEB-1CF6AB2B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C9229-516F-4642-A332-ACA92084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AEF4-2C5C-4405-8815-B2B0344A0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9C076-CA15-469F-A631-AFB4E284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97F0B-6DAC-4A3F-BD9E-DF7A7A86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D9C4-F8FA-4193-AA82-AE08D959E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6534-1294-4FD4-A269-1CB320E03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0"/>
            <a:ext cx="9067680" cy="6818400"/>
            <a:chOff x="76320" y="0"/>
            <a:chExt cx="9067680" cy="6818400"/>
          </a:xfrm>
        </p:grpSpPr>
        <p:pic>
          <p:nvPicPr>
            <p:cNvPr id="42" name="" descr=""/>
            <p:cNvPicPr/>
            <p:nvPr/>
          </p:nvPicPr>
          <p:blipFill>
            <a:blip r:embed="rId1"/>
            <a:stretch/>
          </p:blipFill>
          <p:spPr>
            <a:xfrm>
              <a:off x="76320" y="152280"/>
              <a:ext cx="8940600" cy="6399360"/>
            </a:xfrm>
            <a:prstGeom prst="rect">
              <a:avLst/>
            </a:prstGeom>
            <a:ln w="0">
              <a:noFill/>
            </a:ln>
          </p:spPr>
        </p:pic>
        <p:sp>
          <p:nvSpPr>
            <p:cNvPr id="43" name=""/>
            <p:cNvSpPr/>
            <p:nvPr/>
          </p:nvSpPr>
          <p:spPr>
            <a:xfrm>
              <a:off x="158760" y="4913280"/>
              <a:ext cx="21337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867280" y="380880"/>
              <a:ext cx="3276720" cy="281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315200" y="320040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7316640" y="380988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ene</a:t>
              </a:r>
              <a:endParaRPr b="0" lang="en-US" sz="1800" spc="-1" strike="noStrike">
                <a:solidFill>
                  <a:srgbClr val="000000"/>
                </a:solidFill>
                <a:latin typeface="Arial"/>
              </a:endParaRPr>
            </a:p>
          </p:txBody>
        </p:sp>
        <p:sp>
          <p:nvSpPr>
            <p:cNvPr id="47" name=""/>
            <p:cNvSpPr/>
            <p:nvPr/>
          </p:nvSpPr>
          <p:spPr>
            <a:xfrm flipV="1">
              <a:off x="1981080" y="48769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77960" y="46846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 Camey</a:t>
              </a:r>
              <a:endParaRPr b="0" lang="en-US" sz="1800" spc="-1" strike="noStrike">
                <a:solidFill>
                  <a:srgbClr val="000000"/>
                </a:solidFill>
                <a:latin typeface="Arial"/>
              </a:endParaRPr>
            </a:p>
          </p:txBody>
        </p:sp>
        <p:sp>
          <p:nvSpPr>
            <p:cNvPr id="49" name=""/>
            <p:cNvSpPr/>
            <p:nvPr/>
          </p:nvSpPr>
          <p:spPr>
            <a:xfrm>
              <a:off x="3310200" y="372600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g Spring</a:t>
              </a:r>
              <a:endParaRPr b="0" lang="en-US" sz="1800" spc="-1" strike="noStrike">
                <a:solidFill>
                  <a:srgbClr val="000000"/>
                </a:solidFill>
                <a:latin typeface="Arial"/>
              </a:endParaRPr>
            </a:p>
          </p:txBody>
        </p:sp>
        <p:sp>
          <p:nvSpPr>
            <p:cNvPr id="50" name=""/>
            <p:cNvSpPr/>
            <p:nvPr/>
          </p:nvSpPr>
          <p:spPr>
            <a:xfrm>
              <a:off x="2133720" y="0"/>
              <a:ext cx="3429000" cy="3352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8862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Are the facility turbines and control system and facility turbines able to provide automatic generation control (AGC) from a technical point of view? If not, would the turbines be capable of this if the control system was upgraded?</a:t>
            </a:r>
            <a:endParaRPr b="0" lang="en-US" sz="2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None in Abilene area can provide AG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6 in Big Spring cannot provide automatic generation control (AGC). 1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1 in McCamey area can provide Automatic Voltage Control whose set point is controlled by ERC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flexible is the zero output reactive capability? For example, is it manually or automatically switched in?  What are the issues associated with provided this reactive capability if requested by ERCOT in Real Time.</a:t>
            </a:r>
            <a:endParaRPr b="0"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ilene: 3 have static reactive capability, which is only capacitive reactive compensation that can be controlled manually or automatically. 3 cannot provide any flexibility. 1 WPGR’s VAr output is attributed to the capacitive nature of the underground collection system. Capability is limited due to underground cable splices and thermal backfill materi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g Spring Area: 5 cannot have any flexible reactive capability at zero output. 1 has manual switching capability. 1 has static reactive capability, which is only capacitive reactive compensation that can be controlled manually or automatically.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cCamey: None in McCamey area have flexible reactive capability at zero outpu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74"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voltage - 299vac at the turbine. Over voltage - 365vac at the turbine. Over frequency - 61hz at the turbine. Under frequency - 59hz at the turbine. 25vac asymmetry between phases at the turbine for 3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1 WPG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ponse from 3 WPG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g Spring Area:</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0% ≤ System Voltage ≥ 110% ;  94% ≤ System Frequency ≥ 104% is the response from 2 WPGR’s </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a V-47 and a V-66 WTGL high voltage 500V sensed phase to ground, low voltage 340V sensed phase to ground; For a V-47: high frequency 60.4hz, low frequency 59.2hz; For a V-66: high frequency 60.3hz, low frequency 59.5hz.</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 Freq&gt;61Hz for 0.5 s, Under Freq &lt;=59 Hz Over Volt&gt;120%</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reaker trip for 2 WPGR’s</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78"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Cam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1 WPGR for both WPGR’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s the response time required to reduce output by 20%? (time from ERCOT notice to reduce to time when wind-ranch is 20% below previous output)?</a:t>
            </a:r>
            <a:endParaRPr b="0"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response time for 4 WPGR’s in </a:t>
            </a:r>
            <a:r>
              <a:rPr b="1" lang="en-US" sz="2800" spc="-1" strike="noStrike">
                <a:solidFill>
                  <a:srgbClr val="ff0000"/>
                </a:solidFill>
                <a:latin typeface="Arial"/>
              </a:rPr>
              <a:t>Abilene</a:t>
            </a:r>
            <a:r>
              <a:rPr b="1" lang="en-US" sz="2800" spc="-1" strike="noStrike">
                <a:solidFill>
                  <a:srgbClr val="000000"/>
                </a:solidFill>
                <a:latin typeface="Arial"/>
              </a:rPr>
              <a:t> is 6.25 min. 3 have a response of “This is not the way the system operates, the turbines are turned off in groups to reduce the maximum MW output - it does not "set" out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response time for </a:t>
            </a:r>
            <a:r>
              <a:rPr b="1" lang="en-US" sz="2800" spc="-1" strike="noStrike">
                <a:solidFill>
                  <a:srgbClr val="ff0000"/>
                </a:solidFill>
                <a:latin typeface="Arial"/>
              </a:rPr>
              <a:t>Big Spring</a:t>
            </a:r>
            <a:r>
              <a:rPr b="1" lang="en-US" sz="2800" spc="-1" strike="noStrike">
                <a:solidFill>
                  <a:srgbClr val="000000"/>
                </a:solidFill>
                <a:latin typeface="Arial"/>
              </a:rPr>
              <a:t> is 24 m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response time for </a:t>
            </a:r>
            <a:r>
              <a:rPr b="1" lang="en-US" sz="2800" spc="-1" strike="noStrike">
                <a:solidFill>
                  <a:srgbClr val="ff0000"/>
                </a:solidFill>
                <a:latin typeface="Arial"/>
              </a:rPr>
              <a:t>McCamey</a:t>
            </a:r>
            <a:r>
              <a:rPr b="1" lang="en-US" sz="2800" spc="-1" strike="noStrike">
                <a:solidFill>
                  <a:srgbClr val="000000"/>
                </a:solidFill>
                <a:latin typeface="Arial"/>
              </a:rPr>
              <a:t> is 10 mi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at is the response time required to increase output by 20% (presuming wind available)? (time from ERCOT notice to increased to time when wind-ranch is 20% above previous output?</a:t>
            </a:r>
            <a:endParaRPr b="0" lang="en-US" sz="2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4 WPGR’s in </a:t>
            </a:r>
            <a:r>
              <a:rPr b="1" lang="en-US" sz="2400" spc="-1" strike="noStrike">
                <a:solidFill>
                  <a:srgbClr val="ff0000"/>
                </a:solidFill>
                <a:latin typeface="Arial"/>
              </a:rPr>
              <a:t>Abilene</a:t>
            </a:r>
            <a:r>
              <a:rPr b="1" lang="en-US" sz="2400" spc="-1" strike="noStrike">
                <a:solidFill>
                  <a:srgbClr val="000000"/>
                </a:solidFill>
                <a:latin typeface="Arial"/>
              </a:rPr>
              <a:t> is 6.25 min. 3 have a response of “This is not the way the system operates, the turbines are turned back on  in groups to reduce the maximum MW output - it does not "set"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5 WPGR’s </a:t>
            </a:r>
            <a:r>
              <a:rPr b="1" lang="en-US" sz="2400" spc="-1" strike="noStrike">
                <a:solidFill>
                  <a:srgbClr val="ff0000"/>
                </a:solidFill>
                <a:latin typeface="Arial"/>
              </a:rPr>
              <a:t>Big Spring</a:t>
            </a:r>
            <a:r>
              <a:rPr b="1" lang="en-US" sz="2400" spc="-1" strike="noStrike">
                <a:solidFill>
                  <a:srgbClr val="000000"/>
                </a:solidFill>
                <a:latin typeface="Arial"/>
              </a:rPr>
              <a:t> is 21 min.3 WPGR’s have a response of “This is not the way the system operates, the turbines are turned back on in groups to reduce the maximum MW output - it does not "set"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a:t>
            </a:r>
            <a:r>
              <a:rPr b="1" lang="en-US" sz="2400" spc="-1" strike="noStrike">
                <a:solidFill>
                  <a:srgbClr val="ff0000"/>
                </a:solidFill>
                <a:latin typeface="Arial"/>
              </a:rPr>
              <a:t>McCamey</a:t>
            </a:r>
            <a:r>
              <a:rPr b="1" lang="en-US" sz="2400" spc="-1" strike="noStrike">
                <a:solidFill>
                  <a:srgbClr val="000000"/>
                </a:solidFill>
                <a:latin typeface="Arial"/>
              </a:rPr>
              <a:t> is 10 m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When turbines are being controlled what is the available ramping capability assuming wind conditions and system transmission conditions that could accommodate full output? (ERCOT seeks to understand the ramping characteristics of the units and facility as a whole).  Please describe (or provide output curves) on facility ramp rates and wind speed?  (i.e. How long would it take to go from zero to 25% output? How long to go from 25 to 50% output? How long from 50 to 75% output and from 75% to 100% output?) Is the wind farm operating as designed?  If not, why not?</a:t>
            </a:r>
            <a:endParaRPr b="0" lang="en-US" sz="1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ene: 0-25% (375kw) less than 1 minute;25-50% (750kw) less than 1 minute; 50-75% (1,125kw) less than 1 minute; 75-100% (1,500kw) less than 1 minute; 0-100% (1,500kw per unit) less than 4 minu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Spring: There are no ramp rates. Everyone answered wind is the deciding factor for the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Camey: 1 WPGR’s response is “Individual turbine can modulate from very low load levels to full load in about 2.5 minutes.  Entire farm can modulate in about 5 minutes dependent on wind at each individual turbine 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04920" y="1447920"/>
            <a:ext cx="8534160" cy="4208400"/>
          </a:xfrm>
          <a:prstGeom prst="rect">
            <a:avLst/>
          </a:prstGeom>
          <a:ln w="0">
            <a:noFill/>
          </a:ln>
        </p:spPr>
      </p:pic>
      <p:sp>
        <p:nvSpPr>
          <p:cNvPr id="53" name=""/>
          <p:cNvSpPr/>
          <p:nvPr/>
        </p:nvSpPr>
        <p:spPr>
          <a:xfrm>
            <a:off x="1282680" y="2206800"/>
            <a:ext cx="213372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V="1">
            <a:off x="2895480" y="211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19160" y="186516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ilene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57"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Wind Powered Generation Resources (WPGR) 16 (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max rated capacity – 970 MW Average rated capacity – 139 M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cut-off speed – 59 MP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minimum wind speed at which generation starts – 8 MP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rated reactive capability –  396 MV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Ar control – 57% and Static VAr control – 4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number of turbines at each plant site – 9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 % of the units in this area have feathering of the blades to control the output level (Based on the survey res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Spring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7 (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624 MW Average rated capacity – 104 MW</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181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43% and Static VAr control – 57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8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 of the units in this area have feathering of the blades to control the output level (Based on the survey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Camey Area</a:t>
            </a:r>
            <a:br>
              <a:rPr sz="4400"/>
            </a:br>
            <a:r>
              <a:rPr b="0" lang="en-US" sz="1600" spc="-1" strike="noStrike">
                <a:solidFill>
                  <a:srgbClr val="000000"/>
                </a:solidFill>
                <a:latin typeface="Arial"/>
              </a:rPr>
              <a:t>All the values are based on ERCOT returned survey results</a:t>
            </a:r>
            <a:endParaRPr b="0" lang="en-US" sz="1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10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321 MW Average rated capacity – 161 M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8 MP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200 MV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the units have dynamic VAr contro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10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the units have feathering of the blades to control the output level (Based on the survey respon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457200" y="274680"/>
          <a:ext cx="8229600" cy="5851440"/>
        </p:xfrm>
        <a:graphic>
          <a:graphicData uri="http://schemas.openxmlformats.org/drawingml/2006/table">
            <a:tbl>
              <a:tblPr/>
              <a:tblGrid>
                <a:gridCol w="4343400"/>
                <a:gridCol w="1089000"/>
                <a:gridCol w="1422360"/>
                <a:gridCol w="1374840"/>
              </a:tblGrid>
              <a:tr h="2087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5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5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7.1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7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3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10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7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4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no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VAR Capability required in the Interconnection Agreement?</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ilene: 3 units said 0.95 leading or lagging Power fact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said n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g Spring: All the units said 0.95 leading or lagging Power fa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cCamey: N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far can units be backed down before operation becomes unstable (MW output or % of rated capability)?</a:t>
            </a:r>
            <a:endParaRPr b="0" lang="en-US" sz="2800" spc="-1" strike="noStrike">
              <a:solidFill>
                <a:srgbClr val="000000"/>
              </a:solidFill>
              <a:latin typeface="Arial"/>
            </a:endParaRPr>
          </a:p>
        </p:txBody>
      </p:sp>
      <p:graphicFrame>
        <p:nvGraphicFramePr>
          <p:cNvPr id="66" name=""/>
          <p:cNvGraphicFramePr/>
          <p:nvPr/>
        </p:nvGraphicFramePr>
        <p:xfrm>
          <a:off x="762120" y="2209680"/>
          <a:ext cx="8001000" cy="1597320"/>
        </p:xfrm>
        <a:graphic>
          <a:graphicData uri="http://schemas.openxmlformats.org/drawingml/2006/table">
            <a:tbl>
              <a:tblPr/>
              <a:tblGrid>
                <a:gridCol w="3733560"/>
                <a:gridCol w="1600200"/>
                <a:gridCol w="1371600"/>
                <a:gridCol w="129564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4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 output after which operation becomes uns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individual turbines of this type be shut down at the facility on a routine basis (stop and start once per day)?</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6 WPGR’s have the capability and 1 does n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7 WPGR’s have the capability of shutting individual turbines at the facility on a routine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Both respondents said that current control scheme does not shut down turbines but limit power output by modulating blade pi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18:47:07Z</dcterms:created>
  <dc:creator>nkota</dc:creator>
  <dc:description/>
  <dc:language>en-US</dc:language>
  <cp:lastModifiedBy>evillanueva</cp:lastModifiedBy>
  <dcterms:modified xsi:type="dcterms:W3CDTF">2007-09-12T21:01:40Z</dcterms:modified>
  <cp:revision>12</cp:revision>
  <dc:subject/>
  <dc:title>Slide 1</dc:title>
</cp:coreProperties>
</file>