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2C57-AC3D-4FE5-93CD-CAE5EAC05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7A0D-9DD6-47DA-B50B-1F313CB5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CA27-0ECA-4461-8C48-119D627C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674D-1907-496E-8D2C-97407213D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8E3C-0EDF-4D53-BA7E-F71C919F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32CC-4F31-4B51-B44F-BEC97B70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4B42-89D4-4E99-BA23-546F7D12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8B5C-320C-40D2-A32D-F67619FC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823E-738A-4D38-91D4-A37B6FAE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E7C3-1B52-4A0A-A21C-37684B67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2F42-3404-43FA-8CFC-7A97BC1F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4A2C-2F61-40D8-9E68-4393D7B3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06AD-7112-41BF-A58F-2681309F6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Report to R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tember 13,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CWG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land Power &amp;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192240"/>
          <a:ext cx="9144000" cy="64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2240"/>
                    <a:ext cx="9144000" cy="64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4480" y="0"/>
            <a:ext cx="902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9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54160"/>
            <a:ext cx="899172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192240"/>
          <a:ext cx="9144000" cy="64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2240"/>
                    <a:ext cx="9144000" cy="64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039240" cy="6400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867280" y="533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7.8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00800" y="914400"/>
            <a:ext cx="198108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2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DCWG met on September 11 and 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DCWG continues to do some high level analysis of control performance during periods with low CPS1 sc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G continues to discuss potential Nodal market control performance iss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G is in the process of completing an update to the Disturbance Performance Summary for the first half of 20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xt meeting is October 9 and 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22:09:42Z</dcterms:created>
  <dc:creator>Bob Green</dc:creator>
  <dc:description/>
  <dc:language>en-US</dc:language>
  <cp:lastModifiedBy>Bob Green</cp:lastModifiedBy>
  <dcterms:modified xsi:type="dcterms:W3CDTF">2007-09-06T22:01:45Z</dcterms:modified>
  <cp:revision>21</cp:revision>
  <dc:subject/>
  <dc:title>RO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96372090</vt:r8>
  </property>
  <property fmtid="{D5CDD505-2E9C-101B-9397-08002B2CF9AE}" pid="3" name="_AuthorEmail">
    <vt:lpwstr>bobG@gplops.org</vt:lpwstr>
  </property>
  <property fmtid="{D5CDD505-2E9C-101B-9397-08002B2CF9AE}" pid="4" name="_AuthorEmailDisplayName">
    <vt:lpwstr>Green, Bob</vt:lpwstr>
  </property>
  <property fmtid="{D5CDD505-2E9C-101B-9397-08002B2CF9AE}" pid="5" name="_EmailSubject">
    <vt:lpwstr>PDCWG Report to ROS September 13, 2007</vt:lpwstr>
  </property>
</Properties>
</file>