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961-FFC2-4D60-BAF0-26D2F127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659-1CAB-4D0B-B77A-A05BE6C5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63B-5D2A-4620-928A-A959AA2D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371-E12B-4C2A-8B1D-BFE90A45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06FF-218D-48A1-96D2-2A62171D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22A-2BB2-4067-9A62-3ED7E459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AF92-539D-4F8F-AE80-6ACC12D7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2974-7C1F-4A43-A605-656A4BBC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3BDE-E9DF-4B13-A9E5-CF80B4E0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4D8F-CDE7-4B58-957B-125DA875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2ED-8F11-4141-B713-8E09B8D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A3B-B86A-4DE8-A092-93C29EEA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22A3-8302-41A2-B69F-44E8C66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EFAA-47A2-4A56-B193-ACCEC308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BFAD-37AB-4248-9ABB-D45C21EB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5304-7260-43AD-B256-1D511CFB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F5DD-7DB5-4E38-92AA-784D0723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165-97B9-47D7-A8D7-96C15396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8C3-3BB4-4F28-A8C7-5182C37D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D06-AD83-44E2-884B-8A13F4D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529-FA68-4CED-8613-FAA28EFD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F76-C194-428C-9339-83D6F580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EDB-B759-4A23-B464-C03D0526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02E-8D71-476D-B1A6-13F9926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0EE2-695D-4735-B2FB-CA5C48BAB6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F0B7-84A2-45EA-B8FE-7334FD5D90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aramond"/>
              </a:rPr>
              <a:t>RMS/Retail Market Workshop request for input from ROS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3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Background  Information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h 30, 2007 TAC directed RMS to “identify issues with net metering and small renewable genera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ail Metering WG facilitated retail market workshops to identify those issues and be considerate of impacts from Advanced Metering Rulemaking and HB 369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tail Market Workshop Recommendations 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of effort defined for Small Renewable Generation as 50kW and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 ERCOT Protocols, TDSP is not required to provide generation values for 50 kW and 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ve 50kW up to 2mW is covered by HB 369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 required to send inflow and outflow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s currently address and Settlement is sup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Identified that require expertise from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regated issues and requested RMS to ask for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ummary of RMW Issue 2007-07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 or Ga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deployment of small renewable generation (less than 50 kW) on distributions feeders raise any concerns from a grid reliability or operations perspecti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sue seems to fit best with-in the scope of ROS.  A determination needs to be made on whether the market has reliability or operations concerns about the deployment of small renewable gene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est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his task to ROS to determine if they have concerns about the deployment of small renewable generation from a reliability or operations view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More information on RMW Issue 2007-07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information from the RMW discussions on this issue or g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heir concerns about voltage support service responsibilities of the Distribution Service Provider (DSP) (Nodal Protocols Section 3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here concerns when the aggregate generation on a distribution feeder affects the circuit flows for a TDS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tantive rules 25.211 and 25.212 address these issu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DG Rules Adopted 12/99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22480"/>
            <a:ext cx="731520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.211 adopted to address administrative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.212 adopted to address technical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Request for Feedback from R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ir concerns about voltage support service responsibilities of the Distribution Service Provider (DSP) (Nodal Protocols Section 3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re concerns when the aggregate generation on a distribution feeder affects the circuit flows for a TDS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dtucker</cp:lastModifiedBy>
  <dcterms:modified xsi:type="dcterms:W3CDTF">2007-09-05T18:13:47Z</dcterms:modified>
  <cp:revision>34</cp:revision>
  <dc:subject/>
  <dc:title>RMS Update to TAC</dc:title>
</cp:coreProperties>
</file>