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62E6-F6CF-4DA3-A7B2-687124D8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8A45-5284-47C1-A2D4-C4E580E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4DB0-6D11-4D26-AE95-01AEF9FB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3314-73E7-44DE-9DE6-3BE736B9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AC1E-5AC6-48D6-A45D-487995D4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4AE8-2553-472A-9739-B89C104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EBE1-6952-40E7-8125-65183C8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EA48-F1B7-4C19-93FF-792C107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234C-3B81-4DA6-AF59-71D88CB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8A28-FFA2-4410-ABD2-B8BEEB5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03FE-E954-475E-9B22-29643D4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ECA9-DB17-4A6E-B27F-875FEC5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202-7521-4057-AFF4-4C02B2902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98108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ert Review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050280" y="4724280"/>
            <a:ext cx="37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S September 13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hn D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Alert triggers and 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Aler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Ahead average Load Forecast during the Alert compared to average Actual Load during the Al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Ahead Planned Online Capability at the start of the Alert versus Actual Online Capability at the start of the Ale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the Wind Forecast Error by using Actual Wind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ERT AC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Actions when Adjusted Responsive is equal to or less than 2500 M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Non-Spin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RMR units available in the time frame of the emergency.  RMR units should be loaded to full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resource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M Quick Start units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M units that have 30 minute or less lead time as necess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requency of OOMC/E fo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RRS &lt; 2,500 M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41972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ed 1/1 to 8/20/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,272 total interv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3 intervals (3.56%)* with OOMC for ARRS &lt; 2,50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 days exam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otal of 50 days in which an Alert was iss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28600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1800" y="6040440"/>
            <a:ext cx="406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ue to inconsistencies in ERCOT logs, there may be a sm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intervals with OOMC/E for ARRS &lt; 2,500 that we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tured in this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ctual Load &amp; Capacity compared to Planned Load &amp; Capac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338160"/>
            <a:ext cx="89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Please note: Actual Load – Day Ahead Forecast Load (+ sign = under forec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(Actual online Capacity – Day-Ahead RPRS Procurement Capac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6338160"/>
            <a:ext cx="89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Please note: Actual Load – Day Ahead Forecast Load (+ sign = under forec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(Actual online Capacity – Day-Ahead RPRS Procurement Capac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ctual Load &amp; Capacity compared to Planned Load &amp; Capac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826920"/>
            <a:ext cx="86868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fference in Day Ahead Planned Wind Output at the start of the Alert and Actual Wind Output for select day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y-Ahead Load Forecast during the Alert periods was 103 MW over the Actual average load during the Alert peri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nned Online Capability was 2701 MW higher on average than the Actual Online Capability at the start of the Al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were days that ERCOT went into Alert Status even though the Day-Ahead Load Forecast was hig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fference between Day Ahead Planned Wind Output and Actual Wind Output would increase the error between Planned Online Capability and Actual Online Capab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dcterms:modified xsi:type="dcterms:W3CDTF">2007-09-12T21:10:18Z</dcterms:modified>
  <cp:revision>66</cp:revision>
  <dc:subject/>
  <dc:title>Instructions</dc:title>
</cp:coreProperties>
</file>