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EEB-4297-4F48-B8C7-F1F0C438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F18F-CC5A-48C2-B5B7-465B8CBB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F39-C744-4B2D-8999-ECE0D81F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A9E-75BB-43C5-8D1E-0F9F2E7A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32E2-2043-4250-BB0A-7DAB26E1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87FF-F1D0-4BC9-A08D-01270944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F640-818D-4098-87D0-16C292E1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3E3B-97B3-4B03-A1C2-725A382D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04AF-3704-4C26-9671-9B2C518A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FBE7-CAC1-40C2-A08F-40066A65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1492-4C33-4D5C-9218-0B7F84DB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B40-682E-4362-AF7A-F73BE2A7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8407-8120-439D-96DC-FE8CF996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A904-E74D-4041-9573-8EF73D4C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9C8E-0C67-4797-827E-D1ADA581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E68F-679E-4675-A7B0-0A5FA63C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5FF8-2035-422F-83C9-B45C527F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527-7DD3-4B4F-8009-C82639DD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A5E-554F-42A3-8A7F-40C831F2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C8C-8E4E-47D6-B9CA-6A8C459C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05B-F7FC-46A2-954F-A1092C2C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780-3470-4BCA-9C8F-BFD5C9A6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3FD-D4FB-4CA1-8190-A4CAEAB6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5F1-D5C1-4563-B4FC-3C5CD2F6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6DC2-1991-4383-968A-71B3223FD7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304920" y="1522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Texas Regional Entity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380880" y="457200"/>
            <a:ext cx="19814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An Independent Division of ERCOT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FFCE-95CE-4F96-9637-D1D88CA165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1522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Texas Regional Entity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457200"/>
            <a:ext cx="19814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An Independent Division of ERCOT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standards/index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 Repo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tember 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88C5-8179-46AC-9D22-FB86F4A786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 52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0-Minute 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05B-7F1F-48BE-A7AB-59E141A5E4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R 525 Passing 10-M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val Percentage Tre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10D-9008-4CC4-AEC1-3AF77A687C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ly 2007 Resource Pl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2E9-20FC-44CF-ACB5-76125E9670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Registered E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ERCOT Reg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8487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346-5BED-48E7-9567-D7E41414C2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ganization Registration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11 entities registered in the ERCOT Region that are responsible for compliance with NERC Reliability Standard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entities officially appealed their reg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appeals resolved by the Texas 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appeals pending – will likely go before the NERC Board of Trustees Compliance Committee for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 entities appealing their registration as a Generator Opera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 entity appealing their registration as a Transmission Ow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 entity appealing their registration as a Transmission Owner/Pl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BAF-A318-4DE4-9835-26B2FBA676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7 Compliance Audi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BE0-0FFD-430E-9BF0-7147E3A7F3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Functional Entity Typ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P – Distribution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 – Generator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P – Generator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– Transmission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P – Transmission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 – Reliability Coordin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 – Balanc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– Transmission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 – Plann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P – Transmission Service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P – Resource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E – Purchasing-Selling 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4D4-B291-4B6C-BE69-8012436236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iance Review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vents by Seas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84872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93C-5A25-4447-9859-B8A5168028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iolations of ERCO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tocols Reported by Seas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466-2070-4E36-8AB7-D08F4BCA77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Standard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lf-Reported Viol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st self-reported violations were from newly registered ent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y self-reported violations are administrative or training-rela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iolation Risk Factors have been assigned to each actively monitored NERC Standar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CF5-AABD-48C2-A15D-CB1742DE58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’s Control Performance Standard (NERC CPS1) score improved in Ju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all control performance (SCPS) for non-wind-only QSEs is at its highest level since PRR 525 was implemented in January 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ores for July indicate all non-wind-only QSEs passed the PRR 525 m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irst since scoring began in January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2C4-230B-4E68-9C9C-0BDE3F06F6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ERC Standard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lf-Reported Violations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 to June 18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131-1E12-4C05-851F-2B45B2F61D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sk Factors of Self-Reported Viol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F77-F1FD-47BB-BEBA-A8B4C79C35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tegorized Violation Risk Factor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Self-Reported Vio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D81-4447-43F1-9288-EEFCB2D044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RC Self-Reported Violation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or to June 18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508-5733-4864-8740-431A2A0123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Boar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pprovals – August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sed NERC 2008 business plan and bud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sed business plans and budgets of the eight Regional Enti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roposal from the NERC F&amp;A Committee to suspend, for one year, NERC’s normal practice of taking account of anticipated budget surpluses from the current year in calculating the following year’s assess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RC Management directed to file 2008 business plans and budgets with FER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and Regional Budgets and Business Plans filed by NERC with FERC on August 2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412-F5DA-45A5-B09E-1742FB5DC1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mmary of FERC Visi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eting went very well with considerable dialogue in all dir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ussed unique reporting structure to the ERCOT B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ained statutory and non-statutory requirem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 RE was the first RE visited that performs bot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discussion between PUCT and FERC Staff regarding jurisdictional and coordination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RC has concerns over Resource Adequ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rther discussion this fall of the April 17, 2006 event in 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RC and Regional Entities competing for the same resources – this pool is small and shrink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DF4-5B16-4A46-AD95-84A178CBFA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xas RE Monthly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ing month ending in mid-August………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tocol &amp; Operating Guides Viol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 new alleg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 new confirm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RC Standards Viol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 new alleg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 New Events Review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 Detailed Reports Requir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 Detailed reports from past events due to be issu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 On-Site Audits completed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 unresolved Registration Appea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A67-ABF5-4038-AC8B-4F19647E8E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dure Appro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oard of the Texas RE approved Standards Development Procedures needed to implement the Texas RE Standards Development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stered Ballot Body (RB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ility Standards Committee (R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rafting Team (SD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posted on Texas RE Web Page:  Regional Reliability Standards Developm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lanning and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ercot.com/mktrules/compliance/tre/standards/index.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F88-3983-4AF5-A20E-3770BBD2AF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ort Detai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7052-2C65-4169-93E3-C20098C682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’s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ly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uly 2007:  139.35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uly 2006:  153.13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ug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July 2007:  133.9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ug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July 2006:  138.14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July indicate 34 QSEs passed / 0 non-wind-only QSE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810-F494-4EF9-ABF3-B956B89EC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formance Comparis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55E-C0B9-4BA1-BC9B-CC52FF1057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thly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C26-F3EA-42C2-8997-1C87F091B9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839-F782-4BCC-90B8-3B485DD5AF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mhenry</cp:lastModifiedBy>
  <dcterms:modified xsi:type="dcterms:W3CDTF">2007-09-07T23:55:00Z</dcterms:modified>
  <cp:revision>734</cp:revision>
  <dc:subject/>
  <dc:title>PRR 525 Compliance Analysis</dc:title>
</cp:coreProperties>
</file>