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Meeting – 09/13/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142DFAA-58CC-4E32-9601-A6AC6BDC2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- TPTF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acy Bridges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9/13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eadiness Metrics for Iteration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6 - QSE and TSP Telemetry/ICCP System Avail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2 - MP Completes EDS-3 Related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3 - Validate Telemetry/SE EDW/ Data Accurac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9 - Validate Zonal and Nodal Common Constra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 - ERCOT Telemetry/ICCP System Fail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3 - Validate SE Performance and Accu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4 - Verify Base Point Gen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5 - Generate LMPs for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1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2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3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Asset Registration Form (RARF)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s/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78, Simplifying the Disput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81, Automatic Voltage Regulator (AVR) St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Revisions to Monitoring and Qualification Tests in Section 8, Performance Monitoring and Compliance (replacement for NPRR07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727, Process for Transition to Nodal Mark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ERCOT naming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broad-form Non-Disclosur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Protocol Transi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Nodal Startup Transition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Compliance Monitoring Programs for QSEs, TSPs, and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ugust, TPTF Conven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13 –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7 –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Subsystem Requirements Specification v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Requirements Specification v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 Requirements Specification v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Requirements Specification v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 Specification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Forecasting Requirements Specification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stion Revenue Rights (CRR) Project—Approval o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Requirements Specification v1.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Conceptual System Design (CSD) v1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Integration Project (EIP)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b services for the updated External Interfaces Specification v1.0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1440" y="2443320"/>
            <a:ext cx="388620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Market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Arranged Ancilla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 O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 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Energy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Energy Only O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Revenue Rights O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P Obligation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age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s and Al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3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A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8800" y="2443320"/>
            <a:ext cx="388620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Market Inform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y Cu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up and Shutdown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Ratio Sh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d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System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LMPs and SP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Cu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Outage Schedul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0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age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98720" indent="511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livery Systems (EDS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2, QSE with Resources Connectivity to ED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, QSE with Resources Upload of SCED Offers to 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5, ICCP Point to Point Telemetry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Readiness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, ERCOT Staff Completes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6, Develop Nodal Operating Gu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8, ERCOT Staffed for Texas Nod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9, Develop TN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1, MP Registration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4, MP EDS-2 Trials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, ERCOT Telemetry Alarm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28880"/>
            <a:ext cx="87454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Engagement &amp; Readiness (MER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 to the Training Course Curriculum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aff comments for NOGRR005, Planning, including changes proposed by TP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ERCOT comments for NOGRR007, Telemetry an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s to the TPTF Charter as modified by TPTF on Aug. 29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revised Electrical Bus language in Nodal Protocols Section 3.1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September, TPTF has met/will meet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0 –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4 –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Systems (CO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Integration (CSI)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- Simplifying OBLRACT and OP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- Settlement Clarifications to RUC Capacity Shortfall Ratio Share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R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Restructured CRR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CRR clar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that MCFRIs will be allocated to wind gen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of when Settlement Points associated with new Resources become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CRR Testing Market Participant Handbo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Data Archival and Reporting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updates to reflect naming con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updated EMS CS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Information System (MI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Schedule of tasks to complete to support ED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nagement System (M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MMS documentation and sche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S. Bridges</cp:lastModifiedBy>
  <dcterms:modified xsi:type="dcterms:W3CDTF">2007-09-10T21:32:25Z</dcterms:modified>
  <cp:revision>150</cp:revision>
  <dc:subject/>
  <dc:title>Texas Nodal</dc:title>
</cp:coreProperties>
</file>