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C602-08EB-45E8-B798-40C52254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1E77-2DBA-4E58-A9D8-64191A89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84D2-FC1F-4740-9E3B-EC063C1E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3F80-70E8-4B6C-84C9-059B0662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2A0C-31F9-47A3-8623-5F09E353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93DE-96D4-4B67-96E5-D0CC284E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17E3-BB91-4E66-B0DC-06D75C72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EB07-4DA8-4EC2-9ACF-358FD096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8C76-978E-414F-A1F6-1FEB0D0C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4F25-AA42-4FF6-BDE9-9FAD62C0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1CFF-FE9F-4FE0-843C-1AF632F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989F-15C3-4D4B-960B-F22E3DE4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3AF6-0CB6-45ED-89C4-4CB3F9ADD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597C-2001-402F-9878-BB6EE7492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quirements Documents Name Change to Reflect Nodal Naming Conven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31720" y="443520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PTF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ptember 10,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S Requirements Documents Name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2520" y="1143000"/>
          <a:ext cx="8732880" cy="5091120"/>
        </p:xfrm>
        <a:graphic>
          <a:graphicData uri="http://schemas.openxmlformats.org/drawingml/2006/table">
            <a:tbl>
              <a:tblPr/>
              <a:tblGrid>
                <a:gridCol w="4525920"/>
                <a:gridCol w="4206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Name &amp; Increment Version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Data 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Models Requirements (B2) v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Dynamic Ra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ynamic Ratings Requirements (B2) v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(B2) v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Forced Outag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ced Outage Detection Requirements (B2) v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the Generation Subsystem Version 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tion Subsystem Requirements (B2) v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Load Forecas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ad Forecasting Requirements (B2) v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954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1440" y="731880"/>
            <a:ext cx="31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pproved Versions are Designated “X.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D746-5D10-4968-8D3F-8B851D73A4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S Requirements Documents Name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2520" y="1096920"/>
          <a:ext cx="8825040" cy="5091120"/>
        </p:xfrm>
        <a:graphic>
          <a:graphicData uri="http://schemas.openxmlformats.org/drawingml/2006/table">
            <a:tbl>
              <a:tblPr/>
              <a:tblGrid>
                <a:gridCol w="4525920"/>
                <a:gridCol w="429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Name &amp; Increment Version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Network Security and Stability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work Security and Stability Analysis Requirements (B2) v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Outage Eval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age Evaluation Requirements (B2) v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S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ADA Requirements (B2) v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State Estim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 Estimator Requirements (B2) v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Voltage Support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tage Support Services Requirements (B2) v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as Nodal Energy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Specification For Wind Power Forecas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nd Power Forecasting Requirements (B2) v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954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5998-1128-4A2F-8287-C3415A0AD7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09-10T19:37:38Z</dcterms:modified>
  <cp:revision>230</cp:revision>
  <dc:subject/>
  <dc:title>Electric Reliability and  Resource Adequacy Update</dc:title>
</cp:coreProperties>
</file>