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DAAE-B754-4B22-B65C-9623CDD2F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FC0A-B365-4B11-A201-223DBA093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9C1E-E4B0-4BA7-8004-1621E14C9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61B7-C5D1-42E8-8D77-30A25C37C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5B6D-ABB2-4722-B44A-0FB4240B3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3C44-DB45-4AB1-8872-8CC5540E9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44FC-733C-4D96-874C-346139E2B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2BDC-CFB3-41D2-832C-D69455D2D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8637-84FB-4DF4-A6A8-1CECFB922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C412-B49A-4A6C-8076-30825B03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9AA5-0211-4416-8E47-36D6D157D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7F80-15D2-4714-BB46-59F0CA3E2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A06A7-2BD9-4EBC-9B46-E75A403EF3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1295280"/>
            <a:ext cx="78487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pporting materials for RMS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vided b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tail Customer Choice (RCC)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A4F7-4AA7-4C19-B87E-DFA43064D0F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y To Day Issues: Subtype Descri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-1463760" y="24652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-1143000" y="229716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80880" y="1676520"/>
          <a:ext cx="8229600" cy="4573440"/>
        </p:xfrm>
        <a:graphic>
          <a:graphicData uri="http://schemas.openxmlformats.org/drawingml/2006/table">
            <a:tbl>
              <a:tblPr/>
              <a:tblGrid>
                <a:gridCol w="2178000"/>
                <a:gridCol w="60516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advertent Swit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 has inadvertently gained or lost (or is pending the gain/loss) an LSE Relationship to another CR in erro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cel w/Approv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requesting cancellation of an initiating transaction in instances submitting an 814_08 would result in a rejec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cel w/o Approv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DSP requesting cancellation of an initiating transaction for market defined reasons that do not require approval from the C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ssing Transa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is missing any expected 814, 867_04 or 867_03 Fina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age/Billing Iss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has questions pertaining to point-to-point transactions excluding the 867 Contingency Pla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ject Transac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has questions pertaining to rejected transactions or reject reaso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P of Reco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has questions pertaining to ERCOT LSE or TDSP LSE relationship histori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jec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has issues pertaining to internal/market projects, system trouble, or related problems as defined by the submitte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ebel/Chg Inf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questioning a discrepancy pertaining to Siebel service order status changes and Start/Stop time issues when transactions are present in ERCOT system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7 Iss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verification of a 997 sent/receive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has Day to Day issues that do not fit one of the Sub Types indicated above such as: Siebel/997 reports, CSA’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456120" y="1371600"/>
            <a:ext cx="141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sue Sub-Typ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5800" y="13716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ubmitted when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2251-C7F9-413F-BEFA-3163B6CE236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advertent Gains - Detail by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4400" y="51120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62000" y="1865160"/>
            <a:ext cx="8829720" cy="3392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75B4-8C6C-41CE-B2C8-B54E253582B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advertent Gain: State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4400" y="51120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380880" y="1523880"/>
          <a:ext cx="8305920" cy="4738680"/>
        </p:xfrm>
        <a:graphic>
          <a:graphicData uri="http://schemas.openxmlformats.org/drawingml/2006/table">
            <a:tbl>
              <a:tblPr/>
              <a:tblGrid>
                <a:gridCol w="2176560"/>
                <a:gridCol w="61293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ding Iss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ssue has not yet been submitted for consideration by the initiating party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(ERCO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ding either initial acknowledgement by an individual at ERCOT or returned to ERCOT for additional considera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draw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itiating MP has the option to remove the issue from consideration prior to acknowledgement by another MP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Progress (ERCO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RCOT to provide necessary information to move the issue towards resolution including IAS data and assistance with market guidelin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ding acknowledgement by CR2 – the non submitting CR involved in the issues resolu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mitting CR, CR2, and TDSP have simultaneous access to view, comment and ultimately vote on the resolution to the issu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reement Reached (P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 parties have indicated the issue has or will be resolved per the information agreed upon in the Vote state.  Barring updates the Issue will auto close in 2 week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 Agreement Reached (P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y party has indicated the issue is not a valid IAS or cannot be resolved as submitted per market guidelines. Barring updates the Issue will auto close in 2 week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l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osed state:  Issue resolution Accepted by submitting party from a state of Agreement Reached (PC) or No Agreement Reached (PC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to Compl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osed state:  No updates to issue for 2 weeks from a state of Agreement Reached (PC) or No Agreement Reached (PC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osed by ERC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osed state:  ERCOT Intervention required to remove visibility due primarily to proprietary information updated to issu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457200" y="121932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a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741760" y="1219320"/>
            <a:ext cx="131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ate Details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805D-61E5-4379-AFEC-224CDBD25DB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cel With Approval - Detail by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-1143000" y="179244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62000" y="1833480"/>
            <a:ext cx="8829720" cy="2549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D3F5-2FA7-4BDE-9659-001B3CAAB38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cel with Approval: State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1463760" y="24652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-1463760" y="24652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-1463760" y="24652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121932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a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65440" y="1219320"/>
            <a:ext cx="131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ate Details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80880" y="1523880"/>
          <a:ext cx="8077320" cy="4711680"/>
        </p:xfrm>
        <a:graphic>
          <a:graphicData uri="http://schemas.openxmlformats.org/drawingml/2006/table">
            <a:tbl>
              <a:tblPr/>
              <a:tblGrid>
                <a:gridCol w="2117880"/>
                <a:gridCol w="59594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ding Iss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ssue has not yet been submitted for consideration by the initiating party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ding either initial acknowledgement by an individual at the TDSP or returned to TDSP for additional considera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draw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itiating MP has the option to remove the issue from consideration prior to acknowledgement by another MP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Progr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DSP to provide ERCOT with agreement with cancel request or CR indication that request is already complete / unable to be complete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(ERCO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ding acknowledgement by ERC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Progress (ERCO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RCOT to perform agreed upon cancels in the Registration System, request additional information or indicate that cancel cannot be performed 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celled (P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 parties have indicated the requested service order has or will be cancelled.  Barring updates the Issue will auto close in 2 week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able to Cancel (P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y party has indicated the issue is not a valid Cancel w Approval issue or cannot be cancelled. Barring updates the Issue will auto close in 2 week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l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osed state:  Issue resolution Accepted by submitting party from a state of Agreement Reached (PC) or No Agreement Reached (PC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to Compl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osed state:  No updates to issue for 2 weeks from a state of Agreement Reached (PC) or No Agreement Reached (PC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osed by ERC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osed state:  ERCOT Intervention required to remove visibility due primarily to proprietary information updated to issu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8BE6-9E54-40AD-885A-B318FFA40A7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V LSE Issues -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-1143000" y="179244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79280" y="1609560"/>
            <a:ext cx="8812440" cy="341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BBD9-1B95-4F0A-B042-8B9A69CA482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V LSE Issues: Subtype Descri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-1463760" y="24652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-1463760" y="24652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-1463760" y="24652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80880" y="2133720"/>
          <a:ext cx="8305920" cy="3543120"/>
        </p:xfrm>
        <a:graphic>
          <a:graphicData uri="http://schemas.openxmlformats.org/drawingml/2006/table">
            <a:tbl>
              <a:tblPr/>
              <a:tblGrid>
                <a:gridCol w="3000600"/>
                <a:gridCol w="5305320"/>
              </a:tblGrid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SE in MP System not ERCOT: A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P systems show an Active LSE relationship not present in ERCOT’s Registration System (Siebel) as indicated by MP SCR727 Extract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SE in MP System not ERCOT: Ina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P systems show an Inactive LSE relationship not present in ERCOT’s Registration System (Siebel) as indicated by MP SCR727 Extract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SE in ERCOT System not M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P systems do not show an LSE relationship which is present in ERCOT’s Registration System (Siebel) as indicated by MP SCR727 Extract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SE date change: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rt 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P systems show an LSE relationship present in ERCOT’s Registration System (Siebel) as indicated by MP SCR727 Extracts with a different initiation/enrollment dat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SE date change: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op 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P systems show an LSE relationship present in ERCOT’s Registration System (Siebel) as indicated by MP SCR727 Extracts with a different end dat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SE date change: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rt and Stop 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P systems show an LSE relationship present in ERCOT’s Registration System (Siebel) as indicated by MP SCR727 Extracts with a initiation/enrollment and end dat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"/>
          <p:cNvSpPr/>
          <p:nvPr/>
        </p:nvSpPr>
        <p:spPr>
          <a:xfrm>
            <a:off x="379800" y="1752480"/>
            <a:ext cx="141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sue Sub-Typ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4240" y="175248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ubmitted when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6831-4E90-48C7-9D11-D64C1BA857B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295280"/>
            <a:ext cx="914400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-Active Transac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olution Meas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3962520"/>
            <a:ext cx="80773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67s Received on Cancelled Service 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AC3D-9FD3-4915-BAFC-4FF87E4F63D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1143000"/>
            <a:ext cx="87631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COT periodically receives 867_03 Finals and 867_04s for service orders that are Cancelled in ERCOT systems.  The Service Order Sub-Statuses that are considered Cancelled are:  CR Requested, Customer Objection, ERCOT Operating Rule, Manual, Permit Not Received, with Exception, Unexecutable and Rejected by TDSP.   This can indicate an out-of-sync condition between the TDSP and ERC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Mechanism for Handling 867 RCSO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tep 1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RCOT produces 867RCSO data each Friday and submits a report file to each TDSP via the ERCOT Por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tep 2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he TDSPs review the report line items and take one of the following ac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f the TDSP has cancelled the service 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no further action is requ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f the TDSP has completed the service 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they will initiate a day-to-day MarkeTrak issue and work with ERCOT to get ERCOT systems changed to complete.  Completion of cancelled service orders will require the approval of the CR initiating the transac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Note: For Cancel by Customer Objection, the TDSP will honor the cancel in their system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67s received on Cancelled Service 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3991-0904-4B61-8994-FD2D0DF6F9F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67s received on Cancelled Service Orders -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5400" y="1676520"/>
            <a:ext cx="8931240" cy="4120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C1DF-EE07-43A7-A05F-BEFAE581C22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80880" y="1295280"/>
            <a:ext cx="83059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-Active Transacti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olution Measures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ssing 867 Report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C26D-3EA6-4C73-9685-9BDA8B80AB3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1219320"/>
            <a:ext cx="86104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438840" indent="-43884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issing 867 Repo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spcBef>
                <a:spcPts val="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issing 867 Report will provide TDSPs information about Service Orders in a scheduled state for which ERCOT has not received an 867 completing transaction at least seven days after the scheduled meter 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spcBef>
                <a:spcPts val="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ekly report provided to the TDSP via the ERCOT Port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tats Summar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ssing 867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52280" y="3629160"/>
            <a:ext cx="8683920" cy="223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8529-5774-4AF4-96F2-18986B806D6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ssing 867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787320" y="-1511280"/>
          <a:ext cx="7569360" cy="9882000"/>
        </p:xfrm>
        <a:graphic>
          <a:graphicData uri="http://schemas.openxmlformats.org/drawingml/2006/table">
            <a:tbl>
              <a:tblPr/>
              <a:tblGrid>
                <a:gridCol w="609480"/>
                <a:gridCol w="368280"/>
                <a:gridCol w="368280"/>
                <a:gridCol w="368640"/>
                <a:gridCol w="279360"/>
                <a:gridCol w="279360"/>
                <a:gridCol w="279360"/>
                <a:gridCol w="279360"/>
                <a:gridCol w="279360"/>
                <a:gridCol w="609480"/>
                <a:gridCol w="609840"/>
                <a:gridCol w="368280"/>
                <a:gridCol w="368280"/>
                <a:gridCol w="330120"/>
                <a:gridCol w="330120"/>
                <a:gridCol w="330480"/>
                <a:gridCol w="330120"/>
                <a:gridCol w="266760"/>
                <a:gridCol w="304560"/>
                <a:gridCol w="6098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797040" y="-1501920"/>
          <a:ext cx="600120" cy="395280"/>
        </p:xfrm>
        <a:graphic>
          <a:graphicData uri="http://schemas.openxmlformats.org/drawingml/2006/table">
            <a:tbl>
              <a:tblPr/>
              <a:tblGrid>
                <a:gridCol w="60012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787320" y="-1314360"/>
          <a:ext cx="7569360" cy="9486720"/>
        </p:xfrm>
        <a:graphic>
          <a:graphicData uri="http://schemas.openxmlformats.org/drawingml/2006/table">
            <a:tbl>
              <a:tblPr/>
              <a:tblGrid>
                <a:gridCol w="609840"/>
                <a:gridCol w="368280"/>
                <a:gridCol w="368280"/>
                <a:gridCol w="368280"/>
                <a:gridCol w="279360"/>
                <a:gridCol w="279360"/>
                <a:gridCol w="279360"/>
                <a:gridCol w="279360"/>
                <a:gridCol w="279360"/>
                <a:gridCol w="609840"/>
                <a:gridCol w="609480"/>
                <a:gridCol w="368280"/>
                <a:gridCol w="368280"/>
                <a:gridCol w="330120"/>
                <a:gridCol w="330480"/>
                <a:gridCol w="330120"/>
                <a:gridCol w="330120"/>
                <a:gridCol w="266760"/>
                <a:gridCol w="304560"/>
                <a:gridCol w="6098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797040" y="-1305000"/>
          <a:ext cx="600120" cy="395280"/>
        </p:xfrm>
        <a:graphic>
          <a:graphicData uri="http://schemas.openxmlformats.org/drawingml/2006/table">
            <a:tbl>
              <a:tblPr/>
              <a:tblGrid>
                <a:gridCol w="60012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33240" y="1595520"/>
            <a:ext cx="7824960" cy="430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DE27-F190-400D-9A92-B15AE1A7729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80880" y="1295280"/>
            <a:ext cx="83059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rkeTrak Issue Statist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62320" y="3581280"/>
            <a:ext cx="5029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9426-8B3A-4557-96E4-3AFBF56C106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y to Day Issues - Summa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4158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137160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76040" y="1903320"/>
            <a:ext cx="8739360" cy="358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9F41-25DE-4674-AB27-99F703A4864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tstewart</cp:lastModifiedBy>
  <cp:lastPrinted>2002-09-24T18:27:58Z</cp:lastPrinted>
  <dcterms:modified xsi:type="dcterms:W3CDTF">2007-09-05T14:12:35Z</dcterms:modified>
  <cp:revision>706</cp:revision>
  <dc:subject/>
  <dc:title>PowerPoint Presentation</dc:title>
</cp:coreProperties>
</file>