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FA4-462F-427F-B712-9D7231DF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6364-5B25-467C-A439-6BD65A511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3726-6A1B-48CC-915E-FFFC3858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FBF3-52BC-4B5D-9684-6DDD990C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B46E-473A-493E-9972-1FAB33C8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6A5D-A93D-4BD8-80A4-E78B40D1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591E-5195-4F01-9F04-A41B982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E2D5-D419-4222-AD94-F78362DC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1F04-D256-4EA4-BBCF-1D049B92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059D-CF3A-4AAB-BDF5-BE1A3A8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8822-65EE-4E0A-88C0-16F06697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94FE-DA1A-411B-A0FA-8005888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AE0-2168-4D0A-A8B0-B5BFC6E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7074-4AF0-4120-80D1-3778FFB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18D6-7986-41D0-AA84-73A597E63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3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1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9/19/07 – Testing Worksheets are currently unlocked so MPs can create/update T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9/25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10/05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10/08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11/20/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7-09-04T20:29:44Z</dcterms:modified>
  <cp:revision>91</cp:revision>
  <dc:subject/>
  <dc:title>Instructions</dc:title>
</cp:coreProperties>
</file>