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66C-9D0F-464F-A0C3-65E91C73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7D4-E7F7-46CE-9A0D-D803A9A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02B-5431-434C-8856-CD5BE44F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15A-7102-4C09-BAAA-8BB2D2A8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012-AA71-4484-9919-0223A7D4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47B0-9889-4E7A-B31C-598C53E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883-3E34-4FDB-9D36-2772FB53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430D-ADA3-4CC6-89A7-2DA9E00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7DFC-DBFF-4881-92DF-F3C31661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19F0-E9C8-46E1-BA60-5026A94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38C4-2C34-4FD1-8DBD-DC7F99D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F1C-7F22-4C1A-A372-AA8399D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DF26-CA67-4EF4-AAEA-A1D4E22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F8F-2E07-4A48-8AEB-6EB790E6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4723-01BE-4464-9A14-1793A6EB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DAD-691F-4E49-8E7E-94017303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BDDF-C15B-49F6-AA5A-FFD6FC04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2E2-A2A4-4141-A377-4A93472A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72B-771E-4C1A-B772-02BCA3DE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E54-34F9-40A0-85BD-E6EC9686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F0E-BB33-46A1-883E-4D643FB0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A6E-E296-4100-B0D8-F92F1DA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5BB-9144-4454-9907-AEE127D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326-1F62-43D9-951D-AA4335D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2A43-43F7-41B3-8B54-02F6F0D898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A56-A520-4CAE-B97F-E7D8A6AA50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GRR058, Layout Modifications to Customer Billing Contact Information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GRR006, Conforming the Competitive Metering Guide to Protocol Section 21 and other ERCOT Market Guides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Procedures 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on TAC directive relating to identifying issues with net metering and small renewable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Service Level Agreement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RMGRR058, Layout Modifications to Customer Billing Contact Information (VOTE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ocess requirement defined by POLR Rulemaking Project 31416 Amending 25.43 requiring semi-annual submission of Customer Billing Contact Information from CR’s to ERC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nds RMG 7.11.6.2; 7.11.6.2.1; 7.11.6.3 and Appendix F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es the method of record termination for files 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8320" y="342900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RMGRR058, Layout Modifications to Customer Billing Contact Information (VOTE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ses the record layout of the Error Records sent from ERCOT to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s the label on the Report Name data elements on the Header records for each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s clarification that a single file must be sent for each DUNS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roject required. Minor system modifications to ERCOT systems (Paperfree). Minor cost managed under O&amp;M budgets of affected depart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nimous approval by 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MGRR006, Conforming the Competitive Metering Guide to Protocol Section 21 and other ERCOT Market Guides (Vote)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CMG to accurately reflect NERC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n RMGRR associated with an ERCOT project will be assigned to “Unfunded Project List” unless can be funded in current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guidelines for determining “Urgent”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RCOT impact. No cost assoc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MS Procedures (Vote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 to reflect Retail Metering Working Group purpose and process for RMS approval of TX SET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pdate on TAC directive relating to identifying issues with net metering and small renewable generatio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ail Metering Workshop identified and documented 9 Requests for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request direction from P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are dependent upon direction to be determined from PUCT rule making to support HB3693. Anticipate rulemaking to be announced in October 200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S and ROS responding to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 for WMS on hold contingent upon COPS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08-30T15:57:08Z</dcterms:modified>
  <cp:revision>33</cp:revision>
  <dc:subject/>
  <dc:title>RMS Update to TAC</dc:title>
</cp:coreProperties>
</file>