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7D7B-6F77-46B1-B220-EE164744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86FD-151A-410F-BF6B-C187CD9E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32C3-04D7-4A18-B0DC-AE7D2C85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8146-7C96-4CCF-A9F2-DF5CE989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A4BA-9F69-4DC9-A9DC-146D2967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24F6-7B7F-4741-916D-87536EED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9ECC-823A-49A3-8855-07878340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4DA3-59F4-4C4F-9DBD-C84B53EE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9A7C-CCC1-4ED7-AA34-B1BBEB45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4DD2-E1CC-46FC-8F0B-768B2CF6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AF84-DB35-405C-B69F-D65D6587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BBF0-A3B8-46CA-AFC7-96A2F45B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D267-E497-4F06-9721-142404F62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ugust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914400"/>
          <a:ext cx="84484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4484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ugust 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280" y="838080"/>
          <a:ext cx="883944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83944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838080"/>
          <a:ext cx="88394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839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14400" y="838080"/>
          <a:ext cx="76960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6960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14400" y="838080"/>
          <a:ext cx="7467480" cy="52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467480" cy="52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7-09-05T19:27:54Z</dcterms:modified>
  <cp:revision>63</cp:revision>
  <dc:subject/>
  <dc:title>Instructions</dc:title>
</cp:coreProperties>
</file>