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D5A5-81F9-41F3-AB46-B30F7AD4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4CAD-F7F8-4CE2-959A-061970D7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5AA4-8E8A-4876-AA58-B6C2193D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FE01-710C-41A2-9514-4104CA74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92B6-A756-4755-89CC-9F402E35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E971-DABC-475F-B7AB-D78C6CB0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A068-BF76-42E8-808D-D9CAACAD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D2A3-BC3D-400E-AE26-56B3CA5C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866D-FC19-40AA-9FC8-DFE913B5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3E6F-928C-44D0-9279-950F59BC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B191-CDE0-4949-8D16-6C572D0F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EFAF-D4E1-4BDB-92B2-52B8A000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CF5B-CE97-4853-A157-5B1E371F7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hyperlink" Target="https://marketrak.ercot.com:8443/tmtrack.dll" TargetMode="External"/><Relationship Id="rId3" Type="http://schemas.openxmlformats.org/officeDocument/2006/relationships/hyperlink" Target="https://tcr.ercot.com/" TargetMode="External"/><Relationship Id="rId4" Type="http://schemas.openxmlformats.org/officeDocument/2006/relationships/hyperlink" Target="https://tcr.ercot.com/" TargetMode="External"/><Relationship Id="rId5" Type="http://schemas.openxmlformats.org/officeDocument/2006/relationships/hyperlink" Target="http://www.texasrenewables.com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LA Exception Reques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ctob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MS – Sept 12,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CAP – Sept schedule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ember 8, 2007 12:00PM through September 10, 2007 12:00A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ormal release weeken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ember 15, 2007 12:00PM through September 17, 2007 12:00A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LA exception approved Sept RM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ember 22, 2007 12:00PM through September 24, 2007 12:00A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LA exception approved Sept RM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ctober schedule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d release window will be u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ober 13, 2007 12:00PM through October 15, 2007 12:00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on of databases to AIX (settlements and bi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s requesting an exception to the SLA for the following migration activities for October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ober 20, 2007 12:00PM through October 22, 2007 12:00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gency weekend for migration of databases to AIX (settlements and bi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w will services be impacted?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ring these outages, the following functions will be affected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Participants utilizing NAESB to send/receive transactions to/from ERCOT will NOT be able to send/receive transactions to/from ERCOT during the outage.  This includes all retail trans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67 Transactions will NOT be forwarded during the out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7 Functional Acknowledgements will NOT be sent during the out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onents of the TML and Commercial API will NOT be available including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ESI 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rans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mit Transa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Function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Explorer, inclu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 State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ervices Data Re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COT Internet Services will NOT be available, including but not limited to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.com –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rak -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marketrak.ercot.com:8443/tmtrack.d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R -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cr.erco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newables –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texasrenewables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, Scheduling API, MOSTML, MOSPUBLIC, and Outage Scheduler will not be affected as there will be a DNS failover from Taylor to Austi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kfarley</cp:lastModifiedBy>
  <dcterms:modified xsi:type="dcterms:W3CDTF">2007-08-31T16:41:21Z</dcterms:modified>
  <cp:revision>68</cp:revision>
  <dc:subject/>
  <dc:title>Instructions</dc:title>
</cp:coreProperties>
</file>