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9EE-14DB-4632-AF79-628225E9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A79-7224-451A-81EA-9B9733D9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13A-F591-4748-B5B0-345D9A41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212-7DAF-47C2-89A9-6DFABBDF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DAC6-4D3F-4ABA-BFB6-9511FC56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11F1-6607-46F6-8404-CDDE1F17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2375-4F3B-493D-A394-F8C0A89B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69C4-BA03-48B4-80E2-683D997F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59D0-18C8-403A-8427-271A9C6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FFE6-0CD4-4BA4-8A76-61F5BF3E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EE9-DCCA-4C54-8D29-45BDE18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C82-3312-48F5-8355-B05225B8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F6BA-E8EC-4BE4-8CF9-CB29566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2B2F-7CD1-4CD1-95C2-48C97EF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9F81-CA03-48BB-A7DE-EFC91628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C3B9-E72C-4392-8BE7-7FC60CDF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3B3D-64CE-45E4-AC50-3D7BCCBC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CEE-372E-4121-94AE-86A006BE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8D5-A6DD-4A2C-9BE3-A07F668A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A10-F7A5-4751-86A8-268C2B2B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13C-56CE-4D21-9D19-B790729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E99-01F7-4728-9A9A-C5D5EBC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D71-6193-43F8-BEC6-9A2A2FC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4C6-963A-4D87-BDAA-8B3C81E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6FA5-BCE2-4298-8905-44CFE21D15B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EC5C-62FD-4418-B830-A02CEEC9EB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keTrak Phase II Task Forc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pdate to R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eptember 12, 2007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ugust  21st and 22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cheduled future meeting date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ptember 18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nd 19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- at TXU Energy – Dall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ctober 2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nd 3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– at Constellation – Houst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ctober 16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nd 17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– at ONCOR – Dall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vember 1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nd 2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– at ERCOT – Austi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vember 14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and 15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– at AEP – Corpus Christ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viewed MarkeTrak metrics presented by ERCO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pleted 5 Use Cases for review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rket Requirements were assigned to Market Participants to write Use Cas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on Items from this meeting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nd out 5 completed Use Cases for review – comments due by September 12t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velop Use Cases for discussions in next meeting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ugust  21st and 22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ction Items from this meeting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ems requiring comments from MP’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not allow changes to the Title field in the creation of MT issues – all typ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't capture Issue owner during "Begin Working" unless the owner field is empty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to capture comments when they have exceeded the limit of 4000 characters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ext Meeting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eptember 18th and 19t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cation – Dallas, TX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XU Energy at 1511 Bryan St – Room EP2-155(Downtown)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l review several preliminary Use Cases for comple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on Item for subsequent meetings will be to continue the development of Us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CenterPoint Energy</cp:lastModifiedBy>
  <dcterms:modified xsi:type="dcterms:W3CDTF">2007-08-29T18:40:13Z</dcterms:modified>
  <cp:revision>5</cp:revision>
  <dc:subject/>
  <dc:title>MarkeTrak Task Force</dc:title>
</cp:coreProperties>
</file>