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AB9-833B-4965-8C30-3C18F511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44E-53B7-4780-81D8-BE174724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37D-2EEB-4041-8F28-EC4A6FC5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F95-BFC0-4B5E-B794-E634E63B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A7A3-6177-4CD5-A79E-D903FA3E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09D-42BA-4801-A507-AD37FCB5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AE6-5EB0-464B-804C-78A2E8CD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F06-8EA6-4F01-8E22-5C1D1965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160-0A2B-4CCB-BA97-62E40B0D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5D7-82C9-433E-9912-81865F9A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2A4-CD00-4203-983D-29F51973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FFA-F1C3-459A-A9CE-A5B6B371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13A6-74D4-41E1-B751-1C300820C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eptember 6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184-E9D3-42FC-B60C-DF0CF128A1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12E-2B4F-4E0D-8993-C513482F3D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odal Statement Formats 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presented Nodal Settlement Statement design concepts for review &amp;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ummary data – Statement formats and content iss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tatement amounts will be shown for operating day/charge type – summary level per Settlement Run per Statement Recip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tatements discus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QSE Day Ahead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 QSE Real Time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 CRR Day Ahead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 CRR Real Time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5F7-3A90-40C6-9C2A-B4578AE43C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and Data Acquisition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SDA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DAWG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– Submitted NPRR078, Simplifying the dispute process.  Following lengthy discussion, it was moved, seconded, and unanimously approved by COPS with all market segments present,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PS supports NPRR078 submitted by SDAWG, 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PS recommended language for Section 9.14.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has subsequently filed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DAWG to work with Staff and consolidate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F19-7CC4-4F6E-B1FF-BF397EAC11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and Data Acquisition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SDAWG)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dal Imp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ing Commercial Operations Data Extract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 Calend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oad, Generation and Settlements and Billing Ex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LF, TLF, UFE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Small Generation – Settlement Issues (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B 3693 – Sections 24 &amp;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4C0-A235-482E-8381-4BB747C7FD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ata Extract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DE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et on 7/30 and 8/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ewed staff response to extrac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dentified root cause of each incident since 7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rrective action taken &amp; IT established a developmental team to focus on system stab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stablished 3 priority levels for reports/ex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cus on developing a SLA to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Timeline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 /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mpletenes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/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Accuracy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/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D34-F33A-4353-8D29-43439BA696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nnual Validation Update – On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ound 2 – Load research sample 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stallations to be completed by 6/30/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ew procurement process &amp; meter installations have be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minder – LPGRR018 Default Residential Profile Segment for new ESI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PGRR effective date, 5/01/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DSPs have six months to chan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mplementation date is 11/01/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CE0B-4BC2-45AE-BE2F-65CB6F09A1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238400"/>
            <a:ext cx="8534160" cy="51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5BD-E2D8-4AFD-A32F-C72D6DD0A8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WG submitted to COPS and COPS recommends to TAC approval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PGRR0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rket guide revision conforming the Load Profiling Guide to Protocol Section 21 and other ERCOT Market Guid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</a:rPr>
              <a:t>http://www.ercot.com/mktrules/issues/lpgrr/000-024/022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CDF-DA14-4C4B-9610-775D88764F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R720 TRE Fee Methodolo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llowing Discussion and review, COPS set up an Ad Hoc Committee to work with Staff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mplify the calculation of TREF and bi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ve personnel other than Settlements perform the billing and segregate TRE activity from ISP Protoc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mplement the change in process with the least intrusion to existing proce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velop a process for reconciling TRE costs vs TREF coll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Legal, ISO, and TRE Staff, are involved in the discussions with COPS Ad Hoc members – Process is proceeding as we resolve and clarify iss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7D0-3760-4A3E-B013-3DA01962E9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starr</cp:lastModifiedBy>
  <dcterms:modified xsi:type="dcterms:W3CDTF">2007-09-04T15:00:50Z</dcterms:modified>
  <cp:revision>224</cp:revision>
  <dc:subject/>
  <dc:title>Point-to-Point</dc:title>
</cp:coreProperties>
</file>