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0F61F-54F3-4288-8AE8-5F4E9B55A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88041-2C37-4537-B70A-641AADF7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F8980-08B9-461C-851E-7FFAF0A28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BBAA1-BE4D-4FA3-B5B9-11DEAD11F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05D57-A25A-4292-BFA2-4D22377D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775992-631B-4C81-B3A2-F56C85E13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2F58F0-745D-4986-89A6-B4F8AB01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94DA9D-EDFD-4590-B379-C613BF44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FAFE34-7403-4253-BFAF-678F4F52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A883F0-8252-4A2C-9922-E29793B4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D7EA3-A7B9-4E82-BD26-F1B583B3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09B32E-5EA5-4D88-9B95-9672CC5B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FE417F-844F-46F8-88A5-1BE75591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E8A7F6-60BE-485A-BB05-5FDE560F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E2F4CE-46B9-442F-AB0C-86BE75FC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6D28FF-4686-4875-8AB0-F8123861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6E3714-9660-4390-8D48-F4D1F8F98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4162ED-A5B5-49B0-89F6-58B9DFD0A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5BC83-2CBF-4347-8E3E-83A3A3A6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B2BA0-91BC-4F13-80EE-93CD8B50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DA80C-0085-4828-863B-2FEAFE7A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0DDDC-BBC1-4592-944D-57B2C625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A451A-5461-4A23-BFA6-1A15F68B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0B8AC-A223-476D-B0DE-6297F786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1E78-F814-4A6D-9C58-C82600207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gust 27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22A4-25AE-4043-9E73-C42F36339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gust 27,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PT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3FB2-482B-4DE2-9080-5CB813091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24160" y="2247840"/>
            <a:ext cx="579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Texas Nodal Market Implementation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Data Center Data Migrati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exas Nodal Program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Jerry Sulliva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actical deliverables and action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816120"/>
          <a:ext cx="8229600" cy="4119480"/>
        </p:xfrm>
        <a:graphic>
          <a:graphicData uri="http://schemas.openxmlformats.org/drawingml/2006/table">
            <a:tbl>
              <a:tblPr/>
              <a:tblGrid>
                <a:gridCol w="1057320"/>
                <a:gridCol w="7172280"/>
              </a:tblGrid>
              <a:tr h="27648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p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720">
                      <a:solidFill>
                        <a:srgbClr val="009999"/>
                      </a:solidFill>
                    </a:lnL>
                    <a:lnR w="720">
                      <a:solidFill>
                        <a:srgbClr val="009999"/>
                      </a:solidFill>
                    </a:lnR>
                    <a:lnT w="720">
                      <a:solidFill>
                        <a:srgbClr val="009999"/>
                      </a:solidFill>
                    </a:lnT>
                    <a:lnB w="72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tion/A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720">
                      <a:solidFill>
                        <a:srgbClr val="009999"/>
                      </a:solidFill>
                    </a:lnL>
                    <a:lnR w="720">
                      <a:solidFill>
                        <a:srgbClr val="009999"/>
                      </a:solidFill>
                    </a:lnR>
                    <a:lnT w="720">
                      <a:solidFill>
                        <a:srgbClr val="009999"/>
                      </a:solidFill>
                    </a:lnT>
                    <a:lnB w="72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78912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720">
                      <a:solidFill>
                        <a:srgbClr val="009999"/>
                      </a:solidFill>
                    </a:lnL>
                    <a:lnR w="720">
                      <a:solidFill>
                        <a:srgbClr val="009999"/>
                      </a:solidFill>
                    </a:lnR>
                    <a:lnT w="720">
                      <a:solidFill>
                        <a:srgbClr val="009999"/>
                      </a:solidFill>
                    </a:lnT>
                    <a:lnB w="7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B high-level schedule put the Nodal Program schedule at risk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ical design issues need to be resolved rapidly by ERCOT/ABB – 60% “high” category items resolved 8/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rcial implications to follow – target to resolve 9/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MS UI development in-hou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oser inter-working of ERCOT design, integration and testing teams at ABB starting Sept. 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720">
                      <a:solidFill>
                        <a:srgbClr val="009999"/>
                      </a:solidFill>
                    </a:lnL>
                    <a:lnR w="720">
                      <a:solidFill>
                        <a:srgbClr val="009999"/>
                      </a:solidFill>
                    </a:lnR>
                    <a:lnT w="720">
                      <a:solidFill>
                        <a:srgbClr val="009999"/>
                      </a:solidFill>
                    </a:lnT>
                    <a:lnB w="7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ff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720">
                      <a:solidFill>
                        <a:srgbClr val="009999"/>
                      </a:solidFill>
                    </a:lnL>
                    <a:lnR w="720">
                      <a:solidFill>
                        <a:srgbClr val="009999"/>
                      </a:solidFill>
                    </a:lnR>
                    <a:lnT w="720">
                      <a:solidFill>
                        <a:srgbClr val="009999"/>
                      </a:solidFill>
                    </a:lnT>
                    <a:lnB w="7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ty staffing needs identified and initiated in consultation with Resource Managers to address gaps in EDS, MMS, and 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720">
                      <a:solidFill>
                        <a:srgbClr val="009999"/>
                      </a:solidFill>
                    </a:lnL>
                    <a:lnR w="720">
                      <a:solidFill>
                        <a:srgbClr val="009999"/>
                      </a:solidFill>
                    </a:lnR>
                    <a:lnT w="720">
                      <a:solidFill>
                        <a:srgbClr val="009999"/>
                      </a:solidFill>
                    </a:lnT>
                    <a:lnB w="7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dbox (8/3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ty 2 Web Servi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720">
                      <a:solidFill>
                        <a:srgbClr val="009999"/>
                      </a:solidFill>
                    </a:lnL>
                    <a:lnR w="720">
                      <a:solidFill>
                        <a:srgbClr val="009999"/>
                      </a:solidFill>
                    </a:lnR>
                    <a:lnT w="720">
                      <a:solidFill>
                        <a:srgbClr val="009999"/>
                      </a:solidFill>
                    </a:lnT>
                    <a:lnB w="7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dence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achieving the milestone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Hig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ion Testing of 6 critical SCED interfaces 84% complete as at 8/24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rest of the priority 2 web services interfaces will be incrementally delivered in Sept 2007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720">
                      <a:solidFill>
                        <a:srgbClr val="009999"/>
                      </a:solidFill>
                    </a:lnL>
                    <a:lnR w="720">
                      <a:solidFill>
                        <a:srgbClr val="009999"/>
                      </a:solidFill>
                    </a:lnR>
                    <a:lnT w="720">
                      <a:solidFill>
                        <a:srgbClr val="009999"/>
                      </a:solidFill>
                    </a:lnT>
                    <a:lnB w="7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S 2 (9/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 Estimator and Telemet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720">
                      <a:solidFill>
                        <a:srgbClr val="009999"/>
                      </a:solidFill>
                    </a:lnL>
                    <a:lnR w="720">
                      <a:solidFill>
                        <a:srgbClr val="009999"/>
                      </a:solidFill>
                    </a:lnR>
                    <a:lnT w="720">
                      <a:solidFill>
                        <a:srgbClr val="009999"/>
                      </a:solidFill>
                    </a:lnT>
                    <a:lnB w="7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dence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achieving the milestone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Hig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S Release 2 – State Estimator and Telemetry FAT test execution 40% complete, 0 severity 1 defects, as at 8/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ly investigating calculated points for 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im solution for delivery of SE Reports – looking at MIS solu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720">
                      <a:solidFill>
                        <a:srgbClr val="009999"/>
                      </a:solidFill>
                    </a:lnL>
                    <a:lnR w="720">
                      <a:solidFill>
                        <a:srgbClr val="009999"/>
                      </a:solidFill>
                    </a:lnR>
                    <a:lnT w="720">
                      <a:solidFill>
                        <a:srgbClr val="009999"/>
                      </a:solidFill>
                    </a:lnT>
                    <a:lnB w="7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549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S 1 (10/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720">
                      <a:solidFill>
                        <a:srgbClr val="009999"/>
                      </a:solidFill>
                    </a:lnL>
                    <a:lnR w="720">
                      <a:solidFill>
                        <a:srgbClr val="009999"/>
                      </a:solidFill>
                    </a:lnR>
                    <a:lnT w="720">
                      <a:solidFill>
                        <a:srgbClr val="009999"/>
                      </a:solidFill>
                    </a:lnT>
                    <a:lnB w="7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dence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achieving the milestone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Hig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QSEs will be completed and tested by 10/1, except for one market participant (currently upgrading their EM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720">
                      <a:solidFill>
                        <a:srgbClr val="009999"/>
                      </a:solidFill>
                    </a:lnL>
                    <a:lnR w="720">
                      <a:solidFill>
                        <a:srgbClr val="009999"/>
                      </a:solidFill>
                    </a:lnR>
                    <a:lnT w="720">
                      <a:solidFill>
                        <a:srgbClr val="009999"/>
                      </a:solidFill>
                    </a:lnT>
                    <a:lnB w="7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S 3 (11/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S interfacing with SC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720">
                      <a:solidFill>
                        <a:srgbClr val="009999"/>
                      </a:solidFill>
                    </a:lnL>
                    <a:lnR w="720">
                      <a:solidFill>
                        <a:srgbClr val="009999"/>
                      </a:solidFill>
                    </a:lnR>
                    <a:lnT w="720">
                      <a:solidFill>
                        <a:srgbClr val="009999"/>
                      </a:solidFill>
                    </a:lnT>
                    <a:lnB w="7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dence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achieving the milestone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Mediu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S delivery of interfaces, confidence is Hig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S delivery of interfaces, confidence is Low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of SCED reports, confidence is Low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cross-project effort launched to expedite delivery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ort launched to develop interim solution for data consistency between EMS and MMS (prior to final solution through NMM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720">
                      <a:solidFill>
                        <a:srgbClr val="009999"/>
                      </a:solidFill>
                    </a:lnL>
                    <a:lnR w="720">
                      <a:solidFill>
                        <a:srgbClr val="009999"/>
                      </a:solidFill>
                    </a:lnR>
                    <a:lnT w="720">
                      <a:solidFill>
                        <a:srgbClr val="009999"/>
                      </a:solidFill>
                    </a:lnT>
                    <a:lnB w="7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S2 R4 (11/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MS NOMC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720">
                      <a:solidFill>
                        <a:srgbClr val="009999"/>
                      </a:solidFill>
                    </a:lnL>
                    <a:lnR w="720">
                      <a:solidFill>
                        <a:srgbClr val="009999"/>
                      </a:solidFill>
                    </a:lnR>
                    <a:lnT w="720">
                      <a:solidFill>
                        <a:srgbClr val="009999"/>
                      </a:solidFill>
                    </a:lnT>
                    <a:lnB w="7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dence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achieving the milestone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is Medium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ith known challenges (data reconciliation and validation, AREVA load capabilities, MP availability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MS 1b delivery from Siemens failed FAT initially, retest successful (8/23), Phase 1c delivery at end of Sept 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 to start testing activities with CNP in November (confirmed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720">
                      <a:solidFill>
                        <a:srgbClr val="009999"/>
                      </a:solidFill>
                    </a:lnL>
                    <a:lnR w="720">
                      <a:solidFill>
                        <a:srgbClr val="009999"/>
                      </a:solidFill>
                    </a:lnR>
                    <a:lnT w="720">
                      <a:solidFill>
                        <a:srgbClr val="009999"/>
                      </a:solidFill>
                    </a:lnT>
                    <a:lnB w="72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457200" y="5873760"/>
            <a:ext cx="822960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8/24 eEDS MILESTONE ACHIEVED (Austin Energy completed initial testing 8/2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6BF62-886B-465A-B053-E2DA868F0A0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47840" y="6040440"/>
            <a:ext cx="6701040" cy="123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7440" rIns="127440" tIns="60120" bIns="6012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ime line update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196920" y="1019160"/>
            <a:ext cx="856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6280" y="1550880"/>
            <a:ext cx="1104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23760" bIns="23760" anchor="t">
            <a:spAutoFit/>
          </a:bodyPr>
          <a:p>
            <a:pPr>
              <a:lnSpc>
                <a:spcPct val="85000"/>
              </a:lnSpc>
              <a:spcBef>
                <a:spcPts val="337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900" spc="-1" strike="noStrike">
                <a:solidFill>
                  <a:srgbClr val="063de8"/>
                </a:solidFill>
                <a:latin typeface="Arial"/>
              </a:rPr>
              <a:t>Energy Management System (EM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8360" y="5367240"/>
            <a:ext cx="13035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23760" bIns="23760" anchor="t">
            <a:spAutoFit/>
          </a:bodyPr>
          <a:p>
            <a:pPr>
              <a:lnSpc>
                <a:spcPct val="85000"/>
              </a:lnSpc>
              <a:spcBef>
                <a:spcPts val="337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900" spc="-1" strike="noStrike">
                <a:solidFill>
                  <a:srgbClr val="063de8"/>
                </a:solidFill>
                <a:latin typeface="Arial"/>
              </a:rPr>
              <a:t>E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6280" y="2125800"/>
            <a:ext cx="12398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23760" bIns="23760" anchor="t">
            <a:spAutoFit/>
          </a:bodyPr>
          <a:p>
            <a:pPr>
              <a:lnSpc>
                <a:spcPct val="85000"/>
              </a:lnSpc>
              <a:spcBef>
                <a:spcPts val="337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900" spc="-1" strike="noStrike">
                <a:solidFill>
                  <a:srgbClr val="063de8"/>
                </a:solidFill>
                <a:latin typeface="Arial"/>
              </a:rPr>
              <a:t>Market Management System (MM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6280" y="2604960"/>
            <a:ext cx="12445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23760" bIns="23760" anchor="t">
            <a:spAutoFit/>
          </a:bodyPr>
          <a:p>
            <a:pPr>
              <a:lnSpc>
                <a:spcPct val="85000"/>
              </a:lnSpc>
              <a:spcBef>
                <a:spcPts val="337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900" spc="-1" strike="noStrike">
                <a:solidFill>
                  <a:srgbClr val="063de8"/>
                </a:solidFill>
                <a:latin typeface="Arial"/>
              </a:rPr>
              <a:t>Congestion Revenue Rights (CRR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6920" y="3921120"/>
            <a:ext cx="11142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23760" bIns="23760" anchor="t">
            <a:spAutoFit/>
          </a:bodyPr>
          <a:p>
            <a:pPr>
              <a:lnSpc>
                <a:spcPct val="85000"/>
              </a:lnSpc>
              <a:spcBef>
                <a:spcPts val="337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900" spc="-1" strike="noStrike">
                <a:solidFill>
                  <a:srgbClr val="063de8"/>
                </a:solidFill>
                <a:latin typeface="Arial"/>
              </a:rPr>
              <a:t>Market Information System (MI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06280" y="1044720"/>
            <a:ext cx="1239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23760" bIns="23760" anchor="t">
            <a:spAutoFit/>
          </a:bodyPr>
          <a:p>
            <a:pPr>
              <a:lnSpc>
                <a:spcPct val="85000"/>
              </a:lnSpc>
              <a:spcBef>
                <a:spcPts val="337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900" spc="-1" strike="noStrike">
                <a:solidFill>
                  <a:srgbClr val="063de8"/>
                </a:solidFill>
                <a:latin typeface="Arial"/>
              </a:rPr>
              <a:t>Network Model Management System (NMM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6920" y="3478320"/>
            <a:ext cx="13032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23760" bIns="23760" anchor="t">
            <a:spAutoFit/>
          </a:bodyPr>
          <a:p>
            <a:pPr>
              <a:lnSpc>
                <a:spcPct val="85000"/>
              </a:lnSpc>
              <a:spcBef>
                <a:spcPts val="337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900" spc="-1" strike="noStrike">
                <a:solidFill>
                  <a:srgbClr val="063de8"/>
                </a:solidFill>
                <a:latin typeface="Arial"/>
              </a:rPr>
              <a:t>Commercial Systems (COM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5942160"/>
            <a:ext cx="15019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23760" bIns="23760" anchor="t">
            <a:spAutoFit/>
          </a:bodyPr>
          <a:p>
            <a:pPr>
              <a:lnSpc>
                <a:spcPct val="85000"/>
              </a:lnSpc>
              <a:spcBef>
                <a:spcPts val="337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900" spc="-1" strike="noStrike">
                <a:solidFill>
                  <a:srgbClr val="063de8"/>
                </a:solidFill>
                <a:latin typeface="Arial"/>
              </a:rPr>
              <a:t>ERCOT / MP Readiness &amp; Implement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6280" y="3035160"/>
            <a:ext cx="11048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23760" bIns="23760" anchor="t">
            <a:spAutoFit/>
          </a:bodyPr>
          <a:p>
            <a:pPr>
              <a:lnSpc>
                <a:spcPct val="85000"/>
              </a:lnSpc>
              <a:spcBef>
                <a:spcPts val="337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900" spc="-1" strike="noStrike">
                <a:solidFill>
                  <a:srgbClr val="063de8"/>
                </a:solidFill>
                <a:latin typeface="Arial"/>
              </a:rPr>
              <a:t>Enterprise Integration (EIP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6920" y="4307040"/>
            <a:ext cx="11142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23760" bIns="23760" anchor="t">
            <a:spAutoFit/>
          </a:bodyPr>
          <a:p>
            <a:pPr>
              <a:lnSpc>
                <a:spcPct val="85000"/>
              </a:lnSpc>
              <a:spcBef>
                <a:spcPts val="337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900" spc="-1" strike="noStrike">
                <a:solidFill>
                  <a:srgbClr val="063de8"/>
                </a:solidFill>
                <a:latin typeface="Arial"/>
              </a:rPr>
              <a:t>Enterprise Data Warehouse (EDW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194600" y="762120"/>
            <a:ext cx="0" cy="5473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16320" y="762120"/>
            <a:ext cx="0" cy="5473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50800" y="762120"/>
            <a:ext cx="0" cy="547344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76440" y="762120"/>
            <a:ext cx="0" cy="5473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238800" y="771480"/>
            <a:ext cx="0" cy="5473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27560" y="771480"/>
            <a:ext cx="0" cy="5473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83360" y="806400"/>
            <a:ext cx="0" cy="545796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05840" y="762120"/>
            <a:ext cx="0" cy="546732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145360" y="762120"/>
            <a:ext cx="0" cy="5473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105840" y="762120"/>
            <a:ext cx="0" cy="5473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8360" y="4808520"/>
            <a:ext cx="13035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23760" bIns="23760" anchor="t">
            <a:spAutoFit/>
          </a:bodyPr>
          <a:p>
            <a:pPr>
              <a:lnSpc>
                <a:spcPct val="85000"/>
              </a:lnSpc>
              <a:spcBef>
                <a:spcPts val="337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900" spc="-1" strike="noStrike">
                <a:solidFill>
                  <a:srgbClr val="063de8"/>
                </a:solidFill>
                <a:latin typeface="Arial"/>
              </a:rPr>
              <a:t>Infrastructure (INF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50800" y="1127160"/>
            <a:ext cx="3068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63360" bIns="63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08160" y="1133640"/>
            <a:ext cx="120960" cy="136440"/>
          </a:xfrm>
          <a:prstGeom prst="diamond">
            <a:avLst/>
          </a:prstGeom>
          <a:solidFill>
            <a:srgbClr val="ff66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300480" y="1133640"/>
            <a:ext cx="120600" cy="136440"/>
          </a:xfrm>
          <a:prstGeom prst="diamond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07000" y="1135080"/>
            <a:ext cx="599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CI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00280" y="1738440"/>
            <a:ext cx="2382840" cy="133200"/>
          </a:xfrm>
          <a:prstGeom prst="rect">
            <a:avLst/>
          </a:prstGeom>
          <a:solidFill>
            <a:srgbClr val="c2bb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63360" bIns="63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50800" y="2066760"/>
            <a:ext cx="1830600" cy="136800"/>
          </a:xfrm>
          <a:prstGeom prst="rect">
            <a:avLst/>
          </a:prstGeom>
          <a:solidFill>
            <a:srgbClr val="c2bb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63360" bIns="63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70240" y="2217600"/>
            <a:ext cx="3665520" cy="125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19240" y="2066760"/>
            <a:ext cx="351000" cy="136800"/>
          </a:xfrm>
          <a:prstGeom prst="rect">
            <a:avLst/>
          </a:prstGeom>
          <a:solidFill>
            <a:srgbClr val="c2bb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7440" rIns="127440" tIns="63720" bIns="63720" anchor="ctr">
            <a:no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RT FA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55880" y="2066760"/>
            <a:ext cx="120600" cy="136800"/>
          </a:xfrm>
          <a:prstGeom prst="diamond">
            <a:avLst/>
          </a:prstGeom>
          <a:solidFill>
            <a:srgbClr val="ff66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0400" y="2066760"/>
            <a:ext cx="120600" cy="136800"/>
          </a:xfrm>
          <a:prstGeom prst="diamond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30920" y="2206800"/>
            <a:ext cx="120600" cy="136440"/>
          </a:xfrm>
          <a:prstGeom prst="diamond">
            <a:avLst/>
          </a:prstGeom>
          <a:solidFill>
            <a:srgbClr val="ff66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45120" y="2206800"/>
            <a:ext cx="120600" cy="136440"/>
          </a:xfrm>
          <a:prstGeom prst="diamond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50800" y="2550960"/>
            <a:ext cx="3489480" cy="138240"/>
          </a:xfrm>
          <a:prstGeom prst="rect">
            <a:avLst/>
          </a:prstGeom>
          <a:solidFill>
            <a:srgbClr val="c2bb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63360" bIns="63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57720" y="2550960"/>
            <a:ext cx="1179360" cy="138240"/>
          </a:xfrm>
          <a:prstGeom prst="rect">
            <a:avLst/>
          </a:prstGeom>
          <a:solidFill>
            <a:srgbClr val="c2bb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7440" rIns="127440" tIns="63720" bIns="63720" anchor="ctr">
            <a:no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FA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91120" y="2552760"/>
            <a:ext cx="120600" cy="136440"/>
          </a:xfrm>
          <a:prstGeom prst="diamond">
            <a:avLst/>
          </a:prstGeom>
          <a:solidFill>
            <a:srgbClr val="ff66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72280" y="2552760"/>
            <a:ext cx="120600" cy="136440"/>
          </a:xfrm>
          <a:prstGeom prst="diamond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50800" y="3429000"/>
            <a:ext cx="2586240" cy="136440"/>
          </a:xfrm>
          <a:prstGeom prst="rect">
            <a:avLst/>
          </a:prstGeom>
          <a:solidFill>
            <a:srgbClr val="c2bb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7440" rIns="127440" tIns="63720" bIns="63720" anchor="ctr">
            <a:no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032360" y="3429000"/>
            <a:ext cx="279360" cy="136440"/>
          </a:xfrm>
          <a:prstGeom prst="rect">
            <a:avLst/>
          </a:prstGeom>
          <a:solidFill>
            <a:srgbClr val="c2bb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7440" rIns="127440" tIns="63720" bIns="63720" anchor="ctr">
            <a:no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CM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52640" y="3565440"/>
            <a:ext cx="2084400" cy="136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S&amp;B Buil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376880" y="3565440"/>
            <a:ext cx="838080" cy="136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S&amp;B FA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7480" y="3429000"/>
            <a:ext cx="120960" cy="136440"/>
          </a:xfrm>
          <a:prstGeom prst="diamond">
            <a:avLst/>
          </a:prstGeom>
          <a:solidFill>
            <a:srgbClr val="ff66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70320" y="3429000"/>
            <a:ext cx="120600" cy="136440"/>
          </a:xfrm>
          <a:prstGeom prst="diamond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302000" y="3565440"/>
            <a:ext cx="120600" cy="136440"/>
          </a:xfrm>
          <a:prstGeom prst="diamond">
            <a:avLst/>
          </a:prstGeom>
          <a:solidFill>
            <a:srgbClr val="ff66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46120" y="3900600"/>
            <a:ext cx="2590920" cy="136440"/>
          </a:xfrm>
          <a:prstGeom prst="rect">
            <a:avLst/>
          </a:prstGeom>
          <a:solidFill>
            <a:srgbClr val="c2bb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7440" rIns="127440" tIns="63720" bIns="63720" anchor="ctr">
            <a:no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022640" y="3900600"/>
            <a:ext cx="303120" cy="136440"/>
          </a:xfrm>
          <a:prstGeom prst="rect">
            <a:avLst/>
          </a:prstGeom>
          <a:solidFill>
            <a:srgbClr val="c2bb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7440" rIns="127440" tIns="63720" bIns="63720" anchor="ctr">
            <a:no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FA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71880" y="3900600"/>
            <a:ext cx="120600" cy="136440"/>
          </a:xfrm>
          <a:prstGeom prst="diamond">
            <a:avLst/>
          </a:prstGeom>
          <a:solidFill>
            <a:srgbClr val="ff66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55920" y="3900600"/>
            <a:ext cx="120960" cy="136440"/>
          </a:xfrm>
          <a:prstGeom prst="diamond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11280" y="5081760"/>
            <a:ext cx="2168640" cy="136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7440" rIns="127440" tIns="63720" bIns="63720" anchor="ctr">
            <a:no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EDS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25800" y="5364000"/>
            <a:ext cx="3270240" cy="140040"/>
          </a:xfrm>
          <a:prstGeom prst="rect">
            <a:avLst/>
          </a:prstGeom>
          <a:solidFill>
            <a:srgbClr val="c2bb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7440" rIns="127440" tIns="63720" bIns="63720" anchor="ctr">
            <a:no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EDS 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0120" y="5497560"/>
            <a:ext cx="3173400" cy="136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EDS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6035760"/>
            <a:ext cx="120600" cy="13644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739360" y="6031080"/>
            <a:ext cx="120600" cy="13644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853480" y="6031080"/>
            <a:ext cx="120600" cy="13644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06360" y="5789520"/>
            <a:ext cx="1116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Narrow"/>
              </a:rPr>
              <a:t>Single Entry Mode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Narrow"/>
              </a:rPr>
              <a:t>3/31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043840" y="5643720"/>
            <a:ext cx="81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Narrow"/>
              </a:rPr>
              <a:t>RT Marke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Narrow"/>
              </a:rPr>
              <a:t>12/0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444160" y="5640480"/>
            <a:ext cx="822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Narrow"/>
              </a:rPr>
              <a:t>DA Marke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Narrow"/>
              </a:rPr>
              <a:t>12/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53160" y="5500800"/>
            <a:ext cx="120960" cy="13644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075080" y="5130720"/>
            <a:ext cx="983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Narrow"/>
              </a:rPr>
              <a:t>168 Hour Trial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13560" y="5267160"/>
            <a:ext cx="684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453520" y="5875200"/>
            <a:ext cx="284040" cy="22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859960" y="5818320"/>
            <a:ext cx="69840" cy="18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50800" y="3000240"/>
            <a:ext cx="2806920" cy="139680"/>
          </a:xfrm>
          <a:prstGeom prst="rect">
            <a:avLst/>
          </a:prstGeom>
          <a:solidFill>
            <a:srgbClr val="c2bb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7440" rIns="127440" tIns="63720" bIns="63720" anchor="ctr">
            <a:no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30760" y="3137040"/>
            <a:ext cx="2687400" cy="137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DAM, RUC, SASM S&amp;B Interfaces Build and  FA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52800" y="3000240"/>
            <a:ext cx="2519280" cy="139680"/>
          </a:xfrm>
          <a:prstGeom prst="rect">
            <a:avLst/>
          </a:prstGeom>
          <a:solidFill>
            <a:srgbClr val="c2bb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7440" rIns="127440" tIns="63720" bIns="63720" anchor="ctr">
            <a:no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SCED, CRR Interfaces Build and FA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76480" y="3002040"/>
            <a:ext cx="120600" cy="136440"/>
          </a:xfrm>
          <a:prstGeom prst="diamond">
            <a:avLst/>
          </a:prstGeom>
          <a:solidFill>
            <a:srgbClr val="ff66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11960" y="3000240"/>
            <a:ext cx="120600" cy="136800"/>
          </a:xfrm>
          <a:prstGeom prst="diamond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95840" y="3138480"/>
            <a:ext cx="120600" cy="136440"/>
          </a:xfrm>
          <a:prstGeom prst="diamond">
            <a:avLst/>
          </a:prstGeom>
          <a:solidFill>
            <a:srgbClr val="ff66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34280" y="3138480"/>
            <a:ext cx="120600" cy="136440"/>
          </a:xfrm>
          <a:prstGeom prst="diamond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50800" y="4240080"/>
            <a:ext cx="3832560" cy="141480"/>
          </a:xfrm>
          <a:prstGeom prst="rect">
            <a:avLst/>
          </a:prstGeom>
          <a:solidFill>
            <a:srgbClr val="c2bb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7440" rIns="127440" tIns="63720" bIns="63720" anchor="ctr">
            <a:no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 Narrow"/>
              </a:rPr>
              <a:t>Currently re-planni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48160" y="4381560"/>
            <a:ext cx="3646440" cy="144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Currently re-planni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809800" y="6033960"/>
            <a:ext cx="120600" cy="136800"/>
          </a:xfrm>
          <a:prstGeom prst="diamond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66360" y="5827680"/>
            <a:ext cx="82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Readines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Metric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13280" y="6043680"/>
            <a:ext cx="120600" cy="136440"/>
          </a:xfrm>
          <a:prstGeom prst="diamond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664440" y="5837400"/>
            <a:ext cx="851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Start MP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Registrat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50800" y="4813200"/>
            <a:ext cx="1403640" cy="136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Build Dev Environment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12840" y="4665600"/>
            <a:ext cx="1035000" cy="141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7440" rIns="127440" tIns="63720" bIns="63720" anchor="ctr">
            <a:no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Build ITest &amp; EDS1/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47840" y="4672080"/>
            <a:ext cx="2289240" cy="136440"/>
          </a:xfrm>
          <a:prstGeom prst="rect">
            <a:avLst/>
          </a:prstGeom>
          <a:solidFill>
            <a:srgbClr val="c2bb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7440" rIns="127440" tIns="63720" bIns="63720" anchor="ctr">
            <a:no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Build EDS 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747960" y="4807080"/>
            <a:ext cx="1764000" cy="141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Build IT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37080" y="4672080"/>
            <a:ext cx="1374840" cy="135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Build EDS 4 and Fail-Over Env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70360" y="5367240"/>
            <a:ext cx="120600" cy="136800"/>
          </a:xfrm>
          <a:prstGeom prst="diamond">
            <a:avLst/>
          </a:prstGeom>
          <a:solidFill>
            <a:srgbClr val="808080">
              <a:alpha val="44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28000" y="5367240"/>
            <a:ext cx="120600" cy="136800"/>
          </a:xfrm>
          <a:prstGeom prst="diamond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19440" y="5081760"/>
            <a:ext cx="120960" cy="136440"/>
          </a:xfrm>
          <a:prstGeom prst="diamond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95720" y="6659640"/>
            <a:ext cx="63504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81440" y="1735200"/>
            <a:ext cx="120600" cy="136440"/>
          </a:xfrm>
          <a:prstGeom prst="diamond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955600" y="1736640"/>
            <a:ext cx="118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SCED Interfaces, RL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287240" y="1738440"/>
            <a:ext cx="60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LF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43240" y="5081760"/>
            <a:ext cx="120600" cy="136440"/>
          </a:xfrm>
          <a:prstGeom prst="diamond">
            <a:avLst/>
          </a:prstGeom>
          <a:solidFill>
            <a:srgbClr val="808080">
              <a:alpha val="44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460520" y="846000"/>
            <a:ext cx="7644960" cy="173160"/>
            <a:chOff x="1460520" y="846000"/>
            <a:chExt cx="7644960" cy="173160"/>
          </a:xfrm>
        </p:grpSpPr>
        <p:sp>
          <p:nvSpPr>
            <p:cNvPr id="231" name=""/>
            <p:cNvSpPr/>
            <p:nvPr/>
          </p:nvSpPr>
          <p:spPr>
            <a:xfrm>
              <a:off x="1460520" y="846000"/>
              <a:ext cx="317520" cy="173160"/>
            </a:xfrm>
            <a:prstGeom prst="rect">
              <a:avLst/>
            </a:prstGeom>
            <a:noFill/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ctr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Ja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78040" y="846000"/>
              <a:ext cx="318960" cy="173160"/>
            </a:xfrm>
            <a:prstGeom prst="rect">
              <a:avLst/>
            </a:prstGeom>
            <a:noFill/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ctr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Feb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097000" y="846000"/>
              <a:ext cx="318960" cy="173160"/>
            </a:xfrm>
            <a:prstGeom prst="rect">
              <a:avLst/>
            </a:prstGeom>
            <a:noFill/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ctr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a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16320" y="846000"/>
              <a:ext cx="317160" cy="173160"/>
            </a:xfrm>
            <a:prstGeom prst="rect">
              <a:avLst/>
            </a:prstGeom>
            <a:noFill/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ctr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Ap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33480" y="846000"/>
              <a:ext cx="318960" cy="173160"/>
            </a:xfrm>
            <a:prstGeom prst="rect">
              <a:avLst/>
            </a:prstGeom>
            <a:noFill/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ctr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a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052440" y="846000"/>
              <a:ext cx="318960" cy="173160"/>
            </a:xfrm>
            <a:prstGeom prst="rect">
              <a:avLst/>
            </a:prstGeom>
            <a:noFill/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ctr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Ju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71400" y="846000"/>
              <a:ext cx="318960" cy="173160"/>
            </a:xfrm>
            <a:prstGeom prst="rect">
              <a:avLst/>
            </a:prstGeom>
            <a:noFill/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ctr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Ju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690720" y="846000"/>
              <a:ext cx="319320" cy="173160"/>
            </a:xfrm>
            <a:prstGeom prst="rect">
              <a:avLst/>
            </a:prstGeom>
            <a:noFill/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ctr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Au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10040" y="846000"/>
              <a:ext cx="317160" cy="173160"/>
            </a:xfrm>
            <a:prstGeom prst="rect">
              <a:avLst/>
            </a:prstGeom>
            <a:noFill/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ctr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ep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327200" y="846000"/>
              <a:ext cx="318960" cy="173160"/>
            </a:xfrm>
            <a:prstGeom prst="rect">
              <a:avLst/>
            </a:prstGeom>
            <a:noFill/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ctr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Oc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646520" y="846000"/>
              <a:ext cx="317520" cy="173160"/>
            </a:xfrm>
            <a:prstGeom prst="rect">
              <a:avLst/>
            </a:prstGeom>
            <a:noFill/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ctr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ov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964040" y="846000"/>
              <a:ext cx="318960" cy="173160"/>
            </a:xfrm>
            <a:prstGeom prst="rect">
              <a:avLst/>
            </a:prstGeom>
            <a:noFill/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ctr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Dec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83360" y="846000"/>
              <a:ext cx="318960" cy="173160"/>
            </a:xfrm>
            <a:prstGeom prst="rect">
              <a:avLst/>
            </a:prstGeom>
            <a:noFill/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ctr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Ja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602320" y="846000"/>
              <a:ext cx="317160" cy="173160"/>
            </a:xfrm>
            <a:prstGeom prst="rect">
              <a:avLst/>
            </a:prstGeom>
            <a:noFill/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ctr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Feb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919480" y="846000"/>
              <a:ext cx="318960" cy="173160"/>
            </a:xfrm>
            <a:prstGeom prst="rect">
              <a:avLst/>
            </a:prstGeom>
            <a:noFill/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ctr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a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238440" y="846000"/>
              <a:ext cx="318960" cy="173160"/>
            </a:xfrm>
            <a:prstGeom prst="rect">
              <a:avLst/>
            </a:prstGeom>
            <a:noFill/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ctr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Ap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7760" y="846000"/>
              <a:ext cx="317520" cy="173160"/>
            </a:xfrm>
            <a:prstGeom prst="rect">
              <a:avLst/>
            </a:prstGeom>
            <a:noFill/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ctr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a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75280" y="846000"/>
              <a:ext cx="320760" cy="173160"/>
            </a:xfrm>
            <a:prstGeom prst="rect">
              <a:avLst/>
            </a:prstGeom>
            <a:noFill/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ctr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Ju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196400" y="846000"/>
              <a:ext cx="317160" cy="173160"/>
            </a:xfrm>
            <a:prstGeom prst="rect">
              <a:avLst/>
            </a:prstGeom>
            <a:noFill/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ctr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Ju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13560" y="846000"/>
              <a:ext cx="318960" cy="173160"/>
            </a:xfrm>
            <a:prstGeom prst="rect">
              <a:avLst/>
            </a:prstGeom>
            <a:noFill/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ctr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Au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32520" y="846000"/>
              <a:ext cx="318960" cy="173160"/>
            </a:xfrm>
            <a:prstGeom prst="rect">
              <a:avLst/>
            </a:prstGeom>
            <a:noFill/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ctr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ep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151840" y="846000"/>
              <a:ext cx="317520" cy="173160"/>
            </a:xfrm>
            <a:prstGeom prst="rect">
              <a:avLst/>
            </a:prstGeom>
            <a:noFill/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ctr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Oc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469360" y="846000"/>
              <a:ext cx="318960" cy="173160"/>
            </a:xfrm>
            <a:prstGeom prst="rect">
              <a:avLst/>
            </a:prstGeom>
            <a:noFill/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ctr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ov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788320" y="846000"/>
              <a:ext cx="317160" cy="173160"/>
            </a:xfrm>
            <a:prstGeom prst="rect">
              <a:avLst/>
            </a:prstGeom>
            <a:noFill/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ctr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Dec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3916440" y="1733400"/>
            <a:ext cx="120600" cy="136800"/>
          </a:xfrm>
          <a:prstGeom prst="diamond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32200" y="1876320"/>
            <a:ext cx="1659240" cy="14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92760" y="1886040"/>
            <a:ext cx="120600" cy="136440"/>
          </a:xfrm>
          <a:prstGeom prst="diamond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319800" y="1886040"/>
            <a:ext cx="120600" cy="136440"/>
          </a:xfrm>
          <a:prstGeom prst="diamond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205960" y="1906560"/>
            <a:ext cx="74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RPP, LF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711400" y="1884240"/>
            <a:ext cx="83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Study App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50800" y="1589040"/>
            <a:ext cx="2073600" cy="139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63360" bIns="63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81440" y="1581120"/>
            <a:ext cx="120600" cy="136440"/>
          </a:xfrm>
          <a:prstGeom prst="diamond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463920" y="1592280"/>
            <a:ext cx="120600" cy="136440"/>
          </a:xfrm>
          <a:prstGeom prst="diamond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70200" y="1595520"/>
            <a:ext cx="974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SE &amp; Telemetr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169360" y="1601640"/>
            <a:ext cx="933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ICCP Upgrad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877080" y="2206800"/>
            <a:ext cx="120600" cy="136440"/>
          </a:xfrm>
          <a:prstGeom prst="diamond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165840" y="2216160"/>
            <a:ext cx="1977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DAM, RUC, SASM Build and BL 1 &amp; 2 change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93400" y="2217600"/>
            <a:ext cx="141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DAM, RUC, SASM , CIM FA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129360" y="2203560"/>
            <a:ext cx="87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VDI, DC Ti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214960" y="3565440"/>
            <a:ext cx="1023840" cy="136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Financial Transfer FA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38800" y="3565440"/>
            <a:ext cx="696960" cy="136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Disputes FA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56360" y="3565440"/>
            <a:ext cx="120600" cy="136440"/>
          </a:xfrm>
          <a:prstGeom prst="diamond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75640" y="3565440"/>
            <a:ext cx="120600" cy="136440"/>
          </a:xfrm>
          <a:prstGeom prst="diamond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37200" y="3565440"/>
            <a:ext cx="120600" cy="136440"/>
          </a:xfrm>
          <a:prstGeom prst="diamond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63960" y="1127160"/>
            <a:ext cx="120600" cy="136440"/>
          </a:xfrm>
          <a:prstGeom prst="diamond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59320" y="1127160"/>
            <a:ext cx="120600" cy="136440"/>
          </a:xfrm>
          <a:prstGeom prst="diamond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24880" y="1144440"/>
            <a:ext cx="851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UI, NOMC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860280" y="1133640"/>
            <a:ext cx="833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EDS 2 FA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811840" y="1733400"/>
            <a:ext cx="120600" cy="136800"/>
          </a:xfrm>
          <a:prstGeom prst="diamond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092560" y="1738440"/>
            <a:ext cx="88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CIM Import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091040" y="5214960"/>
            <a:ext cx="2147760" cy="149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7440" rIns="127440" tIns="63720" bIns="63720" anchor="ctr">
            <a:no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EDS 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184800" y="5214960"/>
            <a:ext cx="120600" cy="136440"/>
          </a:xfrm>
          <a:prstGeom prst="diamond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037040" y="5224320"/>
            <a:ext cx="120600" cy="136800"/>
          </a:xfrm>
          <a:prstGeom prst="diamond">
            <a:avLst/>
          </a:prstGeom>
          <a:solidFill>
            <a:srgbClr val="808080">
              <a:alpha val="44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222880" y="5497560"/>
            <a:ext cx="120600" cy="136440"/>
          </a:xfrm>
          <a:prstGeom prst="diamond">
            <a:avLst/>
          </a:prstGeom>
          <a:solidFill>
            <a:srgbClr val="808080">
              <a:alpha val="44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385120" y="5497560"/>
            <a:ext cx="120600" cy="136440"/>
          </a:xfrm>
          <a:prstGeom prst="diamond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445600" y="6019920"/>
            <a:ext cx="120600" cy="13644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529040" y="5643720"/>
            <a:ext cx="910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Narrow"/>
              </a:rPr>
              <a:t>CRR Auct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Narrow"/>
              </a:rPr>
              <a:t>11/0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145360" y="5818320"/>
            <a:ext cx="32400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25800" y="771480"/>
            <a:ext cx="0" cy="5492880"/>
          </a:xfrm>
          <a:prstGeom prst="line">
            <a:avLst/>
          </a:prstGeom>
          <a:ln w="1260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408480" y="6207120"/>
            <a:ext cx="1041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9966"/>
                </a:solidFill>
                <a:latin typeface="Arial"/>
              </a:rPr>
              <a:t>To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54920" y="2579760"/>
          <a:ext cx="1958760" cy="1158840"/>
        </p:xfrm>
        <a:graphic>
          <a:graphicData uri="http://schemas.openxmlformats.org/drawingml/2006/table">
            <a:tbl>
              <a:tblPr/>
              <a:tblGrid>
                <a:gridCol w="1655640"/>
                <a:gridCol w="303120"/>
              </a:tblGrid>
              <a:tr h="19368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9368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T Star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368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T en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88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S Star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224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S En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368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-Liv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92" name=""/>
          <p:cNvSpPr/>
          <p:nvPr/>
        </p:nvSpPr>
        <p:spPr>
          <a:xfrm>
            <a:off x="8818560" y="3390840"/>
            <a:ext cx="120600" cy="136440"/>
          </a:xfrm>
          <a:prstGeom prst="diamond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818560" y="3584520"/>
            <a:ext cx="120600" cy="13644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818560" y="3197160"/>
            <a:ext cx="120600" cy="136440"/>
          </a:xfrm>
          <a:prstGeom prst="diamond">
            <a:avLst/>
          </a:prstGeom>
          <a:solidFill>
            <a:srgbClr val="808080">
              <a:alpha val="44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818560" y="2811600"/>
            <a:ext cx="120600" cy="136440"/>
          </a:xfrm>
          <a:prstGeom prst="diamond">
            <a:avLst/>
          </a:prstGeom>
          <a:solidFill>
            <a:srgbClr val="ff66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818560" y="3005280"/>
            <a:ext cx="120600" cy="136440"/>
          </a:xfrm>
          <a:prstGeom prst="diamond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054920" y="3738600"/>
            <a:ext cx="1958760" cy="5828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Acronym Ke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FAT – Factory Acceptance Testi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EDS – Early Delivery Syste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MS UI Gothic"/>
              </a:rPr>
              <a:t>I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test – Integration Testi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A884A-39F9-4E57-9A6F-668D2A6377D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PTF</cp:lastModifiedBy>
  <dcterms:modified xsi:type="dcterms:W3CDTF">2007-09-06T14:58:17Z</dcterms:modified>
  <cp:revision>630</cp:revision>
  <dc:subject/>
  <dc:title>Texas Nodal Market Implementation ERCOT Board of Directors Meeting Budget Rationale October 17, 2006  Kathy Hager, Market Redesign Program Director </dc:title>
</cp:coreProperties>
</file>