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360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5662E2-EA6D-4D27-B429-1BCDAC9AE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331469-BCC0-4394-B9EF-96A0B39A2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9F0E2E-26AB-46AB-BCBA-E0AD02422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0EEC0F-64D4-4353-820F-581856A40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3A0E54-F908-4A4B-BD34-E58FB0133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02F0E4-30C2-4797-BADF-0B19C65B4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CA4F04-C607-4850-8699-FFB66235B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FBED83-8CA3-4556-BB4F-CD6D1120C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DACA3F-CBEE-42F0-A95A-44D903741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7B9706-40F1-48AB-BDCB-44F337B8C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8286DB-D210-49E2-9F86-83169EA56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C97AE1-FB43-4338-A0B4-C835D480A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sldNum" idx="1"/>
          </p:nvPr>
        </p:nvSpPr>
        <p:spPr>
          <a:xfrm>
            <a:off x="3352320" y="647676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CEEB1-2731-4CE3-82B6-F43C59B560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dt" idx="2"/>
          </p:nvPr>
        </p:nvSpPr>
        <p:spPr>
          <a:xfrm>
            <a:off x="1066680" y="6476760"/>
            <a:ext cx="15242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gust 28, 200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3"/>
          </p:nvPr>
        </p:nvSpPr>
        <p:spPr>
          <a:xfrm>
            <a:off x="6095880" y="6476760"/>
            <a:ext cx="2743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PTF – CRR Offers in D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1295280" cy="5191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333520" y="1905120"/>
            <a:ext cx="647712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447560" y="2819160"/>
            <a:ext cx="6019560" cy="123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RR Offers in the Day-Ahead Marke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8" name=""/>
          <p:cNvSpPr/>
          <p:nvPr/>
        </p:nvSpPr>
        <p:spPr>
          <a:xfrm>
            <a:off x="1523880" y="4191120"/>
            <a:ext cx="6019920" cy="12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TPTF – August 28, 2007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Presented by Mark Patter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Example 2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oe’s NOIE CRR Account Holder, owns 100 MW PTP Option between PointA and PointB (CRRID #2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oe’s NOIE QSE offers 60 MW of CRRID #2 into the DAM, with a minimum reservation price of $30 /MW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fter DAM clearing, the CRR option clearing price for source at PointA and sink at PointB is $40 / MW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fter DAM clearing, the price difference between PointA and PointB is $35 / MW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0 MWs of the offered CRR clears in DA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0 MWs of the non-offered CRR is paid based on DAM LMP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oe’s NOIE CRR Account Holder will receive 35 $/ MW for all 100 MW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PTF - CRR Offers in D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A9A0E2-CF64-4CD9-9EDF-0A33AB049546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August 28,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Example 3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oe’s NOIE CRR Account Holder, owns 100 MW PTP Option between PointA and PointB (CRRID #3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oe’s NOIE QSE offers 60 MW of CRRID #3 into the DAM, with a minimum reservation price of $50 /MW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fter DAM clearing, the CRR option clearing price for source at PointA and sink at PointB is $40 / MW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fter DAM clearing, the price difference between PointA and PointB is $35 / MW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fter RT clearing the price difference between PointA and PointB is $90 / MW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0 MWs of the non-offered CRR is paid based on DAM LMP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0 MWs of the offered CRR is not cleared, and will flow to RT and be paid based on RT LMP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oe’s NOIE CRR Account Holder will receive $35 /MW for 40 MW and $90 / MW for 60 MW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PTF - CRR Offers in D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9857FA-1838-4C0D-ABA9-E770E43F2CE3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August 28,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Example 4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oe’s NOIE CRR Account Holder, owns 100 MW PTP Option between PointA and PointB (CRRID #4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oe’s NOIE QSE offers 100 MW of CRRID #4 into the DAM, but does not specify a minimum reservation price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fter DAM clearing, the CRR option clearing price for source at PointA and sink at PointB is $40 / MW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fter DAM clearing, the price difference between PointA and PointB is $35 / MW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fter RT clearing the price difference between PointA and PointB is $90 / MW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0 MWs of the offered CRR is not cleared because the default price is $2000 / MW, and will flow to RT and be paid based on RT LMP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oe’s NOIE CRR Account Holder will receive $90 /MW for 100 MW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PTF - CRR Offers in D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767C7C-9449-4707-9199-718F042CCC9F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August 28,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Example 5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m’s NOIE CRR Account Holder, owns 100 MW PTP Option between PointA and PointB (CRRID #5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ll’s QSE is authorized to represent Tom’s NOIE CRR Account Hold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ll’s QSE offers 100 MW of CRRID #5 into the DAM, with a minimum reservation price of $30 /MW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fter DAM clearing, the CRR option clearing price for source at PointA and sink at PointB is $40 / MW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fter DAM clearing, the price difference between PointA and PointB is $35 / MW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l 100 MWs of the offered CRR clears at DA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m’s CRR Account Holder will receive $35 /MW for all 100 MW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PTF - CRR Offers in D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51462D-69E0-44DD-921C-186F410CC1C7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August 28,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Questions?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3429000" y="2286000"/>
            <a:ext cx="2286000" cy="2286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PTF - CRR Offers in DA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7F7CAC-32FB-4951-A8A1-38AB26C31273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August 28,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ontent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R offers to DA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R Offers and Valid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R DAM Clearing and Sett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PTF - CRR Offers in D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E81D36-FBF9-467B-8165-45E00E9C4AFB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August 28,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RR offer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is the meaning of a CRR offer to DAM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fering a CRR Options/Options with Refund to DAM is </a:t>
            </a:r>
            <a:r>
              <a:rPr b="1" lang="en-US" sz="2000" spc="-1" strike="noStrike">
                <a:solidFill>
                  <a:srgbClr val="294171"/>
                </a:solidFill>
                <a:latin typeface="Arial"/>
              </a:rPr>
              <a:t>declar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 CRR Options available to be settled in Real-Time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 valid offer can be eith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332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antity along with a Minimum Reservation Pr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332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antity only (no Minimum Reservation Price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no Minimum Reservation Price is specified (quantity only in an offer), $2000/MWh will be assigned as a defaul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no offer is made, the CRR Account Holder will be settled at DAM LM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PTF - CRR Offers in D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0E4F07-7589-420D-B568-72A14D1B101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August 28,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RR offer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o can offer their CRRs into the Day-Ahead market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ly NOIEs, through their Q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808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Protocol ref: 4.3 (1) (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products can be offered into DAM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TP 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TP Options with Refu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ducts acquired through Allocation or Auction may be off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808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Protocol ref: 4.4.5 (2) &amp; (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ce paid for, PCRR allocations of Capacity type, are not differentiated from other PTP Obligations or PTP Options awarded via Auc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PTF - CRR Offers in D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7D96E1-29FB-442E-884A-C51CB62C24C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August 28,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riteria of CRR Offers 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R Offers include the following information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name of the QSE submit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name of the CRR Account Holder who owns the CR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R ID – Unique identifier provided by the CRR system at the conclusion of each allocation and au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 and sink settlement poi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rst hour and last hou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nimum Reservation Price $ per MW per hour*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antity (MW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IE peak load forecast for the Operating Da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69960" y="5294160"/>
            <a:ext cx="75596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98480" indent="-231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*   Note:  Nodal Protocols state Minimum Reservation Price required but include provision for using default value when no price provided with Of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8480" indent="-231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PTF - CRR Offers in D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A78A8C-EC6A-4B83-9ADF-EC8A16A82FF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August 28,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Validation of CRR Offer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ey Not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the QSE and CRR Account Holders are separate entities, the relationship between the two must be formalized through registratio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CRR Account Holder is identified as a NO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CRR ID will be validated against the CRR Ownership information provided on a daily basis to the MMS-DAM by the CRR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total Quantity of CRR offers for a NOIE for an Operating Hour must not exceed 110% of NOIE’s peak load forecast of the Operating Day. Otherwise, last offer will be reject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PTF - CRR Offers in D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74B4F1-89D2-4423-A0FF-8FA61E24B4D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August 28,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Settlement of DAM Result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fter DAM execution,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a CRR offer is cleared in DAM, the cleared quantity will be settled using DAM LMP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cleared CRR offers will be settled by Real-Time LMP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PTF - CRR Offers in D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B3B5C7-380E-4D4B-95FB-923D0E4D7B0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August 28,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Example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" y="990720"/>
            <a:ext cx="83818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/Sink settlement points: A/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85800" y="1600200"/>
          <a:ext cx="8229600" cy="4578480"/>
        </p:xfrm>
        <a:graphic>
          <a:graphicData uri="http://schemas.openxmlformats.org/drawingml/2006/table">
            <a:tbl>
              <a:tblPr/>
              <a:tblGrid>
                <a:gridCol w="1085400"/>
                <a:gridCol w="1178640"/>
                <a:gridCol w="1140840"/>
                <a:gridCol w="216000"/>
                <a:gridCol w="1314720"/>
                <a:gridCol w="1091880"/>
                <a:gridCol w="216000"/>
                <a:gridCol w="1986120"/>
              </a:tblGrid>
              <a:tr h="140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wned CRR Pre Day-Ahea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R Offe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M clearing price for CRR option A/B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$/MW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RI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R Typ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antity (MW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nimum Reservation Price ($/MW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antity (MW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eared Quantity (MW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RID#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TP Op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9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RID#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TP Op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RID#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TP Op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RID#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TP Op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ne provid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RID#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TP Op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PTF - CRR Offers in DA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297039-3378-47F9-B7AE-7DC0476A4821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August 28,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Example 1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oe’s NOIE CRR Account Holder, owns 100 MW PTP Option between PointA and PointB (CRRID #1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oe’s NOIE QSE offers 100 MW of CRRID #1 into the DAM, with a minimum reservation price of $30 /MW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fter DAM clearing, the CRR option clearing price for source at PointA and sink at PointB is $40 / MW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fter DAM clearing, the LMP difference between PointA and PointB is $35 / MW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l 100 MWs of the offered CRR clears in DA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oe’s NOIE CRR Account Holder will receive $35 / MW for all 100 MW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PTF - CRR Offers in D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964D5D-3BD8-4B76-87A4-C6B6023E65E4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August 28,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>Shuye Teng</dc:creator>
  <dc:description/>
  <dc:language>en-US</dc:language>
  <cp:lastModifiedBy>mpatterson</cp:lastModifiedBy>
  <dcterms:modified xsi:type="dcterms:W3CDTF">2007-09-06T20:43:40Z</dcterms:modified>
  <cp:revision>107</cp:revision>
  <dc:subject/>
  <dc:title>Instructions</dc:title>
</cp:coreProperties>
</file>