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A2727-2C0D-4B8F-B641-62AE1B67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8F3C-E488-4DCD-99AA-FA99955C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A496D-FCF8-49BE-AFDD-93F50DF2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7D709-47E6-4B05-A868-1ACA563D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6C102-7356-4087-A8BA-B5D7B46B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BF11A-0932-4E46-A342-3B3E3152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C0AC7-FD2A-4CC2-AF07-6BE4DB64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F2BF5-C192-42AA-9711-B8B574CD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4385B-55FD-46E5-9E1F-4C602E30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E18FD-06AA-4903-BD19-ABC6E856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21D02-0E06-485B-9D60-243D3702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A0A0-AF63-452D-8FFF-2F7087BB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B42F-55F3-46E1-BF64-003E255EB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981080"/>
            <a:ext cx="693432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exas Nodal Market Implementation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MS FAT Test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fo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ccelerated SC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2363760" y="5867280"/>
            <a:ext cx="59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 Patterson, Manager Market Operations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conomic Scheduling – Base cas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5486400"/>
            <a:ext cx="7924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ify that a resource is dispatched economically based on E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762120"/>
          <a:ext cx="693396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693396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14040"/>
            <a:ext cx="899172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verlapping Offer Curves (Tie-Breaking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143000" y="990720"/>
          <a:ext cx="624852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90720"/>
                    <a:ext cx="62485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62120" y="4267080"/>
            <a:ext cx="7467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ify that the SCED optimization breaks a tie among marginal resources by prorating the dispatch schedules among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ration is based on the size of the MW block with equal price off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the part of price curves within resources’ available region is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multiple segment EOCs, only the marginal segments are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apped and Bounded Offer Curv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1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838080"/>
          <a:ext cx="746784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746784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23292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xy Curve- Extension to LSL and/or HSL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990720"/>
          <a:ext cx="72392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239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 Results/SP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50960" y="1066680"/>
          <a:ext cx="7866000" cy="4525920"/>
        </p:xfrm>
        <a:graphic>
          <a:graphicData uri="http://schemas.openxmlformats.org/drawingml/2006/table">
            <a:tbl>
              <a:tblPr/>
              <a:tblGrid>
                <a:gridCol w="1617480"/>
                <a:gridCol w="1125720"/>
                <a:gridCol w="1074600"/>
                <a:gridCol w="1276560"/>
                <a:gridCol w="828360"/>
                <a:gridCol w="1059120"/>
                <a:gridCol w="884160"/>
              </a:tblGrid>
              <a:tr h="682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 of test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Pa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ftware Problem Reports (SP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ED Integ.  Test by 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-F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761400" y="5715000"/>
            <a:ext cx="79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Note*: Ad-hoc test scenarios and additional elaborate sub-test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PR Status (as of 8/24/2007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14400" y="1219320"/>
          <a:ext cx="7246440" cy="4262040"/>
        </p:xfrm>
        <a:graphic>
          <a:graphicData uri="http://schemas.openxmlformats.org/drawingml/2006/table">
            <a:tbl>
              <a:tblPr/>
              <a:tblGrid>
                <a:gridCol w="1944720"/>
                <a:gridCol w="1345680"/>
                <a:gridCol w="1107720"/>
                <a:gridCol w="1344960"/>
                <a:gridCol w="1503360"/>
              </a:tblGrid>
              <a:tr h="8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dy for Re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prog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tion 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-F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3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PR Criticality (as of 8/14/2007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14400" y="1295280"/>
          <a:ext cx="7391160" cy="4303440"/>
        </p:xfrm>
        <a:graphic>
          <a:graphicData uri="http://schemas.openxmlformats.org/drawingml/2006/table">
            <a:tbl>
              <a:tblPr/>
              <a:tblGrid>
                <a:gridCol w="2320920"/>
                <a:gridCol w="1078200"/>
                <a:gridCol w="1574640"/>
                <a:gridCol w="1504800"/>
                <a:gridCol w="912600"/>
              </a:tblGrid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ica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1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cu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Displays/messag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ent Conf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works IE6.0, JRE1.5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st Fi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mory Lea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Crash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work around exis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hat’s Nex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the Append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mit Requests for additional scenarios to be execu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MMS team to execute the scenarios in the FAT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ite MPS to observe future MMS FAT exec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Black"/>
              </a:rPr>
              <a:t>Appendix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CED Market Participant Interface (MPI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 – Submit C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 – Submit Incremental/Decremental Offer Cur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 – Submit Three-Part Energy O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4 – Web Service – Trading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5 – Web Service – MI Repor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6 – Mess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7 – Submit Output Schedule in Adjustment Period/Real-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8 – Submit Energy Offer in Adjustment Perio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9 – Submit File Exchange Reque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0 – Query/Retrieve a Market Repo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1 – Submit for Invalid Date older than Seven Day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urpos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cate the recent testing efforts on the MMS 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age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late the FAT testing effort to market requests for EDS 3 SCED testing Phas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e mechanism to increase transparenc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I SCED Validation Rul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 – COP Data Submission Template Valid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 – COP Data Query Template Valid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 – Incremental/Decremental Offer Data Submission Template Valid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4 – Incremental/Decremental Offer Data Query Template Valid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5 – Incremental/Decremental Offer Data Cancel Template Valid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6 –Three-part Supply Offer Data Submission Template Valid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7 – Three-part Supply Offer Data Query Template Valid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8 – Three-part Supply Offer Data Cancel Template Valid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9 – Output Schedule Data Submission Template Valid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0 – Output Schedule Data Query Template Valid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1 – Output Schedule Data Cancel Template Valid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2 – Energy Offer Data Submission Template Valid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3 – Energy Offer Data Query Template Valid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4 – Energy Offer Data Data Cancel Template Valid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5 – Partial Day Submis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6 – Multiple Submissions in one XML fi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7 – Cancellation of C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MS SCED Application Processes: Work flow Contro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 – WKF_TC1 Automatic Trigger SCED Exec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 – WKF _TC2 Manually Trigger SCED Exec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 – WKF _TC3 External Systems Trigger SCED Exec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4 – WKF _TC4 Non-manual Trigger SCED Exec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5 – WKF _TC5 Manually Trigger When SCED is Run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6 – WKF _TC6 Executio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MS SCED Application Processes: DSI Test Proced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 – DSI _TC1 Retrieve Registration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 – DSI _TC2 Retrieve Resource Paramet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 – DSI _TC3 Retrieve CC Unit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4 – DSI _TC4 Retrieve Split Resource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5 – DSI _TC5 Retrieve COP In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6 – DSI _TC6 Retrieve EOC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7 – DSI _TC7 Retrieve Output Schedule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8 – DSI _TC8 Retrieve Mitigated Offer Ca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9 – DSI _TC9 Retrieve Mitigated Offer Flo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0 – DSI_TC10 Retrieve Telemetry In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1 – DSI_TC10-1 Retrieve Telemetry Information at the End of Adj. Perio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2 – DSI_TC11 Retrieve RLC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3 – DSI_TC12 Retrieve DSR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4 – DSI_TC13 Retrieve Gen Subsystem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5 – DSI_TC14 Retrieve SE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6 – DSI_TC15 Retrieve TCM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7 – DSI_TC16 Retrieve CCT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8 – DSI_TC17 DSR Identifi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9 – DSI_TC18 DSR Telemetry Output Schedu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0 – DSI_TC19 Output Schedule Valid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MS SCED Application Processes : DSI Test Procedure (Cont’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1 – DSI_TC20 DSR Load Telemetry Lo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2 – DSI_TC21 DSR Dispatched Outside Output Schedu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3 – DSI _TC22 DSR Output Schedule Fill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4 – DSI_TC23 Non-DSR Output Schedule Fil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5 – DSI _TC24 Output Schedule Adjust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6 – DSI _TC25-0 Proxy Offer Curve Paramet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7 – DSI _TC25 Proxy Offer Curve for Resources with Output Schedu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8 – DSI _TC26 Proxy Offer Curve for DSR with INC/DE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9 – DSI _TC27 Proxy Offer Curve for Resources without Full Range EO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0 – DSI _TC28 Proxy Offer Curve for Wind Power Resour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1 – DSI_TC29 Constraint Flow Calib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2 – DSI_TC30 Constraint Limit Linea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3 – DSI_TC31 Manually Offset Dem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4 – DSI_TC32 Manually Set Resources to Output Schedu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5 – DSI_TC33 ONTEST Resour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6 – DSI_TC34 ONRR Resour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7 – DSI_TC35 Operator Manual Override HDL and LD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8 – DSI_TC36 Telemetry Resource Stat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9 – DSI_TC37 DC-Ti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40 – DSI_TC38 Manually Set CCT Fla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41 – DSI_TC39 Re-run the Same Input Data S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MS SCED Application Processes : SCED Calculation Module Test Procedure 107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 – SCED_TC1 SCED Dem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 – SCED_TC2 Resource Stat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 – SCED_TC3 Operating Lim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4 – SCED_TC4 Energy Offer Cur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5 – SCED_TC5 Transmission Constrai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6 – SCED_TC6 Maximum Shadow Pr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7 – SCED_TC7 Report Constraint Vio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8 – SCED_TC8 CC Unit Dispatch Aggregation/Disaggre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9 – SCED_TC9 Constraint Violation Hierarch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0 – SCED_TC10 Tie Break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1 – SCED_TC11 SCED Step1: with Competitive Constrai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2 – SCED_TC12 Capped and Bounded Energy Offer Curve Pro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3 – SCED_TC13 SCED Step2: Competitive and Non-competitive Constrai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4 – SCED_TC14 LMP Calculation with Constraint Vio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5 – SCED_TC15 Movement Limit by Ramp R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6 – SCED_TC16 Movement Limit by Providing Ancillary Servi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MS SCED Application Processes : DSP Test Proced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 – DSP_TC1 Base Point Adjustment with Pseudo Resource Deploy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 – DSP_TC2 Data Publish to 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 – DSP_TC2-0 Data Publish to M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4 – DSP_TC2-1 Emergency Electric Curtailment Pl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5 – DSP _TC3 Resource Parameter Vio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6 – DSP _TC4 Dispatch Outside Output Schedu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7 – DSP_TC5 Enable/Disable Data Publish to 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8 – DSP _TC6 CC Unit Base Point Disaggre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9 – DSP_TC7 Suggestion Pl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0 – DSP_TC8 Base Point Summa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1 – DSP_TC9 Timestamp of Dispatching Outside Output Schedu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MS SCED Application Processes : Save Case and Study Environment Test Procedur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 – SAVE_TC1 SCED Data Arch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 – SAVE_TC2 Study M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 – SAVE_TC3 Data Retrieve in Study M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4 – SAVE_TC4 Data Modification in Study M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5 – SAVE_TC5 Export MOI Data to Exc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MS SCED Application Processes : SCED Background Process Test Procedure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 – BACK_TC1 Bus MW Inje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 – BACK_TC2 Bus Shift Fac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 Operator Interface: User interface featur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 – Navigation Tree Str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– Navigation Menu Struct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 – Standard Function Search and Fil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4 – Standard Function Sort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5 – Standard Function Save and 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6 – Standard Function SQL Que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7 – Standard Function Ex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 Operator Interface: Physical Marke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8 – COP – Trading 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9 – COP – Operatio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0 –COP – Aud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1 – Three-Part Supply Energy offers – Trading 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2 – THREE-PART SUPPLY ENERGY OFFERS – Operatio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3 – THREE-PART SUPPLY ENERGY OFFERS – Aud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4 – Incremental/Decremental Offer Curve – Trading 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5 – Incremental/Decremental Offer Curve – Operatio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6 – Incremental/Decremental Offer Curve – Aud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7 – Output Schedule– Trading 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8 – Output Schedule– Operatio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9 – Output Schedule – Aud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0 – Real Time SPP– Trading 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1 – Real Time SPP– Operatio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2 – Real Time SPP – Aud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3 – Global Parameters – Operatio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4 – Global Parameters – Aud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5 – Non Business Days – Operatio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6 – Non Business Days – Aud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hronology of Test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990720"/>
            <a:ext cx="762120" cy="4800600"/>
          </a:xfrm>
          <a:prstGeom prst="upArrow">
            <a:avLst>
              <a:gd name="adj1" fmla="val 50000"/>
              <a:gd name="adj2" fmla="val 157475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5638680"/>
            <a:ext cx="7315200" cy="609840"/>
          </a:xfrm>
          <a:prstGeom prst="rightArrow">
            <a:avLst>
              <a:gd name="adj1" fmla="val 50000"/>
              <a:gd name="adj2" fmla="val 29988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809880"/>
            <a:ext cx="2895840" cy="1752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vironment Location; Ven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ry Executor: Ven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server: N/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ript: Proposed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2438280"/>
            <a:ext cx="2895840" cy="1752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vironment Location; Ven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ry Executor: Ven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server: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ript: Agreed Set+ Ad H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990720"/>
            <a:ext cx="2895480" cy="1752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vironment Location;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ry Executor: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server: Ven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ript: Agreed Set + Ad H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3520" y="3784680"/>
            <a:ext cx="168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85360" y="24130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F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19920" y="10047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 Operator Interface: Data Submiss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7–MI_TC47: RMR Offers– Trading 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8– MI_TC47: RMR Offers– Operatio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9 – MI_TC47: RMR Offers– Aud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0 – MI_TC53: COP Moni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1 – MI_TC69: Consistency Check: COP vs. Telemetered Resource Stat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2 – MI_TC73: Resource Specific Caps and Floors – Operatio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3 – MI_TC: Resource Specific Caps and Floors – Aud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 Operator Interface: Monitor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4 – SCED Market Status – Trading 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5 – SCED Market Status – Operatio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6 – SCED Market Status – Aud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7 – Events – Trading 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8 – Events – Operatio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9 – Events – Aud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40 – Event Templates – Operatio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41 – Event Templates – Aud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42 – Interface Control – Trading 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43 – Interface Control – Operatio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44 – Interface Control – Aud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45 – Application Messages – Trading 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46 – Application Messages – Operatio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47 – Application Messages – Aud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48 – Invalid Participant Submission – Trading 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49 – Invalid Participant Submission – Operatio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50 – Invalid Participant Submission – Aud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51 – Participant Activity – Trading 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52 – Participant Activity – Operatio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53 – Participant Activity – Aud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54 – Participant Messages – Trading 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55– Participant Messages – Operatio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56 – Participant Messages – Aud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 Operator Interface: Tool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57 – Master Report Catalog – Operatio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58 – Master Report Catalog – Aud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59 – Adhoc Report Manager – Operatio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60 – Adhoc Report Manager – Aud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61 – Periodical Report Manager – Trading 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62 – Periodical Report Manager – Operatio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63 – Periodical Report Manager – Aud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64 – Personalizing Work Environmen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MS MI Background Processes Test Proced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: Master Fi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: Open and Close of Mark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: Consistency Che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4: Two-Hour-Ahead Notification for Missing OS/EOC and OS Valid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5: End of Adjustment Period Validations for Output Schedu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6: SPP Calcu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 Node SPP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Zone SPP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-weighted Trading Hub SPP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b Average 345kV Trading Hub SPP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 Average 345kV Trading Hub SPP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ct Retrieval of Load Zone and Hub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7: Mitigated Offer Cap and Floor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tigated Offer Cap and Floor Calculations before DRUC 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tigated Offer Cap and Floor Calculations after DRUC 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decreasing Mitigated Offer Cap Curve Val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P% + FOP% is not equal to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 Mitigated Offer Cap Curve using FIP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8: Telemetered Output Schedule Notifi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MS End-To-End Process Test Proced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 - Registration Data to Master file (DataFlows 2,18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3512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 – Market Participant Integration Test (DataFlow 1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3512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 – MPI – Masterfile Integration Test (DataFlow 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3512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4 – Settlements-MI Interface Test (DataFlow 9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3512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5 – NMMS-MI Interface Test (DataFlow 11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3512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6 – GEN-SCED Interface Test (DataFlows 31,32,33,34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3512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7 – SE-SCED Interface Test (DataFlow 3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3512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8 – TCM-SCED Interface Test (DataFlow 36,37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3512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9: Mitigated Offer Cap and Floor Calcula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0">
              <a:spcBef>
                <a:spcPts val="400"/>
              </a:spcBef>
              <a:buNone/>
              <a:tabLst>
                <a:tab algn="l" pos="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tigated Offer Cap and Floor Calculation before DRUC 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0">
              <a:spcBef>
                <a:spcPts val="400"/>
              </a:spcBef>
              <a:buNone/>
              <a:tabLst>
                <a:tab algn="l" pos="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tigated Offer Cap and Floor Calculation after DRUC 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0">
              <a:spcBef>
                <a:spcPts val="400"/>
              </a:spcBef>
              <a:buNone/>
              <a:tabLst>
                <a:tab algn="l" pos="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decreasing Mitigated Offer Cap Curve Val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0">
              <a:spcBef>
                <a:spcPts val="400"/>
              </a:spcBef>
              <a:buNone/>
              <a:tabLst>
                <a:tab algn="l" pos="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P% + FOP% is not equal to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0">
              <a:spcBef>
                <a:spcPts val="400"/>
              </a:spcBef>
              <a:buNone/>
              <a:tabLst>
                <a:tab algn="l" pos="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 Mitigated Offer Cap Curve using FIP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35120" indent="0">
              <a:spcBef>
                <a:spcPts val="40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MS End-To-End Process Test Procedure (Cont’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0: SPP Calcu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0">
              <a:spcBef>
                <a:spcPts val="400"/>
              </a:spcBef>
              <a:buNone/>
              <a:tabLst>
                <a:tab algn="l" pos="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 Node SPP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0">
              <a:spcBef>
                <a:spcPts val="400"/>
              </a:spcBef>
              <a:buNone/>
              <a:tabLst>
                <a:tab algn="l" pos="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Zone SPP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0">
              <a:spcBef>
                <a:spcPts val="400"/>
              </a:spcBef>
              <a:buNone/>
              <a:tabLst>
                <a:tab algn="l" pos="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-weighted Trading Hub SPP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0">
              <a:spcBef>
                <a:spcPts val="400"/>
              </a:spcBef>
              <a:buNone/>
              <a:tabLst>
                <a:tab algn="l" pos="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b Average 345kV Trading Hub SPP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0">
              <a:spcBef>
                <a:spcPts val="400"/>
              </a:spcBef>
              <a:buNone/>
              <a:tabLst>
                <a:tab algn="l" pos="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 Average 345kV Trading Hub SPP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0">
              <a:spcBef>
                <a:spcPts val="400"/>
              </a:spcBef>
              <a:buNone/>
              <a:tabLst>
                <a:tab algn="l" pos="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ct Retrieval of Load Zone and Hub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MS Failover Processes Test Proced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1 – Database Node A Failo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2 – Database Node B Failo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3 – Node A and Node B Database Fail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4 – MA Application Server (System Level) Te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5 – MA Application Server (Application Level) Te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ase 6 – MI Application Server Failo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 Scenario Cre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1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ived from protocols/requiremen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to the scope of this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scenarios and scrip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e by Line assessment of Test cases vs. Protocols/Req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ment traceability/mapping review by Test Coordin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Pre-FAT and FAT, additional ad-hoc scenarios cre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 Case Categori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914400"/>
          <a:ext cx="8458200" cy="4738680"/>
        </p:xfrm>
        <a:graphic>
          <a:graphicData uri="http://schemas.openxmlformats.org/drawingml/2006/table">
            <a:tbl>
              <a:tblPr/>
              <a:tblGrid>
                <a:gridCol w="6410160"/>
                <a:gridCol w="20480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C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Participant Interf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D Validation Rule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60+ rul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D Application Proc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Operator Interf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ground Processe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pen and Close of Market, Notifications, Consistency checks and SPP Calculatio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to-End Proc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 Fail-o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1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1219320" y="5791320"/>
            <a:ext cx="693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Note* :     Does not include ad-hoc test scen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Summary of Test Cases provided in Append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MS Testing Proces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test done by a Tester and a Wit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e pre-defined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alternate scenarios to exercise potential failure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ggest additional ad hoc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e additional ad hoc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s Recor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s in the Bi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ects entered in a tracking system (including problem conditions, symptoms, expected correct results as nee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nned images of the bi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DS Scenario to FAT Scenario Mapp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920" y="914400"/>
          <a:ext cx="8547120" cy="4937040"/>
        </p:xfrm>
        <a:graphic>
          <a:graphicData uri="http://schemas.openxmlformats.org/drawingml/2006/table">
            <a:tbl>
              <a:tblPr/>
              <a:tblGrid>
                <a:gridCol w="2743200"/>
                <a:gridCol w="5803920"/>
              </a:tblGrid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S Sce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D FAT Sce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 Scheduling - Base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.4- Resource are dispatched economic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lapping Offer Curv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.10- Ties among marginal resources broken by prorat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 telemetry value above HSL or below LS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.3 SCED dispatches a resource between LDL and HDL. (RLC determines HDL and LDL based on telemetr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 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.27 SCED creates a valid proxy EOC for resources with Output 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.8 SCED uses the telemetered configuration of a CC resource to dispatch it as a single resource subject to the aggregated parameters of the component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DS Scenario to FAT Scenario Mapping (cont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838080"/>
          <a:ext cx="8229600" cy="5407200"/>
        </p:xfrm>
        <a:graphic>
          <a:graphicData uri="http://schemas.openxmlformats.org/drawingml/2006/table">
            <a:tbl>
              <a:tblPr/>
              <a:tblGrid>
                <a:gridCol w="2057400"/>
                <a:gridCol w="6172200"/>
              </a:tblGrid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S Scen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 Scen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ped and Bounded Offer Cu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competitive Constra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.11/3.3.12/3.3.13 SCED Step 1 calculates the Reference LMPs using the EOCs while observing only the Competitive Constrain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y that between 1st and 2nd SCED steps, SCED creates the capped and bounded EOCs. SCED Step 2 calculates Base Points, Shadow Prices and LMPs using capped and bounded EOCs while observing Competitive and Non-Competitive security constrain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xy Curve –Extension to  LSL and/or HS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.26/3.2.29 SCED creates proxy offer curves using the following configurable parameters: System-wide Offer Floor, System-wide Offer Floor plus $0.01 for Output Schedule, System-wide Offer Cap minus $0.01 for Output Schedule MW plus an epsilon MW, and System-wide Offer Cap for HS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DS Scenario to FAT Scenario Mapping (cont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066680"/>
          <a:ext cx="8229600" cy="2187720"/>
        </p:xfrm>
        <a:graphic>
          <a:graphicData uri="http://schemas.openxmlformats.org/drawingml/2006/table">
            <a:tbl>
              <a:tblPr/>
              <a:tblGrid>
                <a:gridCol w="2133720"/>
                <a:gridCol w="6095880"/>
              </a:tblGrid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S Scen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 Scen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xy Curve with output 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.28 SCED creates a valid proxy EOC for resources with OS and Inc/Dec off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mpatterson</cp:lastModifiedBy>
  <dcterms:modified xsi:type="dcterms:W3CDTF">2007-08-29T18:56:16Z</dcterms:modified>
  <cp:revision>89</cp:revision>
  <dc:subject/>
  <dc:title>Instructions</dc:title>
</cp:coreProperties>
</file>