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2C0-ED25-4C6A-A4A2-EDDB157D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4DD-46BA-4F6C-A301-B0AB802B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44ED-ADF3-4BCA-BF79-3399407B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490-D79C-4BBD-8985-4943AF90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49DE-4C65-4C42-BB22-8E325197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77D8-78FF-45C7-ACD3-5FCA795D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1754-A791-4B15-82F9-5F0E7223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65C8-B026-4587-9EEA-7AEB60AD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2421-94CF-4249-98A3-DB69E494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67A7-BEC3-4372-B54D-7DA694F6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C566-524D-4C81-BC54-9658083B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EB9-2B33-4E73-8B0C-E076D2DB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B88D-ED0E-4CBC-812F-4FE69689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A413-BC96-4782-AE0C-643DC236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1ED4-AA52-414D-8007-2D5F3DE7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7A4A-0085-4B6B-8F10-7E1721B0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866A-2D1B-4056-BE8F-768F15E0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00B-31A1-4C79-A3CF-137372B0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DC8-05D7-4517-A324-2A3D13DC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8E9-80C8-46AB-B1C6-E723FEEB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5D5-71AF-4E28-8A88-09116FB7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D57-B25D-4C92-A026-6A6A58B3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929-9BEB-4623-9C99-E12C4B09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7E03-716C-40CD-A75F-BB2034DE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F0F1-3B08-4523-8C3F-0E604B86A60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D1D9-2904-4245-A21A-D4199F24682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MS Update to TAC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6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MS Activity 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GRR058, Layout Modifications to Customer Billing Contact Information (Vo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MGRR006, Conforming the Competitive Metering Guide to Protocol Section 21 and other ERCOT Market Guides (Vo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S Procedures (Vo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date on TAC directive relating to identifying issues with net metering and small renewable gen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Service Level Agreement Up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RMGRR058, Layout Modifications to Customer Billing Contact Information (VOTE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process requirement defined by POLR Rulemaking Project 31416 Amending 25.43 requiring semi-annual submission of Customer Billing Contact Information from CR’s to ERC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ends RMG 7.11.6.2; 7.11.6.2.1; 7.11.6.3 and Appendix F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ies the method of record termination for files 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48320" y="3429000"/>
          <a:ext cx="914400" cy="714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429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RMGRR058, Layout Modifications to Customer Billing Contact Information (VOTE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ses the record layout of the Error Records sent from ERCOT to C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cts the label on the Report Name data elements on the Header records for each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s clarification that a single file must be sent for each DUNS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roject required. Minor system modifications to ERCOT systems (Paperfree). Minor cost managed under O&amp;M budgets of affected depart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nimous approval by 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CMGRR006, Conforming the Competitive Metering Guide to Protocol Section 21 and other ERCOT Market Guides (Vote)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CMG to accurately reflect NERC nam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hat an RMGRR associated with an ERCOT project will be assigned to “Unfunded Project List” unless can be funded in current cy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guidelines for determining “Urgent”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RCOT impact. No cost associ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MS Procedures (Vote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 to reflect Retail Metering Working Group purpose and process for RMS approval of TX SET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114800" y="307188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0718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Update on TAC directive relating to identifying issues with net metering and small renewable generatio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ail Metering Workshop identified and documented 9 Requests for 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request direction from PU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are dependent upon direction to be determined from PUCT rule making to support HB3693. Anticipate rulemaking to be announced in October 200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S and ROS responding to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sue for WMS on hold contingent upon COPS dir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3:47:10Z</dcterms:created>
  <dc:creator>AEP</dc:creator>
  <dc:description/>
  <dc:language>en-US</dc:language>
  <cp:lastModifiedBy>AEP</cp:lastModifiedBy>
  <dcterms:modified xsi:type="dcterms:W3CDTF">2007-08-30T15:57:08Z</dcterms:modified>
  <cp:revision>33</cp:revision>
  <dc:subject/>
  <dc:title>RMS Update to TAC</dc:title>
</cp:coreProperties>
</file>