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28A-7738-446E-A038-4AB400C1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60F-4C57-423A-9D4D-57C7150F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208-0121-4987-82FD-093C5381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1C7-9976-43F5-9160-F7D614F3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518-15D8-4DA2-B065-61227459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EC4-EDDD-43E6-850C-ECB8A286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4F8-EBC2-48DF-B8D8-36350109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E79-6026-44E4-BFD3-DCA9FBAD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042-24AF-44F1-90D7-4C227AB7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E30-D6CF-42A8-9115-9F6B55AF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31F-1D33-488D-9E57-3E5E681D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C4E-F7AC-47D6-8A77-70DF5D9E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970E-4D0F-4E63-8044-1504E5BCF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eptember 6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D64-6F62-4EE3-905B-DAFC4F4CD7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6BF-89E4-430A-AD6A-29E76A5031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odal Statement Formats 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presented Nodal Settlement Statement design concepts for review &amp;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ummary data – Statement formats and content iss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tatement amounts will be shown for operating day/charge type – summary level per Settlement Run per Statement Recip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tatements discus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QSE Day Ahead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 QSE Real Tim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 CRR Day Ahead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 CRR Real Tim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83A-B10D-4328-90F3-734B957615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DAWG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– Submitted NPRR078, Simplifying the dispute process.  Following lengthy discussion, it was moved, seconded, and unanimously approved by COPS with all market segments present,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PS supports NPRR078 submitted by SDAWG, 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PS recommended language for Section 9.14.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has subsequently filed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DAWG to work with Staff and consolidate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B80-B863-433D-8C44-52ED39A02B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dal Imp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ing Commercial Operations Data Extrac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 Calend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oad, Generation and Settlements and Billing Ex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LF, TLF, UFE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mall Generation – Settlement Issues (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B 3693 – Sections 24 &amp;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FD6-F688-4838-9660-061AC838F8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ata Extract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DE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t on 7/30 and 8/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ed staff response to extrac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dentified root cause of each incident since 7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rrective action taken &amp; IT established a developmental team to focus on system stab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stablished 3 priority levels for reports/ex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cus on developing a SLA to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imeline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 /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mpletenes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/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Accuracy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/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E94-F57F-43F5-9B74-F43FAEC8DB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nnual Validation Update – On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ound 2 – Load research sample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stallations to be completed by 6/30/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ew procurement process &amp; meter installations have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minder – LPGRR018 Default Residential Profile Segment for new ESI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PGRR effective date, 5/01/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DSPs have six months to chan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mplementation date is 11/01/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ABE-BEFD-4ECE-B266-1E7E2EA6E2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238400"/>
            <a:ext cx="8534160" cy="51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E15-194A-4FAE-8A39-B4C4540C0A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WG submitted to COPS and COPS recommends to TAC approva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GRR0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rket guide revision conforming the Load Profiling Guide to Protocol Section 21 and other ERCOT Market Guid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</a:rPr>
              <a:t>http://www.ercot.com/mktrules/issues/lpgrr/000-024/022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FFE-ED13-4691-BF55-3F54DF9CDD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R720 TRE Fee Methodolo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llowing Discussion and review, COPS set up an Ad Hoc Committee to work with Staff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mplify the calculation of TREF and bi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ve personnel other than Settlements perform the billing and segregate TRE activity from ISP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mplement the change in process with the least intrusion to existing proc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velop a process for reconciling TRE costs vs TREF coll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Legal, ISO, and TRE Staff, are involved in the discussions with COPS Ad Hoc members – Process is proceeding as we resolve and clarify iss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A38-AB9F-4AC1-A59D-1A1184FDF9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09-04T15:00:50Z</dcterms:modified>
  <cp:revision>224</cp:revision>
  <dc:subject/>
  <dc:title>Point-to-Point</dc:title>
</cp:coreProperties>
</file>