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3"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152280" y="6351480"/>
            <a:ext cx="727200" cy="392400"/>
          </a:xfrm>
          <a:prstGeom prst="rect">
            <a:avLst/>
          </a:prstGeom>
          <a:ln w="0">
            <a:noFill/>
          </a:ln>
        </p:spPr>
      </p:pic>
      <p:sp>
        <p:nvSpPr>
          <p:cNvPr id="5"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5DFB0A9-1F16-4926-9B5E-110122D2D95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PTF Update</a:t>
            </a:r>
            <a:r>
              <a:rPr b="0" lang="en-US" sz="1800" spc="-1" strike="noStrike">
                <a:solidFill>
                  <a:srgbClr val="ffffff"/>
                </a:solidFill>
                <a:latin typeface="Arial Black"/>
              </a:rPr>
              <a:t> </a:t>
            </a:r>
            <a:br>
              <a:rPr sz="1800"/>
            </a:br>
            <a:r>
              <a:rPr b="0" lang="en-GB" sz="2400" spc="-1" strike="noStrike">
                <a:solidFill>
                  <a:srgbClr val="808080"/>
                </a:solidFill>
                <a:latin typeface="Arial Black"/>
              </a:rPr>
              <a:t>for TAC September 6, 2007</a:t>
            </a:r>
            <a:br>
              <a:rPr sz="2400"/>
            </a:br>
            <a:r>
              <a:rPr b="0" lang="en-GB" sz="2400" spc="-1" strike="noStrike">
                <a:solidFill>
                  <a:srgbClr val="808080"/>
                </a:solidFill>
                <a:latin typeface="Arial Black"/>
              </a:rPr>
              <a:t>Trip Doggett</a:t>
            </a:r>
            <a:br>
              <a:rPr sz="3200"/>
            </a:br>
            <a:br>
              <a:rPr sz="2000"/>
            </a:br>
            <a:endParaRPr b="0" lang="en-US" sz="2400" spc="-1" strike="noStrike">
              <a:solidFill>
                <a:srgbClr val="ffffff"/>
              </a:solidFill>
              <a:latin typeface="Arial Black"/>
            </a:endParaRPr>
          </a:p>
        </p:txBody>
      </p:sp>
      <p:pic>
        <p:nvPicPr>
          <p:cNvPr id="47"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8</a:t>
            </a:r>
            <a:endParaRPr b="0" lang="en-US" sz="1800" spc="-1" strike="noStrike">
              <a:solidFill>
                <a:srgbClr val="000000"/>
              </a:solidFill>
              <a:latin typeface="Arial"/>
            </a:endParaRPr>
          </a:p>
        </p:txBody>
      </p:sp>
      <p:sp>
        <p:nvSpPr>
          <p:cNvPr id="10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0880" y="826920"/>
            <a:ext cx="8077320" cy="4420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8,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position of Comments for Updated Requirements Document</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8, TPTF approved the updated Congestion Revenue Rights (CRR) Requirements Specification v1.92. The motion carried by roll-call vote with 100% in favor and five abstentions (Calpine, City of Allen, City of Eastland, Exelon, Reliant). All Market Segments were represented.</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position of Comments for Updated Conceptual System Design</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8, TPTF approved the updated Congestion Revenue Rights (CRR) Conceptual System Design (CSD) v1.07. The motion carried by roll-call vote with 100% in favor and two abstentions (Calpine, Reliant). All Market Segments, except for Consumers, were represented.</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CRR Requirements Renumbering for Traceability</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CRR Testing Market Participant Handbook</a:t>
            </a:r>
            <a:endParaRPr b="0" lang="en-US" sz="1800" spc="-1" strike="noStrike">
              <a:solidFill>
                <a:srgbClr val="000000"/>
              </a:solidFill>
              <a:latin typeface="Arial"/>
            </a:endParaRPr>
          </a:p>
        </p:txBody>
      </p:sp>
      <p:sp>
        <p:nvSpPr>
          <p:cNvPr id="104"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8 (continued)</a:t>
            </a:r>
            <a:endParaRPr b="0" lang="en-US" sz="1800" spc="-1" strike="noStrike">
              <a:solidFill>
                <a:srgbClr val="000000"/>
              </a:solidFill>
              <a:latin typeface="Arial"/>
            </a:endParaRPr>
          </a:p>
        </p:txBody>
      </p:sp>
      <p:sp>
        <p:nvSpPr>
          <p:cNvPr id="107"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80880" y="826920"/>
            <a:ext cx="8077320" cy="2238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8,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fering CRRs in DAM</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FAT Script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1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2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3 Update</a:t>
            </a:r>
            <a:endParaRPr b="0" lang="en-US" sz="1800" spc="-1" strike="noStrike">
              <a:solidFill>
                <a:srgbClr val="000000"/>
              </a:solidFill>
              <a:latin typeface="Arial"/>
            </a:endParaRPr>
          </a:p>
        </p:txBody>
      </p:sp>
      <p:sp>
        <p:nvSpPr>
          <p:cNvPr id="111"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9</a:t>
            </a:r>
            <a:endParaRPr b="0" lang="en-US" sz="1800" spc="-1" strike="noStrike">
              <a:solidFill>
                <a:srgbClr val="000000"/>
              </a:solidFill>
              <a:latin typeface="Arial"/>
            </a:endParaRPr>
          </a:p>
        </p:txBody>
      </p:sp>
      <p:sp>
        <p:nvSpPr>
          <p:cNvPr id="114"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0880" y="826920"/>
            <a:ext cx="8077320" cy="32558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9,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ource Registration and Qualificatio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cillary Service Attestations and relationship to EDS3 – LFC</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RF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gration Test Plans – iTest Artifact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PTF Charter</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9, TPTF approved revisions to the TPTF Charter as modified by TPTF on 08/29/07. The motion carried by roll-call vote with 100% in favor and one abstention (Austin Energy). All Market Segments were represented. </a:t>
            </a:r>
            <a:endParaRPr b="0" lang="en-US" sz="1800" spc="-1" strike="noStrike">
              <a:solidFill>
                <a:srgbClr val="000000"/>
              </a:solidFill>
              <a:latin typeface="Arial"/>
            </a:endParaRPr>
          </a:p>
        </p:txBody>
      </p:sp>
      <p:sp>
        <p:nvSpPr>
          <p:cNvPr id="118"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9 (continued)</a:t>
            </a:r>
            <a:endParaRPr b="0" lang="en-US" sz="1800" spc="-1" strike="noStrike">
              <a:solidFill>
                <a:srgbClr val="000000"/>
              </a:solidFill>
              <a:latin typeface="Arial"/>
            </a:endParaRPr>
          </a:p>
        </p:txBody>
      </p:sp>
      <p:sp>
        <p:nvSpPr>
          <p:cNvPr id="12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80880" y="826920"/>
            <a:ext cx="8077320" cy="5290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9,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Draft COMS NPRR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MMS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ceability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additional ERCOT comments on NOGRR007, Telemetry and Communicatio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9, TPTF approved submitting additional TPTF comments for NOGRR007 to Market Rules. The motion carried by roll-call vote with 100% in favor and one abstention (CPS San Antonio). All Market Segments were represented.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Readiness Metric Inventory</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9, TPTF recommended that ERCOT move forward with the metrics MP2, MP3, MP5 and the modified metrics E1, E6, E8, E9, MP11, MP14, N1 as recorded in the Active Metric Inventory v0.91. The motion carried by roll-call vote with 100% in favor and one abstention (CenterPoint). All Market Segments, except for Independent Generators, were represent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 Update</a:t>
            </a:r>
            <a:endParaRPr b="0" lang="en-US" sz="1800" spc="-1" strike="noStrike">
              <a:solidFill>
                <a:srgbClr val="000000"/>
              </a:solidFill>
              <a:latin typeface="Arial"/>
            </a:endParaRPr>
          </a:p>
        </p:txBody>
      </p:sp>
      <p:sp>
        <p:nvSpPr>
          <p:cNvPr id="12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12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80880" y="792000"/>
            <a:ext cx="8610840" cy="1601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Next meetings</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September 10 and Tuesday September 11</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September 24 through Wednesday September 26</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October 8 and Tuesday October 9</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October 22 and Tuesday October 23</a:t>
            </a:r>
            <a:endParaRPr b="0" lang="en-US" sz="1800" spc="-1" strike="noStrike">
              <a:solidFill>
                <a:srgbClr val="000000"/>
              </a:solidFill>
              <a:latin typeface="Arial"/>
            </a:endParaRPr>
          </a:p>
        </p:txBody>
      </p:sp>
      <p:sp>
        <p:nvSpPr>
          <p:cNvPr id="13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3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80880" y="765000"/>
            <a:ext cx="8610840" cy="4530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800" spc="-1" strike="noStrike">
                <a:solidFill>
                  <a:srgbClr val="000000"/>
                </a:solidFill>
                <a:latin typeface="Arial"/>
              </a:rPr>
              <a:t>On September 10 and 11, likely topics includ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Nodal Program Updat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Timeline Updat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trics Updat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 the Restructured CRR Requirement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broad-form NDA for detailed design document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S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the next group of 6 EMS Requirements updated through Baseline 2</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updates to reflect naming conventio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the updated EMS CSD</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clean-up NPRR to replace NPRR074, Monitoring and Qualification Tests in Section 8, Performance Monitoring and Compliance</a:t>
            </a:r>
            <a:endParaRPr b="0" lang="en-US" sz="1800" spc="-1" strike="noStrike">
              <a:solidFill>
                <a:srgbClr val="000000"/>
              </a:solidFill>
              <a:latin typeface="Arial"/>
            </a:endParaRPr>
          </a:p>
        </p:txBody>
      </p:sp>
      <p:sp>
        <p:nvSpPr>
          <p:cNvPr id="140"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44"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80880" y="765000"/>
            <a:ext cx="8610840" cy="4701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800" spc="-1" strike="noStrike">
                <a:solidFill>
                  <a:srgbClr val="000000"/>
                </a:solidFill>
                <a:latin typeface="Arial"/>
              </a:rPr>
              <a:t>On September 10 and 11, likely topics includ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Zonal-to-Nodal Subgroup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R727, Process for Transition to Nodal Market Protocol Section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 Protocol Transition Plan</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S Schedule of tasks to complete to support EDS 3</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S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SI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Draft NPRRs for Settlement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Simplifying OBLRACT and OPTRACT</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Settlement Clarifications to RUC Capacity Shortfall Ratio Share Formula</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for Automatic Voltage Regulator (AVR) Statu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MMS documentation and schedul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NPRR078, Simplifying the Dispute Process</a:t>
            </a:r>
            <a:endParaRPr b="0" lang="en-US" sz="1800" spc="-1" strike="noStrike">
              <a:solidFill>
                <a:srgbClr val="000000"/>
              </a:solidFill>
              <a:latin typeface="Arial"/>
            </a:endParaRPr>
          </a:p>
        </p:txBody>
      </p:sp>
      <p:sp>
        <p:nvSpPr>
          <p:cNvPr id="148"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6320" y="81000"/>
            <a:ext cx="899136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roval of Readiness Metrics</a:t>
            </a:r>
            <a:endParaRPr b="0" lang="en-US" sz="1800" spc="-1" strike="noStrike">
              <a:solidFill>
                <a:srgbClr val="000000"/>
              </a:solidFill>
              <a:latin typeface="Arial"/>
            </a:endParaRPr>
          </a:p>
        </p:txBody>
      </p:sp>
      <p:sp>
        <p:nvSpPr>
          <p:cNvPr id="152"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
          <p:cNvSpPr/>
          <p:nvPr/>
        </p:nvSpPr>
        <p:spPr>
          <a:xfrm>
            <a:off x="380880" y="914400"/>
            <a:ext cx="8458200" cy="1577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9, TPTF recommended that ERCOT move forward with the metrics MP2, MP3, MP5 and the modified metrics E1, E6, E8, E9, MP11, MP14, N1 as recorded in the Active Metric Inventory v0.91. The motion carried by roll-call vote with 100% in favor and one abstention (CenterPoint). All Market Segments, except for Independent Generators, were represented.</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est TAC appro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Proposed changes to TPTF Charter</a:t>
            </a:r>
            <a:endParaRPr b="0" lang="en-US" sz="1800" spc="-1" strike="noStrike">
              <a:solidFill>
                <a:srgbClr val="000000"/>
              </a:solidFill>
              <a:latin typeface="Arial"/>
            </a:endParaRPr>
          </a:p>
        </p:txBody>
      </p:sp>
      <p:sp>
        <p:nvSpPr>
          <p:cNvPr id="15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80880" y="914400"/>
            <a:ext cx="8458200" cy="2128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ne 27, TPTF moved to forward to TAC proposed changes to the TPTF Charter. The motion carried by roll-call vote with 100% in favor and two abstentions (City of Allen and City of Eastland). All Market Segments, except the Independent Retail Electric Providers, were represented.</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9, TPTF approved revisions to the TPTF Charter as modified by TPTF on 08/29/07. The motion carried by roll-call vote with 100% in favor and one abstention (Austin Energy). All Market Segments were represented.</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est TAC approval of proposed changes to TPTF Chart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Proposed changes to TPTF Charter (continued)</a:t>
            </a:r>
            <a:endParaRPr b="0" lang="en-US" sz="1800" spc="-1" strike="noStrike">
              <a:solidFill>
                <a:srgbClr val="000000"/>
              </a:solidFill>
              <a:latin typeface="Arial"/>
            </a:endParaRPr>
          </a:p>
        </p:txBody>
      </p:sp>
      <p:sp>
        <p:nvSpPr>
          <p:cNvPr id="165"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9" name="" descr=""/>
          <p:cNvPicPr/>
          <p:nvPr/>
        </p:nvPicPr>
        <p:blipFill>
          <a:blip r:embed="rId1"/>
          <a:srcRect l="626" t="29687" r="51876" b="53129"/>
          <a:stretch/>
        </p:blipFill>
        <p:spPr>
          <a:xfrm>
            <a:off x="685800" y="914400"/>
            <a:ext cx="5791320" cy="1676520"/>
          </a:xfrm>
          <a:prstGeom prst="rect">
            <a:avLst/>
          </a:prstGeom>
          <a:ln w="0">
            <a:noFill/>
          </a:ln>
        </p:spPr>
      </p:pic>
      <p:pic>
        <p:nvPicPr>
          <p:cNvPr id="170" name="" descr=""/>
          <p:cNvPicPr/>
          <p:nvPr/>
        </p:nvPicPr>
        <p:blipFill>
          <a:blip r:embed="rId2"/>
          <a:srcRect l="626" t="44535" r="51876" b="30470"/>
          <a:stretch/>
        </p:blipFill>
        <p:spPr>
          <a:xfrm>
            <a:off x="685800" y="3505320"/>
            <a:ext cx="5791320" cy="243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9320" y="81000"/>
            <a:ext cx="793764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49" name=""/>
          <p:cNvGraphicFramePr/>
          <p:nvPr/>
        </p:nvGraphicFramePr>
        <p:xfrm>
          <a:off x="228600" y="762120"/>
          <a:ext cx="8763120" cy="5454360"/>
        </p:xfrm>
        <a:graphic>
          <a:graphicData uri="http://schemas.openxmlformats.org/drawingml/2006/table">
            <a:tbl>
              <a:tblPr/>
              <a:tblGrid>
                <a:gridCol w="2057400"/>
                <a:gridCol w="5562720"/>
                <a:gridCol w="1143000"/>
              </a:tblGrid>
              <a:tr h="276480">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pose</a:t>
                      </a:r>
                      <a:endParaRPr b="0" lang="en-US" sz="12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276480">
                <a:tc>
                  <a:txBody>
                    <a:bodyPr lIns="90000" rIns="90000" tIns="46800" bIns="46800" anchor="ctr">
                      <a:noAutofit/>
                    </a:bodyPr>
                    <a:p>
                      <a:pPr marL="117360" indent="-117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eeting Summary</a:t>
                      </a:r>
                      <a:endParaRPr b="0" lang="en-US" sz="12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recent TPTF activities</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review</a:t>
                      </a:r>
                      <a:endParaRPr b="0" lang="en-US" sz="12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276480">
                <a:tc>
                  <a:txBody>
                    <a:bodyPr lIns="90000" rIns="90000" tIns="46800" bIns="46800" anchor="ctr">
                      <a:noAutofit/>
                    </a:bodyPr>
                    <a:p>
                      <a:pPr marL="2253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ext Meetings</a:t>
                      </a:r>
                      <a:endParaRPr b="0" lang="en-US" sz="12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coming activities</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review</a:t>
                      </a:r>
                      <a:endParaRPr b="0" lang="en-US" sz="12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862200">
                <a:tc>
                  <a:txBody>
                    <a:bodyPr lIns="90000" rIns="90000" tIns="46800" bIns="46800" anchor="t">
                      <a:noAutofit/>
                    </a:bodyPr>
                    <a:p>
                      <a:pPr marL="2253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pproval of Readiness Metrics</a:t>
                      </a:r>
                      <a:endParaRPr b="0" lang="en-US" sz="12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9, TPTF recommended that ERCOT move forward with the metrics MP2, MP3, MP5 and the modified metrics E1, E6, E8, E9, MP11, MP14, N1 as recorded in the Active Metric Inventory v0.91.</a:t>
                      </a:r>
                      <a:endParaRPr b="0" lang="en-US" sz="1200" spc="-1" strike="noStrike">
                        <a:solidFill>
                          <a:srgbClr val="000000"/>
                        </a:solidFill>
                        <a:latin typeface="Arial"/>
                      </a:endParaRPr>
                    </a:p>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 TAC Approval</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Vote</a:t>
                      </a:r>
                      <a:endParaRPr b="0" lang="en-US" sz="12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1082880">
                <a:tc>
                  <a:txBody>
                    <a:bodyPr lIns="90000" rIns="90000" tIns="46800" bIns="46800" anchor="t">
                      <a:noAutofit/>
                    </a:bodyPr>
                    <a:p>
                      <a:pPr marL="2253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pproval of proposed changes to TPTF Charter</a:t>
                      </a:r>
                      <a:endParaRPr b="0" lang="en-US" sz="12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June 27, TPTF approved a motion to present proposed changes to the TPTF Charter</a:t>
                      </a:r>
                      <a:endParaRPr b="0" lang="en-US" sz="1200" spc="-1" strike="noStrike">
                        <a:solidFill>
                          <a:srgbClr val="000000"/>
                        </a:solidFill>
                        <a:latin typeface="Arial"/>
                      </a:endParaRPr>
                    </a:p>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9, TPTF approved revisions to the TPTF Charter as modified by TPTF on 08/29/07.</a:t>
                      </a:r>
                      <a:endParaRPr b="0" lang="en-US" sz="1200" spc="-1" strike="noStrike">
                        <a:solidFill>
                          <a:srgbClr val="000000"/>
                        </a:solidFill>
                        <a:latin typeface="Arial"/>
                      </a:endParaRPr>
                    </a:p>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 TAC Approval</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Vote</a:t>
                      </a:r>
                      <a:endParaRPr b="0" lang="en-US" sz="12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2445120">
                <a:tc>
                  <a:txBody>
                    <a:bodyPr lIns="90000" rIns="90000" tIns="46800" bIns="46800" anchor="t">
                      <a:noAutofit/>
                    </a:bodyPr>
                    <a:p>
                      <a:pPr marL="2253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pproval of Milestones</a:t>
                      </a:r>
                      <a:endParaRPr b="0" lang="en-US" sz="12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 TAC approval of the following Milestones –</a:t>
                      </a:r>
                      <a:endParaRPr b="0" lang="en-US" sz="1200" spc="-1" strike="noStrike">
                        <a:solidFill>
                          <a:srgbClr val="000000"/>
                        </a:solidFill>
                        <a:latin typeface="Arial"/>
                      </a:endParaRPr>
                    </a:p>
                    <a:p>
                      <a:pPr lvl="2" marL="3729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MS Business Requirements complete:</a:t>
                      </a:r>
                      <a:endParaRPr b="0" lang="en-US" sz="1200" spc="-1" strike="noStrike">
                        <a:solidFill>
                          <a:srgbClr val="000000"/>
                        </a:solidFill>
                        <a:latin typeface="Arial"/>
                      </a:endParaRPr>
                    </a:p>
                    <a:p>
                      <a:pPr lvl="2" marL="3729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Generation Subsystem Requirements Specification v1.2;</a:t>
                      </a:r>
                      <a:endParaRPr b="0" lang="en-US" sz="1200" spc="-1" strike="noStrike">
                        <a:solidFill>
                          <a:srgbClr val="000000"/>
                        </a:solidFill>
                        <a:latin typeface="Arial"/>
                      </a:endParaRPr>
                    </a:p>
                    <a:p>
                      <a:pPr lvl="2" marL="3729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ergy Management System Requirements Specification v1.2;</a:t>
                      </a:r>
                      <a:endParaRPr b="0" lang="en-US" sz="1200" spc="-1" strike="noStrike">
                        <a:solidFill>
                          <a:srgbClr val="000000"/>
                        </a:solidFill>
                        <a:latin typeface="Arial"/>
                      </a:endParaRPr>
                    </a:p>
                    <a:p>
                      <a:pPr lvl="2" marL="3729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te Estimator Requirements Specification v1.2;</a:t>
                      </a:r>
                      <a:endParaRPr b="0" lang="en-US" sz="1200" spc="-1" strike="noStrike">
                        <a:solidFill>
                          <a:srgbClr val="000000"/>
                        </a:solidFill>
                        <a:latin typeface="Arial"/>
                      </a:endParaRPr>
                    </a:p>
                    <a:p>
                      <a:pPr lvl="2" marL="3729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 Power Forecasting Requirements Specification v1.2;</a:t>
                      </a:r>
                      <a:endParaRPr b="0" lang="en-US" sz="1200" spc="-1" strike="noStrike">
                        <a:solidFill>
                          <a:srgbClr val="000000"/>
                        </a:solidFill>
                        <a:latin typeface="Arial"/>
                      </a:endParaRPr>
                    </a:p>
                    <a:p>
                      <a:pPr lvl="2" marL="3729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work Security and Stability Analysis Requirements Specification v1.1;</a:t>
                      </a:r>
                      <a:endParaRPr b="0" lang="en-US" sz="1200" spc="-1" strike="noStrike">
                        <a:solidFill>
                          <a:srgbClr val="000000"/>
                        </a:solidFill>
                        <a:latin typeface="Arial"/>
                      </a:endParaRPr>
                    </a:p>
                    <a:p>
                      <a:pPr lvl="2" marL="3729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ad Forecasting Requirements Specification v1.1.</a:t>
                      </a:r>
                      <a:endParaRPr b="0" lang="en-US" sz="1200" spc="-1" strike="noStrike">
                        <a:solidFill>
                          <a:srgbClr val="000000"/>
                        </a:solidFill>
                        <a:latin typeface="Arial"/>
                      </a:endParaRPr>
                    </a:p>
                    <a:p>
                      <a:pPr lvl="2" marL="3729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RR Business Requirements v1.92 complete</a:t>
                      </a:r>
                      <a:endParaRPr b="0" lang="en-US" sz="1200" spc="-1" strike="noStrike">
                        <a:solidFill>
                          <a:srgbClr val="000000"/>
                        </a:solidFill>
                        <a:latin typeface="Arial"/>
                      </a:endParaRPr>
                    </a:p>
                    <a:p>
                      <a:pPr lvl="2" marL="3729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RR CSD v1.07 complete</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Vote</a:t>
                      </a:r>
                      <a:endParaRPr b="0" lang="en-US" sz="12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459000">
                <a:tc>
                  <a:txBody>
                    <a:bodyPr lIns="90000" rIns="90000" tIns="46800" bIns="46800" anchor="t">
                      <a:noAutofit/>
                    </a:bodyPr>
                    <a:p>
                      <a:pPr marL="2253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Close Action Item</a:t>
                      </a:r>
                      <a:endParaRPr b="0" lang="en-US" sz="12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PTF to report back to TAC after NMMS business process document discussions with ROS and WMS</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review</a:t>
                      </a:r>
                      <a:endParaRPr b="0" lang="en-US" sz="12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a:t>
            </a:r>
            <a:endParaRPr b="0" lang="en-US" sz="1800" spc="-1" strike="noStrike">
              <a:solidFill>
                <a:srgbClr val="000000"/>
              </a:solidFill>
              <a:latin typeface="Arial"/>
            </a:endParaRPr>
          </a:p>
        </p:txBody>
      </p:sp>
      <p:sp>
        <p:nvSpPr>
          <p:cNvPr id="172"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
          <p:cNvSpPr/>
          <p:nvPr/>
        </p:nvSpPr>
        <p:spPr>
          <a:xfrm>
            <a:off x="380880" y="781200"/>
            <a:ext cx="8458200" cy="4040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14, TPTF approved the following updated EMS documents as revised by TPTF on August 14, 2007:</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Generation Subsystem Requirements Specification v1.2;</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ergy Management System Requirements Specification v1.2;</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ate Estimator Requirements Specification v1.2;</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ind Power Forecasting Requirements Specification v1.2;</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to approve the following updated EMS documents as submitted to TPTF by the EMS Projec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Network Security and Stability Analysis Requirements Specification v1.1;</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ad Forecasting Requirements Specification v1.1.</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otion carried by roll-call vote, with 100% in favor and three abstentions (LCRA, Austin Energy, and AEP).  All Market Segments, except Consumer, were represen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 (continued)</a:t>
            </a:r>
            <a:endParaRPr b="0" lang="en-US" sz="1800" spc="-1" strike="noStrike">
              <a:solidFill>
                <a:srgbClr val="000000"/>
              </a:solidFill>
              <a:latin typeface="Arial"/>
            </a:endParaRPr>
          </a:p>
        </p:txBody>
      </p:sp>
      <p:sp>
        <p:nvSpPr>
          <p:cNvPr id="18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
          <p:cNvSpPr/>
          <p:nvPr/>
        </p:nvSpPr>
        <p:spPr>
          <a:xfrm>
            <a:off x="380880" y="777960"/>
            <a:ext cx="8458200" cy="20430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8, TPTF approved the updated </a:t>
            </a:r>
            <a:r>
              <a:rPr b="1" lang="en-US" sz="1800" spc="-1" strike="noStrike">
                <a:solidFill>
                  <a:srgbClr val="000000"/>
                </a:solidFill>
                <a:latin typeface="Arial"/>
              </a:rPr>
              <a:t>Congestion Revenue Rights (CRR) Requirements Specification v1.92</a:t>
            </a:r>
            <a:r>
              <a:rPr b="0" lang="en-US" sz="1800" spc="-1" strike="noStrike">
                <a:solidFill>
                  <a:srgbClr val="000000"/>
                </a:solidFill>
                <a:latin typeface="Arial"/>
              </a:rPr>
              <a:t>. The motion carried by roll-call vote with 100% in favor and five abstentions (Calpine, City of Allen, City of Eastland, Exelon, Reliant). All Market Segments were represented.</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8, TPTF approved the updated </a:t>
            </a:r>
            <a:r>
              <a:rPr b="1" lang="en-US" sz="1800" spc="-1" strike="noStrike">
                <a:solidFill>
                  <a:srgbClr val="000000"/>
                </a:solidFill>
                <a:latin typeface="Arial"/>
              </a:rPr>
              <a:t>Congestion Revenue Rights (CRR) Conceptual System Design (CSD) v1.07</a:t>
            </a:r>
            <a:r>
              <a:rPr b="0" lang="en-US" sz="1800" spc="-1" strike="noStrike">
                <a:solidFill>
                  <a:srgbClr val="000000"/>
                </a:solidFill>
                <a:latin typeface="Arial"/>
              </a:rPr>
              <a:t>. The motion carried by roll-call vote with 100% in favor and two abstentions (Calpine, Reliant). All Market Segments, except for Consumers, were represen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 (continued)</a:t>
            </a:r>
            <a:endParaRPr b="0" lang="en-US" sz="1800" spc="-1" strike="noStrike">
              <a:solidFill>
                <a:srgbClr val="000000"/>
              </a:solidFill>
              <a:latin typeface="Arial"/>
            </a:endParaRPr>
          </a:p>
        </p:txBody>
      </p:sp>
      <p:sp>
        <p:nvSpPr>
          <p:cNvPr id="18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
          <p:cNvSpPr/>
          <p:nvPr/>
        </p:nvSpPr>
        <p:spPr>
          <a:xfrm>
            <a:off x="380880" y="762120"/>
            <a:ext cx="8458200" cy="38919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The Transition Plan says: “Any declaration of the accomplishment of a major milestone (business requirements, conceptual design, and successful completion of Market Participant testing) or a decision to proceed is contingent on the approval of both ERCOT and TAC.”</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est TAC approval of the following Milestones –</a:t>
            </a:r>
            <a:endParaRPr b="0" lang="en-US" sz="18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MS Business Requirements complete for:</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ration Subsystem Requirements Specification v1.2;</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ergy Management System Requirements Specification v1.2;</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e Estimator Requirements Specification v1.2;</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ind Power Forecasting Requirements Specification v1.2;</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etwork Security and Stability Analysis Requirements Specification v1.1;</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 Forecasting Requirements Specification v1.1.</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RR Business Requirements v1.92 complete</a:t>
            </a:r>
            <a:endParaRPr b="0" lang="en-US" sz="14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RR CSD v1.07 comple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ose Action Item</a:t>
            </a:r>
            <a:endParaRPr b="0" lang="en-US" sz="1800" spc="-1" strike="noStrike">
              <a:solidFill>
                <a:srgbClr val="000000"/>
              </a:solidFill>
              <a:latin typeface="Arial"/>
            </a:endParaRPr>
          </a:p>
        </p:txBody>
      </p:sp>
      <p:sp>
        <p:nvSpPr>
          <p:cNvPr id="19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
          <p:cNvSpPr/>
          <p:nvPr/>
        </p:nvSpPr>
        <p:spPr>
          <a:xfrm>
            <a:off x="380880" y="762120"/>
            <a:ext cx="8458200" cy="17485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Pending action item for TPTF to report back to TAC after NMMS business process document discussions with ROS and WM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MMS met with ROS last on May 10, 2007</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MMS met with WMS last on August 22, 2007</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MMS feels all concerns with NMMS business processes have been vetted and are being addressed by the NMMS Pro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204"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a:t>
            </a:r>
            <a:endParaRPr b="0" lang="en-US" sz="1800" spc="-1" strike="noStrike">
              <a:solidFill>
                <a:srgbClr val="000000"/>
              </a:solidFill>
              <a:latin typeface="Arial"/>
            </a:endParaRPr>
          </a:p>
        </p:txBody>
      </p:sp>
      <p:sp>
        <p:nvSpPr>
          <p:cNvPr id="5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80880" y="826920"/>
            <a:ext cx="8077320" cy="5338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etings August 13-14 and August 27-29</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13,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gram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from 080207 TAC Meeting re: delay in Charter vote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BOD decision re: NPRR049 and NPRR061</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PRR077, Incorporating ERCOT Internal Audit Department and other clarification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Systems (COM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Settlements Mini-Market Example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Management System (MMS) to COMS Interfac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on Information Model</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work Model Management System (NMMS)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stration / RARF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iness Metrics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iness Metric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trics Scorecard Iteration 1 – Beta Release</a:t>
            </a:r>
            <a:endParaRPr b="0" lang="en-US" sz="1800" spc="-1" strike="noStrike">
              <a:solidFill>
                <a:srgbClr val="000000"/>
              </a:solidFill>
              <a:latin typeface="Arial"/>
            </a:endParaRPr>
          </a:p>
        </p:txBody>
      </p:sp>
      <p:sp>
        <p:nvSpPr>
          <p:cNvPr id="5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13 (continued)</a:t>
            </a:r>
            <a:endParaRPr b="0" lang="en-US" sz="1800" spc="-1" strike="noStrike">
              <a:solidFill>
                <a:srgbClr val="000000"/>
              </a:solidFill>
              <a:latin typeface="Arial"/>
            </a:endParaRPr>
          </a:p>
        </p:txBody>
      </p:sp>
      <p:sp>
        <p:nvSpPr>
          <p:cNvPr id="5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80880" y="826920"/>
            <a:ext cx="8077320" cy="17485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13,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rrent Nodal Program Schedule and Recent Change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terprise Data Warehouse (EDW) Data Archival And Reporting Requirements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to modify language for Electrical Bus in Outage Scheduler Section 3.1.5.1</a:t>
            </a:r>
            <a:endParaRPr b="0" lang="en-US" sz="1800" spc="-1" strike="noStrike">
              <a:solidFill>
                <a:srgbClr val="000000"/>
              </a:solidFill>
              <a:latin typeface="Arial"/>
            </a:endParaRPr>
          </a:p>
        </p:txBody>
      </p:sp>
      <p:sp>
        <p:nvSpPr>
          <p:cNvPr id="6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14</a:t>
            </a:r>
            <a:endParaRPr b="0" lang="en-US" sz="1800" spc="-1" strike="noStrike">
              <a:solidFill>
                <a:srgbClr val="000000"/>
              </a:solidFill>
              <a:latin typeface="Arial"/>
            </a:endParaRPr>
          </a:p>
        </p:txBody>
      </p:sp>
      <p:sp>
        <p:nvSpPr>
          <p:cNvPr id="65"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80880" y="826920"/>
            <a:ext cx="8077320" cy="48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14,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posed revisions to the Training Course Curriculum Docum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14, TPTF moved to approve the proposed changes to the Training Curriculum Document v2.0 as discussed by TPTF on August 14, 2007 with the modifications proposed by TPTF. The motion carried by roll-call vote, with 100% in favor and one abstention (TXU). All Market Segments, except Consumer, were represent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itial Review of Draft Nodal Monitoring Program for TSPs, QSEs, and ERCO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to modify language for Electrical Bus in Outage Scheduler Section 3.1.5.1</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14, TPTF approved the draft NPRR for revised Electrical Bus language in Nodal Protocols Section 3.1.5.1 to be forwarded to PRS. The motion carried by roll-call vote, with 100% in favor and two abstentions (City of Garland and Suez).  All Market Segments, except Consumer, were represented.</a:t>
            </a:r>
            <a:endParaRPr b="0" lang="en-US" sz="1800" spc="-1" strike="noStrike">
              <a:solidFill>
                <a:srgbClr val="000000"/>
              </a:solidFill>
              <a:latin typeface="Arial"/>
            </a:endParaRPr>
          </a:p>
        </p:txBody>
      </p:sp>
      <p:sp>
        <p:nvSpPr>
          <p:cNvPr id="6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14 (continued)</a:t>
            </a:r>
            <a:endParaRPr b="0" lang="en-US" sz="1800" spc="-1" strike="noStrike">
              <a:solidFill>
                <a:srgbClr val="000000"/>
              </a:solidFill>
              <a:latin typeface="Arial"/>
            </a:endParaRPr>
          </a:p>
        </p:txBody>
      </p:sp>
      <p:sp>
        <p:nvSpPr>
          <p:cNvPr id="72"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80880" y="826920"/>
            <a:ext cx="8077320" cy="49104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14,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 EMS Baseline 1&amp;2 Business Requirements Docu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14, TPTF approved the following updated EMS documents as revised by TPTF on August 14, 2007:</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neration Subsystem Requirements Specification v1.2;</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ergy Management System Requirements Specification v1.2;</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te Estimator Requirements Specification v1.2;</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nd Power Forecasting Requirements Specification v1.2;</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to approve the following updated EMS documents as submitted to TPTF by the EMS Project:</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work Security and Stability Analysis Requirements Specification v1.1;</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ad Forecasting Requirements Specification v1.1.</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otion carried by roll-call vote, with 100% in favor and three abstentions (LCRA, Austin Energy, and AEP).  All Market Segments, except Consumer, were represented.</a:t>
            </a:r>
            <a:endParaRPr b="0" lang="en-US" sz="1800" spc="-1" strike="noStrike">
              <a:solidFill>
                <a:srgbClr val="000000"/>
              </a:solidFill>
              <a:latin typeface="Arial"/>
            </a:endParaRPr>
          </a:p>
        </p:txBody>
      </p:sp>
      <p:sp>
        <p:nvSpPr>
          <p:cNvPr id="76"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14 (continued)</a:t>
            </a:r>
            <a:endParaRPr b="0" lang="en-US" sz="1800" spc="-1" strike="noStrike">
              <a:solidFill>
                <a:srgbClr val="000000"/>
              </a:solidFill>
              <a:latin typeface="Arial"/>
            </a:endParaRPr>
          </a:p>
        </p:txBody>
      </p:sp>
      <p:sp>
        <p:nvSpPr>
          <p:cNvPr id="7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80880" y="826920"/>
            <a:ext cx="8077320" cy="4739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14,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R727, Process for Transition to Nodal Market Protocol Section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PRR076, Synchronization of Emergency Electric Curtailment Plan (EECP) Event Realignm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arification of “ERCOT will post in MIS the list of Load Resources from which RRS is deployed” in Section 6.5.9.4.2 EECP Steps (2)(a)(ii)(4).</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1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s for CRR Requirements and CSD through Baseline 2</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nts for the Nodal Operating Guide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 Comments for NOGRR005</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14, TPTF moved to endorse the ERCOT staff comments for NOGRR005, Planning, with the changes proposed by TPTF. The motion carried by voice vote, with none opposed and one abstention from the Independent Generator Market Segment. All Market Segments, except Consumer, were represented.</a:t>
            </a:r>
            <a:endParaRPr b="0" lang="en-US" sz="1800" spc="-1" strike="noStrike">
              <a:solidFill>
                <a:srgbClr val="000000"/>
              </a:solidFill>
              <a:latin typeface="Arial"/>
            </a:endParaRPr>
          </a:p>
        </p:txBody>
      </p:sp>
      <p:sp>
        <p:nvSpPr>
          <p:cNvPr id="8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14 (continued)</a:t>
            </a:r>
            <a:endParaRPr b="0" lang="en-US" sz="1800" spc="-1" strike="noStrike">
              <a:solidFill>
                <a:srgbClr val="000000"/>
              </a:solidFill>
              <a:latin typeface="Arial"/>
            </a:endParaRPr>
          </a:p>
        </p:txBody>
      </p:sp>
      <p:sp>
        <p:nvSpPr>
          <p:cNvPr id="8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80880" y="826920"/>
            <a:ext cx="8077320" cy="244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14,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position of comments for Internal Interfaces Specificatio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14, TPTF approved the External Interfaces Specification v1.03 (for the new web services highlighted with the triple asterisks (“***”). The motion carried by roll-call vote, with 100% in favor and seven abstentions (CenterPoint, Stream Energy, StarTex Power, Strategic Energy, Accent Energy, Cirro Group, and Green Mountain Energy).  All Market Segments, except Consumer, were represent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3 Update</a:t>
            </a:r>
            <a:endParaRPr b="0" lang="en-US" sz="1800" spc="-1" strike="noStrike">
              <a:solidFill>
                <a:srgbClr val="000000"/>
              </a:solidFill>
              <a:latin typeface="Arial"/>
            </a:endParaRPr>
          </a:p>
        </p:txBody>
      </p:sp>
      <p:sp>
        <p:nvSpPr>
          <p:cNvPr id="90"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7</a:t>
            </a:r>
            <a:endParaRPr b="0" lang="en-US" sz="1800" spc="-1" strike="noStrike">
              <a:solidFill>
                <a:srgbClr val="000000"/>
              </a:solidFill>
              <a:latin typeface="Arial"/>
            </a:endParaRPr>
          </a:p>
        </p:txBody>
      </p:sp>
      <p:sp>
        <p:nvSpPr>
          <p:cNvPr id="93"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80880" y="826920"/>
            <a:ext cx="8077320" cy="40644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ugust 27,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gram Update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Readiness Metric Inventory</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rifiable Costs Submission Request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rrent Program Schedule and Recent Change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Transition Issues by Dan Jones, IMM</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for IMM Reports in Section 8.2</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ergy and Ancillary Service Offer Structure during nodal startup</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PRR074, Revisions to Monitoring and Qualification Tests in Section 8</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Subgroup activity for Transition to Nodal and discussion of PRR727, Process for Transition to Nodal Market Protocol Section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Trip Doggett</dc:creator>
  <dc:description/>
  <dc:language>en-US</dc:language>
  <cp:lastModifiedBy>tdoggett</cp:lastModifiedBy>
  <dcterms:modified xsi:type="dcterms:W3CDTF">2007-09-05T21:47:26Z</dcterms:modified>
  <cp:revision>743</cp:revision>
  <dc:subject/>
  <dc:title>TAC Update</dc:title>
</cp:coreProperties>
</file>