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89ED-D45D-4EC9-8579-BD9B04DF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9A151-7BF1-4B9B-BA22-80EA485B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25B3-39A8-4C93-BA0E-4BE79CA3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322BB-5DCD-481C-B936-CB9666F7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C1F3B-57C9-4A91-A33D-4328A422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CC7E-CD43-4C91-B929-8154583F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DE77C-C44D-4ED2-9D43-8D3B068D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88A8-F99F-41EB-B707-B635FB50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791F-82EC-4826-834A-C65400D2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2FE8E-36BD-4657-8BD3-D52F1990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0C5B4-4F32-4ED3-9AEF-6ADF2056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AA5E4-A5FB-48E3-B85C-E62F4F49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A2E6-EC7D-4C97-BE39-44C3BF1AC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ugust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7 Net Service Availability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914400"/>
          <a:ext cx="84484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4484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ugust 2007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280" y="838080"/>
          <a:ext cx="8839440" cy="50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839440" cy="50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280" y="838080"/>
          <a:ext cx="88394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8394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14400" y="838080"/>
          <a:ext cx="769608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769608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14400" y="838080"/>
          <a:ext cx="7467480" cy="52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7467480" cy="52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smallwood</cp:lastModifiedBy>
  <dcterms:modified xsi:type="dcterms:W3CDTF">2007-09-05T19:27:54Z</dcterms:modified>
  <cp:revision>63</cp:revision>
  <dc:subject/>
  <dc:title>Instructions</dc:title>
</cp:coreProperties>
</file>