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9.png" ContentType="image/png"/>
  <Override PartName="/ppt/media/image17.wmf" ContentType="image/x-wmf"/>
  <Override PartName="/ppt/media/image8.jpeg" ContentType="image/jpeg"/>
  <Override PartName="/ppt/media/image10.jpeg" ContentType="image/jpeg"/>
  <Override PartName="/ppt/media/image20.png" ContentType="image/png"/>
  <Override PartName="/ppt/media/image3.png" ContentType="image/png"/>
  <Override PartName="/ppt/media/image19.png" ContentType="image/png"/>
  <Override PartName="/ppt/media/image1.png" ContentType="image/png"/>
  <Override PartName="/ppt/media/image18.gif" ContentType="image/gif"/>
  <Override PartName="/ppt/media/image16.wmf" ContentType="image/x-wmf"/>
  <Override PartName="/ppt/media/image15.png" ContentType="image/png"/>
  <Override PartName="/ppt/media/image14.wmf" ContentType="image/x-wmf"/>
  <Override PartName="/ppt/media/image5.jpeg" ContentType="image/jpeg"/>
  <Override PartName="/ppt/media/image2.png" ContentType="image/png"/>
  <Override PartName="/ppt/media/image4.wmf" ContentType="image/x-wmf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E78CBD-AA0B-48EB-8305-80B5E13D7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131D6B-5167-4638-BA5A-4091C385E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4F5A06-A477-4348-990B-009A188B9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CF20DA-948B-42D8-A86F-A4DDF9D49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234E27-C7C5-41D8-8AC6-C293D85DC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3984DA-412C-44D8-976E-352F5A365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F25FF5-A405-42A4-A08A-ACAA28350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FED32B-AF0F-4143-BC6B-F7A3504D3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Track Three—the Market Training track—is the basis for the creation of this and other courses.  It dictates that ERCOT must develop a training program for Market Participants and that ERCOT can require Market Participants to attend train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For more details about training, including courses and projected course dates, please go to the Nodal Training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83DB-092E-401C-B8FC-94DCA61A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8A2C-2BA2-4FCA-A9E3-5F82465D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3159-53E4-4B88-920D-AB390934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05424-11B8-430D-9B4B-BB5A8B73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EEE14-0C49-4E11-978C-B45CDB0B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F483-C4D9-49A9-9D66-501A9AB2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6883-D935-46AF-9CEA-36CE6E5E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F7FD-D048-4270-AF8E-3D622A86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D9DB1-E298-4A11-8CA0-B6FE605C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36389-C186-4153-B988-ED5ADE80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856BE-477D-49B6-983E-2B95E4A9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D6EC3-186A-4A1B-914E-6D591120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2FDE-6CBF-4BAC-AE22-26311BE04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tember 6, 200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E2AA-5993-4ECC-A610-842D723DF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ptember 6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C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8.gif"/><Relationship Id="rId12" Type="http://schemas.openxmlformats.org/officeDocument/2006/relationships/image" Target="../media/image17.wmf"/><Relationship Id="rId13" Type="http://schemas.openxmlformats.org/officeDocument/2006/relationships/image" Target="../media/image17.wmf"/><Relationship Id="rId14" Type="http://schemas.openxmlformats.org/officeDocument/2006/relationships/image" Target="../media/image17.wmf"/><Relationship Id="rId15" Type="http://schemas.openxmlformats.org/officeDocument/2006/relationships/image" Target="../media/image17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xas Nodal Program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erry Sulliva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rket Participant Training and the Nodal Transi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xas Nodal Transi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al Market Training Cour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28426" t="25114" r="22132" b="15037"/>
          <a:stretch/>
        </p:blipFill>
        <p:spPr>
          <a:xfrm>
            <a:off x="2171880" y="1954080"/>
            <a:ext cx="5562360" cy="42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5F04-6194-40D0-B570-BF2BA37C8F5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raining Project Requirement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urriculum of Nodal Market concept courses developed by TP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23336" t="38929" r="30403" b="7894"/>
          <a:stretch/>
        </p:blipFill>
        <p:spPr>
          <a:xfrm>
            <a:off x="3314880" y="1587600"/>
            <a:ext cx="5524200" cy="447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457200" y="2057400"/>
            <a:ext cx="279396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C Cer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rse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DD722-0C77-4C48-8D6B-2693E890CB1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raining Development Proces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066680"/>
            <a:ext cx="83818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054760" y="888840"/>
          <a:ext cx="3124080" cy="23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54760" y="888840"/>
                    <a:ext cx="3124080" cy="23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457200" y="2057400"/>
            <a:ext cx="459756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development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ject Matter 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rning 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keholder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PTF Training Sub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Business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al Project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y Assurance / Continuous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sue logging and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76ED4-A595-4363-A2AE-0F40CCD9FF3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raining Delivery Proces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development team delivers beta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 The Tr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tin, Dallas,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 plans for out of sta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and Market Participant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or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Managemen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king and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394160" y="3949560"/>
            <a:ext cx="4749840" cy="2279520"/>
            <a:chOff x="4394160" y="3949560"/>
            <a:chExt cx="4749840" cy="227952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rcRect l="12130" t="16221" r="21205" b="72820"/>
            <a:stretch/>
          </p:blipFill>
          <p:spPr>
            <a:xfrm>
              <a:off x="4394160" y="3949560"/>
              <a:ext cx="4749840" cy="7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"/>
            <a:srcRect l="12130" t="55927" r="21205" b="20076"/>
            <a:stretch/>
          </p:blipFill>
          <p:spPr>
            <a:xfrm>
              <a:off x="4394160" y="4644000"/>
              <a:ext cx="4749840" cy="158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2A3C5-1900-4658-BEAC-E69FAA8ECDF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raining Delivery Progress Report – Completed Course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19040" y="1042920"/>
          <a:ext cx="7302240" cy="3778200"/>
        </p:xfrm>
        <a:graphic>
          <a:graphicData uri="http://schemas.openxmlformats.org/drawingml/2006/table">
            <a:tbl>
              <a:tblPr/>
              <a:tblGrid>
                <a:gridCol w="3517200"/>
                <a:gridCol w="1260000"/>
                <a:gridCol w="1263240"/>
                <a:gridCol w="1261800"/>
              </a:tblGrid>
              <a:tr h="1098000"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or 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Based Trai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  <a:tr h="7930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Nodal 101: The Bas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s of L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on To Nodal Mar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Serving Entity 2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Available 9/14/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176960" y="2522520"/>
            <a:ext cx="1814760" cy="150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5060C-5AA5-4978-8E22-A4247AE6B81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raining Delivery Progress Report –  In developmen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66760" y="1042920"/>
          <a:ext cx="8675640" cy="2940120"/>
        </p:xfrm>
        <a:graphic>
          <a:graphicData uri="http://schemas.openxmlformats.org/drawingml/2006/table">
            <a:tbl>
              <a:tblPr/>
              <a:tblGrid>
                <a:gridCol w="1990800"/>
                <a:gridCol w="714240"/>
                <a:gridCol w="676440"/>
                <a:gridCol w="990360"/>
                <a:gridCol w="743040"/>
                <a:gridCol w="1095480"/>
                <a:gridCol w="863640"/>
                <a:gridCol w="798480"/>
                <a:gridCol w="803160"/>
              </a:tblGrid>
              <a:tr h="335520">
                <a:tc row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row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row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t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row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Sub-Group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row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grid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Room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-Based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  <a:tr h="3830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Training Progr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-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IE QSE Ope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Model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stion Revenue Righ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– 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5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ettlement 3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–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2" name="Picture 288" descr="MCj04039650000[1]"/>
          <p:cNvPicPr/>
          <p:nvPr/>
        </p:nvPicPr>
        <p:blipFill>
          <a:blip r:embed="rId1">
            <a:lum contrast="-60000"/>
          </a:blip>
          <a:stretch/>
        </p:blipFill>
        <p:spPr>
          <a:xfrm>
            <a:off x="3890880" y="173664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88" descr="MCj04039650000[1]"/>
          <p:cNvPicPr/>
          <p:nvPr/>
        </p:nvPicPr>
        <p:blipFill>
          <a:blip r:embed="rId2">
            <a:lum contrast="-60000"/>
          </a:blip>
          <a:stretch/>
        </p:blipFill>
        <p:spPr>
          <a:xfrm>
            <a:off x="3095640" y="218448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88" descr="MCj04039650000[1]"/>
          <p:cNvPicPr/>
          <p:nvPr/>
        </p:nvPicPr>
        <p:blipFill>
          <a:blip r:embed="rId3">
            <a:lum contrast="-60000"/>
          </a:blip>
          <a:stretch/>
        </p:blipFill>
        <p:spPr>
          <a:xfrm>
            <a:off x="3098880" y="173664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86" descr="MCj04039650000[1]"/>
          <p:cNvPicPr/>
          <p:nvPr/>
        </p:nvPicPr>
        <p:blipFill>
          <a:blip r:embed="rId4"/>
          <a:stretch/>
        </p:blipFill>
        <p:spPr>
          <a:xfrm>
            <a:off x="3892680" y="2625840"/>
            <a:ext cx="374400" cy="376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88" descr="MCj04039650000[1]"/>
          <p:cNvPicPr/>
          <p:nvPr/>
        </p:nvPicPr>
        <p:blipFill>
          <a:blip r:embed="rId5">
            <a:lum contrast="-60000"/>
          </a:blip>
          <a:stretch/>
        </p:blipFill>
        <p:spPr>
          <a:xfrm>
            <a:off x="3887640" y="220680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88" descr="MCj04039650000[1]"/>
          <p:cNvPicPr/>
          <p:nvPr/>
        </p:nvPicPr>
        <p:blipFill>
          <a:blip r:embed="rId6">
            <a:lum contrast="-60000"/>
          </a:blip>
          <a:stretch/>
        </p:blipFill>
        <p:spPr>
          <a:xfrm>
            <a:off x="3097080" y="2625840"/>
            <a:ext cx="387360" cy="388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88" descr="MCj04039650000[1]"/>
          <p:cNvPicPr/>
          <p:nvPr/>
        </p:nvPicPr>
        <p:blipFill>
          <a:blip r:embed="rId7">
            <a:lum contrast="-60000"/>
          </a:blip>
          <a:stretch/>
        </p:blipFill>
        <p:spPr>
          <a:xfrm>
            <a:off x="3097080" y="353052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86" descr="MCj04039650000[1]"/>
          <p:cNvPicPr/>
          <p:nvPr/>
        </p:nvPicPr>
        <p:blipFill>
          <a:blip r:embed="rId8"/>
          <a:stretch/>
        </p:blipFill>
        <p:spPr>
          <a:xfrm>
            <a:off x="3892680" y="3530520"/>
            <a:ext cx="374400" cy="37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86" descr="MCj04039650000[1]"/>
          <p:cNvPicPr/>
          <p:nvPr/>
        </p:nvPicPr>
        <p:blipFill>
          <a:blip r:embed="rId9"/>
          <a:stretch/>
        </p:blipFill>
        <p:spPr>
          <a:xfrm>
            <a:off x="3111480" y="3073320"/>
            <a:ext cx="374760" cy="376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86" descr="MCj04039650000[1]"/>
          <p:cNvPicPr/>
          <p:nvPr/>
        </p:nvPicPr>
        <p:blipFill>
          <a:blip r:embed="rId10"/>
          <a:stretch/>
        </p:blipFill>
        <p:spPr>
          <a:xfrm>
            <a:off x="3911760" y="3073320"/>
            <a:ext cx="374400" cy="3762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1"/>
          <a:stretch/>
        </p:blipFill>
        <p:spPr>
          <a:xfrm>
            <a:off x="4040280" y="5753160"/>
            <a:ext cx="185724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266760" y="3976560"/>
          <a:ext cx="8675640" cy="1776240"/>
        </p:xfrm>
        <a:graphic>
          <a:graphicData uri="http://schemas.openxmlformats.org/drawingml/2006/table">
            <a:tbl>
              <a:tblPr/>
              <a:tblGrid>
                <a:gridCol w="1990800"/>
                <a:gridCol w="714240"/>
                <a:gridCol w="676440"/>
                <a:gridCol w="990360"/>
                <a:gridCol w="743040"/>
                <a:gridCol w="1095480"/>
                <a:gridCol w="863640"/>
                <a:gridCol w="798480"/>
                <a:gridCol w="803160"/>
              </a:tblGrid>
              <a:tr h="4284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2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– 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–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–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–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3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–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-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–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–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nformation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– 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686" descr="MCj04039650000[1]"/>
          <p:cNvPicPr/>
          <p:nvPr/>
        </p:nvPicPr>
        <p:blipFill>
          <a:blip r:embed="rId12"/>
          <a:stretch/>
        </p:blipFill>
        <p:spPr>
          <a:xfrm>
            <a:off x="3117960" y="4000680"/>
            <a:ext cx="374400" cy="376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86" descr="MCj04039650000[1]"/>
          <p:cNvPicPr/>
          <p:nvPr/>
        </p:nvPicPr>
        <p:blipFill>
          <a:blip r:embed="rId13"/>
          <a:stretch/>
        </p:blipFill>
        <p:spPr>
          <a:xfrm>
            <a:off x="3117960" y="4448160"/>
            <a:ext cx="374400" cy="376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86" descr="MCj04039650000[1]"/>
          <p:cNvPicPr/>
          <p:nvPr/>
        </p:nvPicPr>
        <p:blipFill>
          <a:blip r:embed="rId14"/>
          <a:stretch/>
        </p:blipFill>
        <p:spPr>
          <a:xfrm>
            <a:off x="3117960" y="4905360"/>
            <a:ext cx="374400" cy="376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86" descr="MCj04039650000[1]"/>
          <p:cNvPicPr/>
          <p:nvPr/>
        </p:nvPicPr>
        <p:blipFill>
          <a:blip r:embed="rId15"/>
          <a:stretch/>
        </p:blipFill>
        <p:spPr>
          <a:xfrm>
            <a:off x="3117960" y="5353200"/>
            <a:ext cx="374400" cy="37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C6A4-BBD1-426F-BDBA-29166EB96B2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raining Delivery Progress Report – To be developed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66760" y="1406520"/>
          <a:ext cx="8561160" cy="1131840"/>
        </p:xfrm>
        <a:graphic>
          <a:graphicData uri="http://schemas.openxmlformats.org/drawingml/2006/table">
            <a:tbl>
              <a:tblPr/>
              <a:tblGrid>
                <a:gridCol w="3111480"/>
                <a:gridCol w="2922480"/>
                <a:gridCol w="2527200"/>
              </a:tblGrid>
              <a:tr h="401760"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  <a:tr h="3650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ssion 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½ –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101 for Wind Gen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66760" y="3832200"/>
          <a:ext cx="8561160" cy="2162160"/>
        </p:xfrm>
        <a:graphic>
          <a:graphicData uri="http://schemas.openxmlformats.org/drawingml/2006/table">
            <a:tbl>
              <a:tblPr/>
              <a:tblGrid>
                <a:gridCol w="3111480"/>
                <a:gridCol w="2922480"/>
                <a:gridCol w="2527200"/>
              </a:tblGrid>
              <a:tr h="365760"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  <a:tr h="4878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ded Training - System Dynam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e a month within the first 12 months of full Texas Nodal Market Operations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-Based Training for QSEs with Generation Resour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e a Quarter 2009 only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-Based Training for Load Serving Ent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e a Quarter 2009 only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-Based Training for TSPs and DS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e a Quarter 2009 only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37080" y="1069920"/>
            <a:ext cx="206748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liver in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60" y="3483000"/>
            <a:ext cx="252792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liver after go-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296D-598A-409C-806D-2DFEB739850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raining Delivery Progress Report - Statistic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914400"/>
          <a:ext cx="8140680" cy="4629240"/>
        </p:xfrm>
        <a:graphic>
          <a:graphicData uri="http://schemas.openxmlformats.org/drawingml/2006/table">
            <a:tbl>
              <a:tblPr/>
              <a:tblGrid>
                <a:gridCol w="2365200"/>
                <a:gridCol w="1238400"/>
                <a:gridCol w="1522440"/>
                <a:gridCol w="1405080"/>
                <a:gridCol w="1609560"/>
              </a:tblGrid>
              <a:tr h="432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No. of Instructor Led ses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Pas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ERC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ERCOT Nodal 101: The Bas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616/17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482/5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2098/2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Economics of L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4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605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  <a:tr h="80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ransitions to Nodal Mark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80/1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67/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147/263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SE 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1/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Book Antiqua"/>
                        </a:rPr>
                        <a:t>124/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c2aa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3019320" y="5695920"/>
            <a:ext cx="527364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LT - No ex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 WBT – No exam – Completed reviewing 75% or more of the slid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959A-5A44-4FBD-98D6-7C1FDFAAFA1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raining Delivery Progress Report – Nodal 101 Survey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1205" t="15780" r="69631" b="39630"/>
          <a:stretch/>
        </p:blipFill>
        <p:spPr>
          <a:xfrm>
            <a:off x="4838760" y="888840"/>
            <a:ext cx="4000320" cy="3822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rcRect l="1205" t="15335" r="69631" b="39484"/>
          <a:stretch/>
        </p:blipFill>
        <p:spPr>
          <a:xfrm>
            <a:off x="152280" y="838080"/>
            <a:ext cx="4000680" cy="3873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454560" y="4800600"/>
            <a:ext cx="39751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– Strongly A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-  A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- Disa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- Strongly Disa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D93D-094C-4BF9-8C52-9D12D0945B5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Network Telemetry and State Estimator Standard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odal Program and ERCOT staff request that TAC consider the proposed changes included in the attached Network Telemetry Standard and State Estimator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6AD5-663F-42CB-BD30-E2E102F4A2A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066680"/>
          <a:ext cx="8229600" cy="2217960"/>
        </p:xfrm>
        <a:graphic>
          <a:graphicData uri="http://schemas.openxmlformats.org/drawingml/2006/table">
            <a:tbl>
              <a:tblPr/>
              <a:tblGrid>
                <a:gridCol w="3814920"/>
                <a:gridCol w="1382400"/>
                <a:gridCol w="303228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Program 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rry Sulliv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Schedule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rry Sulliv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Training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rry Sulliv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Telemetry and State Estimator Stand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p Dogget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request TAC 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ADEB7-DB7B-49A8-93A1-3E3FA4687D1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378480" y="2228760"/>
            <a:ext cx="2705040" cy="3924360"/>
          </a:xfrm>
          <a:prstGeom prst="rect">
            <a:avLst/>
          </a:prstGeom>
          <a:solidFill>
            <a:srgbClr val="73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45000" y="2228760"/>
            <a:ext cx="2705040" cy="3924360"/>
          </a:xfrm>
          <a:prstGeom prst="rect">
            <a:avLst/>
          </a:prstGeom>
          <a:solidFill>
            <a:srgbClr val="73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2960" y="2228760"/>
            <a:ext cx="2705040" cy="3924360"/>
          </a:xfrm>
          <a:prstGeom prst="rect">
            <a:avLst/>
          </a:prstGeom>
          <a:solidFill>
            <a:srgbClr val="73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/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4906800"/>
            <a:ext cx="9007200" cy="1132200"/>
          </a:xfrm>
          <a:prstGeom prst="rect">
            <a:avLst/>
          </a:prstGeom>
          <a:solidFill>
            <a:srgbClr val="a6c0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960" y="5224320"/>
            <a:ext cx="8791560" cy="247680"/>
          </a:xfrm>
          <a:prstGeom prst="rect">
            <a:avLst/>
          </a:prstGeom>
          <a:solidFill>
            <a:srgbClr val="cc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6840" y="984240"/>
            <a:ext cx="3433680" cy="528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6320" y="3129120"/>
            <a:ext cx="9007200" cy="1738080"/>
          </a:xfrm>
          <a:prstGeom prst="rect">
            <a:avLst/>
          </a:prstGeom>
          <a:solidFill>
            <a:srgbClr val="a6c0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verall program status remains amber  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1004760" y="2725560"/>
            <a:ext cx="1140120" cy="354240"/>
          </a:xfrm>
          <a:prstGeom prst="rect">
            <a:avLst/>
          </a:prstGeom>
          <a:solidFill>
            <a:srgbClr val="008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78480" y="3308400"/>
            <a:ext cx="269892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048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ings being identified to mitigate additional cost in Release Management and additional MMS design costs needs being assess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line 1 and 2 costs are being rolled into foreca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increased costs for internal allo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51280" y="2725560"/>
            <a:ext cx="2182680" cy="354240"/>
          </a:xfrm>
          <a:prstGeom prst="rect">
            <a:avLst/>
          </a:prstGeom>
          <a:solidFill>
            <a:srgbClr val="ff993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99240" y="2725560"/>
            <a:ext cx="2182680" cy="354240"/>
          </a:xfrm>
          <a:prstGeom prst="rect">
            <a:avLst/>
          </a:prstGeom>
          <a:solidFill>
            <a:srgbClr val="ff993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39960" y="3205080"/>
            <a:ext cx="126972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048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fully aligned with protoco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Analysis in progress for 30 items (2 draft NPRRs and 16 minor changes with no impact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1960" y="5224320"/>
            <a:ext cx="555840" cy="247680"/>
          </a:xfrm>
          <a:prstGeom prst="rect">
            <a:avLst/>
          </a:prstGeom>
          <a:solidFill>
            <a:srgbClr val="cc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1960" y="5494320"/>
            <a:ext cx="555840" cy="247680"/>
          </a:xfrm>
          <a:prstGeom prst="rect">
            <a:avLst/>
          </a:prstGeom>
          <a:solidFill>
            <a:srgbClr val="ff993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1960" y="5765760"/>
            <a:ext cx="555840" cy="222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0240" y="5765760"/>
            <a:ext cx="8423280" cy="247680"/>
          </a:xfrm>
          <a:prstGeom prst="rect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7280" y="5494320"/>
            <a:ext cx="8796240" cy="247680"/>
          </a:xfrm>
          <a:prstGeom prst="rect">
            <a:avLst/>
          </a:prstGeom>
          <a:solidFill>
            <a:srgbClr val="ff993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15280" y="5770440"/>
            <a:ext cx="246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imate at Complete = &lt;$263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15280" y="5494320"/>
            <a:ext cx="246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imate at Complete = &lt; $263m + 1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56400" y="5218200"/>
            <a:ext cx="21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imate at Complete = &gt;$263m + 1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35440" y="5780160"/>
            <a:ext cx="21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-live = 12/1/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36880" y="5504040"/>
            <a:ext cx="218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-live = &lt;30 days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8680" y="5227560"/>
            <a:ext cx="21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-live = &gt;30 days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9960" y="5722920"/>
            <a:ext cx="13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 is aligned with current protoc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3920" y="5454720"/>
            <a:ext cx="150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 is aligned to previous protocol ver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400" y="518004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 is not aligned to protoc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66960" y="3308400"/>
            <a:ext cx="266400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048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EDS 1-3 milestones being achieved / on tr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t amount of work taking place in next 3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S 4 milestones at risk due to MMS schedu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to track NMMS integration with EMS/M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782880" y="984240"/>
            <a:ext cx="2234880" cy="1238040"/>
            <a:chOff x="3782880" y="984240"/>
            <a:chExt cx="2234880" cy="123804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3782880" y="984240"/>
              <a:ext cx="2234880" cy="12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866040" y="1901160"/>
              <a:ext cx="497520" cy="183600"/>
            </a:xfrm>
            <a:prstGeom prst="rect">
              <a:avLst/>
            </a:prstGeom>
            <a:solidFill>
              <a:srgbClr val="d1d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cope/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37440" y="1740960"/>
              <a:ext cx="497520" cy="183240"/>
            </a:xfrm>
            <a:prstGeom prst="rect">
              <a:avLst/>
            </a:prstGeom>
            <a:solidFill>
              <a:srgbClr val="d1d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chedu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09080" y="1110240"/>
              <a:ext cx="484920" cy="194400"/>
            </a:xfrm>
            <a:prstGeom prst="rect">
              <a:avLst/>
            </a:prstGeom>
            <a:solidFill>
              <a:srgbClr val="d1d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33280" indent="-233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98360" y="1626120"/>
              <a:ext cx="334800" cy="183600"/>
            </a:xfrm>
            <a:prstGeom prst="rect">
              <a:avLst/>
            </a:prstGeom>
            <a:solidFill>
              <a:srgbClr val="d1d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0000"/>
                  </a:solidFill>
                  <a:latin typeface="Arial"/>
                </a:rPr>
                <a:t>Nodal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0000"/>
                  </a:solidFill>
                  <a:latin typeface="Arial"/>
                </a:rPr>
                <a:t>Delive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60240" y="1727280"/>
            <a:ext cx="376884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0240" y="1427040"/>
            <a:ext cx="0" cy="3096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4840" y="1109520"/>
            <a:ext cx="585720" cy="307080"/>
          </a:xfrm>
          <a:prstGeom prst="rect">
            <a:avLst/>
          </a:prstGeom>
          <a:solidFill>
            <a:srgbClr val="517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Nodal Delive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71600" y="2725560"/>
            <a:ext cx="1139760" cy="354240"/>
          </a:xfrm>
          <a:prstGeom prst="rect">
            <a:avLst/>
          </a:prstGeom>
          <a:solidFill>
            <a:srgbClr val="ff993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3129120"/>
            <a:ext cx="0" cy="289368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62160" y="5176800"/>
            <a:ext cx="151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rrent product quality is not sufficient for Nodal laun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01680" y="5450040"/>
            <a:ext cx="16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t Nodal products currently achieve quality stand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01680" y="5722920"/>
            <a:ext cx="16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Nodal products currently achieve quality stand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47840" y="3206880"/>
            <a:ext cx="139716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048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t design issues still open with MMS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reviews ongoing with ERCOT/MMS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26C32-D22D-4620-A564-704B0270B08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actical deliverables and action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816120"/>
          <a:ext cx="8229600" cy="4262400"/>
        </p:xfrm>
        <a:graphic>
          <a:graphicData uri="http://schemas.openxmlformats.org/drawingml/2006/table">
            <a:tbl>
              <a:tblPr/>
              <a:tblGrid>
                <a:gridCol w="1057320"/>
                <a:gridCol w="7172280"/>
              </a:tblGrid>
              <a:tr h="27648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p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tion/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891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dor high-level schedule puts the Nodal Program schedule at risk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ical design issues need to be resolved rapidly by ERCOT/vendor – 60% “high” category items resolved by 8/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rcial implications to follow – target to resolve 9/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MS UI development in-hous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ser inter-working of ERCOT design, integration and testing teams at ABB starting Sept. 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y staffing needs identified and initiated in consultation with Resource Managers to address gaps in EDS, MMS, and 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dbox (8/3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y 2 Web Servi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dence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achieving the milestone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ion Testing of 6 critical SCED interfaces 84% complete as at 8/24. Will make date with few minor defect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rest of the priority 2 web services interfaces will be incrementally delivered in Sept 2007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 2 (9/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Estimator and Telemet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dence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achieving the milestone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S Release 2 – State Estimator and Telemetry FAT test execution 40% complete, 0 severity 1 defects, as at 8/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ly investigating calculated points for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im solution for delivery of SE Reports – looking at MIS so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 1 (10/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dence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achieving the milestone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QSEs will be completed and tested by 10/1, except for Austin Energy (currently upgrading their EM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-over test to occur in Septemb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 3 (11/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S interfacing with SC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dence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achieving the milestone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Mediu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S delivery of interfaces, confidence is Hig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 delivery of interfaces, confidence is Medium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of SCED reports, confidence is being assessed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cross-project effort launched to expedite deliver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 launched to develop interim solution for data consistency between EMS and MMS (prior to final solution through NMM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2 R4 (11/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MS NOM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dence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achieving the milestone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is Medium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ith known challenges (data reconciliation and validation, AREVA load capabilities, MP availabilit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MS 1b delivery from Siemens failed FAT initially, retest successful (8/23), Phase 1c delivery at end of Sept 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to start testing activities with CNP in November (confirme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720">
                      <a:solidFill>
                        <a:srgbClr val="009999"/>
                      </a:solidFill>
                    </a:lnL>
                    <a:lnR w="720">
                      <a:solidFill>
                        <a:srgbClr val="009999"/>
                      </a:solidFill>
                    </a:lnR>
                    <a:lnT w="720">
                      <a:solidFill>
                        <a:srgbClr val="009999"/>
                      </a:solidFill>
                    </a:lnT>
                    <a:lnB w="72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457200" y="5530680"/>
            <a:ext cx="822960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8/24 eEDS MILESTONE ACHIE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Austin Energy, Reliant, CPS San Antonio completed testing by 8/29 with 100% Success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CA196-DD73-4872-8DB8-9C42921C495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itiatives to achieve / adhere to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MS pro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site teams for integration and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site manager to ensure effectiveness of work force (ERCOT and vend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ing on User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ing on more test procedure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ing in updating pertinen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ing Ts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ointing a testing tsar to coordinate / oversee / report and motivate actions concerning mi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ergies in development projects, testing, integration, release management, and various early delivery systems (ED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effort in this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ACC3-4B01-42C8-BC35-D1066C2842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Nodal Training Update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articipant Training and the Nodal 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es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5384-7E2C-4D23-BC8B-1F7E6708830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rket Participant Training and the Nodal Transi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articipant Training is an integral part of the transition to the Nodal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xas Nodal Transit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ition Planning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Participant training is very important, and ERCOT shall  establish </a:t>
            </a:r>
            <a:r>
              <a:rPr b="1" lang="en-US" sz="2000" spc="-1" strike="noStrike" u="sng">
                <a:solidFill>
                  <a:srgbClr val="f73737"/>
                </a:solidFill>
                <a:uFillTx/>
                <a:latin typeface="Arial"/>
              </a:rPr>
              <a:t>ear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73737"/>
                </a:solidFill>
                <a:uFillTx/>
                <a:latin typeface="Arial"/>
              </a:rPr>
              <a:t>comprehens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raining programs for Market Participants that will be completed in a </a:t>
            </a:r>
            <a:r>
              <a:rPr b="1" lang="en-US" sz="2000" spc="-1" strike="noStrike" u="sng">
                <a:solidFill>
                  <a:srgbClr val="f73737"/>
                </a:solidFill>
                <a:uFillTx/>
                <a:latin typeface="Arial"/>
              </a:rPr>
              <a:t>time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nn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22"/>
          <p:cNvGrpSpPr/>
          <p:nvPr/>
        </p:nvGrpSpPr>
        <p:grpSpPr>
          <a:xfrm>
            <a:off x="768240" y="1841400"/>
            <a:ext cx="4500360" cy="1176120"/>
            <a:chOff x="768240" y="1841400"/>
            <a:chExt cx="4500360" cy="1176120"/>
          </a:xfrm>
        </p:grpSpPr>
        <p:grpSp>
          <p:nvGrpSpPr>
            <p:cNvPr id="154" name="Group 21"/>
            <p:cNvGrpSpPr/>
            <p:nvPr/>
          </p:nvGrpSpPr>
          <p:grpSpPr>
            <a:xfrm>
              <a:off x="768240" y="1841400"/>
              <a:ext cx="4500360" cy="1176120"/>
              <a:chOff x="768240" y="1841400"/>
              <a:chExt cx="4500360" cy="1176120"/>
            </a:xfrm>
          </p:grpSpPr>
          <p:pic>
            <p:nvPicPr>
              <p:cNvPr id="155" name="Picture 9" descr="Number-48-Texas-Map-Nodes"/>
              <p:cNvPicPr/>
              <p:nvPr/>
            </p:nvPicPr>
            <p:blipFill>
              <a:blip r:embed="rId1"/>
              <a:stretch/>
            </p:blipFill>
            <p:spPr>
              <a:xfrm>
                <a:off x="4195440" y="1876320"/>
                <a:ext cx="1073160" cy="102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10" descr="Number-34c-ERCOT-Congestion"/>
              <p:cNvPicPr/>
              <p:nvPr/>
            </p:nvPicPr>
            <p:blipFill>
              <a:blip r:embed="rId2"/>
              <a:stretch/>
            </p:blipFill>
            <p:spPr>
              <a:xfrm>
                <a:off x="768240" y="1868400"/>
                <a:ext cx="1074600" cy="10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11" descr="MCj04131380000[1]"/>
              <p:cNvPicPr/>
              <p:nvPr/>
            </p:nvPicPr>
            <p:blipFill>
              <a:blip r:embed="rId3"/>
              <a:stretch/>
            </p:blipFill>
            <p:spPr>
              <a:xfrm>
                <a:off x="2261880" y="1841400"/>
                <a:ext cx="1677960" cy="11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Text Box 17"/>
              <p:cNvSpPr/>
              <p:nvPr/>
            </p:nvSpPr>
            <p:spPr>
              <a:xfrm>
                <a:off x="2030040" y="2612880"/>
                <a:ext cx="1521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arket Trai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Text Box 12"/>
            <p:cNvSpPr/>
            <p:nvPr/>
          </p:nvSpPr>
          <p:spPr>
            <a:xfrm>
              <a:off x="1476000" y="1881000"/>
              <a:ext cx="338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RCOT Nodal Market Trans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F353-AE4E-48D7-BD99-37112795129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rket Participant Training and the Nodal Transi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xas Nodal Transit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ition Plan Tr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88960" y="1866960"/>
            <a:ext cx="8051760" cy="438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11720" y="1650960"/>
            <a:ext cx="2138400" cy="176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D65C-18FE-41AD-BD26-7C4EA343F3A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>
            <a:lum contrast="8000"/>
          </a:blip>
          <a:stretch/>
        </p:blipFill>
        <p:spPr>
          <a:xfrm>
            <a:off x="2413080" y="1058760"/>
            <a:ext cx="6730920" cy="4954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251400" y="1547640"/>
            <a:ext cx="2413080" cy="1373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1038240"/>
            <a:ext cx="3990960" cy="9637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1160" y="1076040"/>
            <a:ext cx="48387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xas Nodal Transi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Training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training program for MPs and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d in conjunction with System Testing and Marke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a standard format for training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Participa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require their personnel to attend training when 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rket Participant Training and the Nodal Transi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947B-BA46-450D-8DAC-0DE242097FA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ers Coln  / Tim Pare</dc:creator>
  <dc:description/>
  <dc:language>en-US</dc:language>
  <cp:lastModifiedBy>acoln</cp:lastModifiedBy>
  <dcterms:modified xsi:type="dcterms:W3CDTF">2007-08-30T16:55:09Z</dcterms:modified>
  <cp:revision>309</cp:revision>
  <dc:subject>TAC Update</dc:subject>
  <dc:title>Texas Nodal Market Implementation</dc:title>
</cp:coreProperties>
</file>