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B0E-8BFB-4B56-9901-D817CC7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0AB-B651-4A29-9C93-3392D94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B77-EAC0-4362-9931-DF1AE0F7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0C5-806F-459E-8FC2-4F50694B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A5C1-0737-4DAC-B311-C5027747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43B0-E15D-4071-9946-2A96D18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58C-D9BC-41D7-B395-98EEC43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783-4288-4C0A-B9C1-78296C5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129-76BB-4DE8-81E1-93147139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7F5-C623-4E4C-AC4D-CBC1B800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0F26-80B8-4DF2-BF9F-A956128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80B-D593-4B0A-A455-B1D1671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18D-4799-4E05-9B66-0AA7EA1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6471-BF62-428D-A710-C4F5671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9802-50F9-4FFF-B653-2044A0A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A33E-E711-4100-92B4-88096A41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7F1-F872-4B9D-982B-28C0F4AD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AE8-EB0E-4F92-842D-A58FFA4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37D-3402-4C0C-912C-A3CC97A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3E2-9516-4CF6-9E41-95CB0C9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298-C32A-45C4-A343-DE6D938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B7A-6F15-440D-9F93-D6A5E39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83B-0295-4406-99C1-146859C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ABC-D834-4491-A43D-BCA3C58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B3B0-7F79-44EF-B302-9D3A4E7C28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942-BF77-4541-8B36-102722ADED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522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Texas Regional Entity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7200"/>
            <a:ext cx="19814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An Independent Division of ERCOT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standards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8647-7A50-42B4-87AA-D1FED5F1C6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 52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0-Minute 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1D1-F5A9-48F8-8ED7-88283C557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R 525 Passing 10-M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val Percentage Tr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EC6-26FB-4A59-9698-EF6519A1A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007 Resource Pl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90-1D67-4E8D-9D70-A0164BE21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Registered E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ERCOT Reg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F1F-EAB7-4719-8AFE-544350423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11 entities registered in the ERCOT Region that are responsible for compliance with NERC Reliability Standar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entities officially appealed their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pending – will likely go before the NERC Board of Trustees Compliance Committee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entities appealing their registration as a Generator Oper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entity appealing their registration as a Transmission Owner/Pla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0D7-1550-4917-B51F-A093A15D9F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E92-6FA4-4D2A-B4BD-C4F5F4AC3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C2B-29AA-456D-AAE2-DB0B5F4B8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Review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vents by S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8487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AF7-5E65-4443-B70F-97864CDE20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olations of ERCO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ocols Reported by Sea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AA1-3455-48F8-9C80-62FAEC024E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self-reported violations were from newly registered ent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self-reported violations are administrative or training-rel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olation Risk Factors have been assigned to each actively monitored NERC Standa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209-9849-40F9-9CA7-F9BBB6707E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improved in Ju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control performance (SCPS) for non-wind-only QSEs is at its highest level since PRR 525 was implemented in January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res for July indicate all non-wind-only QSEs passed the PRR 525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irst since scoring began in January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266-6916-4FD2-B6C8-C8F2DA14F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C Standard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lf-Reported Violations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to June 18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9A-AEE1-4B94-B1A2-57860648B3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k Factors of Self-Reported Vio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488-BC94-41A1-AE36-3B6F4B98AA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tegorized Violation Risk Factor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Self-Reported Vio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F47-62F6-482E-A458-C8994C0BDB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Self-Reported Viola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or to June 18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6FB-D881-4058-8D9F-909C148AB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Boar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vals – August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NERC 2008 business plan and bud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business plans and budgets of the eight Regional Ent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roposal from the NERC F&amp;A Committee to suspend, for one year, NERC’s normal practice of taking account of anticipated budget surpluses from the current year in calculating the following year’s assess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RC Management directed to file 2008 business plans and budgets with FER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and Regional Budgets and Business Plans filed by NERC with FERC on August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8C9-4733-4F19-B8DE-BCB1E8C2E4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ry of FERC Vis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went very well with considerable dialogue in all dir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ed unique reporting structure to the ERCOT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ed statutory and non-statutory requir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 was the first RE visited that performs bo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discussion between PUCT and FERC Staff regarding jurisdictional and coordination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has concerns over Resource Adequ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rther discussion this fall of the April 17, 2006 event in 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RC and Regional Entities competing for the same resources – this pool is small and shrink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9FE-3C19-49C1-A7A6-6AE851A225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month ending in mid-August………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confirm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 New Events Review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Detailed Reports Requi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 Detailed reports from past events due to be issu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 On-Site Audits complete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 unresolved Registration Appe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744-A205-47C0-83D7-C42CE2074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dure Appro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oard of the Texas RE approved Standards Development Procedures needed to implement the Texas RE Standards Development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ered Ballot Body (RB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Standards Committee (R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rafting Team (SD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posted on Texas RE Web Page:  Regional Reliability Standards Develop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nning and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mktrules/compliance/tre/standards/index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FF6-69B8-4F1C-A56D-BA0DD8D29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540-138D-4C67-8C5D-96E023ACCC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7:  139.35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uly 2006:  153.13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ly 2007:  133.9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g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July 2006:  138.14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July indicate 34 QSEs passed / 0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76-8B7F-470F-AF24-334755059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formance Comparis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AC2-33C6-4C66-94A0-4909C53781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thly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255-BC0D-46F2-8D47-8E1DF60B7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B56-E3B9-493C-8659-0212A2E8BD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08-29T19:53:57Z</dcterms:modified>
  <cp:revision>733</cp:revision>
  <dc:subject/>
  <dc:title>PRR 525 Compliance Analysis</dc:title>
</cp:coreProperties>
</file>