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C7B-2A78-4CE8-9C9A-B1909564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723-EE2E-4F6D-AFC3-8C7B3297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B54-E423-4B0C-92BE-1494A290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B28-FDB6-452C-95AB-2B8C906A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8D30-8305-4581-AB99-49947324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CEEA-3686-4B59-8465-5B6A25C6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0118-D180-4F14-8D3C-CD2948F1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739E-8C89-4BB0-9FAF-4FA677B5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6246-1072-4981-A6AC-B3295DF6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6723-3C18-4136-AB93-1C2DD3E2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DCD8-6009-4E88-92D2-4B3377A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0C1-0F9B-43D2-AD8D-E993366F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43D1-F32B-445B-990B-2074516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CB67-AD0B-42D0-9404-69A3E8BC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51B4-6CDA-4D52-891A-AD0C8027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5326-809E-4568-8FF8-E4D58CCD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06F9-896B-4716-BABB-F929D61A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ADC-2FD3-400E-B6E7-E9349D4A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B59-C4DB-402E-86E1-ADDF2146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7A3-F32B-4783-832E-0A7CB5DB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D43-5029-4396-A6CD-663D4047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0D3-6031-45FF-BC61-CAFCD121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B9A-9137-43A4-9269-2381B636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9AA-F068-49A2-A4BD-8262168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59297" t="38104" r="0" b="11111"/>
          <a:stretch/>
        </p:blipFill>
        <p:spPr>
          <a:xfrm>
            <a:off x="3276720" y="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32813" r="0" b="29692"/>
          <a:stretch/>
        </p:blipFill>
        <p:spPr>
          <a:xfrm>
            <a:off x="0" y="0"/>
            <a:ext cx="327672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E84D-F238-4032-AB66-E75CC0A87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rcRect l="0" t="15003" r="0" b="45008"/>
          <a:stretch/>
        </p:blipFill>
        <p:spPr>
          <a:xfrm>
            <a:off x="5432400" y="0"/>
            <a:ext cx="3711600" cy="1828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457200"/>
            <a:ext cx="8534520" cy="914400"/>
          </a:xfrm>
          <a:prstGeom prst="rect">
            <a:avLst/>
          </a:prstGeom>
          <a:gradFill rotWithShape="0">
            <a:gsLst>
              <a:gs pos="0">
                <a:srgbClr val="6666ff">
                  <a:alpha val="62352"/>
                </a:srgbClr>
              </a:gs>
              <a:gs pos="100000">
                <a:srgbClr val="ffffff">
                  <a:alpha val="5607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59297" t="38104" r="0" b="11111"/>
          <a:stretch/>
        </p:blipFill>
        <p:spPr>
          <a:xfrm>
            <a:off x="3200400" y="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32813" r="0" b="29692"/>
          <a:stretch/>
        </p:blipFill>
        <p:spPr>
          <a:xfrm>
            <a:off x="0" y="0"/>
            <a:ext cx="325296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7496-8501-4812-BD87-6477E3359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0" t="15003" r="0" b="45008"/>
          <a:stretch/>
        </p:blipFill>
        <p:spPr>
          <a:xfrm>
            <a:off x="5432400" y="0"/>
            <a:ext cx="371160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2209680"/>
            <a:ext cx="8534160" cy="1447920"/>
          </a:xfrm>
          <a:prstGeom prst="rect">
            <a:avLst/>
          </a:prstGeom>
          <a:gradFill rotWithShape="0">
            <a:gsLst>
              <a:gs pos="0">
                <a:srgbClr val="6666ff">
                  <a:alpha val="62352"/>
                </a:srgbClr>
              </a:gs>
              <a:gs pos="100000">
                <a:srgbClr val="ffffff">
                  <a:alpha val="5607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art N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 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 Report to T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draft Nodal Operating Gu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d Temperature Dependent Responsive Discount Factor Propo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Stability Study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ion of NERC Transmission Operatio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workshop on Telemetry Criteria and State Estimator Performance Standards – September 17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OGRR194 – Wording Changes to Make All Parts of Section 7 Consist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OGRR197 – Conforming Operating Guides to Protocol Section 21 and Other Market Gu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RR198 – Firm Load Shed Implementation Time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CP Event – August 1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occurred between 14:22 and 15: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70 MW Unit A trip at 11:19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0 MW Unit B trip at 14:21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65 MW of Non-Spin Reserves was deployed at 14:30 (requested at 14: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CP Event – August 1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Ahead Load Forecast versus Real-Time Load was short only by 981 MW for hour 15:00 – higher temperatures than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ECP Event – September 5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Information on this slide is subject to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occurred between 8:04 and 9: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wind (potentially tornado) caused the loss of 1083MW of generation (2 un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Rs were de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qualify as NERC DSC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2743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  QUESTIONS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5:49:18Z</dcterms:created>
  <dc:creator>sschneid</dc:creator>
  <dc:description/>
  <dc:language>en-US</dc:language>
  <cp:lastModifiedBy>LCRA Employee</cp:lastModifiedBy>
  <dcterms:modified xsi:type="dcterms:W3CDTF">2007-09-05T20:03:37Z</dcterms:modified>
  <cp:revision>46</cp:revision>
  <dc:subject/>
  <dc:title>Slide 1</dc:title>
</cp:coreProperties>
</file>