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6"/>
          </p:nvPr>
        </p:nvSpPr>
        <p:spPr>
          <a:xfrm>
            <a:off x="388584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83927-3725-404C-82B4-F121286D4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7135FB-8A4D-492B-828E-40C9B2456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E4B359-1BBC-4039-8AF4-F9179015C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F8E6A-C236-44AD-AB79-1DD5BCEA1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F9186-3F96-475D-BDA7-A5E846153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4F69B9-7639-4615-9B57-617F77956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989-A988-48AF-BB73-60CE8488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89A-1635-4079-AFB3-57C8F64A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B13-AADF-4C81-91BA-8D36117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8CA-1975-42DA-9DE0-0E1257A0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FD9-AA97-4CDD-9719-D4E89E0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21C-E8B1-4270-AB6D-E4C09EF0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93E-708D-470B-8904-F718675F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F6E-D21E-4679-8921-731A114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79D-7F7B-44AB-A92A-520ED16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7D7-1558-492B-AED4-6E8BDFC7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310-6323-4EC0-A9C2-57939349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F58-E104-485A-A71F-985AD644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66024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3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solidFill>
            <a:srgbClr val="6d7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1440" y="94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Text Box 16"/>
          <p:cNvSpPr/>
          <p:nvPr/>
        </p:nvSpPr>
        <p:spPr>
          <a:xfrm>
            <a:off x="4133880" y="6235560"/>
            <a:ext cx="4781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C66958-2F63-4EA3-9E25-6B8D6902FE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ug 29, 2007 TPTF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E0D-B242-4D21-9CD6-255F1629D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155600" y="6432480"/>
            <a:ext cx="20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solidFill>
            <a:srgbClr val="6d7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1440" y="94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791320" y="64450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urse Ti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3543480" y="6432480"/>
            <a:ext cx="2071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E815C6B-7EF4-43E4-9A9C-EFE3B781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logo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51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3"/>
          <a:stretch/>
        </p:blipFill>
        <p:spPr>
          <a:xfrm>
            <a:off x="1952640" y="0"/>
            <a:ext cx="2120760" cy="990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9"/>
          <p:cNvSpPr/>
          <p:nvPr/>
        </p:nvSpPr>
        <p:spPr>
          <a:xfrm>
            <a:off x="4076640" y="0"/>
            <a:ext cx="506736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5362560" y="29520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809720" y="2028960"/>
            <a:ext cx="617220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Education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Course Tit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Presenter Name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Presenter Title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ly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22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ider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dal.ercot.com/training/locations/index.html#a114222" TargetMode="External"/><Relationship Id="rId2" Type="http://schemas.openxmlformats.org/officeDocument/2006/relationships/hyperlink" Target="http://nodal.ercot.com/training/locations/index.html" TargetMode="External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1" name="Picture 7" descr="logo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57360" y="2028960"/>
            <a:ext cx="79311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rket Engagement and Readiness (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T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gust 29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2"/>
          <a:stretch/>
        </p:blipFill>
        <p:spPr>
          <a:xfrm>
            <a:off x="1952640" y="0"/>
            <a:ext cx="2120760" cy="990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4"/>
          <p:cNvSpPr/>
          <p:nvPr/>
        </p:nvSpPr>
        <p:spPr>
          <a:xfrm>
            <a:off x="4076640" y="0"/>
            <a:ext cx="506736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5362560" y="29520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coming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Train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2"/>
          <p:cNvGrpSpPr/>
          <p:nvPr/>
        </p:nvGrpSpPr>
        <p:grpSpPr>
          <a:xfrm>
            <a:off x="4130640" y="2475000"/>
            <a:ext cx="4500360" cy="1176120"/>
            <a:chOff x="4130640" y="2475000"/>
            <a:chExt cx="4500360" cy="1176120"/>
          </a:xfrm>
        </p:grpSpPr>
        <p:grpSp>
          <p:nvGrpSpPr>
            <p:cNvPr id="201" name="Group 21"/>
            <p:cNvGrpSpPr/>
            <p:nvPr/>
          </p:nvGrpSpPr>
          <p:grpSpPr>
            <a:xfrm>
              <a:off x="4130640" y="2475000"/>
              <a:ext cx="4500360" cy="1176120"/>
              <a:chOff x="4130640" y="2475000"/>
              <a:chExt cx="4500360" cy="1176120"/>
            </a:xfrm>
          </p:grpSpPr>
          <p:pic>
            <p:nvPicPr>
              <p:cNvPr id="202" name="Picture 9" descr="Number-48-Texas-Map-Nodes"/>
              <p:cNvPicPr/>
              <p:nvPr/>
            </p:nvPicPr>
            <p:blipFill>
              <a:blip r:embed="rId1"/>
              <a:stretch/>
            </p:blipFill>
            <p:spPr>
              <a:xfrm>
                <a:off x="7557840" y="2509920"/>
                <a:ext cx="10731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Picture 10" descr="Number-34c-ERCOT-Congestion"/>
              <p:cNvPicPr/>
              <p:nvPr/>
            </p:nvPicPr>
            <p:blipFill>
              <a:blip r:embed="rId2"/>
              <a:stretch/>
            </p:blipFill>
            <p:spPr>
              <a:xfrm>
                <a:off x="4130640" y="2502000"/>
                <a:ext cx="1074600" cy="10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Picture 11" descr="MCj04131380000[1]"/>
              <p:cNvPicPr/>
              <p:nvPr/>
            </p:nvPicPr>
            <p:blipFill>
              <a:blip r:embed="rId3"/>
              <a:stretch/>
            </p:blipFill>
            <p:spPr>
              <a:xfrm>
                <a:off x="5624280" y="2475000"/>
                <a:ext cx="16779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 Box 17"/>
              <p:cNvSpPr/>
              <p:nvPr/>
            </p:nvSpPr>
            <p:spPr>
              <a:xfrm>
                <a:off x="5392440" y="3246480"/>
                <a:ext cx="152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rket 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12"/>
            <p:cNvSpPr/>
            <p:nvPr/>
          </p:nvSpPr>
          <p:spPr>
            <a:xfrm>
              <a:off x="4838400" y="2514240"/>
              <a:ext cx="338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Nodal Market Tran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Progress Rep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6760" y="1042920"/>
          <a:ext cx="8675640" cy="4848120"/>
        </p:xfrm>
        <a:graphic>
          <a:graphicData uri="http://schemas.openxmlformats.org/drawingml/2006/table">
            <a:tbl>
              <a:tblPr/>
              <a:tblGrid>
                <a:gridCol w="1990800"/>
                <a:gridCol w="714240"/>
                <a:gridCol w="676440"/>
                <a:gridCol w="990360"/>
                <a:gridCol w="743040"/>
                <a:gridCol w="1095480"/>
                <a:gridCol w="863640"/>
                <a:gridCol w="798480"/>
                <a:gridCol w="803160"/>
              </a:tblGrid>
              <a:tr h="365760"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Sub-Group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Room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Based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4028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: The Bas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 of L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To Nodal Mark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B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– 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E QSE 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Model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ettlement 3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288" descr="MCj04039650000[1]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3857760" y="178740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8" descr="MCj04039650000[1]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3857760" y="221616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88" descr="MCj04039650000[1]"/>
          <p:cNvPicPr/>
          <p:nvPr/>
        </p:nvPicPr>
        <p:blipFill>
          <a:blip r:embed="rId3">
            <a:lum contrast="-60000"/>
          </a:blip>
          <a:stretch/>
        </p:blipFill>
        <p:spPr>
          <a:xfrm>
            <a:off x="3852720" y="270360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88" descr="MCj04039650000[1]"/>
          <p:cNvPicPr/>
          <p:nvPr/>
        </p:nvPicPr>
        <p:blipFill>
          <a:blip r:embed="rId4">
            <a:lum contrast="-60000"/>
          </a:blip>
          <a:stretch/>
        </p:blipFill>
        <p:spPr>
          <a:xfrm>
            <a:off x="3852720" y="320688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88" descr="MCj04039650000[1]"/>
          <p:cNvPicPr/>
          <p:nvPr/>
        </p:nvPicPr>
        <p:blipFill>
          <a:blip r:embed="rId5">
            <a:lum contrast="-60000"/>
          </a:blip>
          <a:stretch/>
        </p:blipFill>
        <p:spPr>
          <a:xfrm>
            <a:off x="3840120" y="366408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88" descr="MCj04039650000[1]"/>
          <p:cNvPicPr/>
          <p:nvPr/>
        </p:nvPicPr>
        <p:blipFill>
          <a:blip r:embed="rId6">
            <a:lum contrast="-60000"/>
          </a:blip>
          <a:stretch/>
        </p:blipFill>
        <p:spPr>
          <a:xfrm>
            <a:off x="4767120" y="323064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88" descr="MCj04039650000[1]"/>
          <p:cNvPicPr/>
          <p:nvPr/>
        </p:nvPicPr>
        <p:blipFill>
          <a:blip r:embed="rId7">
            <a:lum contrast="-60000"/>
          </a:blip>
          <a:stretch/>
        </p:blipFill>
        <p:spPr>
          <a:xfrm>
            <a:off x="3044880" y="411156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88" descr="MCj04039650000[1]"/>
          <p:cNvPicPr/>
          <p:nvPr/>
        </p:nvPicPr>
        <p:blipFill>
          <a:blip r:embed="rId8">
            <a:lum contrast="-60000"/>
          </a:blip>
          <a:stretch/>
        </p:blipFill>
        <p:spPr>
          <a:xfrm>
            <a:off x="3048120" y="366408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88" descr="MCj04039650000[1]"/>
          <p:cNvPicPr/>
          <p:nvPr/>
        </p:nvPicPr>
        <p:blipFill>
          <a:blip r:embed="rId9">
            <a:lum contrast="-60000"/>
          </a:blip>
          <a:stretch/>
        </p:blipFill>
        <p:spPr>
          <a:xfrm>
            <a:off x="3049560" y="321624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88" descr="MCj04039650000[1]"/>
          <p:cNvPicPr/>
          <p:nvPr/>
        </p:nvPicPr>
        <p:blipFill>
          <a:blip r:embed="rId10">
            <a:lum contrast="-60000"/>
          </a:blip>
          <a:stretch/>
        </p:blipFill>
        <p:spPr>
          <a:xfrm>
            <a:off x="3049560" y="271764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88" descr="MCj04039650000[1]"/>
          <p:cNvPicPr/>
          <p:nvPr/>
        </p:nvPicPr>
        <p:blipFill>
          <a:blip r:embed="rId11">
            <a:lum contrast="-60000"/>
          </a:blip>
          <a:stretch/>
        </p:blipFill>
        <p:spPr>
          <a:xfrm>
            <a:off x="3054240" y="222732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88" descr="MCj04039650000[1]"/>
          <p:cNvPicPr/>
          <p:nvPr/>
        </p:nvPicPr>
        <p:blipFill>
          <a:blip r:embed="rId12">
            <a:lum contrast="-60000"/>
          </a:blip>
          <a:stretch/>
        </p:blipFill>
        <p:spPr>
          <a:xfrm>
            <a:off x="3054240" y="179532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88" descr="MCj04039650000[1]"/>
          <p:cNvPicPr/>
          <p:nvPr/>
        </p:nvPicPr>
        <p:blipFill>
          <a:blip r:embed="rId13">
            <a:lum contrast="-60000"/>
          </a:blip>
          <a:stretch/>
        </p:blipFill>
        <p:spPr>
          <a:xfrm>
            <a:off x="4749840" y="177948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8" descr="MCj04039650000[1]"/>
          <p:cNvPicPr/>
          <p:nvPr/>
        </p:nvPicPr>
        <p:blipFill>
          <a:blip r:embed="rId14">
            <a:lum contrast="-60000"/>
          </a:blip>
          <a:stretch/>
        </p:blipFill>
        <p:spPr>
          <a:xfrm>
            <a:off x="4749840" y="223668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8" descr="MCj04039650000[1]"/>
          <p:cNvPicPr/>
          <p:nvPr/>
        </p:nvPicPr>
        <p:blipFill>
          <a:blip r:embed="rId15">
            <a:lum contrast="-60000"/>
          </a:blip>
          <a:stretch/>
        </p:blipFill>
        <p:spPr>
          <a:xfrm>
            <a:off x="6686640" y="179064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88" descr="MCj04039650000[1]"/>
          <p:cNvPicPr/>
          <p:nvPr/>
        </p:nvPicPr>
        <p:blipFill>
          <a:blip r:embed="rId16">
            <a:lum contrast="-60000"/>
          </a:blip>
          <a:stretch/>
        </p:blipFill>
        <p:spPr>
          <a:xfrm>
            <a:off x="6694560" y="223848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86" descr="MCj04039650000[1]"/>
          <p:cNvPicPr/>
          <p:nvPr/>
        </p:nvPicPr>
        <p:blipFill>
          <a:blip r:embed="rId17"/>
          <a:stretch/>
        </p:blipFill>
        <p:spPr>
          <a:xfrm>
            <a:off x="3841920" y="455292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8" descr="MCj04039650000[1]"/>
          <p:cNvPicPr/>
          <p:nvPr/>
        </p:nvPicPr>
        <p:blipFill>
          <a:blip r:embed="rId18">
            <a:lum contrast="-60000"/>
          </a:blip>
          <a:stretch/>
        </p:blipFill>
        <p:spPr>
          <a:xfrm>
            <a:off x="8325000" y="178128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88" descr="MCj04039650000[1]"/>
          <p:cNvPicPr/>
          <p:nvPr/>
        </p:nvPicPr>
        <p:blipFill>
          <a:blip r:embed="rId19">
            <a:lum contrast="-60000"/>
          </a:blip>
          <a:stretch/>
        </p:blipFill>
        <p:spPr>
          <a:xfrm>
            <a:off x="8313840" y="268596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88" descr="MCj04039650000[1]"/>
          <p:cNvPicPr/>
          <p:nvPr/>
        </p:nvPicPr>
        <p:blipFill>
          <a:blip r:embed="rId20">
            <a:lum contrast="-60000"/>
          </a:blip>
          <a:stretch/>
        </p:blipFill>
        <p:spPr>
          <a:xfrm>
            <a:off x="6723000" y="320976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8" descr="MCj04039650000[1]"/>
          <p:cNvPicPr/>
          <p:nvPr/>
        </p:nvPicPr>
        <p:blipFill>
          <a:blip r:embed="rId21">
            <a:lum contrast="-60000"/>
          </a:blip>
          <a:stretch/>
        </p:blipFill>
        <p:spPr>
          <a:xfrm>
            <a:off x="3836880" y="413388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8" descr="MCj04039650000[1]"/>
          <p:cNvPicPr/>
          <p:nvPr/>
        </p:nvPicPr>
        <p:blipFill>
          <a:blip r:embed="rId22">
            <a:lum contrast="-60000"/>
          </a:blip>
          <a:stretch/>
        </p:blipFill>
        <p:spPr>
          <a:xfrm>
            <a:off x="3046320" y="455292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88" descr="MCj04039650000[1]"/>
          <p:cNvPicPr/>
          <p:nvPr/>
        </p:nvPicPr>
        <p:blipFill>
          <a:blip r:embed="rId23">
            <a:lum contrast="-60000"/>
          </a:blip>
          <a:stretch/>
        </p:blipFill>
        <p:spPr>
          <a:xfrm>
            <a:off x="3046320" y="545796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86" descr="MCj04039650000[1]"/>
          <p:cNvPicPr/>
          <p:nvPr/>
        </p:nvPicPr>
        <p:blipFill>
          <a:blip r:embed="rId24"/>
          <a:stretch/>
        </p:blipFill>
        <p:spPr>
          <a:xfrm>
            <a:off x="3841920" y="545796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86" descr="MCj04039650000[1]"/>
          <p:cNvPicPr/>
          <p:nvPr/>
        </p:nvPicPr>
        <p:blipFill>
          <a:blip r:embed="rId25"/>
          <a:stretch/>
        </p:blipFill>
        <p:spPr>
          <a:xfrm>
            <a:off x="3060720" y="5000760"/>
            <a:ext cx="374760" cy="376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86" descr="MCj04039650000[1]"/>
          <p:cNvPicPr/>
          <p:nvPr/>
        </p:nvPicPr>
        <p:blipFill>
          <a:blip r:embed="rId26"/>
          <a:stretch/>
        </p:blipFill>
        <p:spPr>
          <a:xfrm>
            <a:off x="3860640" y="5000760"/>
            <a:ext cx="3747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Progress Rep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66760" y="1042920"/>
          <a:ext cx="8675640" cy="2506680"/>
        </p:xfrm>
        <a:graphic>
          <a:graphicData uri="http://schemas.openxmlformats.org/drawingml/2006/table">
            <a:tbl>
              <a:tblPr/>
              <a:tblGrid>
                <a:gridCol w="1990800"/>
                <a:gridCol w="714240"/>
                <a:gridCol w="676440"/>
                <a:gridCol w="990360"/>
                <a:gridCol w="743040"/>
                <a:gridCol w="1095480"/>
                <a:gridCol w="863640"/>
                <a:gridCol w="798480"/>
                <a:gridCol w="803160"/>
              </a:tblGrid>
              <a:tr h="365760"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Sub-Group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Room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Based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3765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form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/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686" descr="MCj04039650000[1]"/>
          <p:cNvPicPr/>
          <p:nvPr/>
        </p:nvPicPr>
        <p:blipFill>
          <a:blip r:embed="rId1"/>
          <a:stretch/>
        </p:blipFill>
        <p:spPr>
          <a:xfrm>
            <a:off x="3117960" y="179064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86" descr="MCj04039650000[1]"/>
          <p:cNvPicPr/>
          <p:nvPr/>
        </p:nvPicPr>
        <p:blipFill>
          <a:blip r:embed="rId2"/>
          <a:stretch/>
        </p:blipFill>
        <p:spPr>
          <a:xfrm>
            <a:off x="3117960" y="223848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86" descr="MCj04039650000[1]"/>
          <p:cNvPicPr/>
          <p:nvPr/>
        </p:nvPicPr>
        <p:blipFill>
          <a:blip r:embed="rId3"/>
          <a:stretch/>
        </p:blipFill>
        <p:spPr>
          <a:xfrm>
            <a:off x="3117960" y="269568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86" descr="MCj04039650000[1]"/>
          <p:cNvPicPr/>
          <p:nvPr/>
        </p:nvPicPr>
        <p:blipFill>
          <a:blip r:embed="rId4"/>
          <a:stretch/>
        </p:blipFill>
        <p:spPr>
          <a:xfrm>
            <a:off x="3117960" y="3143160"/>
            <a:ext cx="3744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Upcoming Cour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66760" y="1127160"/>
          <a:ext cx="8561160" cy="1131840"/>
        </p:xfrm>
        <a:graphic>
          <a:graphicData uri="http://schemas.openxmlformats.org/drawingml/2006/table">
            <a:tbl>
              <a:tblPr/>
              <a:tblGrid>
                <a:gridCol w="3111480"/>
                <a:gridCol w="2922480"/>
                <a:gridCol w="2527200"/>
              </a:tblGrid>
              <a:tr h="40212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½ –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101 for Wind Gen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" descr="Coming Attractions"/>
          <p:cNvPicPr/>
          <p:nvPr/>
        </p:nvPicPr>
        <p:blipFill>
          <a:blip r:embed="rId1"/>
          <a:stretch/>
        </p:blipFill>
        <p:spPr>
          <a:xfrm>
            <a:off x="2286000" y="2692440"/>
            <a:ext cx="399096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New Relea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6400" y="1276200"/>
            <a:ext cx="43830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a Course Scheduled for Sept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livery of course scheduled for October in Aus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day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1 – (Course Introduction, Fundamentals of the Nodal Market, Day-Ahead Mark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2 – (Day-Ahead Market , Transmission Security Analysis &amp; RUC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3 – (Transmission Security Analysis &amp; RUC, Adjustment Perio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4 – (Adjustment Period , Operating Perio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5 – (Operating Period, Abnormal Emergency Opera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be delivered once a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702320" y="2139840"/>
            <a:ext cx="44053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livery – Progress Rep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9960" y="1231920"/>
          <a:ext cx="8272440" cy="4254480"/>
        </p:xfrm>
        <a:graphic>
          <a:graphicData uri="http://schemas.openxmlformats.org/drawingml/2006/table">
            <a:tbl>
              <a:tblPr/>
              <a:tblGrid>
                <a:gridCol w="1960560"/>
                <a:gridCol w="1255680"/>
                <a:gridCol w="1295640"/>
                <a:gridCol w="1261800"/>
                <a:gridCol w="1165320"/>
                <a:gridCol w="1333440"/>
              </a:tblGrid>
              <a:tr h="413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o. of Instructor Led se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Pas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R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RCOT Nodal 101: The Ba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structor 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Web 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Test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616/1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82/5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2098/2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conomics of L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structor 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605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itions to Nodal 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47/263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SE 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structor 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124/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3019320" y="5695920"/>
            <a:ext cx="3753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ILT - No ex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 WBT – No exam – Completed reviewing 75% or more of the sl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livery – Scheduled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5160" y="898560"/>
            <a:ext cx="34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5160" y="4621320"/>
            <a:ext cx="347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12760" y="1011240"/>
          <a:ext cx="8539200" cy="3749760"/>
        </p:xfrm>
        <a:graphic>
          <a:graphicData uri="http://schemas.openxmlformats.org/drawingml/2006/table">
            <a:tbl>
              <a:tblPr/>
              <a:tblGrid>
                <a:gridCol w="2828880"/>
                <a:gridCol w="5710320"/>
              </a:tblGrid>
              <a:tr h="34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: The Bas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11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Austin (Austin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conomics of L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17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ERCOT Austin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Austin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24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z Energy (Houst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8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Suez Energy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Houst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2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 Energy (Dall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27-28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Point Energy (Houston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2-3, 20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um (Dallas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2-26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mmons Center (Austin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4" name="Picture 108" descr="j0355427[1]"/>
          <p:cNvPicPr/>
          <p:nvPr/>
        </p:nvPicPr>
        <p:blipFill>
          <a:blip r:embed="rId3"/>
          <a:stretch/>
        </p:blipFill>
        <p:spPr>
          <a:xfrm>
            <a:off x="4933800" y="1844640"/>
            <a:ext cx="1814760" cy="150192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22"/>
          <p:cNvGrpSpPr/>
          <p:nvPr/>
        </p:nvGrpSpPr>
        <p:grpSpPr>
          <a:xfrm>
            <a:off x="2168640" y="5103720"/>
            <a:ext cx="4500360" cy="1176120"/>
            <a:chOff x="2168640" y="5103720"/>
            <a:chExt cx="4500360" cy="1176120"/>
          </a:xfrm>
        </p:grpSpPr>
        <p:grpSp>
          <p:nvGrpSpPr>
            <p:cNvPr id="256" name="Group 21"/>
            <p:cNvGrpSpPr/>
            <p:nvPr/>
          </p:nvGrpSpPr>
          <p:grpSpPr>
            <a:xfrm>
              <a:off x="2168640" y="5103720"/>
              <a:ext cx="4500360" cy="1176120"/>
              <a:chOff x="2168640" y="5103720"/>
              <a:chExt cx="4500360" cy="1176120"/>
            </a:xfrm>
          </p:grpSpPr>
          <p:pic>
            <p:nvPicPr>
              <p:cNvPr id="257" name="Picture 9" descr="Number-48-Texas-Map-Nodes"/>
              <p:cNvPicPr/>
              <p:nvPr/>
            </p:nvPicPr>
            <p:blipFill>
              <a:blip r:embed="rId4"/>
              <a:stretch/>
            </p:blipFill>
            <p:spPr>
              <a:xfrm>
                <a:off x="5595840" y="5138640"/>
                <a:ext cx="10731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10" descr="Number-34c-ERCOT-Congestion"/>
              <p:cNvPicPr/>
              <p:nvPr/>
            </p:nvPicPr>
            <p:blipFill>
              <a:blip r:embed="rId5"/>
              <a:stretch/>
            </p:blipFill>
            <p:spPr>
              <a:xfrm>
                <a:off x="2168640" y="5130720"/>
                <a:ext cx="1074600" cy="10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11" descr="MCj04131380000[1]"/>
              <p:cNvPicPr/>
              <p:nvPr/>
            </p:nvPicPr>
            <p:blipFill>
              <a:blip r:embed="rId6"/>
              <a:stretch/>
            </p:blipFill>
            <p:spPr>
              <a:xfrm>
                <a:off x="3662280" y="5103720"/>
                <a:ext cx="16779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17"/>
              <p:cNvSpPr/>
              <p:nvPr/>
            </p:nvSpPr>
            <p:spPr>
              <a:xfrm>
                <a:off x="3430440" y="5875200"/>
                <a:ext cx="152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rket 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12"/>
            <p:cNvSpPr/>
            <p:nvPr/>
          </p:nvSpPr>
          <p:spPr>
            <a:xfrm>
              <a:off x="2876400" y="5143320"/>
              <a:ext cx="338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Nodal Market Tran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65240" y="2828880"/>
            <a:ext cx="424836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2916360" y="2503440"/>
            <a:ext cx="2714400" cy="20368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6"/>
          <p:cNvSpPr/>
          <p:nvPr/>
        </p:nvSpPr>
        <p:spPr>
          <a:xfrm>
            <a:off x="4111560" y="22795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2854800" y="193500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2"/>
          <p:cNvGrpSpPr/>
          <p:nvPr/>
        </p:nvGrpSpPr>
        <p:grpSpPr>
          <a:xfrm>
            <a:off x="2311560" y="4684680"/>
            <a:ext cx="4500360" cy="1176120"/>
            <a:chOff x="2311560" y="4684680"/>
            <a:chExt cx="4500360" cy="1176120"/>
          </a:xfrm>
        </p:grpSpPr>
        <p:grpSp>
          <p:nvGrpSpPr>
            <p:cNvPr id="268" name="Group 21"/>
            <p:cNvGrpSpPr/>
            <p:nvPr/>
          </p:nvGrpSpPr>
          <p:grpSpPr>
            <a:xfrm>
              <a:off x="2311560" y="4684680"/>
              <a:ext cx="4500360" cy="1176120"/>
              <a:chOff x="2311560" y="4684680"/>
              <a:chExt cx="4500360" cy="1176120"/>
            </a:xfrm>
          </p:grpSpPr>
          <p:pic>
            <p:nvPicPr>
              <p:cNvPr id="269" name="Picture 9" descr="Number-48-Texas-Map-Nodes"/>
              <p:cNvPicPr/>
              <p:nvPr/>
            </p:nvPicPr>
            <p:blipFill>
              <a:blip r:embed="rId2"/>
              <a:stretch/>
            </p:blipFill>
            <p:spPr>
              <a:xfrm>
                <a:off x="5738760" y="4719600"/>
                <a:ext cx="10731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10" descr="Number-34c-ERCOT-Congestion"/>
              <p:cNvPicPr/>
              <p:nvPr/>
            </p:nvPicPr>
            <p:blipFill>
              <a:blip r:embed="rId3"/>
              <a:stretch/>
            </p:blipFill>
            <p:spPr>
              <a:xfrm>
                <a:off x="2311560" y="4711680"/>
                <a:ext cx="1074600" cy="10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Picture 11" descr="MCj04131380000[1]"/>
              <p:cNvPicPr/>
              <p:nvPr/>
            </p:nvPicPr>
            <p:blipFill>
              <a:blip r:embed="rId4"/>
              <a:stretch/>
            </p:blipFill>
            <p:spPr>
              <a:xfrm>
                <a:off x="3805200" y="4684680"/>
                <a:ext cx="16779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3573360" y="5456160"/>
                <a:ext cx="152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rket 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12"/>
            <p:cNvSpPr/>
            <p:nvPr/>
          </p:nvSpPr>
          <p:spPr>
            <a:xfrm>
              <a:off x="3019320" y="4724280"/>
              <a:ext cx="338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Nodal Market Tran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Nodal Training Group</dc:creator>
  <dc:description/>
  <dc:language>en-US</dc:language>
  <cp:lastModifiedBy>thailu</cp:lastModifiedBy>
  <dcterms:modified xsi:type="dcterms:W3CDTF">2007-08-29T20:07:21Z</dcterms:modified>
  <cp:revision>850</cp:revision>
  <dc:subject/>
  <dc:title>Nodal Training Template</dc:title>
</cp:coreProperties>
</file>