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16F2-D520-4FB6-B278-911BA3D6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1DCE-4071-4ADA-BE64-CC959829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6EC5-EB32-414C-859E-D002C462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CF94-7C99-4DB6-B75D-08D49C0D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0385-1ADC-4EFA-85A4-39B8EF23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CF95-AAE7-4A1B-B2DC-5CDC0932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A32E-999A-4918-9FC4-6E0BD18F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A374-4789-4A97-9D69-4FA339CB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2691-0C19-402A-8478-D2A76F08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C5C0-05BA-49CA-91E1-4D260C6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31A4-A37E-4EF1-874F-4605A405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7832-1D54-45DD-9EC2-D5EF4716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3006-3DA3-4F14-8397-DEE9864A6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A93-2EB2-4623-96F0-78A1D3E55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ugust 23, 20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Project Prioritization and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Status and Funding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 Review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Project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that have been implemented – April through J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 1 &amp;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7224-C36D-4E56-A988-96B7D23CB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4214880"/>
            <a:ext cx="8076960" cy="121896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Prioritization Approval Stat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PRS on 6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TAC on 6/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 in conjunction with ERCOT 2008 budget review on 7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Funding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2008 project budget submi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7.5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  5.3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d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2.8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on 7/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ion of projects to 20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$5.3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s to be accelerated sti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ing determ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2008 project 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27.5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vised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07160" y="5746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224160"/>
            <a:ext cx="8076960" cy="990720"/>
          </a:xfrm>
          <a:prstGeom prst="rect">
            <a:avLst/>
          </a:prstGeom>
          <a:solidFill>
            <a:srgbClr val="ffff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BD47-7559-4EEB-9580-553F6F9478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40007 – SCR727 Phase II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31_01 Spectel Hotline System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40090_02 Operator Training Simulator (OTS)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40038: TX SET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50059:  Siebel Transition to 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50123_03: Document Management P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CF8C-A9A3-4C69-B1DA-3F0F2EBEBC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 Stat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by Board of Directors on 7/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by Board of Directors on 7/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NOGR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with No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RRs 3, 4, 6, 7, 8a, 8b, 8c, 8d, 8e, 8f, 8g, 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with No Impact but an assumption to be confirmed with O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RR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with Impacts that will be absorbed in current budget and schedul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ommended for grey-box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RRs 1, 2,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Items in this 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77 (potentially – depends on PRS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7E2F-9696-4C77-AE37-F99F0E6CB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7-08-20T16:07:06Z</dcterms:modified>
  <cp:revision>108</cp:revision>
  <dc:subject/>
  <dc:title>Instructions</dc:title>
</cp:coreProperties>
</file>