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73D0-4EA6-4ED2-850B-F475FA2A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9384-C237-49B7-B558-3B51422B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9B9D-A3A3-4FC1-AA29-F7C6A530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2834-53C8-4182-AD1C-3DA009EC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7F3F-A294-40E3-8F6E-B7BEA123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BEA4-7BAA-4EE5-BB50-B517D9EF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28EA-1D9B-4ABA-AE9C-8DB09D9B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AB1E-452D-4C81-BBE8-C0AF56C7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8B7A-F949-4CB9-A5A6-EEDAC4AC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F2FC-7571-4B97-9340-BDA81FBC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80CB-DB00-4F92-830E-F64F3A0A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E093-1330-4828-A5E8-F614FD8D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387F-D3E0-49ED-8C83-D7032E1B4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aR Deployment – 7/2/07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2320" y="3733560"/>
            <a:ext cx="56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eve Kre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Staf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RRS Deployment on 7/2/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quence of Events and System 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ystem loses about 1000 MW of Generation Resources at about 19: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 a potential NERC Reportable DCS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Operator makes a hot line call to all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DI issued to deploy all LaaRs that are supplying R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en QSEs have LaaR RRS obligations which total 115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ial start time for the deployment is 19:38:56 which coincides with the end of the Operator’s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aR Response at 10 minute mark is 983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aRs reach 95% of system requirement at 12.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system response was 1184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F9ED-C656-498C-9D54-C578F07162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RRS Deployment on 7/2/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764D-97F6-4757-B2DE-D0133F6BA9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RRS Deployment on 7/2/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iance and System Operations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QSE portfolio responses meet 10 minute deployment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dent Reports are issued to remaining six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 and System Operation Investigations are initiated with six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review of initial telemetry completed for all six QSEs on 7/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confirms that three QSEs failed to reach 95% of obligation in 1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three QSEs will require additional review of ID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Review and Prepare for Implementation of PRR7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A009-54B2-4CCD-B4FB-1A954DC2A9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R714 – Modifications to LaaR Testing and Qualif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ctual Interruption as part of Initial Qualific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n Unannounced Test of all UFR type LaaRs at least once every 365 days (actual deployment can be used in lieu of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conditions that would disqualify a LaaR from providing Ancilla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0A1E-932B-4455-8325-B477D341C8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R714 – Modifications to LaaR Testing and Qualif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Qualification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hange is that simulated testing is no longer per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Rs will be deployed and require an actual interruption of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Interruption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o work with QSEs to identify those LaaRs that require testing and to group LaaR deployments for each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Rs that have successfully deployed in last year may use those deployments in lieu of annu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test procedure is under both internal and external review and will be distributed to Market Participants prior to start of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Rs must be in the QSEs Resource Plan and shown as on-line and active with UFR enabled to be 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R will receive a recall instruction at the end of the test and have three hours to recover before the QSE must replace or arrange for additio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D94E-159F-495C-B157-FB7D63C49C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R714 – Modifications to LaaR Testing and Qualif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Interruption Test (con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deployment may be done with a portfolio of LaaRs, evaluations will be made on an individual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LaaR that responds with at least 95% of telemetered load value will be considered to have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aRs that do not pass the test will be subject to additional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aR Obligations for each QSE will be adjusted to reflect deployments and recovery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6144-82CF-40B2-B3E5-C4991D3B30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8/16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teve Krein</cp:lastModifiedBy>
  <dcterms:modified xsi:type="dcterms:W3CDTF">2007-08-16T13:17:55Z</dcterms:modified>
  <cp:revision>29</cp:revision>
  <dc:subject/>
  <dc:title>Instructions</dc:title>
</cp:coreProperties>
</file>