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B2B-8F6C-4801-A60B-DAAB46E1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06A-1DD9-4FEA-8822-0D6FCCCA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C1-95E4-4199-B05B-843C1BBF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184-E0E2-4EF2-A683-538AD539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4E1-A78F-42D0-A490-4A336F9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67E-0607-43FD-9581-0A06E73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3F2-08F6-43CB-9C5C-3110D1A1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468-FA5E-4A23-ABC8-81DBB8A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AD3-B4AD-48E2-8B84-47AC9CC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D5F-198E-437C-923B-1634AD3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B39-1587-4C57-8220-BC38174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9D8-21B0-4FD9-A215-0299369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FB2F-90B5-4329-BF64-8CDE4453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16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6960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rovements to the process of bringing a unit on-line and ramping to full 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ROS by the PDC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74760"/>
            <a:ext cx="86868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31760"/>
            <a:ext cx="86104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00160"/>
            <a:ext cx="86104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to ramp a medium to large unit from off-line to full power over a ten minute period causes high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reates the need for unnecessary deployments of Regulation Energy and contributes to poor ERCOT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nits with governors back down [600 MW coal unit  goes down 20MW@60.1hz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mmended practice is to schedule the ramp over several 15 minute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2971800" cy="192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Control Performance to NERC CPS1 Standard (July ’07 un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2076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588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100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9800" y="6019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6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64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52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40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2800" y="594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August 14 and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explore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is in the process of completing an update to the Disturbance Performance Summary for the first half of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September 11 and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8-10T16:07:34Z</dcterms:modified>
  <cp:revision>19</cp:revision>
  <dc:subject/>
  <dc:title>ROS Report</dc:title>
</cp:coreProperties>
</file>