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BEA920C-2C79-4F1B-9F28-C4748C27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8/16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; June 12 Joint PRS/TPT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5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3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Must Run Services Real-Time Settlements Requirements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Energy Settlements Requirements v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-Ahead Market (DAM) Energy Settlements Requirements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ggregation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Settlements Conceptual System Design (CSD)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Incremental Energy Cost Settlement CSD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gibility Process for Settlements v1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s CSD v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Transfer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Unit Commitment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Participant Registration System CSD v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Revenue Rights (CRR) Auction Revenue Disbursement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Balancing Account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CRR Settlements Requir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CRR Settlements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Monitoring and Management Requirements v1.2 and CSD v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Whitepaper, Combined-Cycle Unit Modeling in the Nod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Whitepaper, Split Generatio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s 1, 2, and 3 of the SCED Market Participant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3 Release 5 – SCED Testing Establishing Generating Resource Offer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for Nodal EDS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ransition Outage Management Guideline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ERCOT Nodal Transition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TPTF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NPRRs included in Baseline 1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the IDA whitepapers and Change Items included in Baseline 1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that the IDA whitepapers and Change Items included in Baseline 2 are necessary for “go-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synchronizing PRR698, Remove Default Qualified Scheduling Entity (QSE) Pro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for Modeling of Private Use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68, Settlement Clarifications to Startup Eligibility, Decommitment payments and Corrections to RUC formu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69, Changes to SUR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0, Changes to DAM clearing start time; Allocation of McCamey Flowgate Rights in Day-Ahead Trade Vali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1, Trade Vali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ts on NPRR075, Corrections to Section 9 – Settlements Clean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73, Update of Sections 6.6 and 6.7 Due to Requirements, Use Cases and CS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for Synchronization of EECP Event Realignment to replace NPRR0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045, Wind Power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27-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through examples and discuss comment timeframe for the Data Archival Report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to COMS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n Settlements Mini-Market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Proje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updates for CRR Requirements &amp; CSD through Baselin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A Proje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disposition of comments for External Interfaces Spec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T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process for resolving testing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for tracking error resolution in the context of metrics and Readiness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1 testing deliv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urriculum document- discuss prerequisite training for 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reasonableness of L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for the Nodal Operating Gu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NPRR modifying language for Electrical Bus in Section 3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074, Revisions to Monitoring and Qualification Tests in Section 8, Performance Monitoring and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076, Synchronization of Emergency Electric Curtailment Plan (EECP) Event Re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R727, Process for Transition to Nodal Market Protocol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Carrie Tucker</cp:lastModifiedBy>
  <dcterms:modified xsi:type="dcterms:W3CDTF">2007-08-02T19:14:05Z</dcterms:modified>
  <cp:revision>139</cp:revision>
  <dc:subject/>
  <dc:title>Texas Nodal</dc:title>
</cp:coreProperties>
</file>