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1814-F32C-4901-826E-FB8BFB761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560" y="3672720"/>
            <a:ext cx="8381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05DD-4EB5-4B12-8613-FC8801C38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56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972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7005-3EEC-46C9-B858-8CED7BC23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560" y="367272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8480" y="367272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2400" y="367272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F533-F478-4A25-8E68-4E09CC327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56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FB42-4399-4276-8E14-B818C0EDD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972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672720"/>
            <a:ext cx="8381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560" y="3672720"/>
            <a:ext cx="8381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56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972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560" y="367272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38480" y="367272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2400" y="3672720"/>
            <a:ext cx="26985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D3A24-7B9C-4617-B67E-F04319B50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4C77-FE8C-48A2-AEC6-3315C7D6D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0A71-8B82-490E-A00C-87BD69366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78F0-9D35-4FFC-B0BF-2EA0A06BE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56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8CD00-BDCA-42E8-8E13-64A9013AD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972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0D1C-D475-4BD0-921C-8051A3103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560" y="3672720"/>
            <a:ext cx="8381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E480-E589-42BA-826B-4B750E68E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C500-E343-4A89-810B-229553754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80880" y="990720"/>
            <a:ext cx="8305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505320" y="6553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gust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79725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RL and HSL what is intent of protocol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O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ugust 16, 2007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880" y="9140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5 (4) Generation Resources required to provide VSS whose installations initially began operations  on or after September 1, 1999, except as noted below, must have and maintain a URL which has an over-excited (lagging) power factor capability of 0.95 or less and an under-excited (leading) power factor capability of 0.95 or less, both determined at the generating unit'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ximum net pow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be supplied to the transmission grid and at the transmission system Voltage Profile established by ERCOT, and both measured at the point of interconnection to the TS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co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970F-BB97-474C-AAD0-C6A0C76E58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ther Protocol defined ter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Emergency Limit (HEL) - Limit established by the QSE describing the maximum temporary unsustainable energy production capability of the Resource. This limit must be achievable for a time stated by the QSE, but not less than 30 minut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Sustained Limit-(HSL for a Generation Resource)- Limit established by the QSE, continuously updated in Real Time, that describes the maximum sustained energy production capability of the Resourc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 Dependable Capability - The maximum sustained capability of a Resource as demonstrated by performance testing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Reactive Limit - The maximum quantity of Reactive Power that a Generation Resource is capable of providing at a 0.95 power factor at it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ximum real power capabil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D9CFD-88FA-41E2-BE7C-486FAC3481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URL and HS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66680" y="762120"/>
            <a:ext cx="7543800" cy="5866920"/>
            <a:chOff x="1066680" y="762120"/>
            <a:chExt cx="7543800" cy="5866920"/>
          </a:xfrm>
        </p:grpSpPr>
        <p:sp>
          <p:nvSpPr>
            <p:cNvPr id="93" name=""/>
            <p:cNvSpPr/>
            <p:nvPr/>
          </p:nvSpPr>
          <p:spPr>
            <a:xfrm>
              <a:off x="7106760" y="2286360"/>
              <a:ext cx="1503720" cy="1078920"/>
            </a:xfrm>
            <a:prstGeom prst="wedgeRoundRectCallout">
              <a:avLst>
                <a:gd name="adj1" fmla="val -70509"/>
                <a:gd name="adj2" fmla="val 9630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rmatur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urrent Constrai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63840" y="5550120"/>
              <a:ext cx="1503720" cy="1078920"/>
            </a:xfrm>
            <a:prstGeom prst="wedgeRoundRectCallout">
              <a:avLst>
                <a:gd name="adj1" fmla="val -10048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n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xcit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nstrai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414440" y="875520"/>
              <a:ext cx="720" cy="539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4017960"/>
              <a:ext cx="623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28000">
              <a:off x="1392480" y="1649160"/>
              <a:ext cx="4703760" cy="756720"/>
            </a:xfrm>
            <a:custGeom>
              <a:avLst/>
              <a:gdLst/>
              <a:ahLst/>
              <a:rect l="l" t="t" r="r" b="b"/>
              <a:pathLst>
                <a:path w="5580" h="930">
                  <a:moveTo>
                    <a:pt x="0" y="30"/>
                  </a:moveTo>
                  <a:cubicBezTo>
                    <a:pt x="600" y="15"/>
                    <a:pt x="1200" y="0"/>
                    <a:pt x="1800" y="30"/>
                  </a:cubicBezTo>
                  <a:cubicBezTo>
                    <a:pt x="2400" y="60"/>
                    <a:pt x="2970" y="60"/>
                    <a:pt x="3600" y="210"/>
                  </a:cubicBezTo>
                  <a:cubicBezTo>
                    <a:pt x="4230" y="360"/>
                    <a:pt x="5250" y="810"/>
                    <a:pt x="5580" y="9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414440" y="5263560"/>
              <a:ext cx="5263560" cy="546120"/>
            </a:xfrm>
            <a:custGeom>
              <a:avLst/>
              <a:gdLst/>
              <a:ahLst/>
              <a:rect l="l" t="t" r="r" b="b"/>
              <a:pathLst>
                <a:path w="5580" h="930">
                  <a:moveTo>
                    <a:pt x="0" y="30"/>
                  </a:moveTo>
                  <a:cubicBezTo>
                    <a:pt x="600" y="15"/>
                    <a:pt x="1200" y="0"/>
                    <a:pt x="1800" y="30"/>
                  </a:cubicBezTo>
                  <a:cubicBezTo>
                    <a:pt x="2400" y="60"/>
                    <a:pt x="2970" y="60"/>
                    <a:pt x="3600" y="210"/>
                  </a:cubicBezTo>
                  <a:cubicBezTo>
                    <a:pt x="4230" y="360"/>
                    <a:pt x="5250" y="810"/>
                    <a:pt x="5580" y="9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71040" y="2554200"/>
              <a:ext cx="747000" cy="2710080"/>
            </a:xfrm>
            <a:custGeom>
              <a:avLst/>
              <a:gdLst/>
              <a:ahLst/>
              <a:rect l="l" t="t" r="r" b="b"/>
              <a:pathLst>
                <a:path w="900" h="2520">
                  <a:moveTo>
                    <a:pt x="0" y="0"/>
                  </a:moveTo>
                  <a:cubicBezTo>
                    <a:pt x="285" y="300"/>
                    <a:pt x="570" y="600"/>
                    <a:pt x="720" y="900"/>
                  </a:cubicBezTo>
                  <a:cubicBezTo>
                    <a:pt x="870" y="1200"/>
                    <a:pt x="900" y="1530"/>
                    <a:pt x="900" y="1800"/>
                  </a:cubicBezTo>
                  <a:cubicBezTo>
                    <a:pt x="900" y="2070"/>
                    <a:pt x="750" y="2400"/>
                    <a:pt x="720" y="25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77440" y="762120"/>
              <a:ext cx="1553760" cy="54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93680" y="3809880"/>
              <a:ext cx="115776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09480" y="5890320"/>
              <a:ext cx="155484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29960" y="844560"/>
              <a:ext cx="1503720" cy="1078920"/>
            </a:xfrm>
            <a:prstGeom prst="wedgeRoundRectCallout">
              <a:avLst>
                <a:gd name="adj1" fmla="val -99444"/>
                <a:gd name="adj2" fmla="val 5166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iel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urrent Constrai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27880" y="2418120"/>
              <a:ext cx="0" cy="3141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404720" y="2640960"/>
              <a:ext cx="5603400" cy="135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04720" y="3996720"/>
              <a:ext cx="5427000" cy="137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63200" y="1680480"/>
              <a:ext cx="1503720" cy="919440"/>
            </a:xfrm>
            <a:prstGeom prst="wedgeRoundRectCallout">
              <a:avLst>
                <a:gd name="adj1" fmla="val 99824"/>
                <a:gd name="adj2" fmla="val 6271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active Limit (URL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20920" y="2742480"/>
              <a:ext cx="54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36760" y="5277960"/>
              <a:ext cx="54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48880" y="4072320"/>
              <a:ext cx="1503720" cy="935640"/>
            </a:xfrm>
            <a:prstGeom prst="wedgeRoundRectCallout">
              <a:avLst>
                <a:gd name="adj1" fmla="val 87046"/>
                <a:gd name="adj2" fmla="val -50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aximum net pow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6EDAF-65A5-429A-8FD0-23CF82CB07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Question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“maximum net power to be supplied to the transmission grid” the HS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language of protocol 3.15 (4) intended to limit the setting of HSL’s such that the intersection of .95 PF and the HSL fall within the CUR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D52D-3EC4-479F-9702-4B174F83EC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14:18:55Z</dcterms:created>
  <dc:creator>shsien</dc:creator>
  <dc:description/>
  <dc:language>en-US</dc:language>
  <cp:lastModifiedBy>COPS 081407</cp:lastModifiedBy>
  <dcterms:modified xsi:type="dcterms:W3CDTF">2007-08-16T19:29:26Z</dcterms:modified>
  <cp:revision>95</cp:revision>
  <dc:subject/>
  <dc:title>EMS VSAT SOURCE SINK DEFINITION REVIEW   ERCOT Operations Planning Group</dc:title>
</cp:coreProperties>
</file>