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774-D7FD-4D35-920B-01D9B5B0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063-4254-4F2A-A29F-1254F585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65C-DB5A-43DE-A9E5-AA5D0318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D83-9026-4266-A0F3-BF8A0E43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9C1-CC45-42FB-8651-53530DFF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9E0-CCD0-4DDB-9589-1E822780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AE6-63D1-45F9-B696-28A90276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EAC-E978-43B8-A4CE-BC556ECD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F59-48BF-4D27-9834-AF2B6283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2A9-A7C1-4249-B931-DB65678E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5ED-331C-471F-810A-7B5A359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B21-2D70-4B3A-8BD1-F0DD634E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5485-36FA-46AE-B61B-DFF5B2676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981440" cy="9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gnificant Events 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une 18th, July 2nd, August 1st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Operation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LaaR Deployment Resul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recovered within 6 minutes of the disturb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later identified as a TRE Investigative Report due to the third element, 345 kV line tripping (initially not repor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DCS event, did not meet the 1083 MW loss requi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gust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E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:  14: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d:     15: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ugust 1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EECP Root Caus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70 MW Unit A trip at 11:19 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40 MW Unit B trip at 14:21 P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Ahead Load Forecast versus Real-Time Load was short only by 981 MW in the 15:00 1-Hour Aver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ugust 1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EECP Action and Less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65 MW of Non-Spin Reserves were deployed at 14:30 requested at 14:0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d assistance across DC Ties, North, East, Laredo, and Eagle P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nd Protocols were followed as int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15084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June 18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EECP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aaR Deploy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ugust 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EECP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e 1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E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:  15: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d:     18: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une 18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EECP Root Caus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-Ahead Forecast discrepancy, short by 3,626 MW, 6.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QSE’s SCE at the time of EECP imple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60 MW.  ERCOT Load 52,370 M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y-Ahead forecast between the hours of 14:00 and 19:00 was low approximately by 4,6, and 5 degrees off Real-Time for the Coast, East, and North Central Weather Zones resp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s expected to have cloudy skies and a potential for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une 18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EECP A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 had to call for an additional 3,387 MW from what was seen in the Day-Ahead Online Capa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OMC Quick Start 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 Ties (East DC Tie, North DC Tie, Laredo VFT, and the Eagle Pass DC 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as no Non-Spinning Reserve (NSRS) requirement for tha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une 18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EECP Less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sufficient time, ERCOT will make a better effort to use market tools, i.e. second Non-Spin market or a RPRS run during the Adjustment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for DC Tie Schedules have been updated to improve communications and reflect NERC EEA Standards between SPP and ERC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s should not take units offline during EE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pin Reserves will be procured for days of questionable weather, i.e. chance of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aR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:  19: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d:     20: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aaR Deployment Root Caus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ystem elements lost (Trip times per PI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:31:56 Unit A trips at 83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:32:10 Unit B trips at 113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:32:30 345 kV Line C tr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tal of 943 MW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r>
              <a:rPr b="0" lang="en-US" sz="35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LaaR Deployment A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850 MW of Responsive Reserve was deploy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t the time, event was considered a potential DCS event, call for LaaRs was initiated at 19:37.  A total of 983 MW out of 1150 MW LaaRs deployed within the 10 minute initiation mark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cedures indicate to deploy LaaRs for 950 MW of generation los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requency was at 59.942 Hz at the time the LaaR deployment call was initiat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8:38:20Z</dcterms:created>
  <dc:creator>mcardon</dc:creator>
  <dc:description/>
  <dc:language>en-US</dc:language>
  <cp:lastModifiedBy>COPS 081407</cp:lastModifiedBy>
  <dcterms:modified xsi:type="dcterms:W3CDTF">2007-08-17T19:08:02Z</dcterms:modified>
  <cp:revision>50</cp:revision>
  <dc:subject/>
  <dc:title>Slide 1</dc:title>
</cp:coreProperties>
</file>