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2EB0-4916-41C2-B3D0-2394ACF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FA8F-0688-4A89-8D0F-E90CE960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53F6-B76B-4DDC-B079-2213B081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8F92-4C6F-4BC5-9A91-FBDE111E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73A3-7862-47BC-B466-1BAF199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592F-ACB1-44BC-814F-C58A5D8B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3A34-E908-4C8D-93D5-07FF59E7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ECCC-3345-4EA3-B994-F4095CB0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9E13-A809-4F4B-9D62-4FC49BEB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601D-FC42-4065-AA63-FD1C824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0CA8-77FF-49A4-8EC1-6DF7F00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A756-97C1-4CE8-B879-C7414D5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332-2A9A-4091-B0E0-1C97A834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aR Deployment – 7/2/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733560"/>
            <a:ext cx="56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ve Kre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taf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ce of Events and System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loses about 1000 MW of Generation Resources at about 19: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a potential NERC Reportable DCS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Operator makes a hot line call to all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I issued to deploy all LaaRs that are supplying 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en QSEs have LaaR RRS obligations which total 115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start time for the deployment is 19:38:56 which coincides with the end of the Operator’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 Response at 10 minute mark is 983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s reach 95% of system requirement at 12.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ystem response was 1184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9376-4321-4C1C-9C4D-340301CD09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BDB5-362A-4670-BF32-7E96B08166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iance and System Operations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QSE portfolio responses meet 10 minute deploymen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t Reports are issued to remaining six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nd System Operation Investigations are initiated with six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review of initial telemetry completed for all six QSEs on 7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onfirms that three QSEs failed to reach 95% of obligation in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three QSEs will require additional review of ID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Review and Prepare for Implementation of PRR7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9C2B-E672-4EE6-B22B-EA4FC66112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ctual Interruption as part of Initial Quali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 Unannounced Test of all UFR type LaaRs at least once every 365 days (actual deployment can be used in lieu of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conditions that would disqualify a LaaR from providing Ancill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1C0A-1675-4758-9FB1-14EF41009A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Qualification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hange is that simulated testing is no longer per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will be deployed and require an actual interruption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Interruption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work with QSEs to identify those LaaRs that require testing and to group LaaR deployments for each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that have successfully deployed in last year may use those deployments in lieu of annu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test procedure is under both internal and external review and will be distributed to Market Participants prior to start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must be in the QSEs Resource Plan and shown as on-line and active with UFR enabled to be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 will receive a recall instruction at the end of the test and have three hours to recover before the QSE must replace or arrange for additio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BA4E-CF57-4006-8CFA-92C1FFE3FA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Interruption Test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eployment may be done with a portfolio of LaaRs, evaluations will be made on an individu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aaR that responds with at least 95% of telemetered load value will be considered to have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s that do not pass the test will be subject to addition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 Obligations for each QSE will be adjusted to reflect deployments and recovery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ED25-37E5-4EC9-8200-30371BFD63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teve Krein</cp:lastModifiedBy>
  <dcterms:modified xsi:type="dcterms:W3CDTF">2007-08-16T13:17:55Z</dcterms:modified>
  <cp:revision>29</cp:revision>
  <dc:subject/>
  <dc:title>Instructions</dc:title>
</cp:coreProperties>
</file>