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F5C-3CB4-4733-A385-C26F132E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D9A6-22AF-4333-A11F-C0F2A9A7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987-0E77-4311-AA0D-9357A35C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57F-2C38-498E-9BF2-196207E1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3CF-719F-4AF9-9443-9E7DB695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3FCC-463A-4462-A4E1-030110EE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09C-21E6-4B92-8C67-9D5245F3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9DE-7EE0-4C57-9B19-B08437B4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DF3-F997-4433-BB94-AA283124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3CF-8065-4A00-848B-6EF1B826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A4A-4F25-47B6-ACCA-5805623B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D23-080D-494E-A6B0-133A609D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7646-F83F-48D8-97D9-F3E354049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981440" cy="9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gnificant Events 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une 18th, July 2nd, August 1st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Operations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July 2</a:t>
            </a:r>
            <a:r>
              <a:rPr b="0" lang="en-US" sz="35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LaaR Deployment Resul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recovered within 6 minutes of the disturb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later identified as a TRE Investigative Report due to the third element, 345 kV line tripping (initially not repor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 DCS event, did not meet the 1083 MW loss requir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gust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E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:  14: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d:     15: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ugust 1</a:t>
            </a:r>
            <a:r>
              <a:rPr b="0" lang="en-US" sz="35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EECP Root Caus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70 MW Unit A trip at 11:19 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40 MW Unit B trip at 14:21 P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Ahead Load Forecast versus Real-Time Load was short only by 981 MW in the 15:00 1-Hour Aver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ugust 1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EECP Action and Less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65 MW of Non-Spin Reserves were deployed at 14:30 requested at 14:0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ed assistance across DC Ties, North, East, Laredo, and Eagle P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and Protocols were followed as int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150840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June 18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EECP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July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aaR Deploy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ugust 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EECP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e 1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E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:  15: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d:     18: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June 18</a:t>
            </a:r>
            <a:r>
              <a:rPr b="0" lang="en-US" sz="35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EECP Root Caus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-Ahead Forecast discrepancy, short by 3,626 MW, 6.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QSE’s SCE at the time of EECP imple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60 MW.  ERCOT Load 52,370 M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y-Ahead forecast between the hours of 14:00 and 19:00 was low approximately by 4,6, and 5 degrees off Real-Time for the Coast, East, and North Central Weather Zones respect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s expected to have cloudy skies and a potential for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June 18</a:t>
            </a:r>
            <a:r>
              <a:rPr b="0" lang="en-US" sz="35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EECP A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Time had to call for an additional 3,387 MW from what was seen in the Day-Ahead Online Capa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OMC Quick Start 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 Ties (East DC Tie, North DC Tie, Laredo VFT, and the Eagle Pass DC T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as no Non-Spinning Reserve (NSRS) requirement for tha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June 18</a:t>
            </a:r>
            <a:r>
              <a:rPr b="0" lang="en-US" sz="35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EECP Less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sufficient time, ERCOT will make a better effort to use market tools, i.e. second Non-Spin market or a RPRS run during the Adjustment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 for DC Tie Schedules have been updated to improve communications and reflect NERC EEA Standards between SPP and ERC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SEs should not take units offline during EE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Spin Reserves will be procured for days of questionable weather, i.e. chance of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y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aR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:  19: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d:     20: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July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aaR Deployment Root Caus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system elements lost (Trip times per PI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:31:56 Unit A trips at 83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:32:10 Unit B trips at 113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:32:30 345 kV Line C tr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otal of 943 MW l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July 2</a:t>
            </a:r>
            <a:r>
              <a:rPr b="0" lang="en-US" sz="35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LaaR Deployment A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850 MW of Responsive Reserve was deploy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t the time, event was considered a potential DCS event, call for LaaRs was initiated at 19:37.  A total of 983 MW out of 1150 MW LaaRs deployed within the 10 minute initiation mark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cedures indicate to deploy LaaRs for 950 MW of generation los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requency was at 59.942 Hz at the time the LaaR deployment call was initiat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8:38:20Z</dcterms:created>
  <dc:creator>mcardon</dc:creator>
  <dc:description/>
  <dc:language>en-US</dc:language>
  <cp:lastModifiedBy>COPS 081407</cp:lastModifiedBy>
  <dcterms:modified xsi:type="dcterms:W3CDTF">2007-08-17T19:08:02Z</dcterms:modified>
  <cp:revision>50</cp:revision>
  <dc:subject/>
  <dc:title>Slide 1</dc:title>
</cp:coreProperties>
</file>