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46610-DB02-42FE-A396-D9C3B662C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C2145-4EA0-47FD-81F8-F329C1283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F1BBB-7A1C-446A-8E25-48A29C10F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B6883-C640-4D13-A9DF-FF332C287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FC5BC-B0DE-4622-8297-3B1DCA571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47885-ABEA-49D8-84EF-09EE19084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91A49-A3BF-4B45-AEDF-F8FA2A31F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9A1B1-669D-462F-A5B0-3D7378969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7960F-2BDD-41B5-8CFC-7613CEC61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13EF9-29F7-4517-8E8E-BB2EF5783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844EF-579F-41AC-9C40-F32D810C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D2AC3-FB35-4612-A86C-4D961C54A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912A0-D989-4357-9FD1-29993DEC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EF0A4-92C6-491F-BF8A-2672B3420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5462F-7FDF-4595-B454-138EC1F0E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8C455-24FB-4CC6-B0C3-96F32B1DA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BCFEF-7330-4993-991B-18CA804B9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7890B-8D19-49A8-8E22-17E19E871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DF7C1-D100-45F6-B484-915726DF1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0E0AA-2A3C-42D6-82A4-20F26E632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D678C-D5C3-405A-B7A9-C2CB8C1D8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3918C-3EFE-49C7-9DE2-3CFFFC59E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F389-180B-492C-9489-B6149E613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5770-5069-40C9-85FB-2162341DA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3760" y="176364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324000" y="1157400"/>
            <a:ext cx="15228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B00E-5EAB-4CE4-8465-58D691F2ACF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228600" y="3124080"/>
            <a:ext cx="8564400" cy="390240"/>
            <a:chOff x="228600" y="3124080"/>
            <a:chExt cx="8564400" cy="390240"/>
          </a:xfrm>
        </p:grpSpPr>
        <p:sp>
          <p:nvSpPr>
            <p:cNvPr id="45" name=""/>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3809880" y="3124080"/>
              <a:ext cx="1219320" cy="390240"/>
              <a:chOff x="3809880" y="3124080"/>
              <a:chExt cx="1219320" cy="390240"/>
            </a:xfrm>
          </p:grpSpPr>
          <p:grpSp>
            <p:nvGrpSpPr>
              <p:cNvPr id="47" name=""/>
              <p:cNvGrpSpPr/>
              <p:nvPr/>
            </p:nvGrpSpPr>
            <p:grpSpPr>
              <a:xfrm>
                <a:off x="3809880" y="3124440"/>
                <a:ext cx="1219320" cy="389880"/>
                <a:chOff x="3809880" y="3124440"/>
                <a:chExt cx="1219320" cy="389880"/>
              </a:xfrm>
            </p:grpSpPr>
            <p:sp>
              <p:nvSpPr>
                <p:cNvPr id="48" name=""/>
                <p:cNvSpPr/>
                <p:nvPr/>
              </p:nvSpPr>
              <p:spPr>
                <a:xfrm>
                  <a:off x="3906000" y="3241800"/>
                  <a:ext cx="112320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892d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09880" y="3124440"/>
                  <a:ext cx="121680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3844080" y="318240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618080" y="3124080"/>
                <a:ext cx="81360" cy="20088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4594320" y="3156120"/>
                <a:ext cx="419760" cy="23616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3" name="PlaceHolder 1"/>
          <p:cNvSpPr>
            <a:spLocks noGrp="1"/>
          </p:cNvSpPr>
          <p:nvPr>
            <p:ph type="title"/>
          </p:nvPr>
        </p:nvSpPr>
        <p:spPr>
          <a:xfrm>
            <a:off x="685800" y="1414800"/>
            <a:ext cx="7772400" cy="140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54"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5C89-33AB-4558-9A26-EF89EE23629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SzPct val="80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SzPct val="60000"/>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4400"/>
            <a:ext cx="7772400" cy="2714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ERCOT</a:t>
            </a:r>
            <a:br>
              <a:rPr sz="4300"/>
            </a:br>
            <a:r>
              <a:rPr b="0" i="1" lang="en-US" sz="4300" spc="-1" strike="noStrike">
                <a:solidFill>
                  <a:srgbClr val="000000"/>
                </a:solidFill>
                <a:latin typeface="Comic Sans MS"/>
              </a:rPr>
              <a:t>DYNAMICS WORKING GROUP</a:t>
            </a:r>
            <a:br>
              <a:rPr sz="4300"/>
            </a:br>
            <a:endParaRPr b="0" lang="en-US" sz="4300" spc="-1" strike="noStrike">
              <a:solidFill>
                <a:srgbClr val="000000"/>
              </a:solidFill>
              <a:latin typeface="Comic Sans MS"/>
            </a:endParaRPr>
          </a:p>
        </p:txBody>
      </p:sp>
      <p:sp>
        <p:nvSpPr>
          <p:cNvPr id="95" name="PlaceHolder 2"/>
          <p:cNvSpPr>
            <a:spLocks noGrp="1"/>
          </p:cNvSpPr>
          <p:nvPr>
            <p:ph type="subTitle"/>
          </p:nvPr>
        </p:nvSpPr>
        <p:spPr>
          <a:xfrm>
            <a:off x="914400" y="3885840"/>
            <a:ext cx="7315200" cy="1739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Report to ROS</a:t>
            </a:r>
            <a:br>
              <a:rPr sz="3600"/>
            </a:br>
            <a:r>
              <a:rPr b="0" i="1" lang="en-US" sz="3600" spc="-1" strike="noStrike">
                <a:solidFill>
                  <a:srgbClr val="000000"/>
                </a:solidFill>
                <a:latin typeface="Comic Sans MS"/>
              </a:rPr>
              <a:t>August 16, 2007</a:t>
            </a:r>
            <a:br>
              <a:rPr sz="3600"/>
            </a:br>
            <a:endParaRPr b="0" lang="en-US" sz="3600" spc="-1" strike="noStrike">
              <a:solidFill>
                <a:srgbClr val="000000"/>
              </a:solidFill>
              <a:latin typeface="Comic Sans MS"/>
            </a:endParaRPr>
          </a:p>
        </p:txBody>
      </p:sp>
      <p:pic>
        <p:nvPicPr>
          <p:cNvPr id="96" name="" descr=""/>
          <p:cNvPicPr/>
          <p:nvPr/>
        </p:nvPicPr>
        <p:blipFill>
          <a:blip r:embed="rId2"/>
          <a:stretch/>
        </p:blipFill>
        <p:spPr>
          <a:xfrm>
            <a:off x="7924680" y="6062760"/>
            <a:ext cx="609840" cy="490320"/>
          </a:xfrm>
          <a:prstGeom prst="rect">
            <a:avLst/>
          </a:prstGeom>
          <a:ln w="0">
            <a:noFill/>
          </a:ln>
        </p:spPr>
      </p:pic>
      <p:sp>
        <p:nvSpPr>
          <p:cNvPr id="97" name=""/>
          <p:cNvSpPr/>
          <p:nvPr/>
        </p:nvSpPr>
        <p:spPr>
          <a:xfrm>
            <a:off x="533520" y="586728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nce Beauregard, American Electric Pow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7680" y="599040"/>
            <a:ext cx="8596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Responsive Reserve  - Conclusions</a:t>
            </a:r>
            <a:endParaRPr b="0" lang="en-US" sz="3600" spc="-1" strike="noStrike">
              <a:solidFill>
                <a:srgbClr val="000000"/>
              </a:solidFill>
              <a:latin typeface="Comic Sans MS"/>
            </a:endParaRPr>
          </a:p>
        </p:txBody>
      </p:sp>
      <p:sp>
        <p:nvSpPr>
          <p:cNvPr id="11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increase Interruptible to 1150 MW (50%)</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increase to 1725 MW with limits on the amount of load in each of the frequency blocks</a:t>
            </a:r>
            <a:endParaRPr b="0" lang="en-US" sz="2400" spc="-1" strike="noStrike">
              <a:solidFill>
                <a:srgbClr val="000000"/>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FLS Stage 1 @ 59.3 Hz will trip for 2500 MW generation loss </a:t>
            </a:r>
            <a:endParaRPr b="0" lang="en-US" sz="2400" spc="-1" strike="noStrike">
              <a:solidFill>
                <a:srgbClr val="000000"/>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vershoot can be avoided by limiting the amount of load in each of the frequency blocks</a:t>
            </a:r>
            <a:endParaRPr b="0" lang="en-US" sz="2400" spc="-1" strike="noStrike">
              <a:solidFill>
                <a:srgbClr val="000000"/>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7680" y="385920"/>
            <a:ext cx="85960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Responsive Reserve  - Recommendations</a:t>
            </a:r>
            <a:br>
              <a:rPr sz="3200"/>
            </a:br>
            <a:endParaRPr b="0" lang="en-US" sz="3200" spc="-1" strike="noStrike">
              <a:solidFill>
                <a:srgbClr val="000000"/>
              </a:solidFill>
              <a:latin typeface="Comic Sans MS"/>
            </a:endParaRPr>
          </a:p>
        </p:txBody>
      </p:sp>
      <p:sp>
        <p:nvSpPr>
          <p:cNvPr id="11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rease present rule to allow 1150 MW (50%) to be met by interruptible load tripped at 59.9 Hz, 59.8 Hz, and 59.7 Hz.</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eventual increase to 1725 MW (75%) if no problems are noted with experience at 50%</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nitor the responsive load in real tim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tablish criteria for performance of generating units providing responsive reserve servic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ssues for DWG Comment</a:t>
            </a:r>
            <a:r>
              <a:rPr b="0" lang="en-US" sz="4300" spc="-1" strike="noStrike">
                <a:solidFill>
                  <a:srgbClr val="000000"/>
                </a:solidFill>
                <a:latin typeface="Comic Sans MS"/>
              </a:rPr>
              <a:t>	</a:t>
            </a:r>
            <a:endParaRPr b="0" lang="en-US" sz="4300" spc="-1" strike="noStrike">
              <a:solidFill>
                <a:srgbClr val="000000"/>
              </a:solidFill>
              <a:latin typeface="Comic Sans MS"/>
            </a:endParaRPr>
          </a:p>
        </p:txBody>
      </p:sp>
      <p:sp>
        <p:nvSpPr>
          <p:cNvPr id="120"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tudies need to be completed before changes to RRS are considere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reliability concerns are raised by increasing LaaRs based upon 50% of a proposed new responsive reserve requirement of 2500 MW, or 2700 MW?</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ssues for DWG Comment</a:t>
            </a:r>
            <a:endParaRPr b="0" lang="en-US" sz="4300" spc="-1" strike="noStrike">
              <a:solidFill>
                <a:srgbClr val="000000"/>
              </a:solidFill>
              <a:latin typeface="Comic Sans MS"/>
            </a:endParaRPr>
          </a:p>
        </p:txBody>
      </p:sp>
      <p:sp>
        <p:nvSpPr>
          <p:cNvPr id="12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uch higher LaaR maximum limit would be possible if frequency tiered deployment were considere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has changed in key criteria/assumptions used in 2002 DWG study and do such changes indicate a need for an update of this stud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ssues for DWG Comment</a:t>
            </a:r>
            <a:endParaRPr b="0" lang="en-US" sz="4300" spc="-1" strike="noStrike">
              <a:solidFill>
                <a:srgbClr val="000000"/>
              </a:solidFill>
              <a:latin typeface="Comic Sans MS"/>
            </a:endParaRPr>
          </a:p>
        </p:txBody>
      </p:sp>
      <p:sp>
        <p:nvSpPr>
          <p:cNvPr id="124"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ould be involved in the way of a Responsive Reserve / LaaRs engineering study, and how long before any results would be know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Comments</a:t>
            </a:r>
            <a:endParaRPr b="0" lang="en-US" sz="4300" spc="-1" strike="noStrike">
              <a:solidFill>
                <a:srgbClr val="000000"/>
              </a:solidFill>
              <a:latin typeface="Comic Sans MS"/>
            </a:endParaRPr>
          </a:p>
        </p:txBody>
      </p:sp>
      <p:sp>
        <p:nvSpPr>
          <p:cNvPr id="12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cy overshoot is the issue, when all load trips at a single frequency</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all load trips at one frequency, then 1150 MW is the limi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load shed is tiered, then 1725 MW is the limit for La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hanges in Key Assumptions</a:t>
            </a:r>
            <a:endParaRPr b="0" lang="en-US" sz="4300" spc="-1" strike="noStrike">
              <a:solidFill>
                <a:srgbClr val="000000"/>
              </a:solidFill>
              <a:latin typeface="Comic Sans MS"/>
            </a:endParaRPr>
          </a:p>
        </p:txBody>
      </p:sp>
      <p:sp>
        <p:nvSpPr>
          <p:cNvPr id="12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WG 2002 study did not consider the amount or behavior of wind generation</a:t>
            </a:r>
            <a:endParaRPr b="0" lang="en-US" sz="3200" spc="-1" strike="noStrike">
              <a:solidFill>
                <a:srgbClr val="000000"/>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ccuracy of relays is an issue</a:t>
            </a:r>
            <a:endParaRPr b="0" lang="en-US" sz="3200" spc="-1" strike="noStrike">
              <a:solidFill>
                <a:srgbClr val="000000"/>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 inertia is less for off-peak and minimum conditions</a:t>
            </a:r>
            <a:endParaRPr b="0" lang="en-US" sz="3200" spc="-1" strike="noStrike">
              <a:solidFill>
                <a:srgbClr val="000000"/>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is known about the behavior and effective droop of generato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hanges in Key Assumptions</a:t>
            </a:r>
            <a:endParaRPr b="0" lang="en-US" sz="4300" spc="-1" strike="noStrike">
              <a:solidFill>
                <a:srgbClr val="000000"/>
              </a:solidFill>
              <a:latin typeface="Comic Sans MS"/>
            </a:endParaRPr>
          </a:p>
        </p:txBody>
      </p:sp>
      <p:sp>
        <p:nvSpPr>
          <p:cNvPr id="130"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w models are available for combined-cycle units, and the frequency-dependency of gas turbines can now be modele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ad shedding frequency tier proposals may have changed (EI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17680" y="632520"/>
            <a:ext cx="85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ew Responsive Reserve /LaaRs Study</a:t>
            </a:r>
            <a:endParaRPr b="0" lang="en-US" sz="3200" spc="-1" strike="noStrike">
              <a:solidFill>
                <a:srgbClr val="000000"/>
              </a:solidFill>
              <a:latin typeface="Comic Sans MS"/>
            </a:endParaRPr>
          </a:p>
        </p:txBody>
      </p:sp>
      <p:sp>
        <p:nvSpPr>
          <p:cNvPr id="13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ic methodology from previous study can be use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ed to calibrate data to match governor respons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lect and review information concerning historical LaaR performa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17680" y="631080"/>
            <a:ext cx="85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ew Responsive Reserve /LaaRs Study</a:t>
            </a:r>
            <a:endParaRPr b="0" lang="en-US" sz="3200" spc="-1" strike="noStrike">
              <a:solidFill>
                <a:srgbClr val="000000"/>
              </a:solidFill>
              <a:latin typeface="Comic Sans MS"/>
            </a:endParaRPr>
          </a:p>
        </p:txBody>
      </p:sp>
      <p:sp>
        <p:nvSpPr>
          <p:cNvPr id="134"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ROS provides guidance about the amount of RRS to use, it will simplify the studies, and reduce the complexity</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RRS values, potential LaaR values, more frequency tiers will take additional time and resourc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 Report to ROS</a:t>
            </a:r>
            <a:endParaRPr b="0" lang="en-US" sz="4300" spc="-1" strike="noStrike">
              <a:solidFill>
                <a:srgbClr val="000000"/>
              </a:solidFill>
              <a:latin typeface="Comic Sans MS"/>
            </a:endParaRPr>
          </a:p>
        </p:txBody>
      </p:sp>
      <p:sp>
        <p:nvSpPr>
          <p:cNvPr id="99"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lat start with wind models continues, using PSS/e Rev. 30.3.  This should be completed by the end of August.  </a:t>
            </a:r>
            <a:endParaRPr b="0" lang="en-US" sz="2800" spc="-1" strike="noStrike">
              <a:solidFill>
                <a:srgbClr val="000000"/>
              </a:solidFill>
              <a:latin typeface="Comic Sans MS"/>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WG discussed the Annual Dynamics Data Recorders determination.  DWG recommends making no changes to the dynamics monitoring device (DDR) recommendations, which haven’t changed since March 2005.</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17680" y="631080"/>
            <a:ext cx="85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ew Responsive Reserve /LaaRs Study</a:t>
            </a:r>
            <a:endParaRPr b="0" lang="en-US" sz="3200" spc="-1" strike="noStrike">
              <a:solidFill>
                <a:srgbClr val="000000"/>
              </a:solidFill>
              <a:latin typeface="Comic Sans MS"/>
            </a:endParaRPr>
          </a:p>
        </p:txBody>
      </p:sp>
      <p:sp>
        <p:nvSpPr>
          <p:cNvPr id="13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 DWG members are involved with other project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ificant ERCOT staff time and computer resources will be required</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S will need to make a request to ERCOT management to allocate the needed resourc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17680" y="631080"/>
            <a:ext cx="85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ew Responsive Reserve /LaaRs Study</a:t>
            </a:r>
            <a:endParaRPr b="0" lang="en-US" sz="3200" spc="-1" strike="noStrike">
              <a:solidFill>
                <a:srgbClr val="000000"/>
              </a:solidFill>
              <a:latin typeface="Comic Sans MS"/>
            </a:endParaRPr>
          </a:p>
        </p:txBody>
      </p:sp>
      <p:sp>
        <p:nvSpPr>
          <p:cNvPr id="13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tudy scope will need to be prepared for ROS approval</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would be helpful if ROS would designate a representative to help narrow down the expectations and clearly define the scope for the stud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 Report to ROS</a:t>
            </a:r>
            <a:endParaRPr b="0" lang="en-US" sz="4300" spc="-1" strike="noStrike">
              <a:solidFill>
                <a:srgbClr val="000000"/>
              </a:solidFill>
              <a:latin typeface="Comic Sans MS"/>
            </a:endParaRPr>
          </a:p>
        </p:txBody>
      </p:sp>
      <p:sp>
        <p:nvSpPr>
          <p:cNvPr id="10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WG reviewed the Oncor 600 MVAr Parkdale Dynamic Reactive project, and found that it is based on sound engineering and is worthy of ERCOT’s support.</a:t>
            </a:r>
            <a:endParaRPr b="0" lang="en-US" sz="2800" spc="-1" strike="noStrike">
              <a:solidFill>
                <a:srgbClr val="000000"/>
              </a:solidFill>
              <a:latin typeface="Comic Sans MS"/>
            </a:endParaRPr>
          </a:p>
          <a:p>
            <a:pPr marL="609480" indent="-6094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continue to discuss Voltage Recovery Criteria, in order to reach a resolution.  New criteria were proposed using the concept of reactive margin testing.  Members will investigate the impact on their system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 Report to ROS</a:t>
            </a:r>
            <a:endParaRPr b="0" lang="en-US" sz="4300" spc="-1" strike="noStrike">
              <a:solidFill>
                <a:srgbClr val="000000"/>
              </a:solidFill>
              <a:latin typeface="Comic Sans MS"/>
            </a:endParaRPr>
          </a:p>
        </p:txBody>
      </p:sp>
      <p:sp>
        <p:nvSpPr>
          <p:cNvPr id="10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WG discussed implementing the new Combined Cycle Models that have just been developed. The consultant converted the data for all of the combined cycle models in the ERCOT data, but there are opportunities to use the new models with the gas turbine units, in order to represent their frequency dependent behavior.  Members will investigate this, and share issues they encounter in their own systems.  We also discussed the use of the GGOV1 model, and other governor modeling issu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 Report to ROS</a:t>
            </a:r>
            <a:endParaRPr b="0" lang="en-US" sz="4300" spc="-1" strike="noStrike">
              <a:solidFill>
                <a:srgbClr val="000000"/>
              </a:solidFill>
              <a:latin typeface="Comic Sans MS"/>
            </a:endParaRPr>
          </a:p>
        </p:txBody>
      </p:sp>
      <p:sp>
        <p:nvSpPr>
          <p:cNvPr id="10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dure Manual will be updated.  Members volunteered to take the manual by sections, and suggest revisions.</a:t>
            </a:r>
            <a:endParaRPr b="0" lang="en-US" sz="2800" spc="-1" strike="noStrike">
              <a:solidFill>
                <a:srgbClr val="000000"/>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hn Schmall will be making a presentation to a NERC Standards Drafting Team on the Underfrequency Loadshed studies and reports that DWG performed in 2001 and 2006.</a:t>
            </a:r>
            <a:endParaRPr b="0" lang="en-US" sz="2800" spc="-1" strike="noStrike">
              <a:solidFill>
                <a:srgbClr val="000000"/>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xt DWG meeting has been tentatively set for September 26 &amp; 27.</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Tasks  --  2007</a:t>
            </a:r>
            <a:endParaRPr b="0" lang="en-US" sz="4300" spc="-1" strike="noStrike">
              <a:solidFill>
                <a:srgbClr val="000000"/>
              </a:solidFill>
              <a:latin typeface="Comic Sans MS"/>
            </a:endParaRPr>
          </a:p>
        </p:txBody>
      </p:sp>
      <p:graphicFrame>
        <p:nvGraphicFramePr>
          <p:cNvPr id="107" name=""/>
          <p:cNvGraphicFramePr/>
          <p:nvPr/>
        </p:nvGraphicFramePr>
        <p:xfrm>
          <a:off x="1523880" y="2057400"/>
          <a:ext cx="6629400" cy="4718160"/>
        </p:xfrm>
        <a:graphic>
          <a:graphicData uri="http://schemas.openxmlformats.org/drawingml/2006/table">
            <a:tbl>
              <a:tblPr/>
              <a:tblGrid>
                <a:gridCol w="3434040"/>
                <a:gridCol w="31953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u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at start 2007 c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at start 2010 c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at start 2007 case with wind mode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sh 2006 flat start book.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sh 2007 flat start book.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nnual determination of the number and location of dynamic monitoring devic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Tasks  --  2007</a:t>
            </a:r>
            <a:endParaRPr b="0" lang="en-US" sz="4300" spc="-1" strike="noStrike">
              <a:solidFill>
                <a:srgbClr val="000000"/>
              </a:solidFill>
              <a:latin typeface="Comic Sans MS"/>
            </a:endParaRPr>
          </a:p>
        </p:txBody>
      </p:sp>
      <p:graphicFrame>
        <p:nvGraphicFramePr>
          <p:cNvPr id="109" name=""/>
          <p:cNvGraphicFramePr/>
          <p:nvPr/>
        </p:nvGraphicFramePr>
        <p:xfrm>
          <a:off x="1066680" y="2057400"/>
          <a:ext cx="7772400" cy="4414680"/>
        </p:xfrm>
        <a:graphic>
          <a:graphicData uri="http://schemas.openxmlformats.org/drawingml/2006/table">
            <a:tbl>
              <a:tblPr/>
              <a:tblGrid>
                <a:gridCol w="3886200"/>
                <a:gridCol w="388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Voltage Recovery criteria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view recently approved NERC Standards with respect to ERCOT Op Guides and Protoco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ROS Ad Hoc Task Force regarding Power System Stabiliz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nual Procedural Manual review/upd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gin 2008 flat start activiti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ll Activit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7680" y="599040"/>
            <a:ext cx="8596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view of Responsive Reserve Study</a:t>
            </a:r>
            <a:endParaRPr b="0" lang="en-US" sz="3600" spc="-1" strike="noStrike">
              <a:solidFill>
                <a:srgbClr val="000000"/>
              </a:solidFill>
              <a:latin typeface="Comic Sans MS"/>
            </a:endParaRPr>
          </a:p>
        </p:txBody>
      </p:sp>
      <p:sp>
        <p:nvSpPr>
          <p:cNvPr id="1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Utilizing High-set Load Shedding Schemes To Provide Responsive Reserve Service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WG Report - November 2002</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7680" y="599040"/>
            <a:ext cx="8596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sponsive Reserve  - Study Results</a:t>
            </a:r>
            <a:endParaRPr b="0" lang="en-US" sz="3600" spc="-1" strike="noStrike">
              <a:solidFill>
                <a:srgbClr val="000000"/>
              </a:solidFill>
              <a:latin typeface="Comic Sans MS"/>
            </a:endParaRPr>
          </a:p>
        </p:txBody>
      </p:sp>
      <p:sp>
        <p:nvSpPr>
          <p:cNvPr id="113" name=""/>
          <p:cNvSpPr/>
          <p:nvPr/>
        </p:nvSpPr>
        <p:spPr>
          <a:xfrm>
            <a:off x="914400" y="2057400"/>
            <a:ext cx="7391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mit of interruptible load that can be used to replace Responsive Reser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ults based on Sensitivity studies – Spring Off-Peak case:</a:t>
            </a:r>
            <a:endParaRPr b="0" lang="en-US" sz="2000" spc="-1" strike="noStrike">
              <a:solidFill>
                <a:srgbClr val="000000"/>
              </a:solidFill>
              <a:latin typeface="Times New Roman"/>
            </a:endParaRPr>
          </a:p>
        </p:txBody>
      </p:sp>
      <p:graphicFrame>
        <p:nvGraphicFramePr>
          <p:cNvPr id="114" name=""/>
          <p:cNvGraphicFramePr/>
          <p:nvPr/>
        </p:nvGraphicFramePr>
        <p:xfrm>
          <a:off x="914400" y="3276720"/>
          <a:ext cx="7772400" cy="3055680"/>
        </p:xfrm>
        <a:graphic>
          <a:graphicData uri="http://schemas.openxmlformats.org/drawingml/2006/table">
            <a:tbl>
              <a:tblPr/>
              <a:tblGrid>
                <a:gridCol w="1069920"/>
                <a:gridCol w="1649520"/>
                <a:gridCol w="1550880"/>
                <a:gridCol w="1720800"/>
                <a:gridCol w="1781280"/>
              </a:tblGrid>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ase 1 - 25%</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75 MW     High-s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ase 2 -5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150MW  High-s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ase 3 -75%</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725 MW High-s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ase 4 -10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300 MW High-s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evel 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7 Hz</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t;= 60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380 M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N/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evel b:</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8 Hz</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t;= 40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920 M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evel c:</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9 Hz</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t;= 55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265 M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21:37:08Z</dcterms:created>
  <dc:creator>Vance Y. Beauregard</dc:creator>
  <dc:description/>
  <dc:language>en-US</dc:language>
  <cp:lastModifiedBy>AEP</cp:lastModifiedBy>
  <dcterms:modified xsi:type="dcterms:W3CDTF">2007-08-15T19:12:20Z</dcterms:modified>
  <cp:revision>32</cp:revision>
  <dc:subject/>
  <dc:title>PowerPoint Presentation</dc:title>
</cp:coreProperties>
</file>