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DD9CC794-0B1D-4A05-AD2E-73B03E430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1800"/>
            </a:b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Transition Plan Task Force</a:t>
            </a:r>
            <a:br>
              <a:rPr sz="2800"/>
            </a:b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ROS Meeting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arrie Tucker, ERCOT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hursday, 08/16/2007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5471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last update, TPTF convened 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1; June 12 Joint PRS/TPTF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5-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23-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or accomplish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ercial Systems (COMS) Project – Approval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ability Must Run Services Real-Time Settlements Requirements v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-Time Energy Settlements Requirements v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-Ahead Market (DAM) Energy Settlements Requirements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Aggregation Requirements v1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M Settlements Conceptual System Design (CSD) v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Incremental Energy Cost Settlement CSD v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gibility Process for Settlements v1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ices CSD v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ments CSD v1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Transfer CSD v1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ability Unit Commitment CSD v1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Participant Registration System CSD v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Revenue Rights (CRR) Auction Revenue Disbursement Requirements v1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R Balancing Account Requirements v1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M CRR Settlements Requirements v1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-Time CRR Settlements v1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dit Monitoring and Management Requirements v1.2 and CSD v1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28520"/>
            <a:ext cx="854712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Management System (EMS)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Power Forecasting C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and Design Authority (IDA)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 Whitepaper, Combined-Cycle Unit Modeling in the Nod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 Whitepaper, Split Generatio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ERCOT Readiness and Transition (IRT)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s 1, 2, and 3 of the SCED Market Participant Hand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3 Release 5 – SCED Testing Establishing Generating Resource Offer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 for Nodal EDS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28520"/>
            <a:ext cx="854712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Transition Outage Management Guideline 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to ERCOT Nodal Transition 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to TPTF Ch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tion that NPRRs included in Baseline 1 are necessary for “go-li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tion that the IDA whitepapers and Change Items included in Baseline 1 are necessary for “go-li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tion that the IDA whitepapers and Change Items included in Baseline 2 are necessary for “go-li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– Approval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 synchronizing PRR698, Remove Default Qualified Scheduling Entity (QSE) Provi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 for Modeling of Private Use Networ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068, Settlement Clarifications to Startup Eligibility, Decommitment payments and Corrections to RUC formul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069, Changes to SURAM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070, Changes to DAM clearing start time; Allocation of McCamey Flowgate Rights in Day-Ahead Trade Valid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071, Trade Valid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ents on NPRR075, Corrections to Section 9 – Settlements Clean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073, Update of Sections 6.6 and 6.7 Due to Requirements, Use Cases and CS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 for Synchronization of EECP Event Realignment to replace NPRR04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045, Wind Power Foreca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onth, TPTF has met/will mee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gust 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gust 27-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 to discus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Data Warehouse (EDW) Projec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through examples and discuss comment timeframe for the Data Archival Reporting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S Projec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S to COMS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on Settlements Mini-Market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R Projec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of updates for CRR Requirements &amp; CSD through Baselin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A Project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disposition of comments for External Interfaces Specif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54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to discuss (continued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T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process for resolving testing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for tracking error resolution in the context of metrics and Readiness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1 testing deliver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urriculum document- discuss prerequisite training for 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cept of reasonableness of L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s for the Nodal Operating Gu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NPR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ft NPRR modifying language for Electrical Bus in Section 3.1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074, Revisions to Monitoring and Qualification Tests in Section 8, Performance Monitoring and Com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076, Synchronization of Emergency Electric Curtailment Plan (EECP) Event Real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R727, Process for Transition to Nodal Market Protocol 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3:33:38Z</dcterms:created>
  <dc:creator>ctucker</dc:creator>
  <dc:description/>
  <dc:language>en-US</dc:language>
  <cp:lastModifiedBy>Carrie Tucker</cp:lastModifiedBy>
  <dcterms:modified xsi:type="dcterms:W3CDTF">2007-08-02T19:14:05Z</dcterms:modified>
  <cp:revision>139</cp:revision>
  <dc:subject/>
  <dc:title>Texas Nodal</dc:title>
</cp:coreProperties>
</file>