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28F5-43B9-4E26-BC82-CBC1E16A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F5D6-C289-4CE0-9A20-52E76A49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182F-FF56-449C-903A-D36F61A4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2704-26E3-4A4C-A7A0-D4CAFAB8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1E20-44F3-4727-A525-B619EC8B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87F9-62AC-451D-97B4-56296416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BAF4-328B-4A69-8A0D-5CA8FB77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5D1F-8F12-487C-8530-83EFAE6C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04C5-DA26-4F4D-9900-9822EE54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F7A9-AC80-438F-B1FF-C2B4D6FC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D33D-9734-4192-88F1-384FDE12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2A92-5E0F-4A88-9CDA-3E0292DB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EC64-8AED-42DA-B666-DAF4652F4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16,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CWG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land Power &amp;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69608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rovements to the process of bringing a unit on-line and ramping to full lo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to ROS by the PDC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374760"/>
            <a:ext cx="868680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131760"/>
            <a:ext cx="861048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200160"/>
            <a:ext cx="861048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to ramp a medium to large unit from off-line to full power over a ten minute period causes high frequ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reates the need for unnecessary deployments of Regulation Energy and contributes to poor ERCOT CPS1 sc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units with governors back down [600 MW coal unit  goes down 20MW@60.1hz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commended practice is to schedule the ramp over several 15 minute interv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8120" y="0"/>
            <a:ext cx="2971800" cy="1922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Frequency Control Performance to NERC CPS1 Standard (July ’07 unoffi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20760" y="6019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5880" y="6019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31000" y="6019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9800" y="6019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600" y="5942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6400" y="5942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45200" y="5942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74000" y="5942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02800" y="5942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23760" y="0"/>
            <a:ext cx="919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9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met on August 14 and 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continues to do some high level analysis of control performance during 0530 to 063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G continues to explore potential Nodal market control performanc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G is in the process of completing an update to the Disturbance Performance Summary for the first half of 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meeting is September 11 and 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22:09:42Z</dcterms:created>
  <dc:creator>Bob Green</dc:creator>
  <dc:description/>
  <dc:language>en-US</dc:language>
  <cp:lastModifiedBy>Bob Green</cp:lastModifiedBy>
  <dcterms:modified xsi:type="dcterms:W3CDTF">2007-08-10T16:07:34Z</dcterms:modified>
  <cp:revision>19</cp:revision>
  <dc:subject/>
  <dc:title>RO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44277904</vt:r8>
  </property>
  <property fmtid="{D5CDD505-2E9C-101B-9397-08002B2CF9AE}" pid="3" name="_AuthorEmail">
    <vt:lpwstr>bobG@gplops.org</vt:lpwstr>
  </property>
  <property fmtid="{D5CDD505-2E9C-101B-9397-08002B2CF9AE}" pid="4" name="_AuthorEmailDisplayName">
    <vt:lpwstr>Green, Bob</vt:lpwstr>
  </property>
  <property fmtid="{D5CDD505-2E9C-101B-9397-08002B2CF9AE}" pid="5" name="_EmailSubject">
    <vt:lpwstr>PDCWG report for August ROS meeting</vt:lpwstr>
  </property>
</Properties>
</file>