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DC5-209B-4D23-BDE3-7FBF1790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F50-C20B-4AAC-9994-532AA226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D38-87E0-494D-98FE-0BA54671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781-C2B9-4C2D-9C6D-3D50B2C9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D60-6833-479D-8AAE-B225DC7C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CA7-F2FF-4A2A-A3AF-DB384CCB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7C6-0E83-4F89-BF2C-D9DAD11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C04-D62D-4BCC-B43E-4634A66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C31-AF61-4D31-B636-D4FF34F0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116-5D5E-40C6-9618-663AC1A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941-269B-4BC8-933B-CB21BBEB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82D-ABD5-441A-A820-BFA5185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945-67B1-417B-B8F8-A9F468072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E2B-99A7-444E-9637-F36DD0257F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28C-2F66-4E22-ACBC-9767A53BCB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1120" y="1506600"/>
            <a:ext cx="8821800" cy="34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867-47D8-4280-A766-4C951D8E0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0FA-FB54-40F0-8BB6-DE6368F70F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2000" y="1833480"/>
            <a:ext cx="8829720" cy="25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B65-A9C8-4280-8B19-985BAF19C7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702-A1E0-4B84-B275-15E618C5C8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5120" y="1444680"/>
            <a:ext cx="8720280" cy="34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0DC-1CB6-410D-B001-8CA2A63CF6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153-32FB-4109-B28E-363E9100CB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54A-545C-4EEE-BA3D-2684EE6D71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B1B-C87D-4D69-8425-B82EDEB441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160" y="1600200"/>
            <a:ext cx="8675640" cy="43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536-2343-4A35-9C5C-CFCF5B0E1D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753-3211-4186-B0C7-1D805FA03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5400" y="3460680"/>
            <a:ext cx="8948520" cy="23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CAE-AEA0-437F-B114-C941DD113F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87320" y="-1511280"/>
          <a:ext cx="7569360" cy="9882000"/>
        </p:xfrm>
        <a:graphic>
          <a:graphicData uri="http://schemas.openxmlformats.org/drawingml/2006/table">
            <a:tbl>
              <a:tblPr/>
              <a:tblGrid>
                <a:gridCol w="609480"/>
                <a:gridCol w="368280"/>
                <a:gridCol w="368280"/>
                <a:gridCol w="368640"/>
                <a:gridCol w="279360"/>
                <a:gridCol w="279360"/>
                <a:gridCol w="279360"/>
                <a:gridCol w="279360"/>
                <a:gridCol w="279360"/>
                <a:gridCol w="609480"/>
                <a:gridCol w="609840"/>
                <a:gridCol w="368280"/>
                <a:gridCol w="368280"/>
                <a:gridCol w="330120"/>
                <a:gridCol w="330120"/>
                <a:gridCol w="33048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87320" y="-1314360"/>
          <a:ext cx="7569360" cy="9486720"/>
        </p:xfrm>
        <a:graphic>
          <a:graphicData uri="http://schemas.openxmlformats.org/drawingml/2006/table">
            <a:tbl>
              <a:tblPr/>
              <a:tblGrid>
                <a:gridCol w="609840"/>
                <a:gridCol w="368280"/>
                <a:gridCol w="368280"/>
                <a:gridCol w="368280"/>
                <a:gridCol w="279360"/>
                <a:gridCol w="279360"/>
                <a:gridCol w="279360"/>
                <a:gridCol w="279360"/>
                <a:gridCol w="279360"/>
                <a:gridCol w="609840"/>
                <a:gridCol w="609480"/>
                <a:gridCol w="368280"/>
                <a:gridCol w="368280"/>
                <a:gridCol w="330120"/>
                <a:gridCol w="330480"/>
                <a:gridCol w="33012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595520"/>
            <a:ext cx="7824600" cy="430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325-C446-4E0D-B9BA-69B5847FDB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3B5-8036-415D-B77C-B34A6DF17A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120" y="1749600"/>
            <a:ext cx="8693280" cy="35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2A9-17BF-4D2E-8A14-A14D09A3B7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tstewart</cp:lastModifiedBy>
  <cp:lastPrinted>2002-09-24T18:27:58Z</cp:lastPrinted>
  <dcterms:modified xsi:type="dcterms:W3CDTF">2007-08-06T15:15:14Z</dcterms:modified>
  <cp:revision>704</cp:revision>
  <dc:subject/>
  <dc:title>PowerPoint Presentation</dc:title>
</cp:coreProperties>
</file>