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E2C6-0884-4BB8-8003-B742B58F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95A6-98A0-407F-BFD6-188ECD4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381C-C2EE-4C7D-8043-5484ABC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32DB-63E9-4BAD-BA63-A16622D6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6A19-ED80-4525-9FA5-9506C71B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2B09-E0F2-43CD-947E-AC56F629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2DD-FE50-40B0-9DDC-6A3FE09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86E-31A5-4D94-A5E5-C7257E1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967D-4642-45AE-9BD1-A58CE0FA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8F1-EDD4-4E1C-9757-92299A5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3390-1A2D-4924-854A-32E3D30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E7C8-E7D7-47CF-AEAE-D35031E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552E-8FA6-4C7A-9FB8-91309AA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32F-E561-4DE0-B755-1DA75EA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4EA-2EFD-40B8-BA10-6C945DE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3A0B-1AA3-483E-8F50-398CAC2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E36-DEFF-4A59-9470-0386D024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F3CA-1F40-4B7F-8100-708687B8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3A2A-1BED-44A0-B58A-128EE0A0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9C318-4CC6-4312-BB0C-B9BB4657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8A53-415C-4114-B94C-8ECBD04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B3E59-7CA8-4C3E-BA9C-79FCB87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3FD17-6476-42C4-B056-ECC58DFF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01771-923B-483C-B30F-CB9EB2B9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740FB-FF22-4ACD-8E41-A56DBF8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BDE33-9573-44A7-874E-AF8263D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059F9-8029-4E90-885B-7BA5FE8F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D27F7-7BCD-4547-AD0D-45FAC08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53128-8BC8-4368-B256-1BD9760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06513-9A42-45D9-A031-8BF26203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62082-E95F-4579-A52E-BB54F5A3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B0E8-FD30-4088-942A-EDF4FDC2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E00FF-4052-4533-8A1E-C8247C46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5B64-EF8E-4C87-B5AC-F056798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32F9-B713-4BCF-8B04-509B49D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D755-6E5F-4375-A4D9-CBF4AF5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FC4-F463-4F7C-A669-3C24B2D31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B07-5FC1-4430-A6AD-668DA2C4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AA67-2FD1-4CEC-9202-6FAD58E3E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CT_Update_to_RMS_081507.ppt" TargetMode="External"/><Relationship Id="rId2" Type="http://schemas.openxmlformats.org/officeDocument/2006/relationships/hyperlink" Target="mailto:smunson@ercot.com" TargetMode="External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3200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ugust 15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Susan Muns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Retail Market Liaison/MODPO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34290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ssons Lear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Closing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T Page of ERCOT.com Key Documen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rms/mct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eadsheet of Lessons Lear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rainstorm session MCT July 13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Surv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d send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munson@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y Wednesday, August 2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ust 29 (Lessons Learned)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:00 am – 5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all meetings are held in conjunction with TX SET meetin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ture Meetings/Market Commun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Closing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Clos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smunson</cp:lastModifiedBy>
  <dcterms:modified xsi:type="dcterms:W3CDTF">2007-08-08T14:43:42Z</dcterms:modified>
  <cp:revision>221</cp:revision>
  <dc:subject/>
  <dc:title>Slide 1</dc:title>
</cp:coreProperties>
</file>