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9E7-6CA7-43B7-A0D8-FBCAFDD2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71E-9141-426E-8665-95A7AF43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0DC-EA43-428F-80B1-EF275439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73E-6790-4C64-B062-F9744A97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342-49B6-4DF1-9AC7-D25B9050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22C-EE1A-43B6-9EE9-4DE5EDB5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2DC-ABE0-4C9E-B91F-8568637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E60-A543-4AE5-A1B1-0CD17DA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27C-39E8-4420-BC49-51C7C652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D02-BE73-4D4F-AFC4-5620A59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B58-DC9A-4C75-AD61-BADED90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F6C-6BD4-4BCD-A18B-4A867A0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6764-481B-4C59-9936-4DD6E8F3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62D-0087-4C64-9E8B-9F947095F5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E12-EE4D-4987-A4CA-4E5E86E11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1120" y="1506600"/>
            <a:ext cx="8821800" cy="34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EE6-02FD-44CE-9EE1-D47C8A92BD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5C3-5193-4E25-BBE1-6993AE3213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000" y="1833480"/>
            <a:ext cx="8829720" cy="25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50A-E722-49FA-A962-7A307BFD5C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E05-4336-4676-8DC2-59DECB8EEA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5120" y="1444680"/>
            <a:ext cx="872028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302-00C4-440E-B5F0-0B9107224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12C-E322-488B-A204-B3BB657D4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64C-567B-4FAD-8807-4DCD33A0E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537-5285-4082-ADD8-6281BA738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160" y="1600200"/>
            <a:ext cx="867564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45F-0B98-47F1-AFE4-93756E810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955-CA10-45E9-90D8-92F60DE6B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400" y="3460680"/>
            <a:ext cx="894852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977-711D-4346-9B61-03D9691B3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595520"/>
            <a:ext cx="782460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BEE-EF7E-4910-AA89-C323E87EF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6B4-A60C-407C-8F5A-6F89237F2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120" y="1749600"/>
            <a:ext cx="8693280" cy="35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AE3-9C82-4E59-9EA9-95EE2F46D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stewart</cp:lastModifiedBy>
  <cp:lastPrinted>2002-09-24T18:27:58Z</cp:lastPrinted>
  <dcterms:modified xsi:type="dcterms:W3CDTF">2007-08-06T15:15:14Z</dcterms:modified>
  <cp:revision>704</cp:revision>
  <dc:subject/>
  <dc:title>PowerPoint Presentation</dc:title>
</cp:coreProperties>
</file>