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9DB-64C0-477A-94A4-E3748612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4A2-A0E9-4E69-A7D5-73B4FDFA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DED-41FD-4C81-B3BF-896A5566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B00-021E-47E0-A6FF-29168148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678-8256-436C-8F15-5447CD51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B54-D99F-453D-85EC-AE71563F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90E-D52E-44BE-B3D7-AC3B6A4F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B8D-B38E-4DA5-BF6B-38EAE320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1DC-A48B-45F6-9CE8-D56E8CCF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8D4-542F-4897-B591-EA1F07A3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2F5-4BB1-478C-B380-E42F54AC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DC3-FBA9-47A4-9937-C7772436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838B-871B-4E5E-A2D2-EFD789317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15th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090-5B8D-4491-9C4A-5E9544FA5FE0}" type="slidenum">
              <a:t>1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/Support Implementation of SCR7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CI data flow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/Support Implementation of SCR 7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ERCOT System Outages and system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ERCOT request for extended Outage window on 3rd weekend of Septe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ESB Failover Workshop 8-8-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78E-13F2-4A2D-A87E-EC4B275D094E}" type="slidenum">
              <a:t>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continue working with ERCOT to support implementation of SCR745 including the new architectur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on new clustering solution for the Paperfree file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052-9B13-4E0B-A985-7DB9BEBB8FA1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continue working with ERCOT to support implementation of SCR7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vin Tanner lead discussion related to SLA outage timing and effect on PR-70006_0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A timing is a configuration item within the application framework (i.e. not hard-co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2A8-ABEF-43EC-B150-03E45693736D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ERCOT presented Customer Billing Customer Information (CBCI) file data flow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ification presented as to CBCI data flow to ERCOT and CRs. Message Types and NAESB EDM v 1.6 elements discu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item to update TDTWG NAESB EDM v1.6 Implementation Guide with further clarification and ex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56C-6766-476C-AF5F-4694DE6000ED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Continue working with the ERCOT Manager of Operations to address each system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the 8-1 TDTWG meeting, system incidents for July were revi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558-97AF-4A61-BB9E-B110053F5F0C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Discuss ERCOT request for extended Outage window on 3rd weekend of Septe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presented information in support of the HP to AIX server conversion pro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suggested that ERCOT consider impacts to Annual Validation and Meter Data Loading and review other outag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DA7-18D1-48A0-BFBA-5AF4197E3069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Market NAESB Failover Workshop 8/8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an discussions of business requirements that might trigger an failure of any Market Participant to send/receive transactions via NAE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to review potential technical solutions (at TDTWG 8/29/07 mt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S/TDSPs to review business reqs and technical solutions based from their perspectives (in Septe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Market Participants meet in October to review fin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9AF-CA4C-40EA-9BE0-1C7ADD1D35FD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675-0CC0-4DAC-9CA2-8DD1AD0C1D64}" type="slidenum">
              <a:t>9</a:t>
            </a:fld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ette Morton</cp:lastModifiedBy>
  <cp:lastPrinted>2002-09-24T18:27:58Z</cp:lastPrinted>
  <dcterms:modified xsi:type="dcterms:W3CDTF">2007-08-08T19:33:52Z</dcterms:modified>
  <cp:revision>431</cp:revision>
  <dc:subject/>
  <dc:title>PowerPoint Presentation</dc:title>
</cp:coreProperties>
</file>