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104F-27EE-46BE-961D-E288BFEB7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4996-E91D-472A-BB52-B135C5B3C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97A3-5846-43CF-87B6-999C4753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AF67-A8EC-43A4-AC70-BB4C4D3F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E9AD-9EBB-40DD-BD62-475BB07F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C038-C580-4E77-A21B-0BE16AC2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792A-55A0-475E-A867-0360B572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2464-4FB1-46EE-BF9F-8649C906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8A66-BD20-4C21-956B-C008AF6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BA61-3B20-451B-9243-8D1EA6FE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EE3A-0A53-4DC6-B567-670640AF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C6D9-2F6F-4649-85B2-E387328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ACA7-8779-4B6D-8983-22586593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26AC-B9E3-4535-9AD8-A72BA12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A094-011A-49B4-9253-4B9E2B792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3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/15/07 Test Day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 08/21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09/11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tarted o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9:00 AM Mon. 08/13/07 - 84.75%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 100%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transactions for Week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transactions for Week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transactions for Week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transactions for Week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1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9/19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9/25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10/05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10/08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11/20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7-08-13T14:04:11Z</dcterms:modified>
  <cp:revision>90</cp:revision>
  <dc:subject/>
  <dc:title>Instructions</dc:title>
</cp:coreProperties>
</file>