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B169-0A14-4440-9575-D32C308CD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D116-79DF-4E9A-A86A-2AC97FBE9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98720" y="68580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94960" y="6426000"/>
            <a:ext cx="50720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D6792-D8C6-4160-BF38-49AB9FBD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88FC-753F-4610-8BEE-30397F0E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76E4-0E1F-4D20-8408-D5A4524D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D77CE-2913-4EB0-A1EC-B221695D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14E4-0E23-4B31-A9BD-EAB07ECB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60BF-A9F5-4B17-AF7E-8B43693D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24B1-0DAB-40D2-BC9A-B495F923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B8E3-B14E-4E2B-8822-578F247B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74C37-FE8C-4505-A000-B49AE8D2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11674-172C-454A-BDE1-9A82DA0C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DBED-0D39-4497-8762-F9988293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575A-4623-4EA7-9FF0-886E0D7C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EF56-C751-4792-81F0-177FB011C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 15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gust 15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odal.ercot.com/training/locations/index.html" TargetMode="External"/><Relationship Id="rId2" Type="http://schemas.openxmlformats.org/officeDocument/2006/relationships/hyperlink" Target="http://nodal.ercot.com/training/locations/index.html" TargetMode="External"/><Relationship Id="rId3" Type="http://schemas.openxmlformats.org/officeDocument/2006/relationships/hyperlink" Target="http://nodal.ercot.com/training/locations/index.html" TargetMode="External"/><Relationship Id="rId4" Type="http://schemas.openxmlformats.org/officeDocument/2006/relationships/hyperlink" Target="http://nodal.ercot.com/training/locations/index.html" TargetMode="External"/><Relationship Id="rId5" Type="http://schemas.openxmlformats.org/officeDocument/2006/relationships/hyperlink" Target="http://nodal.ercot.com/training/locations/index.html" TargetMode="External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odal Market Training Upda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urses for Load Serving Ent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32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Market Courses for Load Serving Entiti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articipant Training is an integral part of Nodal Market Read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urriculum of Nodal Market concept courses has been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rses range in coverage from market overview courses to specific nodal market top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is in the process of development and delivery of these cour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or Led and Web-Based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courses are targeted at various Market Participant types (QSEs,  LSEs,  Resource Entities, TSPs, DS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dal courses of interest to LSEs (RE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ness is being tracked and reported through designated Accountable Execu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32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Market Courses for Load Serving Entiti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22804" t="16212" r="24470" b="22398"/>
          <a:stretch/>
        </p:blipFill>
        <p:spPr>
          <a:xfrm>
            <a:off x="841320" y="760320"/>
            <a:ext cx="7464600" cy="543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66760" y="1276200"/>
            <a:ext cx="8593200" cy="46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430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Serving Entity 2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SEs (Retail Electric Providers and Non Opt-In Enti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101 review for L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SEs in the ERCOT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Pr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 (Trades, DAM, CR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Related Settle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9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Market Courses for Load Serving Entiti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419040" y="990720"/>
          <a:ext cx="8561520" cy="4417920"/>
        </p:xfrm>
        <a:graphic>
          <a:graphicData uri="http://schemas.openxmlformats.org/drawingml/2006/table">
            <a:tbl>
              <a:tblPr/>
              <a:tblGrid>
                <a:gridCol w="3111480"/>
                <a:gridCol w="2922840"/>
                <a:gridCol w="2527200"/>
              </a:tblGrid>
              <a:tr h="401400"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  <a:tr h="3654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Training Progr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-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IE QSE Ope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Rs, PCRRs and Supply Hedg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654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ettlements 3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–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650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Model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ssion 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½ –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2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101 for Wind Gen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3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nformation Sys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pic>
        <p:nvPicPr>
          <p:cNvPr id="109" name="" descr="Coming Attractions"/>
          <p:cNvPicPr/>
          <p:nvPr/>
        </p:nvPicPr>
        <p:blipFill>
          <a:blip r:embed="rId1"/>
          <a:stretch/>
        </p:blipFill>
        <p:spPr>
          <a:xfrm>
            <a:off x="3019320" y="5403960"/>
            <a:ext cx="3990960" cy="707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Market Courses for Load Serving Entiti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Market Courses for Load Serving Entiti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65040" y="1163520"/>
          <a:ext cx="8721720" cy="2260800"/>
        </p:xfrm>
        <a:graphic>
          <a:graphicData uri="http://schemas.openxmlformats.org/drawingml/2006/table">
            <a:tbl>
              <a:tblPr/>
              <a:tblGrid>
                <a:gridCol w="2828880"/>
                <a:gridCol w="5527800"/>
                <a:gridCol w="365040"/>
              </a:tblGrid>
              <a:tr h="345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Nodal 101: The Bas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 14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NRG Energy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(Houst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 11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ERCOT Austin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(Austin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Serving Entity 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 22-23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Post Oak Central</a:t>
                      </a: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(Houston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 27-28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Reliant</a:t>
                      </a: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(Houston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-3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Atrium</a:t>
                      </a: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(Dallas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Picture 108" descr="j0355427[1]"/>
          <p:cNvPicPr/>
          <p:nvPr/>
        </p:nvPicPr>
        <p:blipFill>
          <a:blip r:embed="rId6"/>
          <a:stretch/>
        </p:blipFill>
        <p:spPr>
          <a:xfrm>
            <a:off x="7329600" y="1523880"/>
            <a:ext cx="1814400" cy="1501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66360" y="5257800"/>
            <a:ext cx="834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http://nodal.ercot.com/training/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2286000" y="3733920"/>
            <a:ext cx="1371600" cy="1301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62520" y="3886200"/>
            <a:ext cx="4419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-Based Training currently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Nodal 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tion to Nodal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838160" y="255600"/>
            <a:ext cx="7175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2916360" y="2503440"/>
            <a:ext cx="2714400" cy="20368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4111560" y="22795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854800" y="1935000"/>
            <a:ext cx="287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 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2"/>
          <p:cNvGrpSpPr/>
          <p:nvPr/>
        </p:nvGrpSpPr>
        <p:grpSpPr>
          <a:xfrm>
            <a:off x="2311560" y="4684680"/>
            <a:ext cx="4500360" cy="1176120"/>
            <a:chOff x="2311560" y="4684680"/>
            <a:chExt cx="4500360" cy="1176120"/>
          </a:xfrm>
        </p:grpSpPr>
        <p:grpSp>
          <p:nvGrpSpPr>
            <p:cNvPr id="124" name="Group 21"/>
            <p:cNvGrpSpPr/>
            <p:nvPr/>
          </p:nvGrpSpPr>
          <p:grpSpPr>
            <a:xfrm>
              <a:off x="2311560" y="4684680"/>
              <a:ext cx="4500360" cy="1176120"/>
              <a:chOff x="2311560" y="4684680"/>
              <a:chExt cx="4500360" cy="1176120"/>
            </a:xfrm>
          </p:grpSpPr>
          <p:pic>
            <p:nvPicPr>
              <p:cNvPr id="125" name="Picture 9" descr="Number-48-Texas-Map-Nodes"/>
              <p:cNvPicPr/>
              <p:nvPr/>
            </p:nvPicPr>
            <p:blipFill>
              <a:blip r:embed="rId2"/>
              <a:stretch/>
            </p:blipFill>
            <p:spPr>
              <a:xfrm>
                <a:off x="5738760" y="4719600"/>
                <a:ext cx="1073160" cy="102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Picture 10" descr="Number-34c-ERCOT-Congestion"/>
              <p:cNvPicPr/>
              <p:nvPr/>
            </p:nvPicPr>
            <p:blipFill>
              <a:blip r:embed="rId3"/>
              <a:stretch/>
            </p:blipFill>
            <p:spPr>
              <a:xfrm>
                <a:off x="2311560" y="4711680"/>
                <a:ext cx="1074600" cy="10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Picture 11" descr="MCj04131380000[1]"/>
              <p:cNvPicPr/>
              <p:nvPr/>
            </p:nvPicPr>
            <p:blipFill>
              <a:blip r:embed="rId4"/>
              <a:stretch/>
            </p:blipFill>
            <p:spPr>
              <a:xfrm>
                <a:off x="3805200" y="4684680"/>
                <a:ext cx="1677960" cy="11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Text Box 17"/>
              <p:cNvSpPr/>
              <p:nvPr/>
            </p:nvSpPr>
            <p:spPr>
              <a:xfrm>
                <a:off x="3573360" y="5456160"/>
                <a:ext cx="1521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arket Trai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Text Box 12"/>
            <p:cNvSpPr/>
            <p:nvPr/>
          </p:nvSpPr>
          <p:spPr>
            <a:xfrm>
              <a:off x="3019320" y="4724280"/>
              <a:ext cx="338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RCOT Nodal Market Trans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hailu</cp:lastModifiedBy>
  <dcterms:modified xsi:type="dcterms:W3CDTF">2007-08-08T03:26:56Z</dcterms:modified>
  <cp:revision>82</cp:revision>
  <dc:subject/>
  <dc:title>Instructions</dc:title>
</cp:coreProperties>
</file>