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8227-0D8E-481B-944F-AA026D7D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7266-6820-49EB-B938-08895E38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34BC-5DC8-4A61-B570-8F5722AB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DF27-CAE0-43CD-BA97-F72A2A5C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FBB2-E5F7-4443-9F51-BEC65C43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FFEF-D5B0-4ACE-BE59-8FC39FCA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DB72-A2AF-42B9-B1FE-E570F769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04F8-95DA-4579-B77A-B681FC6A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F7C6-405D-4DC8-8904-5020BFA3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C1F1-9E01-4B22-806D-05B51653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4CC1-8AE6-4E68-AE86-9A2B55E9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B030-BF56-4159-B2D8-A95A6092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9178-893C-4A0B-B72F-9DE8DB563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hyperlink" Target="https://mail1.ercot.com/exchweb/bin/redir.asp?URL=https://marketrak.ercot.com:8443/tmtrack.dll" TargetMode="External"/><Relationship Id="rId3" Type="http://schemas.openxmlformats.org/officeDocument/2006/relationships/hyperlink" Target="https://mail1.ercot.com/exchweb/bin/redir.asp?URL=https://tcr.ercot.com" TargetMode="External"/><Relationship Id="rId4" Type="http://schemas.openxmlformats.org/officeDocument/2006/relationships/hyperlink" Target="https://mail1.ercot.com/exchweb/bin/redir.asp?URL=https://tcr.ercot.com" TargetMode="External"/><Relationship Id="rId5" Type="http://schemas.openxmlformats.org/officeDocument/2006/relationships/hyperlink" Target="http://www.texasrenewables.com/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SLA Exception Reques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VISE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MS – Aug. 15,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s ERCOT requesting?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is requesting an exception to the SLA for the following migration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25, 2007 12:00PM through August 27, 2007 12:00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ion of databases to AIX (registration, translation mapping, messag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ion of application to AIX (messag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tember 15, 2007 12:00PM through September 17, 2007 12:00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ion of databases to AIX (settlements and bi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tember 22, 2007 12:00PM through September 24, 2007 12:00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maintenance release (rescheduled from Sept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w will services be impacted?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Participants utilizing NAESB to send/receive transactions to/from ERCOT will NOT be able to send/receive transactions to/from ERCOT during the outage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67 Transactions will NOT be forwarded during the outa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Functional Acknowledgements will NOT be sent during the outa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onents of the TML and Commercial API will NOT be available including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 ESI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 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 Functiona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Data Transparency Web Serv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 Schedul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Explorer, inclu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o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 Stat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 Schedul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COT Internet Services will NOT be available, including but not limited to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.com –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rco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rak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marketrak.ercot.com:8443/tmtrack.d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R –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cr.ercot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as Renewables –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texasrenewabl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, Scheduling API, MOSTML, MOSPUBLIC, and Outage Scheduler will not be affected as there will be a DNS failover from Taylor to Austin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y can’t ERCOT use planned weekends?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teams have been working diligently to use planned weekends where appropri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me and resources needed for both the Retail release and the AIX migrations prevent them from occurring on the sam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at impact to Annual Validation schedules?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Load Profiling team is communicating updated schedule information to the TDS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is able to expand the window for submission to three (3) evenings during the week to offset the outages that ERCOT will need on weeke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hould accelerate the schedule and have minimal impact to the Market Participants and meet the needs of the Market for the Annual Valid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kfarley</cp:lastModifiedBy>
  <dcterms:modified xsi:type="dcterms:W3CDTF">2007-08-13T16:11:18Z</dcterms:modified>
  <cp:revision>67</cp:revision>
  <dc:subject/>
  <dc:title>Instructions</dc:title>
</cp:coreProperties>
</file>