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81128-ACF7-479D-9D2F-4F71FB159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3C52C-3A56-494D-843E-FCBC40445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82A40-CE1D-49C0-9FD9-3244843ED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9F55E-5014-490E-A035-DE6DF5F51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BD82C-16E8-4DA1-ACF7-E8FB9B2E7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B4AFF-E61F-4175-8FD4-121775901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BE0E8-2DB8-42D2-991E-965A886F0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6DA5C-17EA-4484-9E2F-06003405E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8C1A6-15E5-4890-9BE9-004670DED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5AAED-3B86-4E8A-94BB-6C190D85C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DFF6D-640B-49D4-AC46-4F856B07C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4924D-D58E-4377-8F8D-8CC821835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6DFA2-0C7F-4D0D-AB9B-AEB94DD3E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11A11-CF88-469E-98BF-A72FAEEB2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B78C2-92A4-4AFE-B6C0-B30CEFA9F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23DAB-A5B5-4D8F-AE69-DFEE7EA8E8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E7D18-1D35-4FBA-AB20-F89A92069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B796A-5283-4DB3-A1CD-9310D601E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65F9A-9CD2-4ADF-A370-89E0A8030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57972-930A-46CD-90F0-981C28C6F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62C8E-C1CF-4BEC-B769-EFFD0409B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F6608-CA19-42FB-BD04-F37BE21A7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3BAEA-C322-4164-B3E7-F6C8E3056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2409D-40F0-493D-BA1D-FA7F8C106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41E9-00FE-4D22-936F-C23AD06FE20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4F97-8358-4480-99EB-3C6A683F908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RMS Update to TAC</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2,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tail Market Guide Revisions  (VOTE)</a:t>
            </a:r>
            <a:endParaRPr b="0" lang="en-US" sz="38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GRR’s 053, 054 and 055 were all unanimously approved by RMS and provide minimal or no cost impacts to ERCO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MS Recommends APPROVAL of the RMGR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Issues with net metering and small renewable generation</a:t>
            </a:r>
            <a:endParaRPr b="0" lang="en-US" sz="36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ch 30, 2007 TAC directed RMS to “identify issues with net metering and small renewable gener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tail Metering WG facilitated retail market workshops to identify those issues and be considerate of impacts from Advanced Metering Rulemaking and HB 3693</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nce last report to TAC, Retail Metering Workshop met July 9 and July 3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Net metering and small renewable generation discussion  (cont.)</a:t>
            </a:r>
            <a:endParaRPr b="0" lang="en-US" sz="38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ations from workshop</a:t>
            </a:r>
            <a:endParaRPr b="0" lang="en-US" sz="22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 of effort defined as Small Renewable Generation is 50kW and les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ERCOT Protocols, TDSP is not required to provide generation values for 50 kW and les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ve 50kW up to 2mW is covered by HB 3693 </a:t>
            </a:r>
            <a:endParaRPr b="0" lang="en-US" sz="2000" spc="-1" strike="noStrike">
              <a:solidFill>
                <a:srgbClr val="000000"/>
              </a:solidFill>
              <a:latin typeface="Arial"/>
            </a:endParaRPr>
          </a:p>
          <a:p>
            <a:pPr lvl="3" marL="1339920" indent="-316080">
              <a:lnSpc>
                <a:spcPct val="80000"/>
              </a:lnSpc>
              <a:spcBef>
                <a:spcPts val="40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DSP required to send inflow and outflow values</a:t>
            </a:r>
            <a:endParaRPr b="0" lang="en-US" sz="16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s currently address and Settlement is supported</a:t>
            </a:r>
            <a:endParaRPr b="0" lang="en-US" sz="2000" spc="-1" strike="noStrike">
              <a:solidFill>
                <a:srgbClr val="000000"/>
              </a:solidFill>
              <a:latin typeface="Arial"/>
            </a:endParaRPr>
          </a:p>
          <a:p>
            <a:pPr lvl="3" marL="13399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regate issues by Retail; Commercial Operations; Wholesale Market, Retail Operations and PUCT </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0" name=""/>
          <p:cNvGraphicFramePr/>
          <p:nvPr/>
        </p:nvGraphicFramePr>
        <p:xfrm>
          <a:off x="3657600" y="4191120"/>
          <a:ext cx="914400" cy="714240"/>
        </p:xfrm>
        <a:graphic>
          <a:graphicData uri="http://schemas.openxmlformats.org/presentationml/2006/ole">
            <p:oleObj progId="Word.Document.12" r:id="rId1" spid="">
              <p:embed/>
              <p:pic>
                <p:nvPicPr>
                  <p:cNvPr id="111" name="" descr=""/>
                  <p:cNvPicPr/>
                  <p:nvPr/>
                </p:nvPicPr>
                <p:blipFill>
                  <a:blip r:embed="rId2"/>
                  <a:stretch/>
                </p:blipFill>
                <p:spPr>
                  <a:xfrm>
                    <a:off x="3657600" y="41911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Net metering and small renewable generation discussion  (cont.)</a:t>
            </a:r>
            <a:endParaRPr b="0" lang="en-US" sz="3200" spc="-1" strike="noStrike">
              <a:solidFill>
                <a:srgbClr val="006633"/>
              </a:solidFill>
              <a:latin typeface="Garamond"/>
            </a:endParaRPr>
          </a:p>
        </p:txBody>
      </p:sp>
      <p:sp>
        <p:nvSpPr>
          <p:cNvPr id="113" name="PlaceHolder 2"/>
          <p:cNvSpPr>
            <a:spLocks noGrp="1"/>
          </p:cNvSpPr>
          <p:nvPr>
            <p:ph/>
          </p:nvPr>
        </p:nvSpPr>
        <p:spPr>
          <a:xfrm>
            <a:off x="380880" y="1371600"/>
            <a:ext cx="8382240" cy="4952880"/>
          </a:xfrm>
          <a:prstGeom prst="rect">
            <a:avLst/>
          </a:prstGeom>
          <a:noFill/>
          <a:ln w="0">
            <a:noFill/>
          </a:ln>
        </p:spPr>
        <p:txBody>
          <a:bodyPr lIns="90000" rIns="90000" tIns="46800" bIns="46800"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Market</a:t>
            </a:r>
            <a:endParaRPr b="0" lang="en-US" sz="18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age transaction communicates both load and generation values (Short and a Long Term)</a:t>
            </a:r>
            <a:endParaRPr b="0" lang="en-US" sz="1700" spc="-1" strike="noStrike">
              <a:solidFill>
                <a:srgbClr val="000000"/>
              </a:solidFill>
              <a:latin typeface="Arial"/>
            </a:endParaRPr>
          </a:p>
          <a:p>
            <a:pPr lvl="2" marL="1022400" indent="-351000">
              <a:lnSpc>
                <a:spcPct val="90000"/>
              </a:lnSpc>
              <a:spcBef>
                <a:spcPts val="37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33"/>
                </a:solidFill>
                <a:latin typeface="Arial"/>
              </a:rPr>
              <a:t>Texas SET proposed interim solution.  Subsequent to that, PUCT Staff has indicated that the TDSP has no obligation to provide both the inflow and outflow values of the onsite generation by the 09/07 effective date of HB3693</a:t>
            </a:r>
            <a:endParaRPr b="0" lang="en-US" sz="15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I ID Maintenance transaction that identifies “advanced” metering, if applicable (LongTerm) </a:t>
            </a:r>
            <a:endParaRPr b="0" lang="en-US" sz="1700" spc="-1" strike="noStrike">
              <a:solidFill>
                <a:srgbClr val="000000"/>
              </a:solidFill>
              <a:latin typeface="Arial"/>
            </a:endParaRPr>
          </a:p>
          <a:p>
            <a:pPr marL="343080" indent="-343080">
              <a:lnSpc>
                <a:spcPct val="9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ercial Op’s</a:t>
            </a:r>
            <a:endParaRPr b="0" lang="en-US" sz="1700" spc="-1" strike="noStrike">
              <a:solidFill>
                <a:srgbClr val="000000"/>
              </a:solidFill>
              <a:latin typeface="Arial"/>
            </a:endParaRPr>
          </a:p>
          <a:p>
            <a:pPr lvl="1" marL="669960" indent="-325440">
              <a:lnSpc>
                <a:spcPct val="9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for profile impacts associated with DG, TOU, DLC (long term) </a:t>
            </a:r>
            <a:endParaRPr b="0" lang="en-US" sz="1600" spc="-1" strike="noStrike">
              <a:solidFill>
                <a:srgbClr val="000000"/>
              </a:solidFill>
              <a:latin typeface="Arial"/>
            </a:endParaRPr>
          </a:p>
          <a:p>
            <a:pPr lvl="2" marL="1022400" indent="-351000">
              <a:lnSpc>
                <a:spcPct val="90000"/>
              </a:lnSpc>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33"/>
                </a:solidFill>
                <a:latin typeface="Arial"/>
              </a:rPr>
              <a:t>PWG actively reviewing and making updates to Protocols and Load Profiling Guides</a:t>
            </a:r>
            <a:endParaRPr b="0" lang="en-US" sz="1400" spc="-1" strike="noStrike">
              <a:solidFill>
                <a:srgbClr val="000000"/>
              </a:solidFill>
              <a:latin typeface="Arial"/>
            </a:endParaRPr>
          </a:p>
          <a:p>
            <a:pPr lvl="1" marL="669960" indent="-325440">
              <a:lnSpc>
                <a:spcPct val="9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settlement still occur based on current profiles regardless of DG, TOU, DLC? </a:t>
            </a:r>
            <a:endParaRPr b="0" lang="en-US" sz="1600" spc="-1" strike="noStrike">
              <a:solidFill>
                <a:srgbClr val="000000"/>
              </a:solidFill>
              <a:latin typeface="Arial"/>
            </a:endParaRPr>
          </a:p>
          <a:p>
            <a:pPr lvl="2" marL="1022400" indent="-351000">
              <a:lnSpc>
                <a:spcPct val="90000"/>
              </a:lnSpc>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33"/>
                </a:solidFill>
                <a:latin typeface="Arial"/>
              </a:rPr>
              <a:t>SaDAWG and PWG will discuss</a:t>
            </a:r>
            <a:endParaRPr b="0" lang="en-US" sz="1400" spc="-1" strike="noStrike">
              <a:solidFill>
                <a:srgbClr val="000000"/>
              </a:solidFill>
              <a:latin typeface="Arial"/>
            </a:endParaRPr>
          </a:p>
          <a:p>
            <a:pPr lvl="1" marL="669960" indent="-325440">
              <a:lnSpc>
                <a:spcPct val="9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relationship between QSE, REP and Consumer?</a:t>
            </a:r>
            <a:endParaRPr b="0" lang="en-US" sz="1600" spc="-1" strike="noStrike">
              <a:solidFill>
                <a:srgbClr val="000000"/>
              </a:solidFill>
              <a:latin typeface="Arial"/>
            </a:endParaRPr>
          </a:p>
          <a:p>
            <a:pPr lvl="1" marL="669960" indent="-325440">
              <a:lnSpc>
                <a:spcPct val="9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generation create credit against REP load?</a:t>
            </a:r>
            <a:endParaRPr b="0" lang="en-US" sz="1600" spc="-1" strike="noStrike">
              <a:solidFill>
                <a:srgbClr val="000000"/>
              </a:solidFill>
              <a:latin typeface="Arial"/>
            </a:endParaRPr>
          </a:p>
          <a:p>
            <a:pPr lvl="1" marL="669960" indent="-325440">
              <a:lnSpc>
                <a:spcPct val="9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threshold for QSE involvement?</a:t>
            </a:r>
            <a:endParaRPr b="0" lang="en-US" sz="1600" spc="-1" strike="noStrike">
              <a:solidFill>
                <a:srgbClr val="000000"/>
              </a:solidFill>
              <a:latin typeface="Arial"/>
            </a:endParaRPr>
          </a:p>
          <a:p>
            <a:pPr lvl="1" marL="669960" indent="-325440">
              <a:lnSpc>
                <a:spcPct val="9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settlement occur when generation value creates a negative? </a:t>
            </a:r>
            <a:endParaRPr b="0" lang="en-US" sz="1600" spc="-1" strike="noStrike">
              <a:solidFill>
                <a:srgbClr val="000000"/>
              </a:solidFill>
              <a:latin typeface="Arial"/>
            </a:endParaRPr>
          </a:p>
          <a:p>
            <a:pPr lvl="2" marL="1022400" indent="-351000">
              <a:lnSpc>
                <a:spcPct val="90000"/>
              </a:lnSpc>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33"/>
                </a:solidFill>
                <a:latin typeface="Arial"/>
              </a:rPr>
              <a:t>SaDAWG will be discussing</a:t>
            </a:r>
            <a:endParaRPr b="0" lang="en-US" sz="14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Net metering and small renewable generation discussion  (cont.)</a:t>
            </a:r>
            <a:endParaRPr b="0" lang="en-US" sz="38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ail Operations </a:t>
            </a:r>
            <a:endParaRPr b="0" lang="en-US" sz="26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deployment of small renewable generation on distribution feeders raise any concerns from a grid reliability or operations perspective?</a:t>
            </a:r>
            <a:endParaRPr b="0" lang="en-US" sz="24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lesale Market</a:t>
            </a:r>
            <a:endParaRPr b="0" lang="en-US" sz="26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component for the purchase of small renewable energy?</a:t>
            </a:r>
            <a:endParaRPr b="0" lang="en-US" sz="24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CT</a:t>
            </a:r>
            <a:endParaRPr b="0" lang="en-US" sz="26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ubstantive Rules consistent with HB3693?</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the TDSP bill for all power delivered or on net flow for period?</a:t>
            </a:r>
            <a:endParaRPr b="0" lang="en-US" sz="2400" spc="-1" strike="noStrike">
              <a:solidFill>
                <a:srgbClr val="000000"/>
              </a:solidFill>
              <a:latin typeface="Arial"/>
            </a:endParaRPr>
          </a:p>
          <a:p>
            <a:pPr lvl="1" marL="669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6" name=""/>
          <p:cNvGraphicFramePr/>
          <p:nvPr/>
        </p:nvGraphicFramePr>
        <p:xfrm>
          <a:off x="4038480" y="5486400"/>
          <a:ext cx="914400" cy="714240"/>
        </p:xfrm>
        <a:graphic>
          <a:graphicData uri="http://schemas.openxmlformats.org/presentationml/2006/ole">
            <p:oleObj progId="Word.Document.12" r:id="rId1" spid="">
              <p:embed/>
              <p:pic>
                <p:nvPicPr>
                  <p:cNvPr id="117" name="" descr=""/>
                  <p:cNvPicPr/>
                  <p:nvPr/>
                </p:nvPicPr>
                <p:blipFill>
                  <a:blip r:embed="rId2"/>
                  <a:stretch/>
                </p:blipFill>
                <p:spPr>
                  <a:xfrm>
                    <a:off x="4038480" y="548640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600200" y="1143000"/>
            <a:ext cx="5486400" cy="4952880"/>
          </a:xfrm>
          <a:prstGeom prst="rect">
            <a:avLst/>
          </a:prstGeom>
          <a:ln w="0">
            <a:noFill/>
          </a:ln>
        </p:spPr>
      </p:pic>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Questions?</a:t>
            </a:r>
            <a:endParaRPr b="0" lang="en-US" sz="4200" spc="-1" strike="noStrike">
              <a:solidFill>
                <a:srgbClr val="006633"/>
              </a:solidFill>
              <a:latin typeface="Garamond"/>
            </a:endParaRPr>
          </a:p>
        </p:txBody>
      </p:sp>
      <p:pic>
        <p:nvPicPr>
          <p:cNvPr id="120" name="" descr=""/>
          <p:cNvPicPr/>
          <p:nvPr/>
        </p:nvPicPr>
        <p:blipFill>
          <a:blip r:embed="rId2"/>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MS Activity Summary</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749, MarkeTrak Enhancements (Vot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ail Market Guide Revisions (Vot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3 Conforming RMG to Section 21and other Guide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4 Provision of Customer Billing Info to TDSP’s during Mass Transition event</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5 Transaction Timings</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on TAC directive relating to identifying issues with net metering and small renewable genera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COT Service Level Agreement Upda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SCR749 MarkeTrak Enhancements (VOTE)</a:t>
            </a:r>
            <a:endParaRPr b="0" lang="en-US" sz="3600" spc="-1" strike="noStrike">
              <a:solidFill>
                <a:srgbClr val="006633"/>
              </a:solidFill>
              <a:latin typeface="Garamond"/>
            </a:endParaRPr>
          </a:p>
        </p:txBody>
      </p:sp>
      <p:sp>
        <p:nvSpPr>
          <p:cNvPr id="9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Phase 2.  First Phase was implemented November 13, 2006</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ase 2 adds functionality:</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ing usability</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ing workflow of MarkeTrak issu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ing reporting capability</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enhancements will make it more efficient for MP’s to manage and track their retail issues and data resolutions with ERCOT.</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SCR749 MarkeTrak Enhancements</a:t>
            </a:r>
            <a:r>
              <a:rPr b="0" lang="en-US" sz="4200" spc="-1" strike="noStrike">
                <a:solidFill>
                  <a:srgbClr val="006633"/>
                </a:solidFill>
                <a:latin typeface="Garamond"/>
              </a:rPr>
              <a:t> </a:t>
            </a:r>
            <a:r>
              <a:rPr b="0" lang="en-US" sz="3200" spc="-1" strike="noStrike">
                <a:solidFill>
                  <a:srgbClr val="006633"/>
                </a:solidFill>
                <a:latin typeface="Garamond"/>
              </a:rPr>
              <a:t>(cont.)</a:t>
            </a:r>
            <a:endParaRPr b="0" lang="en-US" sz="3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dget set at $1.5M</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imated cost is at just over $1M but set at midpoint of range per ERCOT practic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5% contingency adder include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ludes addition of 1 FTE to support automation production and monitoring need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PPL with High Priority and Rank of 9</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Requirements documents are set, RMS will review prior to Execution Phas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SCR749 MarkeTrak Enhancements</a:t>
            </a:r>
            <a:r>
              <a:rPr b="0" lang="en-US" sz="4200" spc="-1" strike="noStrike">
                <a:solidFill>
                  <a:srgbClr val="006633"/>
                </a:solidFill>
                <a:latin typeface="Garamond"/>
              </a:rPr>
              <a:t> </a:t>
            </a:r>
            <a:r>
              <a:rPr b="0" lang="en-US" sz="3200" spc="-1" strike="noStrike">
                <a:solidFill>
                  <a:srgbClr val="006633"/>
                </a:solidFill>
                <a:latin typeface="Garamond"/>
              </a:rPr>
              <a:t>(cont.)</a:t>
            </a:r>
            <a:endParaRPr b="0" lang="en-US" sz="3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siness Case and RMS Recommendation report based on effort of Market Participants and ERCOT Staff working jointly to identify gaps and improvement opportuniti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S Task Force created based on input at Lessons Learned Workshop to support effective market communications, consistency of understanding and successful implementation. First Meeting on July 3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SCR749 MarkeTrak Enhancements</a:t>
            </a:r>
            <a:r>
              <a:rPr b="0" lang="en-US" sz="4200" spc="-1" strike="noStrike">
                <a:solidFill>
                  <a:srgbClr val="006633"/>
                </a:solidFill>
                <a:latin typeface="Garamond"/>
              </a:rPr>
              <a:t> </a:t>
            </a:r>
            <a:r>
              <a:rPr b="0" lang="en-US" sz="3200" spc="-1" strike="noStrike">
                <a:solidFill>
                  <a:srgbClr val="006633"/>
                </a:solidFill>
                <a:latin typeface="Garamond"/>
              </a:rPr>
              <a:t>(cont.)</a:t>
            </a:r>
            <a:endParaRPr b="0" lang="en-US" sz="3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ne 13 RMS Unanimously Approv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ly 11 RMS Approved Recommendation Report and endorsed IA and CB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ly 19  PRS Approve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MS requests affirming approval vote from TAC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tail Market Guide Revisions  (VOTE)</a:t>
            </a:r>
            <a:endParaRPr b="0" lang="en-US" sz="38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GRR053 Conforming RMG to Section 21 of Protocols and other Market Guide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s RMG to accurately reflect NERC name change</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es that an RMGRR associated with an ERCOT project will be assigned to “Unfunded Project List” unless can be funded in current cycle.</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ies guidelines for determining “Urgent” statu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RCOT impact. No cost associated.</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tail Market Guide Revisions  (VOTE)</a:t>
            </a: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GRR054  Provision of Customer Billing Info to TDSP during Mass Transition Even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ERCOT to provide Customer Name, ESI ID and Phone contact received from Defaulting CR to the TDSP during Mass Transition event.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TDSP with Customer Data needed for outage purpos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han $50k cost impact and managed under Project 60008_01, T’s and C’s Requirements, current budget without an increase</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tail Market Guide Revisions  (VOTE)</a:t>
            </a:r>
            <a:endParaRPr b="0" lang="en-US" sz="38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GRR055 Transaction Timing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moves references to Drop to AREP</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nchronizes Transaction Timing Matrix with the Approved PRR672 supporting PUCT Rulemaking 29637, Standard Terms and Conditions for IOU’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consistency with ERCOT Protocols, as revised by PRR672, PRR693 and PRR707</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cost impact to ERCO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13:47:10Z</dcterms:created>
  <dc:creator>AEP</dc:creator>
  <dc:description/>
  <dc:language>en-US</dc:language>
  <cp:lastModifiedBy>AEP</cp:lastModifiedBy>
  <dcterms:modified xsi:type="dcterms:W3CDTF">2007-08-07T12:31:25Z</dcterms:modified>
  <cp:revision>29</cp:revision>
  <dc:subject/>
  <dc:title>RMS Update to TAC</dc:title>
</cp:coreProperties>
</file>