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631A8-3C57-41DB-B878-81A577718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96B28-36E2-41DD-A88A-73055BD1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7F69C-9AF3-4E9B-875E-40CCA8B36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34B05-66C7-4594-88AC-9E0556775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C429C-287D-42FC-9772-8DB2BAB4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9DA75-3FB3-440E-AB7F-C73DD23B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FD3B0-17E6-4BB5-801F-19143A7D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FC0DB-5BA4-4E7F-B97A-27E2E1B3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C3251-38EB-4EED-9BB7-52F51266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27273-8CAC-4BFE-B1FA-56B2A15B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A492C-28D3-4163-AB7E-360C4853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04A64-DACC-489E-AA79-43161F9D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1C03-D015-497A-9712-86B7253C7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RCOT Service Availability Metric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July 20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7 Net Service Availability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0" y="838080"/>
          <a:ext cx="8839080" cy="518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883908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July 2007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838080"/>
          <a:ext cx="8915400" cy="510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8915400" cy="51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Transaction Processing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280" y="914400"/>
          <a:ext cx="8610840" cy="532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14400"/>
                    <a:ext cx="8610840" cy="53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ML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838080" y="914400"/>
          <a:ext cx="7543800" cy="52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14400"/>
                    <a:ext cx="7543800" cy="52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keTrak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5800" y="914400"/>
          <a:ext cx="7620120" cy="53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7620120" cy="53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asmallwood</cp:lastModifiedBy>
  <dcterms:modified xsi:type="dcterms:W3CDTF">2007-08-07T22:14:48Z</dcterms:modified>
  <cp:revision>60</cp:revision>
  <dc:subject/>
  <dc:title>Instructions</dc:title>
</cp:coreProperties>
</file>