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AAE2-9DE7-46DA-BD05-D03EA947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1F1F-FD02-46B5-BFEB-93CCEBB4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1258-F657-4789-9883-AE7465AE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752-AE96-4C00-9F54-C3D1F4B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1762-C4B9-46BF-B780-C0E85BCE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7AD8-9340-4FD2-A638-3D4507A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1499-FBF4-47D7-8AF1-1698078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4C6-C5EE-44D8-B1C7-0ED3D6CB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C07-D54A-4E5D-863E-D8BF6E0D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F58-8768-422E-8BE7-0A6D77D1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D29-BAF2-46DB-A2F1-8C48221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3D0A-91F7-4833-8D28-8C64A6B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99C1-EFB7-4A2A-A324-C2647AF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8CAF-4A00-42BC-B3F4-4DC2E71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A4C-30BD-44D7-9CF2-3224972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B9B6-FE19-4A4A-8915-6D166584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F78-F8A9-4E37-84E1-546733C4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6354-6731-4F9A-99CC-0D36751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79FE-585C-4869-A2B9-5B6609EC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0462-D1A2-4B97-8925-9941D3CA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8560-2E1E-428B-AEA5-977E4DB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9BCC-BA74-469D-AE9B-F0F8A8B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CB6F-BFF0-4EEE-9992-578E9B5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B7AE-9308-4F77-80D5-8F422CE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F5D-809A-4FFC-A2ED-BCD86116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800A-E1B2-4539-B5A1-2A1128D5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 rot="512400">
            <a:off x="1142640" y="5105160"/>
            <a:ext cx="5029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gency FB"/>
              </a:rPr>
              <a:t>August 15, 200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gency FB"/>
              <a:ea typeface="Agency FB"/>
            </a:endParaRPr>
          </a:p>
        </p:txBody>
      </p:sp>
      <p:sp>
        <p:nvSpPr>
          <p:cNvPr id="515" name=""/>
          <p:cNvSpPr txBox="1"/>
          <p:nvPr/>
        </p:nvSpPr>
        <p:spPr>
          <a:xfrm rot="499200">
            <a:off x="1143000" y="3889440"/>
            <a:ext cx="57150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gency FB"/>
              </a:rPr>
              <a:t>RMS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gency FB"/>
              <a:ea typeface="Agency FB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895120" y="304920"/>
            <a:ext cx="3276720" cy="3275640"/>
            <a:chOff x="2895120" y="304920"/>
            <a:chExt cx="3276720" cy="3275640"/>
          </a:xfrm>
        </p:grpSpPr>
        <p:sp>
          <p:nvSpPr>
            <p:cNvPr id="517" name=""/>
            <p:cNvSpPr/>
            <p:nvPr/>
          </p:nvSpPr>
          <p:spPr>
            <a:xfrm flipV="1">
              <a:off x="3116880" y="1001880"/>
              <a:ext cx="2887200" cy="2577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50680" y="304920"/>
              <a:ext cx="171360" cy="1756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61480" y="592920"/>
              <a:ext cx="173520" cy="1760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87760" y="592920"/>
              <a:ext cx="173880" cy="1760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5400000">
              <a:off x="3831120" y="3169080"/>
              <a:ext cx="18072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5400000">
              <a:off x="3107520" y="2415600"/>
              <a:ext cx="18468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5400000">
              <a:off x="2886120" y="1479960"/>
              <a:ext cx="18468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5400000">
              <a:off x="5163480" y="3118320"/>
              <a:ext cx="182520" cy="1652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561480" y="1237680"/>
              <a:ext cx="2000160" cy="18720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5400000">
              <a:off x="5828760" y="2416680"/>
              <a:ext cx="184680" cy="164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rot="5400000">
              <a:off x="5995440" y="1479600"/>
              <a:ext cx="184680" cy="16776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3116880" y="1473840"/>
              <a:ext cx="2887200" cy="11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0760" dir="5400000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0760" dir="5400000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3e"/>
                </a:solidFill>
                <a:latin typeface="Agency FB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11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e"/>
                </a:solidFill>
                <a:latin typeface="Agency FB"/>
              </a:rPr>
              <a:t>Texas Market Test Plan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31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43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gency FB"/>
              </a:rPr>
              <a:t>Discussion Topic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Updates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Cosmetic updates with the appropriate acronyms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94320" indent="-198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e"/>
                </a:solidFill>
                <a:latin typeface="Agency FB"/>
              </a:rPr>
              <a:t>MP for Market Participant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94320" indent="-198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e"/>
                </a:solidFill>
                <a:latin typeface="Agency FB"/>
              </a:rPr>
              <a:t>MISP for Market Information Service Provider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94320" indent="-198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e"/>
                </a:solidFill>
                <a:latin typeface="Agency FB"/>
              </a:rPr>
              <a:t>TEXAS SET for TX SET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Updated definitions for terms in Appendix F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94320" indent="-198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e"/>
                </a:solidFill>
                <a:latin typeface="Agency FB"/>
              </a:rPr>
              <a:t>Established vs Non-Established 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Round Robin Testing language added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All changes are noted in the “Document History” section of the Texas Market Test Plan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46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58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gency FB"/>
              </a:rPr>
              <a:t>Voting Ite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04:51Z</dcterms:created>
  <dc:creator>Windows XP ver. 2.2</dc:creator>
  <dc:description/>
  <dc:language>en-US</dc:language>
  <cp:lastModifiedBy>Windows XP ver. 2.2</cp:lastModifiedBy>
  <dcterms:modified xsi:type="dcterms:W3CDTF">2007-08-01T22:01:06Z</dcterms:modified>
  <cp:revision>16</cp:revision>
  <dc:subject/>
  <dc:title>Update to RMS</dc:title>
</cp:coreProperties>
</file>