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F74-D261-447E-8400-AE6EB5F0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065-0DDB-42A3-91AA-C36AB14A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8D1-0629-44C5-9E14-8FDE850A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552-9131-4F07-BA94-3F78985E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D3F2-39D4-45B2-8174-84871B62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2D6A-25EB-4B4A-8BCB-690C810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2817-B357-4957-9809-4B4E55B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B17D-C89D-4615-B479-19D7AE1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2455-4F51-4014-A0BF-78331412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E171-32FB-4EA1-833F-97CB81D1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94F-F875-46D2-9F9D-06182A6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306-D256-4DF9-8B08-B6AC4082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08E-3112-4BAB-8B99-77CA5C7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9478-21FD-410C-B2B8-58034F9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1B6F-5B75-47C1-A913-5C07DC71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9E86-330C-4BA3-83A4-F60DB9D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B7DA-B9D9-4304-8A23-FCC63CC1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614-DCC6-4AA0-B5AB-720D8E4E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F06-BD83-4104-8FB6-997884E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C4D-73D7-447E-9F53-6010480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3B1-C7AD-4E5C-8D10-A4A85A15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F06-5D80-4FE0-A401-7B992369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343-DBC8-4E91-ABD8-704975E1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898-CEE5-48EF-9852-3C732E6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DD39-27F8-4C06-8FD4-957E34A865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9D6-61C0-4C88-8182-D0CB6AF46A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ugust 15, 2007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ick-Off Meeting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uly 30, 2007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ccomplish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greed to the scope and go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resentation was given by ERCOT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viding information on the timeline from Kickoff to Implem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viewing the new format for the detailed requirements docum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ditional requirements were addresse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order to meet the implementation timeline the task force will be meeting for 2-days twice a month through October 200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ugust  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and 7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viewed each of the MarkeTrak workflows for efficiencies (excluding IAG workflow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viewed MarkeTrak metrics presented by ERCO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rket Requirements were identified by subty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on Items from this meeting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om the reviews, additional requirements were identifi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velop Use Cases for discussions in next meet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ext Meeting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gust 21</a:t>
            </a:r>
            <a:r>
              <a:rPr b="0" lang="en-US" sz="40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and 22n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cation – Houston, TX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Point Energy at 1111 Louisiana St (Downtown)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ll review several preliminary Use Cases for comple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tion Item for subsequent meetings will be to continue the development of Use C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e are asking users to participate in the development and review of the requirements. It is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importan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hat we understand and have Market agreement on all of the proposed chan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e will be hosting our meetings at various locations so that all users have an opportunity to participate and provide inpu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5621</cp:lastModifiedBy>
  <dcterms:modified xsi:type="dcterms:W3CDTF">2007-08-07T20:38:07Z</dcterms:modified>
  <cp:revision>4</cp:revision>
  <dc:subject/>
  <dc:title>MarkeTrak Task Force</dc:title>
</cp:coreProperties>
</file>