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F90B-6B9D-49CA-9F9F-D1AB3F60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ffice.microsoft.com/en-us/workessentials/HA010929361033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ffice.microsoft.com/training/training.aspx?AssetID=RC011310531033&amp;pid=CR061831141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ffice.microsoft.com/en-us/templates/TC011863091033.aspx?pid=CT102036971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DAWG Update to COP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DAWG – Mini Marke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Large attendance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Detailed discussion of settlement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Possibly the base of the settlements training course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Discussion?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mercial Operations Data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tracts - Chang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ttlements Calendar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Dispute Extract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Load, Generation and Settlements and Billing Extracts\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DLF, TLF, UFE report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ttlements Calenda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Would be one record per operating day, settlement run.  The invoice date and other requirements from Protocols would be published for each record.  This is a change from today’s market.  Today, each row shows all settlement information for that day.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Would be updated daily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pute Extrac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We put off discussion of the dispute extracts until the next SDAWG meeting, when this will be an agenda item.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oad, Billing, S&amp;B Extrac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Header records include: H – UID, RECORDER, CHANNEL, ORIGIN, STARTTIME (OP DAY), STOPTIME, UOM &lt;MEASUREMENT_UNITS_CODE&gt;, SECONDS_PER_INTERVAL, DATA.ADDTIME/TIMESTAMP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etails records include UID, INT_ENDING, INT001_VALUE, INT001_STATUS…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XML format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s/Cons of X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PROS: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Newer standards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lexible with multiple programs (XML Spy, MSXML from SP7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tatements and Invoices are both produced as XM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onsistency with other file formats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Metadata support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tyle sheet could ‘prettify’ the data set like Client Data Reports 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an reference field name to value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Possibility to eliminate need to join multiple records in DD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ONS: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Increased file size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MPs that lack expertise to use it (Office 2003, 2007 support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Not able to use/modify loading tools from today for csvs (or would have to have a tool to convert from XML to CSV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PRR 78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uggested motion: COPS endorses and recommends NPRR 78 to PRS.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7:17:18Z</dcterms:created>
  <dc:creator>Eric Goff</dc:creator>
  <dc:description/>
  <dc:language>en-US</dc:language>
  <cp:lastModifiedBy>Eric Goff</cp:lastModifiedBy>
  <dcterms:modified xsi:type="dcterms:W3CDTF">2007-08-13T17:37:30Z</dcterms:modified>
  <cp:revision>5</cp:revision>
  <dc:subject/>
  <dc:title>SDAWG Update to COPS</dc:title>
</cp:coreProperties>
</file>