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188-BEAC-49E7-B599-37E696B9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265-BCA1-4F00-8E41-2CCC118F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DFA-8184-4714-A939-6878FA63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AEF-4882-4774-9087-F29D7842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AF3-9CB5-4CF4-A6AA-FABC080C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E6B-2B68-4C8C-909D-1A6563C5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C75-8AD9-406F-B0F1-7A70249E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49E1-DD39-4F6C-BDD8-C856F0E2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F80-ADD2-47DD-B315-E8128367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F4F-A67D-41B3-8BA4-CCA2216F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A2C-946C-4E4A-A93D-C6192088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AEE-AEB8-4A52-98A5-BD83A309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0140-32D3-4221-97CF-7F744B749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ugust 2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F0B-B57C-4187-8B35-25B87A8EAB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 (PWG)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ew and analysis of DLC demonstration programs (2-day meeting July 24 and 25) – developing LPGRR language for COPS to re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ubmit to COPS for consideration at August Meeting, LPGRR022 conforming the Load Profiling Guide to Protocol Section 21 and other market gu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3AF-CB1C-45FC-BA0B-BD902D12BD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 (PWG)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204920"/>
            <a:ext cx="792468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295-4330-47D3-93DA-1C8B75E3E8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and Data Acquisition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SDA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DAWG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– called attention to NPRR075 that was approved by PRS and TAC noting they had been working on a parallel NPRR without the opportunity to comment in a timely ma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llowing discussion, it was moved, seconded, and unanimously approved by COPS participants,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llowing Board Approval of NPRR075 that SDAWG will submit their Draft Nodal Dispute NPRR to PRS, 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o COPS for review and consideration at the August 14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COPS meeting for action and recommendation to PRS at their August mee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B1F2-7E0E-48FF-93F3-DE61B92B23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and Data Acquisition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SDA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DAWG sponsored with ERCOT Staff a Nodal Settlements Mini Workshop July 26</a:t>
            </a:r>
            <a:r>
              <a:rPr b="0" lang="en-US" sz="32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and 27</a:t>
            </a:r>
            <a:r>
              <a:rPr b="0" lang="en-US" sz="32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.  Pre registrations @ 7/25/07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5 participants representing 21 QSE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1 participants representing 8 LSE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 participants representing consul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orkshop also available via “web-ex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B81-162E-4906-A510-CB5C9315F2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ata Acquisition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br>
              <a:rPr sz="4400"/>
            </a:b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DE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RCOT Enterprise Information Services – (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updated presentation made to TAC 6/28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) reviewing Data Extract problems and called attention to software and system performance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llowing discussion, it was determined that the DEWG should again become active.  Jim Galvin was asked by COPS to chair DEWG which he accept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rst meeting of DEWG was on Monday July 30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6E7-B170-4FDD-86E4-9721F7223E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R720 TRE Fee Methodolo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llowing Discussion and review, COPS set up an Ad Hoc Committee to work with Staff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mplify the calculation of TREF and bi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ve personnel other that Settlements perform the billing and segregate TRE activity from ISP Protoc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mplement the change in process with the least intrusion to existing proce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velop a process for reconciling TRE costs vs TREF coll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d Hoc Committee chaired by Ken Riordon and Staff are to submit a plan to COPS at their August meeting to consider and forward to PRS for consideration at their August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F702-D25A-4D9E-9A6F-EB2E40068E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PS Communications Working Group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(CC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MGRR004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 (Vo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forming Commercial Operations Market Guide to the Current Protocols and Other ERCOT Market Gu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efining Administrative COPMGRRs and providing a process by which ERCOT Staff can submit such revision reque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roviding specific guidelines for COPS to use when determining whether a COPMGRR should be considered Ur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Impact Analy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verall Market Benefit is Conformance with current protocols and other Market Gu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o impact upon budget; ERCOT staffing; or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 Recommends to TAC approval of COPMGRR004</a:t>
            </a:r>
            <a:r>
              <a:rPr b="0" i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(V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4F9-A2D4-4ACE-AA46-CB6B74F98E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BE89-EC8A-4F57-9E06-6728BCB8E2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balbracht</cp:lastModifiedBy>
  <dcterms:modified xsi:type="dcterms:W3CDTF">2007-08-07T21:00:40Z</dcterms:modified>
  <cp:revision>218</cp:revision>
  <dc:subject/>
  <dc:title>Point-to-Point</dc:title>
</cp:coreProperties>
</file>