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8B40C-9075-46B9-A714-755F67F44E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7BE61-E1D1-489C-A834-22C4FFC6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8D734-413F-452F-900B-0938ED42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8D1B-0CAC-4588-A447-1583B7CC6D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D27-1911-470A-9EF1-B47A7A99E6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E9A-7DFC-4E5E-A314-926C28E387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3A3-6F83-412A-8A8D-965361DE02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AFD-359E-4C35-826A-AC804330FA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3DC-9EA6-4F30-A428-8F86936E10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982-A702-4596-AEA2-44704FFC63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CD6-89CF-4B8F-A0B8-2B89218A0F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BA29-FE68-41E5-8E41-5DA68272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47C-594B-43CA-A376-728B388B12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C10-8911-4B1D-94E0-AB4F8D7FB0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942-D3EE-4849-A3A9-7D7EB35B61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C0BE-8ABC-415E-B261-70EA7854D0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64F4-04B1-4E50-9956-5B6C3FC190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C08EB-5BB5-479F-A739-3E0D9B57C0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6B422-04CA-465C-9B48-52884846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D4C6B-99CF-4948-8895-094738F6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D853E-9C5C-4C50-9B0E-2B7E7D6D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ACD7C-B135-45AA-BE3A-E6C1BB98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76C98-B5F5-4759-8368-EC797262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70A0A-6FBD-4FFB-9B4D-267170FE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FA5DA-B566-44F0-9FFA-88EA103D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2AE5C-1F6C-4DBF-977E-2A2AEC9B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AF3C6-7200-40BF-AE62-34C7CF20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A0BA5-4D5B-4DE6-B7B9-25FEDA87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886E8-C9ED-465F-A92C-73104E13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704FC-74BE-465A-B5A7-F0ED40E6C1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1F9A-ED61-4590-9F83-4391DEA6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4EC81-3A3C-46EC-80F3-E1A82A27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53E1F-F0F2-4F76-ABA5-DEAA8E46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685A-9E4D-45E2-B341-475C30D9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3E26-EBF5-48D6-B6F3-C8F7F69E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4615C-24D0-483B-9626-88A3A398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707D-E57C-4481-90E2-F2C697D66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FF39-0FFB-4B4F-BBC0-3BACA9805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7D8E-1669-4205-87E0-972F0BC01D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rcot.com/mktrules/issues/lpgrr/000-024/022/index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rcot.com/mktrules/issues/lpgrr/000-024/023/index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rcot.com/mktrules/issues/lpgrr/000-024/022/index.html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 B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irro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Vice-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ugust 14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0A53-AB28-4966-A62D-719D27B298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1393920"/>
            <a:ext cx="861048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forming the Load Profiling Guide to Protocol Section 21 and Other ERCOT Market Guid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Verdana"/>
              </a:rPr>
              <a:t>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WG requests the following mo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at COPS recommend to the TAC approval of LPGRR0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ercot.com/mktrules/issues/lpgrr/000-024/022/index.html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01E4-A3CB-40C8-B0BF-2463B6FC09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1393920"/>
            <a:ext cx="861048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moval of Gray-Highlighted Text and Modification of TOU Schedule Approval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Verdana"/>
              </a:rPr>
              <a:t>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WG requests the following mo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at COPS remand back to the PWG LPGRR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ercot.com/mktrules/issues/lpgrr/000-024/023/inde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ason: To coordinate all TOU changes  </a:t>
            </a: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8B4B-A810-4C52-8D29-5273F2817A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1393920"/>
            <a:ext cx="86104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LC and Demand Respons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nsorshi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T to take the lead on small generation and advanced metering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Term Solutions Task Force has been fo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G is working on DLC language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 and Project allocation above the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 PWG Goal and ERCOT Staff resource al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) PWG agreed to focus on DLC for summer implementation and let other demand response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as needed in the Market Stakeholder process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R draft complete and LPGRR027 language pending Decision Tree changes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xpect LPGRR to the COPS in Nove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Implementation of ERCOT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Timeline (target summer 20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72436-8BEA-4F9C-A8A0-3479C60D53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1393920"/>
            <a:ext cx="86104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and Response Implementation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 21 – Estimated implementation with 150 day notice after Board Appr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807696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B1619-02FC-41B3-9B0E-254F020FB7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1393920"/>
            <a:ext cx="8610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R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and Response Rev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Verdana"/>
              </a:rPr>
              <a:t>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WG requests the following mo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at COPS approval and file the PRR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ercot.com/mktrules/issues/lpgrr/000-024/022/index.html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235B9-33D2-41B6-ADA8-535EE8F09F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876920" cy="2590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09480" y="4648320"/>
            <a:ext cx="8001000" cy="110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meets on the fourth Tuesday of the Month thru O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2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WG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E3AA7-49F1-4D8B-8054-9E9694ACA2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238400"/>
            <a:ext cx="8534160" cy="516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2E2CF-E889-4730-921A-600DADAA2D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828800"/>
            <a:ext cx="792504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Implement new Version 2 ERCOT Profiles.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9966"/>
              </a:buClr>
              <a:buFont typeface="Arial"/>
              <a:buAutoNum type="arabicPlain" startAt="2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LRS sample selection round two.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one.</a:t>
            </a:r>
            <a:r>
              <a:rPr b="0" lang="en-US" sz="1800" spc="-1" strike="noStrike">
                <a:solidFill>
                  <a:srgbClr val="00808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2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Oil &amp; Gas Profile – BUSOGFLT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cheduled 9/18/200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Annual Validation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n schedule. Additional slides to fol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the methodology for profile scaling factors (per UFETF Nov. 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2004, 2005 &amp; 2006 UFE Analysis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itial 2006 analysis complete as well as a comparison of old and new profiles on UFE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04 report is being work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7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ways to accommodate extreme events in Settlement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7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Long Term Strategy of Load Profiles including refresh timel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nged to Dec. target pending PUCT new project on advanced metering implem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1EA23-FB7F-47A3-B03F-47BA2C9521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295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752480"/>
            <a:ext cx="792504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R Analysis – 2 issues outstanding from original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f having more weather stations adds 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f the weighting of weather stations is appropr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DR installation procedure language to ensure complianc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nged to Dec. target d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having 2 decimals on load profiles significantly affect settlement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PGRR draft is submitted to Market Ru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LPG language on list based profiles and univers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CT Docket responses to demand response or AMR rule, etc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mand Response language has been reviewed by PWG on Aug. 1 &amp; 2. Details for Decision Tree changes is pend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Arial"/>
              <a:buAutoNum type="arabicPlain" startAt="16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Set up area on PWG web page for key 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documents. D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Arial"/>
              <a:buAutoNum type="arabicPlain" startAt="16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Review of load profiles as specified in market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97E1-1DEB-4E6A-8F90-9126897A94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9051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83024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to identify new profiles as specified in market languag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ary Voltage possibility being discus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the TOU procedures on the Load Profiling web sit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PGRR023 recommendation in slide to fol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 ways to improve Business Profile ID assig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analysis of DLC demonstration programs per Pilot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RCOT Staff is participating in the Pilot discuss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Protocol and LPG language for appropriateness for large Opt-in Ent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Protocol and LPG language for consistency with PUCT Load Research Rule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PGRR023 recommendation in slide to fol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F212-E199-45C2-BC08-E237AD10ED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1393920"/>
            <a:ext cx="86104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Validation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Schedu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ee PWG 7/25 meeting key doc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2,27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dential transactions to flow on 8/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9% of Residential Populat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6.3% estimated previous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dential lists available to C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list of changes to be issued 8/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CF446-1411-4253-804F-E6E7CA4D83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1393920"/>
            <a:ext cx="8610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 2 Load Research Sample 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lation completion due end of June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used site data being processed as u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meter procurement i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installations of sample meters has be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64EA-C7F7-4BDE-B957-8FE273BAB4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139392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est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ime is needed for Market Participant systems to be changed, if needed, to handle three decimals instead of two decimals for the published ERCOT Load Profi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 Da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3C37A-A556-4490-B1A2-1005045285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1393920"/>
            <a:ext cx="8610480" cy="41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ault Residential Profile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new ESII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by TA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PGRR effective date, 5/1/200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rket Notice has been s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cision Tree language to be gray box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TDSPs have six months to chang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mplementation date is 11/1/20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Just a Rem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A9DC4-059A-4F41-B11F-2212CAFC80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7-08-06T20:46:46Z</dcterms:modified>
  <cp:revision>263</cp:revision>
  <dc:subject/>
  <dc:title>PowerPoint Presentation</dc:title>
</cp:coreProperties>
</file>