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9C16-C0D3-4BC8-A22C-23466274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6506-98B1-4E76-8E1D-C7C5871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916E-F1E5-42F4-89A7-AC52E87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439D-684C-48A7-BEF0-0933C10F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C641-642A-457C-B5B1-B45CDE88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C676-74BA-4BD4-B60F-D8974EC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2CA7-17EF-40D3-8D16-CAFB4090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A114-1CB9-4D3C-AB24-F6E284F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44B8-6C7C-48E9-9371-FD1DBB5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1A0B-B0A3-4879-8EA3-1D9A931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30F3-C6E7-4EF9-960E-83C08113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895F-5CF1-4A03-A62A-2D07D01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34C6-312E-449C-8537-3ADDB142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B07-1D87-4264-A39E-AFC63A22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rasberry@ercot.com" TargetMode="External"/><Relationship Id="rId2" Type="http://schemas.openxmlformats.org/officeDocument/2006/relationships/hyperlink" Target="mailto:bbarnes@ercot.com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stin Rasberry &amp; Bill Barn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2054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0978-E73D-467C-9706-9E0D4C599C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ine 2 synchronization has begun. Activities around baseline 2 should conclude by September 2007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ing TPTF review in S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anticipating at least 3 baselines before Go 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aselines ap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personnel should stay abreast with COMS requir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DA29-7713-4A97-B0AF-9C574C2219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CSD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Conceptual System Designs (CSDs) have been submitted/approved as version 2.0 via TPT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 COMS Conceptual System Design (CSDs) will be rolled into the  v3.0(thru baseline 2) submittal to TPT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not previously approved as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not previously approved as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5844-F405-4B19-9FBB-826ADDB92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ement Summary and Detail Page – Presentation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e Settlement Statement presentation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ther words, how the data appears on the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d approach: ERCOT prepares options and brings to COPs/SDAWG for discussion and eventual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iew Statement Summary page and Statement Detai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ar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the process for all Inv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760D-2000-41B5-AD0F-0F923C522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Draft 1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 continue to updates with “As-Built” information throughout developmen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version 4.7 successfully delivered in April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ed majority of major issues which impacted design and build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remaining issues and enhancements to ensure we stay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ing additional engagement from Lodestar Executiv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metadata changes nearing 90% total comp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 changes will exist throughout build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 testing in prog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17E2-677A-42F1-8E82-BE1A65B64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mid/late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mid/late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680" y="1325520"/>
            <a:ext cx="836784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8AA-CAE5-4828-8DAF-14BDF0512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11120" y="93024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rasberr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20" y="324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B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Settlements and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barnes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4AF4-E9E0-48D1-B218-5E07611CE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8-09T13:34:31Z</dcterms:modified>
  <cp:revision>214</cp:revision>
  <dc:subject/>
  <dc:title>Electric Reliability and  Resource Adequacy Update</dc:title>
</cp:coreProperties>
</file>