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56F-F4D9-4E10-85B9-7E734435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541-3E0C-4284-9A84-8EAE58F8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2BA-BBE9-4334-B211-D1B00965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B4D-D0E4-485B-A852-E5276C43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6386-3173-49F5-BD04-B02CE02F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C71F-956F-4B59-9BB9-2F3CA447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0888-CBDA-48F8-B077-17DC7462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3EA0-987E-4200-836C-FB7C9525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20FF-A70F-40A6-916A-735E1F38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4420-E231-4C20-81C0-C0609DDE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D382-BE5E-4E4D-8FFC-2004898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945-A71B-4B97-B40F-DF661A0A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A4B1-CDEE-4235-9311-D052463E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F838-FC6B-4FAF-AF4B-49AC5309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697E-FC55-4273-A3FB-1C47EE8C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3C27-B1DF-4665-8CF1-6DD800AD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5399-C87E-4087-8320-6DA8051F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BDB-C019-48C8-8383-AF25346B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A25-66BB-4AEF-85B4-3FE816F5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D13-39A1-46DA-BB76-CD6A833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2D3-3F42-41C9-8150-46DA09D2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A7E-6F4D-4271-A83D-DC15883C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0D7-0525-4192-9E5C-58015864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EAA-DE2F-4BBF-86D5-92718E2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72FC-4855-4FC9-8B76-6AD69AD4A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B285-394A-42AA-B7DA-8AACA2596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30 conferenc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COPMGRR005 Creating Section 11, Extracts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s completing Impac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to have as September COPS vot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Generation Aggregation Draft delayed until nodal requirements have stabil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eting 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 is Aug 27 at ERCOT; 10am – 3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MGRR005 recommendation for COPS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COPMG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Extract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Chuck Moore</cp:lastModifiedBy>
  <dcterms:modified xsi:type="dcterms:W3CDTF">2007-08-07T10:53:35Z</dcterms:modified>
  <cp:revision>25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8319706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CWG presentation for Aug COPS</vt:lpwstr>
  </property>
  <property fmtid="{D5CDD505-2E9C-101B-9397-08002B2CF9AE}" pid="6" name="_NewReviewCycle">
    <vt:lpwstr/>
  </property>
</Properties>
</file>