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6F82-0B9E-4D7F-A503-A5316E347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653A-89D5-4B52-A09A-D432C69F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B455-2709-4312-8781-85860084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7350-70E9-4160-99B2-1B388C0DE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1A9F-7BFA-417F-800F-5B0F6A344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1285-6CB9-4518-92C6-CF614CEE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CD90-5208-4994-BCDD-7EA5C166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8F62-FF9F-4F06-B6CD-133BCB64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2666-D4EC-434D-A719-76662CED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F52A-9AE2-4B18-A447-1F9685E4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1710-6E2B-4D5E-BA2B-4350E282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EBFF-CBA1-4EF2-9EBB-0EF8F5E4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FF98-11F9-4BB2-9206-6147DA4D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9F2E-3570-4283-8D61-387FA754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DB01-1DC7-45C6-81D7-493D31CD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F955-D9F2-44B5-82B3-6403D2A4B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22BD-5DFB-4668-AB30-6A56132BD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794D-BFDD-4BA4-9139-1299E626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84F5-FA12-4E23-8790-B4A63D22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3203-55D2-4C87-93E3-F95ABD2F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CA1A-6F87-4717-AAE7-A17F97A1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CAA3-6CF1-408F-9EC5-EC06FBA5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FF16-C021-474E-9BBC-CE564A34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144B-200E-4940-A44D-28318865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B13D-3D13-4CDC-B0DF-15489368924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F013-3E53-47C1-955E-4C4F42D1A9D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s/board/tac/cops/dewg/keydocs/2007/DEWG_Extract_and_Report_Matrix.xls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DEWG Meeting Summary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ort to COP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08/14/2007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im Galvin- Luminant Ener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oals for the First Meet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dministrati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cent Data Extract Issues repor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tracts Service Level Agre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oals for 2007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dministrativ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viewed July COPS meeting and the directive from COPS to bring the DEWG bac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lected Heddie Lookadoo as Vice-Chair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cent Extract Issu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827000"/>
            <a:ext cx="815328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RCOT presented a detailed list of the pre-COPS and post-COPS meeting Data Extract Issu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ssues center around performance (time to create and post Extracts) and missing data elemen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oot causes vary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ding Issu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tabilization of Environ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nual err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lease refer to the DEWG meeting minutes for more detail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cent Extract Issu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827360"/>
            <a:ext cx="8077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RCOT staff continue to stabilize the EIS environmen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RCOT close to filling EIS Manager vacanc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RCOT has gone back to “single treading” vs. “multi-treading” processing to help stabilize proces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RCOT has identified some checks to verify the integrity of Extrac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ue to the many market notices regarding the extract issues, a request was made to evaluate summarizing the issues in a more suitable and traceable forma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xtract Service Level Agreemen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LA will cover “all extracts”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xt meeting will be mostly dedicated to beginning this SLA effor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WG members are asked to review the Extract and Report Matrix that will provide the direction to identifying the key reports and extracts, link to that document is belo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www.ercot.com/committees/board/tac/cops/dewg/keydocs/2007/DEWG_Extract_and_Report_Matrix.xl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oals for 2007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827000"/>
            <a:ext cx="815364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tract SLA will be the primary goal for 2007, anticipated delivery of initial draft by Octob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onthly updates and dialogue on ERCOT Extract issu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WG will focus on current extracts and current issues, with the understanding that other working groups will have overlapping responsibilit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verall, DEWG will work closely with ERCOT in communicating and discussing extract issues with the intent to keep stakeholders informed and to identify potential resol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Ques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971800" y="2895480"/>
            <a:ext cx="297180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15:41:07Z</dcterms:created>
  <dc:creator>Registered User</dc:creator>
  <dc:description/>
  <dc:language>en-US</dc:language>
  <cp:lastModifiedBy>Registered User</cp:lastModifiedBy>
  <dcterms:modified xsi:type="dcterms:W3CDTF">2007-08-13T16:25:18Z</dcterms:modified>
  <cp:revision>2</cp:revision>
  <dc:subject/>
  <dc:title>DEWG Meeting Summary</dc:title>
</cp:coreProperties>
</file>